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D8E-23BB-4FCF-9FEB-932D3318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DB0-A8CF-4093-A4C0-86BA1E55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0E4-4E50-480B-93E0-B291B2B6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A0F-DF9F-4AA1-A947-444E5450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FF5-B68D-46D2-838A-CCF72BFC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F2E-490D-4B25-88E3-6C50DFD2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F85-00C7-4E56-A89E-32BE9F23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83D-2569-4FA8-9714-F61092FD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957-0153-48B5-B3FB-4B08066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B09-0465-444F-8DDD-585F22E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3E0-6078-4DA9-B33E-169DFA5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CAD-5304-4B85-9147-F011B743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4FE7-E28B-46EE-8B40-8A6CBD84B3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mailto:sharyginans@mail.ru" TargetMode="External"/><Relationship Id="rId4" Type="http://schemas.openxmlformats.org/officeDocument/2006/relationships/hyperlink" Target="mailto:sharyginans@mail.ru" TargetMode="External"/><Relationship Id="rId5" Type="http://schemas.openxmlformats.org/officeDocument/2006/relationships/hyperlink" Target="mailto:sharyginans@mail.ru" TargetMode="External"/><Relationship Id="rId6" Type="http://schemas.openxmlformats.org/officeDocument/2006/relationships/hyperlink" Target="mailto:sharyginans@mail.ru" TargetMode="External"/><Relationship Id="rId7" Type="http://schemas.openxmlformats.org/officeDocument/2006/relationships/hyperlink" Target="mailto:sharyginans@mail.ru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hyperlink" Target="file:///&#1048;&#1043;&#1056;&#1040;-&#1087;&#1086;&#1089;&#1086;&#1073;&#1080;&#1077;%20&#1044;&#1054;&#1056;&#1054;&#1046;&#1053;&#1067;&#1045;%20&#1047;&#1053;&#1040;&#1050;&#1048;%20&#1053;&#1040;%20&#1059;&#1051;&#1048;&#1062;&#1040;&#1061;%20&#1053;&#1040;&#1064;&#1045;.PPT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3857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1066680" y="1243080"/>
            <a:ext cx="7444080" cy="277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3000240" y="7858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астер -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429160" y="4572000"/>
            <a:ext cx="3357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ыгина Наталия Станиславов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воспитатель БДОУ СМР «Детский сад №24» г. С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sharyginans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@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mail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http://jcontemplacion.files.wordpress.com/2012/02/hyperlink.jpg"/>
          <p:cNvPicPr/>
          <p:nvPr/>
        </p:nvPicPr>
        <p:blipFill>
          <a:blip r:embed="rId8"/>
          <a:srcRect l="0" t="0" r="0" b="2864"/>
          <a:stretch/>
        </p:blipFill>
        <p:spPr>
          <a:xfrm>
            <a:off x="1357200" y="3929040"/>
            <a:ext cx="375768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3.jpg"/>
          <p:cNvPicPr/>
          <p:nvPr/>
        </p:nvPicPr>
        <p:blipFill>
          <a:blip r:embed="rId2"/>
          <a:srcRect l="0" t="9527" r="0" b="0"/>
          <a:stretch/>
        </p:blipFill>
        <p:spPr>
          <a:xfrm>
            <a:off x="2286000" y="1785960"/>
            <a:ext cx="5205240" cy="35370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10" name="Прямоугольник 4" descr=""/>
          <p:cNvPicPr/>
          <p:nvPr/>
        </p:nvPicPr>
        <p:blipFill>
          <a:blip r:embed="rId3"/>
          <a:stretch/>
        </p:blipFill>
        <p:spPr>
          <a:xfrm>
            <a:off x="901800" y="438120"/>
            <a:ext cx="7699320" cy="5317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6"/>
          <p:cNvCxnSpPr/>
          <p:nvPr/>
        </p:nvCxnSpPr>
        <p:spPr>
          <a:xfrm flipH="1">
            <a:off x="2928240" y="2356200"/>
            <a:ext cx="1143720" cy="715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91960"/>
            <a:ext cx="7869240" cy="1731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.jpg"/>
          <p:cNvPicPr/>
          <p:nvPr/>
        </p:nvPicPr>
        <p:blipFill>
          <a:blip r:embed="rId3"/>
          <a:srcRect l="0" t="0" r="0" b="11286"/>
          <a:stretch/>
        </p:blipFill>
        <p:spPr>
          <a:xfrm>
            <a:off x="1643040" y="2000160"/>
            <a:ext cx="5253120" cy="3745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117" name="TextBox 6"/>
          <p:cNvSpPr/>
          <p:nvPr/>
        </p:nvSpPr>
        <p:spPr>
          <a:xfrm>
            <a:off x="7143840" y="292896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разец присвоения гиперссылки к сл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286000" y="61437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те далее примеры игрового 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7869240" cy="9442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8.jpg"/>
          <p:cNvPicPr/>
          <p:nvPr/>
        </p:nvPicPr>
        <p:blipFill>
          <a:blip r:embed="rId3"/>
          <a:stretch/>
        </p:blipFill>
        <p:spPr>
          <a:xfrm>
            <a:off x="1143000" y="3143160"/>
            <a:ext cx="2805120" cy="209880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12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6" descr="0.jpg"/>
          <p:cNvPicPr/>
          <p:nvPr/>
        </p:nvPicPr>
        <p:blipFill>
          <a:blip r:embed="rId4"/>
          <a:stretch/>
        </p:blipFill>
        <p:spPr>
          <a:xfrm>
            <a:off x="4929120" y="3643200"/>
            <a:ext cx="2739960" cy="208116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pic>
        <p:nvPicPr>
          <p:cNvPr id="126" name="Рисунок 6" descr="3.jpg"/>
          <p:cNvPicPr/>
          <p:nvPr/>
        </p:nvPicPr>
        <p:blipFill>
          <a:blip r:embed="rId5"/>
          <a:stretch/>
        </p:blipFill>
        <p:spPr>
          <a:xfrm>
            <a:off x="4929120" y="1143000"/>
            <a:ext cx="2724120" cy="1998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127" name="TextBox 7"/>
          <p:cNvSpPr/>
          <p:nvPr/>
        </p:nvSpPr>
        <p:spPr>
          <a:xfrm>
            <a:off x="1571760" y="1357200"/>
            <a:ext cx="221436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иперс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10"/>
          <p:cNvCxnSpPr/>
          <p:nvPr/>
        </p:nvCxnSpPr>
        <p:spPr>
          <a:xfrm>
            <a:off x="3786120" y="1714680"/>
            <a:ext cx="2286720" cy="530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2"/>
          <p:cNvCxnSpPr/>
          <p:nvPr/>
        </p:nvCxnSpPr>
        <p:spPr>
          <a:xfrm>
            <a:off x="2642040" y="1856880"/>
            <a:ext cx="500760" cy="3001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6"/>
          <p:cNvCxnSpPr/>
          <p:nvPr/>
        </p:nvCxnSpPr>
        <p:spPr>
          <a:xfrm>
            <a:off x="3356640" y="1856880"/>
            <a:ext cx="2500920" cy="3287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143000" y="71424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ель мастер - 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214280" y="1930320"/>
            <a:ext cx="6858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428840" y="1857240"/>
            <a:ext cx="7215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71720" y="1586880"/>
            <a:ext cx="7143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ять у педагогов интерес к использованию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ых презентаций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-воспитательном ; расширить познания в области овладения ИКТ через использование мультимедийной программы Power Pо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285920" y="439920"/>
            <a:ext cx="7000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мастер-кла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онный мом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лож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репл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2560680" y="371520"/>
            <a:ext cx="420048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714680" y="185724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е,                                           что тако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ссыл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мпьютерной терминолог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право 4">
            <a:hlinkClick r:id="rId3" action="ppaction://hlinksldjump"/>
          </p:cNvPr>
          <p:cNvSpPr/>
          <p:nvPr/>
        </p:nvSpPr>
        <p:spPr>
          <a:xfrm>
            <a:off x="5072040" y="4643280"/>
            <a:ext cx="2571840" cy="9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1071720" y="357120"/>
            <a:ext cx="7715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ерссылка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                                   в компьютерной терми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текстового документа, ссылающаяся на другой элемент (команда, текст, заголовок, примечание, изображение) в самом документе, на другой объект (файл, директория, приложение), расположенный на локальном компьютере или в компьютерной сети, либо на элементы этого объек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5">
            <a:hlinkClick r:id="rId2" action="ppaction://hlinksldjump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7">
            <a:hlinkClick r:id="rId3" action="ppaction://hlinksldjump"/>
          </p:cNvPr>
          <p:cNvSpPr/>
          <p:nvPr/>
        </p:nvSpPr>
        <p:spPr>
          <a:xfrm>
            <a:off x="6215040" y="5072040"/>
            <a:ext cx="2571840" cy="9288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бразец интерактивной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svetoch-opk.ru/_ph/10/26492719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3"/>
          <a:stretch/>
        </p:blipFill>
        <p:spPr>
          <a:xfrm>
            <a:off x="847800" y="255600"/>
            <a:ext cx="822312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7" descr="Безымянный.jpg"/>
          <p:cNvPicPr/>
          <p:nvPr/>
        </p:nvPicPr>
        <p:blipFill>
          <a:blip r:embed="rId4"/>
          <a:stretch/>
        </p:blipFill>
        <p:spPr>
          <a:xfrm>
            <a:off x="1357200" y="1285920"/>
            <a:ext cx="6786720" cy="510372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7" descr="Безымянный.jpg"/>
          <p:cNvPicPr/>
          <p:nvPr/>
        </p:nvPicPr>
        <p:blipFill>
          <a:blip r:embed="rId5"/>
          <a:srcRect l="13650" t="67010" r="59197" b="20815"/>
          <a:stretch/>
        </p:blipFill>
        <p:spPr>
          <a:xfrm>
            <a:off x="1214280" y="4286160"/>
            <a:ext cx="4251600" cy="1433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7"/>
          <p:cNvSpPr/>
          <p:nvPr/>
        </p:nvSpPr>
        <p:spPr>
          <a:xfrm>
            <a:off x="4071960" y="2286000"/>
            <a:ext cx="3286080" cy="928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14880" y="242892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управляющих кно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11"/>
          <p:cNvCxnSpPr/>
          <p:nvPr/>
        </p:nvCxnSpPr>
        <p:spPr>
          <a:xfrm flipH="1">
            <a:off x="3928680" y="3214800"/>
            <a:ext cx="1357920" cy="12866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000080" y="285840"/>
          <a:ext cx="7715160" cy="6211800"/>
        </p:xfrm>
        <a:graphic>
          <a:graphicData uri="http://schemas.openxmlformats.org/drawingml/2006/table">
            <a:tbl>
              <a:tblPr/>
              <a:tblGrid>
                <a:gridCol w="1811520"/>
                <a:gridCol w="2232000"/>
                <a:gridCol w="3671640"/>
              </a:tblGrid>
              <a:tr h="249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аивае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редыдущи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ё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 следующий 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нача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ервы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оследни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ервый слайд презен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назначено действие по умолч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последний просмотренный слай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14" descr=""/>
          <p:cNvPicPr/>
          <p:nvPr/>
        </p:nvPicPr>
        <p:blipFill>
          <a:blip r:embed="rId2"/>
          <a:srcRect l="28203" t="85792" r="69900" b="11713"/>
          <a:stretch/>
        </p:blipFill>
        <p:spPr>
          <a:xfrm>
            <a:off x="1500120" y="571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3"/>
          <a:srcRect l="28203" t="88612" r="69601" b="8878"/>
          <a:stretch/>
        </p:blipFill>
        <p:spPr>
          <a:xfrm>
            <a:off x="1857240" y="1071720"/>
            <a:ext cx="492120" cy="43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rcRect l="30026" t="88696" r="67493" b="8917"/>
          <a:stretch/>
        </p:blipFill>
        <p:spPr>
          <a:xfrm>
            <a:off x="1428840" y="1571760"/>
            <a:ext cx="490320" cy="42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5"/>
          <a:srcRect l="32521" t="88661" r="65489" b="8642"/>
          <a:stretch/>
        </p:blipFill>
        <p:spPr>
          <a:xfrm>
            <a:off x="1914480" y="2071800"/>
            <a:ext cx="343080" cy="42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rcRect l="34518" t="88661" r="62965" b="8701"/>
          <a:stretch/>
        </p:blipFill>
        <p:spPr>
          <a:xfrm>
            <a:off x="1428840" y="257184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7"/>
          <a:srcRect l="30026" t="85778" r="67582" b="11831"/>
          <a:stretch/>
        </p:blipFill>
        <p:spPr>
          <a:xfrm>
            <a:off x="1714680" y="3071880"/>
            <a:ext cx="480960" cy="42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8"/>
          <a:srcRect l="30410" t="91777" r="67582" b="5782"/>
          <a:stretch/>
        </p:blipFill>
        <p:spPr>
          <a:xfrm>
            <a:off x="1428840" y="3643200"/>
            <a:ext cx="361800" cy="35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rcRect l="32340" t="85507" r="65327" b="11777"/>
          <a:stretch/>
        </p:blipFill>
        <p:spPr>
          <a:xfrm>
            <a:off x="1714680" y="4071960"/>
            <a:ext cx="42048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10"/>
          <a:srcRect l="34629" t="85866" r="63079" b="11742"/>
          <a:stretch/>
        </p:blipFill>
        <p:spPr>
          <a:xfrm>
            <a:off x="1357200" y="4572000"/>
            <a:ext cx="490680" cy="43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11"/>
          <a:srcRect l="32329" t="91614" r="65249" b="5861"/>
          <a:stretch/>
        </p:blipFill>
        <p:spPr>
          <a:xfrm>
            <a:off x="1714680" y="5072040"/>
            <a:ext cx="475920" cy="40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12"/>
          <a:srcRect l="34614" t="91614" r="63116" b="5664"/>
          <a:stretch/>
        </p:blipFill>
        <p:spPr>
          <a:xfrm>
            <a:off x="1357200" y="55720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3"/>
          <a:srcRect l="28203" t="91614" r="69538" b="5586"/>
          <a:stretch/>
        </p:blipFill>
        <p:spPr>
          <a:xfrm>
            <a:off x="1785960" y="6072120"/>
            <a:ext cx="436680" cy="42876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365040"/>
            <a:ext cx="7377120" cy="530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1.jpg"/>
          <p:cNvPicPr/>
          <p:nvPr/>
        </p:nvPicPr>
        <p:blipFill>
          <a:blip r:embed="rId3"/>
          <a:stretch/>
        </p:blipFill>
        <p:spPr>
          <a:xfrm>
            <a:off x="2000160" y="1143000"/>
            <a:ext cx="5904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svetoch-opk.ru/_ph/10/2649271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2.jpg"/>
          <p:cNvPicPr/>
          <p:nvPr/>
        </p:nvPicPr>
        <p:blipFill>
          <a:blip r:embed="rId2"/>
          <a:stretch/>
        </p:blipFill>
        <p:spPr>
          <a:xfrm>
            <a:off x="1928880" y="1285920"/>
            <a:ext cx="5784840" cy="44244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3"/>
          <a:stretch/>
        </p:blipFill>
        <p:spPr>
          <a:xfrm>
            <a:off x="1322280" y="291960"/>
            <a:ext cx="6894720" cy="53028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6215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00080" y="6215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21:14Z</dcterms:created>
  <dc:creator>Admin</dc:creator>
  <dc:description/>
  <dc:language>en-US</dc:language>
  <cp:lastModifiedBy>Admin</cp:lastModifiedBy>
  <dcterms:modified xsi:type="dcterms:W3CDTF">2013-03-29T18:29:20Z</dcterms:modified>
  <cp:revision>72</cp:revision>
  <dc:subject/>
  <dc:title>Слайд 1</dc:title>
</cp:coreProperties>
</file>