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C36-13A6-4D81-9E02-C41670A8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704-80B7-46FB-8CC8-DCF7A32A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6FC-5426-4823-BDCF-F323BCFC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D71E-104E-405D-8355-AEB64E7B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BEED-DEEA-4745-B17A-8CAF82BA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635-0572-439B-BA75-8FA6D1E4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08D2-0B95-4C6F-AE94-F79034AF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A6C3-1EDA-4FC7-A6C7-7DBE4651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E901-3AC5-48DA-B780-FDB49B56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BAE2-8890-4268-B8A5-84EAC2E9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AEE-79A8-4428-9B1E-2C0E14E7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B75F-2BC2-44D8-8204-125C6209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861C-8ABC-45FD-A1BE-736940A915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3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214200" y="50004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нажды спросили у Пифагора, сколько у того учеников. Отвечал Пифагор:«Половина моих учеников изучает прекрасную математику, четверть исследует тайны вечной природ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дьмая часть мол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жняет силу духа, хра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ердце у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бавь к ним трех юнош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ты узнаешь ско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еников веду я к рожд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чной истины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Кротова\Рабочий стол\pif-sh1.jpg"/>
          <p:cNvPicPr/>
          <p:nvPr/>
        </p:nvPicPr>
        <p:blipFill>
          <a:blip r:embed="rId2"/>
          <a:stretch/>
        </p:blipFill>
        <p:spPr>
          <a:xfrm>
            <a:off x="4714920" y="2000160"/>
            <a:ext cx="4286160" cy="43578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714240" y="857160"/>
            <a:ext cx="785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амостоятельно выполните действ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8760" y="1499760"/>
            <a:ext cx="8229600" cy="46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2"/>
              <p:cNvSpPr txBox="1"/>
              <p:nvPr/>
            </p:nvSpPr>
            <p:spPr>
              <a:xfrm>
                <a:off x="1143000" y="1500120"/>
                <a:ext cx="1285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1143000" y="3000240"/>
                <a:ext cx="128592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1071720" y="4714920"/>
                <a:ext cx="17143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5"/>
              <p:cNvSpPr txBox="1"/>
              <p:nvPr/>
            </p:nvSpPr>
            <p:spPr>
              <a:xfrm>
                <a:off x="2857680" y="1428840"/>
                <a:ext cx="150012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4572000" y="1500120"/>
                <a:ext cx="9288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5643720" y="1428840"/>
                <a:ext cx="6429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2571840" y="3143160"/>
                <a:ext cx="1643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9"/>
              <p:cNvSpPr txBox="1"/>
              <p:nvPr/>
            </p:nvSpPr>
            <p:spPr>
              <a:xfrm>
                <a:off x="4500720" y="3071880"/>
                <a:ext cx="10000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0"/>
              <p:cNvSpPr txBox="1"/>
              <p:nvPr/>
            </p:nvSpPr>
            <p:spPr>
              <a:xfrm>
                <a:off x="3000240" y="4714920"/>
                <a:ext cx="20718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1"/>
              <p:cNvSpPr txBox="1"/>
              <p:nvPr/>
            </p:nvSpPr>
            <p:spPr>
              <a:xfrm>
                <a:off x="5214960" y="4857840"/>
                <a:ext cx="12142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3:05:35Z</dcterms:created>
  <dc:creator>Кротова </dc:creator>
  <dc:description/>
  <dc:language>en-US</dc:language>
  <cp:lastModifiedBy>Кротова </cp:lastModifiedBy>
  <dcterms:modified xsi:type="dcterms:W3CDTF">2013-02-21T07:15:31Z</dcterms:modified>
  <cp:revision>12</cp:revision>
  <dc:subject/>
  <dc:title>Слайд 1</dc:title>
</cp:coreProperties>
</file>