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9A3-5044-4ECD-B724-EA082E1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087-43A1-46CF-BAAF-2B744BD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B69-B370-42D3-AB84-5865475F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CA1-355C-41C0-BD04-682669C0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6B4-ACEB-437E-B104-7EB51CD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66D-1167-47E6-BC28-B5993B8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8C5-7DEE-49F3-B6E6-F73BF7C4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6CA-063F-43D6-BED0-A6665E23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1BC-4C74-4D25-AA0E-BD39E8B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7FA-322C-4AAF-9E58-180C5A7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C59-EA57-45E8-8532-2857905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DFD-479E-4D67-A0D6-2643EA5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963-98FA-48E4-89E5-C48B6E629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4200" y="5000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жды спросили у Пифагора, сколько у того учеников. Отвечал Пифагор:«Половина моих учеников изучает прекрасную математику, четверть исследует тайны вечной приро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дьмая часть мол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яет силу духа, хр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дце 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ь к ним трех юно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ы узнаешь ск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ников веду я к рож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чной истины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Кротова\Рабочий стол\pif-sh1.jpg"/>
          <p:cNvPicPr/>
          <p:nvPr/>
        </p:nvPicPr>
        <p:blipFill>
          <a:blip r:embed="rId2"/>
          <a:stretch/>
        </p:blipFill>
        <p:spPr>
          <a:xfrm>
            <a:off x="4714920" y="2000160"/>
            <a:ext cx="4286160" cy="4357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714240" y="857160"/>
            <a:ext cx="785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мостоятельно выполните действ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49976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1143000" y="1500120"/>
                <a:ext cx="128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1143000" y="3000240"/>
                <a:ext cx="1285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071720" y="4714920"/>
                <a:ext cx="1714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857680" y="1428840"/>
                <a:ext cx="15001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4572000" y="1500120"/>
                <a:ext cx="928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5643720" y="1428840"/>
                <a:ext cx="6429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571840" y="3143160"/>
                <a:ext cx="16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9"/>
              <p:cNvSpPr txBox="1"/>
              <p:nvPr/>
            </p:nvSpPr>
            <p:spPr>
              <a:xfrm>
                <a:off x="4500720" y="3071880"/>
                <a:ext cx="1000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3000240" y="4714920"/>
                <a:ext cx="2071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5214960" y="4857840"/>
                <a:ext cx="1214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35Z</dcterms:created>
  <dc:creator>Кротова </dc:creator>
  <dc:description/>
  <dc:language>en-US</dc:language>
  <cp:lastModifiedBy>Кротова </cp:lastModifiedBy>
  <dcterms:modified xsi:type="dcterms:W3CDTF">2013-02-21T07:15:31Z</dcterms:modified>
  <cp:revision>12</cp:revision>
  <dc:subject/>
  <dc:title>Слайд 1</dc:title>
</cp:coreProperties>
</file>