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C03DAF-A3E3-4E33-845F-F092971F3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C6CBF-0A47-468D-B15B-93CB2D681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64E165-9E2C-4716-89CB-2BBE1B9C5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CF5065-38D2-406A-AF4C-0841A0534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0984E4-D52B-4E6E-949D-516B1DB4C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CFB1CC-5964-4EC5-8A6E-0B337DCC2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F29BB8-ED2C-410A-A825-7D55B96D9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66C682-C832-419C-8B73-44E9FF671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9CDF90-A68E-4CCA-A625-C9FE23BF5E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FD6C8D-C946-46DA-B680-60D129860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6242B6-C566-4007-9111-AB23590DF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95D0CC-9BC0-4FCF-88F3-18861241C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93158E-BD7C-483A-8678-A58D47F9F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FAAFA4-5FDA-4FE3-AC05-4778DAEB5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5E0780-0791-44F9-BD18-A4418AFBB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3C5626-A91C-4F50-8F4B-D402C039B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8CF18E-006A-4DCE-9948-0ACCB9E82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F3FA87-43B4-4644-AD58-840BAD6F31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B0C787-FE03-431D-B42D-6F9EDE95E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64B3E1-4AE6-4A13-8849-0018A748D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0A5FC7-072D-43B8-8B7F-C83FEA80B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DBAF-5112-4DAC-B331-8F4445DAF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F228-A38D-4534-A924-0D7B04D4A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D0FE-103F-4F94-A6DF-BFC91731A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F5CB-FB90-4D90-BD22-81B12278C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9DA3-BA9F-4391-8668-BBE69755F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D4CD-B254-482A-8737-6E8002CB8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EA0B-D426-4FCC-8D5B-41AFC0F4C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3843-4E35-455B-AA06-46EADEF93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0D26-81C1-436D-9C98-52508BCE5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75E9-DCC5-40DA-ADDE-0275790B0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591D-65E7-4C61-B2BD-242CCFB62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61E8-71DA-4203-A2B5-C94D0049F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FAECB5-72D1-4E7B-A117-40D72B1C378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44440" y="466560"/>
            <a:ext cx="8209080" cy="562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ЧЕСКИ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РНИ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55640" y="-387360"/>
            <a:ext cx="7777080" cy="638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ФИГУРЫ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МОТРИ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0"/>
            <a:ext cx="84963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осмотрите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 течение 10 секунд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а нарисованные фигуры,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 запомните их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орядок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и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у себя на листе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спроизведите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эти фигур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1557360"/>
            <a:ext cx="5877000" cy="3340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1557360"/>
            <a:ext cx="2154240" cy="2039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1773360"/>
            <a:ext cx="799920" cy="799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1989000"/>
            <a:ext cx="4114800" cy="2400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2565360"/>
            <a:ext cx="1257120" cy="1257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3040200" y="928440"/>
            <a:ext cx="1223640" cy="4500360"/>
          </a:xfrm>
          <a:prstGeom prst="diamond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333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гра со зрителями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484280"/>
            <a:ext cx="860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з каких геометрических фигур состоит рису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42920" y="2565360"/>
            <a:ext cx="5399280" cy="3384720"/>
            <a:chOff x="1042920" y="2565360"/>
            <a:chExt cx="5399280" cy="338472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042920" y="2565360"/>
              <a:ext cx="53992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042920" y="2565360"/>
              <a:ext cx="539928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55640" y="-387360"/>
            <a:ext cx="7777080" cy="638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ФРА ВЕРНАЯ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УЖНА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6920" y="258840"/>
            <a:ext cx="749952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Часто знает                                        и дошкольник,                      что такое треугольник.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А  уж вам то, как не знать.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о совсем другое дело, быстро, точно и умело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треугольники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счита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84360" y="189000"/>
            <a:ext cx="3830760" cy="6076800"/>
          </a:xfrm>
          <a:prstGeom prst="diamond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3213000"/>
            <a:ext cx="3816360" cy="18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349800" y="1918800"/>
            <a:ext cx="2087280" cy="42498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348000" y="1918800"/>
            <a:ext cx="2016000" cy="1297080"/>
          </a:xfrm>
          <a:prstGeom prst="triangle">
            <a:avLst>
              <a:gd name="adj" fmla="val 46375"/>
            </a:avLst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9000"/>
            <a:ext cx="7777440" cy="558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ия, которую нельзя сверну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плохого ученик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прямой, но не луч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ус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укве О число 7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а измерения дли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ик, у которого все стороны рав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реугольнике их …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для измерения дли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Солнца, часов …. (не окружность, а …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с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49360"/>
            <a:ext cx="669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тгадайте слово, решив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27640" y="1628640"/>
          <a:ext cx="4038480" cy="3230640"/>
        </p:xfrm>
        <a:graphic>
          <a:graphicData uri="http://schemas.openxmlformats.org/drawingml/2006/table">
            <a:tbl>
              <a:tblPr/>
              <a:tblGrid>
                <a:gridCol w="404640"/>
                <a:gridCol w="403200"/>
                <a:gridCol w="403200"/>
                <a:gridCol w="403200"/>
                <a:gridCol w="406440"/>
                <a:gridCol w="403200"/>
                <a:gridCol w="403200"/>
                <a:gridCol w="403560"/>
                <a:gridCol w="404640"/>
                <a:gridCol w="403200"/>
              </a:tblGrid>
              <a:tr h="3240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9640" y="333360"/>
          <a:ext cx="7632720" cy="5791320"/>
        </p:xfrm>
        <a:graphic>
          <a:graphicData uri="http://schemas.openxmlformats.org/drawingml/2006/table">
            <a:tbl>
              <a:tblPr/>
              <a:tblGrid>
                <a:gridCol w="828720"/>
                <a:gridCol w="755640"/>
                <a:gridCol w="755640"/>
                <a:gridCol w="754200"/>
                <a:gridCol w="762120"/>
                <a:gridCol w="753840"/>
                <a:gridCol w="754200"/>
                <a:gridCol w="755640"/>
                <a:gridCol w="758880"/>
                <a:gridCol w="753840"/>
              </a:tblGrid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24000">
                          <a:solidFill>
                            <a:srgbClr val="80008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476280"/>
            <a:ext cx="6480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бы спорилось нужное дело,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бы в жизни не знать неудач,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Мы в поход отправляемся смело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 мир загадок и сложных зада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13000"/>
            <a:ext cx="6804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е беда, что идти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е боимся, что путь будет труд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Достижения крупные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икогда не давались лег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836640"/>
            <a:ext cx="8136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т закончилась игра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Результат узнать пора.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Кто же лучше всех трудился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 в турнире отличил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4440" y="466560"/>
            <a:ext cx="8209080" cy="562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ЧЕСКИ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РНИ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620640"/>
            <a:ext cx="741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т команда «ТРЕУГОЛЬНИК»!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х узнает каждый школьник!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Будут им, сказать хочу,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се задачи по пле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о команду номер два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Разошлась уже молва!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Называется - «КВАДРАТ»!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м любой учёный ра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71640" y="692280"/>
            <a:ext cx="705636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260280"/>
            <a:ext cx="77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гра со зр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84280"/>
            <a:ext cx="8339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Две сардельки варятся 6 минут. Сколько времени будут вариться восемь таких сарделек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Когда гусь стоит на двух ногах, то весит 4 кг. Сколько будет весить гусь, когда встанет на одну ног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В комнате четыре угла. В каждом углу сидит кошка. Напротив каждой кошки по три кошки. Сколько всего кошек в комнат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В семье 7 братьев, у каждого по                              одной сестре. Сколько детей в                             семь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В каком слове 100 согласны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71640" y="692280"/>
            <a:ext cx="705636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ЧИТАЛОЧ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95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628640"/>
          <a:ext cx="8137440" cy="331308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296720"/>
                <a:gridCol w="1370160"/>
                <a:gridCol w="2735280"/>
              </a:tblGrid>
              <a:tr h="82872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28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409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4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0" y="4162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46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Числа вы </a:t>
            </a: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свои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сложите –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мму побыстрей найд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6:53:54Z</dcterms:created>
  <dc:creator>user</dc:creator>
  <dc:description/>
  <dc:language>en-US</dc:language>
  <cp:lastModifiedBy>Пользователь</cp:lastModifiedBy>
  <dcterms:modified xsi:type="dcterms:W3CDTF">2012-11-12T15:51:04Z</dcterms:modified>
  <cp:revision>4</cp:revision>
  <dc:subject/>
  <dc:title>Слайд 1</dc:title>
</cp:coreProperties>
</file>