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AE1299-8C19-492E-90B4-2423EE543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B65789-B2EE-482E-957F-F74753787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F7A17A-DEF1-4FDA-891C-83277379F6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50CE05-0214-434A-8751-B477728F7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74306B-120F-4530-B507-B64FD1D47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7BC3AD-A4C3-4998-BFD7-D99B7E907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55D37B-D1F3-444C-AAE5-B6918891C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F1C406-C2B9-464C-817A-F41E34041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E5E403-295F-47FB-AA17-C5143DBAB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031A03-21B9-4D3B-A771-4D94D38FB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404845-0A70-42AE-9EC1-E390B051D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9156DC-F97A-47D4-AA4D-78608C64B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CAA145-1713-42F0-A93B-4503BD59E4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20018A-D87A-43D3-80CF-A3EBB903B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F213CE-B409-4D89-97E0-65F13C512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55FE75-4310-4921-8F76-455A923FD1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305202-CC76-4E9A-83B7-B224F6FB6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E98EAF-A2BD-4FFA-BD96-A87B42564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C00209-B454-4389-9FE7-BF7C9E0F65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4C1922-087F-436F-A837-32E6C8C6F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4A3E0C-E603-4855-901F-7489564C2F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19A0-35B7-49D2-AEEF-4B121ADB2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8B73-1424-421A-8577-0829BFD44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94B4-D8E6-43AD-ABE6-0E461DE48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A5DD-123A-45E7-91BC-C1F83AA8B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8590-C99F-4512-9F09-579A187B8B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226C-4C4B-4A8B-9E52-0D6A47F1B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F557-0AA7-486B-8AFB-19772219E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FF93-87DE-4D9E-AD8E-149AB2C6B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C9A4-7A2A-431A-B812-603E8E728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CC98-DA8D-4B4B-A8A4-966A9E7A6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21FC-4119-46EB-9966-69088068C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8162-A8FA-44B1-A7B9-BA63538E7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F98FA1-7E74-4380-9D45-4F48CA0EED3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44440" y="466560"/>
            <a:ext cx="8209080" cy="562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ЧЕСКИ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УРНИ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55640" y="-387360"/>
            <a:ext cx="7777080" cy="638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ФИГУРЫ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МОТРИ..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0"/>
            <a:ext cx="84963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осмотрите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в течение 10 секунд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а нарисованные фигуры,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 запомните их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орядок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и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у себя на листе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спроизведите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эти фигур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920" y="1557360"/>
            <a:ext cx="5877000" cy="3340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1557360"/>
            <a:ext cx="2154240" cy="2039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1773360"/>
            <a:ext cx="799920" cy="799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1989000"/>
            <a:ext cx="4114800" cy="2400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59280" y="2565360"/>
            <a:ext cx="1257120" cy="1257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3040200" y="928440"/>
            <a:ext cx="1223640" cy="4500360"/>
          </a:xfrm>
          <a:prstGeom prst="diamond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333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гра со зрителями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484280"/>
            <a:ext cx="860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з каких геометрических фигур состоит рисун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42920" y="2565360"/>
            <a:ext cx="5399280" cy="3384720"/>
            <a:chOff x="1042920" y="2565360"/>
            <a:chExt cx="5399280" cy="338472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042920" y="2565360"/>
              <a:ext cx="53992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042920" y="2565360"/>
              <a:ext cx="539928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55640" y="-387360"/>
            <a:ext cx="7777080" cy="638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ФРА ВЕРНАЯ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УЖНА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26920" y="258840"/>
            <a:ext cx="749952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Часто знает                                        и дошкольник,                      что такое треугольник.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А  уж вам то, как не знать.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Но совсем другое дело, быстро, точно и умело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треугольники 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счита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84360" y="189000"/>
            <a:ext cx="3830760" cy="6076800"/>
          </a:xfrm>
          <a:prstGeom prst="diamond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3213000"/>
            <a:ext cx="3816360" cy="18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349800" y="1918800"/>
            <a:ext cx="2087280" cy="42498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348000" y="1918800"/>
            <a:ext cx="2016000" cy="1297080"/>
          </a:xfrm>
          <a:prstGeom prst="triangle">
            <a:avLst>
              <a:gd name="adj" fmla="val 46375"/>
            </a:avLst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3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9000"/>
            <a:ext cx="7777440" cy="558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ия, которую нельзя сверну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плохого ученик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прямой, но не луч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ус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укве О число 7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ица измерения длин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ик, у которого все стороны равн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реугольнике их …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для измерения длин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Солнца, часов …. (не окружность, а …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с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549360"/>
            <a:ext cx="669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тгадайте слово, решив кроссво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27640" y="1628640"/>
          <a:ext cx="4038480" cy="3230640"/>
        </p:xfrm>
        <a:graphic>
          <a:graphicData uri="http://schemas.openxmlformats.org/drawingml/2006/table">
            <a:tbl>
              <a:tblPr/>
              <a:tblGrid>
                <a:gridCol w="404640"/>
                <a:gridCol w="403200"/>
                <a:gridCol w="403200"/>
                <a:gridCol w="403200"/>
                <a:gridCol w="406440"/>
                <a:gridCol w="403200"/>
                <a:gridCol w="403200"/>
                <a:gridCol w="403560"/>
                <a:gridCol w="404640"/>
                <a:gridCol w="403200"/>
              </a:tblGrid>
              <a:tr h="3240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39640" y="333360"/>
          <a:ext cx="7632720" cy="5791320"/>
        </p:xfrm>
        <a:graphic>
          <a:graphicData uri="http://schemas.openxmlformats.org/drawingml/2006/table">
            <a:tbl>
              <a:tblPr/>
              <a:tblGrid>
                <a:gridCol w="828720"/>
                <a:gridCol w="755640"/>
                <a:gridCol w="755640"/>
                <a:gridCol w="754200"/>
                <a:gridCol w="762120"/>
                <a:gridCol w="753840"/>
                <a:gridCol w="754200"/>
                <a:gridCol w="755640"/>
                <a:gridCol w="758880"/>
                <a:gridCol w="753840"/>
              </a:tblGrid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30000">
                          <a:solidFill>
                            <a:srgbClr val="80008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 baseline="24000">
                          <a:solidFill>
                            <a:srgbClr val="80008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b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640" y="476280"/>
            <a:ext cx="6480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бы спорилось нужное дело,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бы в жизни не знать неудач,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Мы в поход отправляемся смело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 мир загадок и сложных зада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13000"/>
            <a:ext cx="6804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е беда, что идти 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е боимся, что путь будет труд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Достижения крупные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икогда не давались лег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836640"/>
            <a:ext cx="8136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т закончилась игра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Результат узнать пора.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Кто же лучше всех трудился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И в турнире отличил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4440" y="466560"/>
            <a:ext cx="8209080" cy="5626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АТЕМАТИЧЕСКИ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УРНИ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620640"/>
            <a:ext cx="741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от команда «ТРЕУГОЛЬНИК»!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Их узнает каждый школьник!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Будут им, сказать хочу,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Все задачи по плеч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ро команду номер два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Разошлась уже молва!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Называется - «КВАДРАТ»!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Им любой учёный рад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71640" y="692280"/>
            <a:ext cx="7056360" cy="45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6000" y="260280"/>
            <a:ext cx="77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Игра со зр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84280"/>
            <a:ext cx="83394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Две сардельки варятся 6 минут. Сколько времени будут вариться восемь таких сарделек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Когда гусь стоит на двух ногах, то весит 4 кг. Сколько будет весить гусь, когда встанет на одну ног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В комнате четыре угла. В каждом углу сидит кошка. Напротив каждой кошки по три кошки. Сколько всего кошек в комнат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В семье 7 братьев, у каждого по                              одной сестре. Сколько детей в                             семь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В каком слове 100 согласных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71640" y="692280"/>
            <a:ext cx="7056360" cy="4537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тур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ЧИТАЛОЧК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95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628640"/>
          <a:ext cx="8137440" cy="3313080"/>
        </p:xfrm>
        <a:graphic>
          <a:graphicData uri="http://schemas.openxmlformats.org/drawingml/2006/table">
            <a:tbl>
              <a:tblPr/>
              <a:tblGrid>
                <a:gridCol w="1368360"/>
                <a:gridCol w="1366920"/>
                <a:gridCol w="1296720"/>
                <a:gridCol w="1370160"/>
                <a:gridCol w="2735280"/>
              </a:tblGrid>
              <a:tr h="828720"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 класс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28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класс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1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 класс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409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4 класс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800080"/>
                      </a:solidFill>
                    </a:lnL>
                    <a:lnR w="9360">
                      <a:solidFill>
                        <a:srgbClr val="800080"/>
                      </a:solidFill>
                    </a:lnR>
                    <a:lnT w="9360">
                      <a:solidFill>
                        <a:srgbClr val="800080"/>
                      </a:solidFill>
                    </a:lnT>
                    <a:lnB w="936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0" y="4162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74680"/>
            <a:ext cx="72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Числа вы </a:t>
            </a:r>
            <a:r>
              <a:rPr b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свои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сложите –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сумму побыстрей найд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6:53:54Z</dcterms:created>
  <dc:creator>user</dc:creator>
  <dc:description/>
  <dc:language>en-US</dc:language>
  <cp:lastModifiedBy>Пользователь</cp:lastModifiedBy>
  <dcterms:modified xsi:type="dcterms:W3CDTF">2012-11-12T15:51:04Z</dcterms:modified>
  <cp:revision>4</cp:revision>
  <dc:subject/>
  <dc:title>Слайд 1</dc:title>
</cp:coreProperties>
</file>