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371-85AB-40A0-8EE8-3A9D320B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C00-DC55-49A6-9AF1-C15F2F90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4F2-7AD7-49BA-B94A-052E7D8D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86C-C8E4-452C-95DB-140BAE23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4B77-53FC-4748-85E0-8B85F68C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BC53-5BA5-4E10-83E7-443201F6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FB35-DF65-4915-9CE6-5D486BBF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4329-5A4B-4AB7-9C12-8EDFDF4F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EF92-26D0-4B11-BA78-1DD63898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7C0D-D0E9-4788-8472-E15E17B8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7286-E24B-45EB-BCE9-F4DD2866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B94-A905-42C6-9473-3B831AB1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A6AE-7FFC-4E98-B058-9003F90B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297A-0CBD-42F1-8266-0C11598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69FA-3CED-4BF2-92A2-C9EDCE01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2786-3C17-4C7E-B7AA-B1E354FB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61C4-B39F-4161-BB44-41CE0564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486-7DD4-44F6-BBAF-317977CA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182-7833-4E78-BAD6-00226211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B83-9711-4442-9E31-2B933C26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5D6-5BCE-487D-9DEA-E79832AA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3D6-2F6E-46FA-812A-0BC87125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15F-EF57-4C04-A4AA-6AB3E7F2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530-D31B-4E95-A844-0438F0B8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96C4-8C0F-4BC3-8128-AE0C2B393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8F71-9ECD-4CC9-B98D-9F21C5BC9A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219640" y="3573360"/>
            <a:ext cx="33019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к 2 А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азизуллин Бул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анеева Сарвар Шавале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ой взгляд на экологические проблем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орода Бавл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5" descr="907460909"/>
          <p:cNvPicPr/>
          <p:nvPr/>
        </p:nvPicPr>
        <p:blipFill>
          <a:blip r:embed="rId1"/>
          <a:srcRect l="0" t="0" r="0" b="30129"/>
          <a:stretch/>
        </p:blipFill>
        <p:spPr>
          <a:xfrm>
            <a:off x="324000" y="2276640"/>
            <a:ext cx="43923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184560" y="90792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74920" y="404640"/>
            <a:ext cx="2592360" cy="914400"/>
          </a:xfrm>
          <a:prstGeom prst="downArrowCallout">
            <a:avLst>
              <a:gd name="adj1" fmla="val 70882"/>
              <a:gd name="adj2" fmla="val 70876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24280" y="1411200"/>
            <a:ext cx="8744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ть экологическую обстановку нашего город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3274920" y="2276640"/>
            <a:ext cx="2592360" cy="914400"/>
          </a:xfrm>
          <a:prstGeom prst="downArrowCallout">
            <a:avLst>
              <a:gd name="adj1" fmla="val 70882"/>
              <a:gd name="adj2" fmla="val 70876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0040" y="3397320"/>
            <a:ext cx="7788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опрос среди друзей, родителей и родственник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2125080" y="4116240"/>
            <a:ext cx="4789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собственные наблюде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648800" y="4908600"/>
            <a:ext cx="57722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ить литературу по экологической тем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1042920" y="5700600"/>
            <a:ext cx="7017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анализировать данные работы, сделать выводы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184560" y="90792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3203640" y="476280"/>
            <a:ext cx="2952720" cy="1655640"/>
          </a:xfrm>
          <a:prstGeom prst="downArrowCallout">
            <a:avLst>
              <a:gd name="adj1" fmla="val 44590"/>
              <a:gd name="adj2" fmla="val 44586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019040" y="2421000"/>
            <a:ext cx="1342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ос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443040" y="3233880"/>
            <a:ext cx="2495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44760" y="4025880"/>
            <a:ext cx="8110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литературы, интернет-источников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90440" y="4818240"/>
            <a:ext cx="5392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бщение, анализ, выв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00303201541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018"/>
          <p:cNvPicPr/>
          <p:nvPr/>
        </p:nvPicPr>
        <p:blipFill>
          <a:blip r:embed="rId1"/>
          <a:stretch/>
        </p:blipFill>
        <p:spPr>
          <a:xfrm>
            <a:off x="611280" y="836640"/>
            <a:ext cx="7921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486240" y="1197000"/>
            <a:ext cx="5406840" cy="5406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9280" y="4005360"/>
            <a:ext cx="309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легковой автомобил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брасывае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г дыма в сутки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0 гр. угарного газ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 гр. окислов азо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у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инцовую примес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98520" y="2108160"/>
            <a:ext cx="321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грузовой автомобил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3 раза больш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овитых веществ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6150020"/>
          <p:cNvPicPr/>
          <p:nvPr/>
        </p:nvPicPr>
        <p:blipFill>
          <a:blip r:embed="rId1"/>
          <a:stretch/>
        </p:blipFill>
        <p:spPr>
          <a:xfrm>
            <a:off x="179280" y="189000"/>
            <a:ext cx="5632560" cy="4224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P6150017"/>
          <p:cNvPicPr/>
          <p:nvPr/>
        </p:nvPicPr>
        <p:blipFill>
          <a:blip r:embed="rId2"/>
          <a:stretch/>
        </p:blipFill>
        <p:spPr>
          <a:xfrm>
            <a:off x="1619280" y="1197000"/>
            <a:ext cx="5629320" cy="4221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P6150014"/>
          <p:cNvPicPr/>
          <p:nvPr/>
        </p:nvPicPr>
        <p:blipFill>
          <a:blip r:embed="rId3"/>
          <a:stretch/>
        </p:blipFill>
        <p:spPr>
          <a:xfrm>
            <a:off x="3203640" y="2276640"/>
            <a:ext cx="5629320" cy="4221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752480" y="98280"/>
            <a:ext cx="5556240" cy="6715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765440" y="981000"/>
            <a:ext cx="54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 город –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а ответственнос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9:42:27Z</dcterms:created>
  <dc:creator>user1</dc:creator>
  <dc:description/>
  <dc:language>en-US</dc:language>
  <cp:lastModifiedBy>Сарвар Шавалеевна</cp:lastModifiedBy>
  <dcterms:modified xsi:type="dcterms:W3CDTF">2013-03-29T17:39:31Z</dcterms:modified>
  <cp:revision>13</cp:revision>
  <dc:subject/>
  <dc:title>Слайд 1</dc:title>
</cp:coreProperties>
</file>