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592-5DE9-4C7C-A7B7-BE4C8218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7C03-DFC6-4BFA-8037-7CC6EF75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DCC9-BDE3-4B09-BF48-30EFE421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BCC4-B8FD-4E4A-9B00-20836C5A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0FAE-617F-429E-A4BD-307AF6FA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BA7B-78F7-4457-883E-18FABFA3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93FE-9B76-42D7-8280-EB3E57BD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EB78-B34F-458B-85CD-B7DDAE07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565A-1DEB-4C53-9A76-57B1F1F7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262C-9FF6-48AD-B9F2-38777086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5068-C7E0-43C2-A97A-30DF286E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5710-D2D4-4022-8536-38E49D65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E2CA-14A2-41C9-8D86-BDCA1B5D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2E4A-7C57-4734-84F9-7978CCDA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B673-6752-489B-ADA3-A5973B38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ADB4-2836-4E13-9C47-70010A24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B63C-2873-4DD0-BA55-EAE8F1DE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91EA-14B7-46EC-B37A-B4BDAF13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AE36-232E-45F5-B795-0E03F111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8505-0EF0-4846-83C8-9E5399C3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459-D02F-4214-9DAF-E2AABCE2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8F11-4C5B-4208-803F-DE9A8C73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EBE9-4F9F-43BC-B9C2-6DB20E73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F774-D91E-4FA8-8D4E-83DF0EC8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999C-2F44-4C1E-8358-48A8A21CC2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5CDC-AF64-4B63-9074-6DA673FFDF8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219640" y="3573360"/>
            <a:ext cx="33019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готовил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к 2 А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азизуллин Бул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ководи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анеева Сарвар Шавале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ой взгляд на экологические проблем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города Бавл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Picture 5" descr="907460909"/>
          <p:cNvPicPr/>
          <p:nvPr/>
        </p:nvPicPr>
        <p:blipFill>
          <a:blip r:embed="rId1"/>
          <a:srcRect l="0" t="0" r="0" b="30129"/>
          <a:stretch/>
        </p:blipFill>
        <p:spPr>
          <a:xfrm>
            <a:off x="324000" y="2276640"/>
            <a:ext cx="43923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184560" y="907920"/>
            <a:ext cx="160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3274920" y="404640"/>
            <a:ext cx="2592360" cy="914400"/>
          </a:xfrm>
          <a:prstGeom prst="downArrowCallout">
            <a:avLst>
              <a:gd name="adj1" fmla="val 70882"/>
              <a:gd name="adj2" fmla="val 70876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работ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24280" y="1411200"/>
            <a:ext cx="8744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ть экологическую обстановку нашего города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3274920" y="2276640"/>
            <a:ext cx="2592360" cy="914400"/>
          </a:xfrm>
          <a:prstGeom prst="downArrowCallout">
            <a:avLst>
              <a:gd name="adj1" fmla="val 70882"/>
              <a:gd name="adj2" fmla="val 70876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80040" y="3397320"/>
            <a:ext cx="77886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сти опрос среди друзей, родителей и родственник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2125080" y="4116240"/>
            <a:ext cx="4789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сти собственные наблюден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1648800" y="4908600"/>
            <a:ext cx="57722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ить литературу по экологической теме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1042920" y="5700600"/>
            <a:ext cx="7017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анализировать данные работы, сделать выводы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184560" y="907920"/>
            <a:ext cx="160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3203640" y="476280"/>
            <a:ext cx="2952720" cy="1655640"/>
          </a:xfrm>
          <a:prstGeom prst="downArrowCallout">
            <a:avLst>
              <a:gd name="adj1" fmla="val 44590"/>
              <a:gd name="adj2" fmla="val 44586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следован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019040" y="2421000"/>
            <a:ext cx="1342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ос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443040" y="3233880"/>
            <a:ext cx="24955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644760" y="4025880"/>
            <a:ext cx="8110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учение литературы, интернет-источников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90440" y="4818240"/>
            <a:ext cx="5392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бщение, анализ, выво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100303201541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018"/>
          <p:cNvPicPr/>
          <p:nvPr/>
        </p:nvPicPr>
        <p:blipFill>
          <a:blip r:embed="rId1"/>
          <a:stretch/>
        </p:blipFill>
        <p:spPr>
          <a:xfrm>
            <a:off x="611280" y="836640"/>
            <a:ext cx="7921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3486240" y="1197000"/>
            <a:ext cx="5406840" cy="54068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179280" y="4005360"/>
            <a:ext cx="3095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легковой автомобил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брасывае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г дыма в сутки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0 гр. угарного газ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 гр. окислов азот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ру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инцовую примес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98520" y="2108160"/>
            <a:ext cx="321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грузовой автомобил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3 раза больш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довитых веществ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P6150020"/>
          <p:cNvPicPr/>
          <p:nvPr/>
        </p:nvPicPr>
        <p:blipFill>
          <a:blip r:embed="rId1"/>
          <a:stretch/>
        </p:blipFill>
        <p:spPr>
          <a:xfrm>
            <a:off x="179280" y="189000"/>
            <a:ext cx="5632560" cy="4224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P6150017"/>
          <p:cNvPicPr/>
          <p:nvPr/>
        </p:nvPicPr>
        <p:blipFill>
          <a:blip r:embed="rId2"/>
          <a:stretch/>
        </p:blipFill>
        <p:spPr>
          <a:xfrm>
            <a:off x="1619280" y="1197000"/>
            <a:ext cx="5629320" cy="4221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P6150014"/>
          <p:cNvPicPr/>
          <p:nvPr/>
        </p:nvPicPr>
        <p:blipFill>
          <a:blip r:embed="rId3"/>
          <a:stretch/>
        </p:blipFill>
        <p:spPr>
          <a:xfrm>
            <a:off x="3203640" y="2276640"/>
            <a:ext cx="5629320" cy="4221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752480" y="98280"/>
            <a:ext cx="5556240" cy="67154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1765440" y="981000"/>
            <a:ext cx="54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 город –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а ответственност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09:42:27Z</dcterms:created>
  <dc:creator>user1</dc:creator>
  <dc:description/>
  <dc:language>en-US</dc:language>
  <cp:lastModifiedBy>Сарвар Шавалеевна</cp:lastModifiedBy>
  <dcterms:modified xsi:type="dcterms:W3CDTF">2013-03-29T17:39:31Z</dcterms:modified>
  <cp:revision>13</cp:revision>
  <dc:subject/>
  <dc:title>Слайд 1</dc:title>
</cp:coreProperties>
</file>