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9.gif" ContentType="image/gif"/>
  <Override PartName="/ppt/media/image30.png" ContentType="image/png"/>
  <Override PartName="/ppt/media/image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gif" ContentType="image/gif"/>
  <Override PartName="/ppt/media/image24.png" ContentType="image/png"/>
  <Override PartName="/ppt/media/image3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092-54B3-4D80-AB9A-FD830A61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5BF-1F4D-4D36-865E-891BB804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681-54C8-40C6-AB17-A80D7B98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482-034A-43A1-BE3D-905600E5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5BCB-3AC5-446D-97CB-E7A8B8EE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D974-79EA-476F-ADFB-2CEDA841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0103-3D36-4FFE-9419-01DB4A52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ECBE-6C19-4DE2-B4BC-09435E2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A71-1282-48ED-A7EC-2E73986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D62-561C-48A4-B738-7D8772F5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EEFC-0D7C-4EC8-B991-C77C811A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D31-CE19-4EAE-80FF-CEABC799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3DCA-F16B-4DBF-88E1-275580C0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C40E-01E6-42F3-A9AA-FD2C35F3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6F5C-0041-4685-BB55-48EFAB7A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28A7-6E84-4245-B76F-8A6853B8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4247-7439-40D3-A9C4-789B4F57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03E2-3951-4B44-BE63-A2B9A332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ABDD-E0FE-4E23-870C-962FB8D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697A-A742-4436-AF51-A48CEDC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3390-4E67-4FDC-9371-D8174ED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A5C3-7D67-4B21-BF4F-5B70A606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FF1-EAFE-48EB-A08B-2019710B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19F9-39C3-4573-AA43-1678E5D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E886-C1B7-4A11-A914-F1286D89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BF07-54CB-4674-B851-A23CE31F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D3ED-9750-46F2-BEA9-1B39A0F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55B3-4C96-4B33-9EB7-BC8B51B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6644-E93C-4F52-9059-53CF8EE6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DFC7-9F18-4296-8EF2-D9AD32F4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3115-4F6A-4F17-8C82-51FDF9AA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AD78-AB6F-427B-A24F-0FA8BCAD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12F6-D7CC-4000-B505-82725ED2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0C5-3200-4104-8B5A-95EE3A5D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0F71-7F05-4FDD-ADC5-4343F96F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CC4A-FD85-4724-9AF9-89511E9D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394A-1C64-4A6F-8F39-84236F4A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ACA1-7A76-4B2A-BAEC-0923FEA5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14A7-BBDC-4257-96A1-1F8372BC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86B0-106A-4908-8B29-ADBDD0D0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046F-237F-4834-BDCC-0C3A1F47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5A00-9433-46FD-ABE0-9434D350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DEBCA-3947-44E6-B7B4-672CFBF1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2A1-1DD1-4A58-85C4-713E0DE6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4CB-ECDB-4FCD-AE21-14253481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786-7A9A-4F46-BEC1-B14E400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2DA-549C-466B-8B5E-6539918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79A-315B-43CF-B449-BE324D8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A918-F47E-4C9D-968C-D786E7250F14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D9D7-07CA-416E-A596-22E8978CD634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46DD-5AAA-435B-91C9-9B1FC63135C2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5D41-C1BC-4989-94DC-A6FB069D0051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BB92-C693-4738-B596-948B78C74DAD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2120-897F-466C-BAF2-31C81337F258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E5BC-F02B-4EAA-9E51-6B23E067B343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1989-C1D7-4E99-9733-414DE7CAC58F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716880" y="3357720"/>
            <a:ext cx="1618920" cy="319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901800" y="1951200"/>
            <a:ext cx="2506680" cy="769932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" descr=""/>
          <p:cNvPicPr/>
          <p:nvPr/>
        </p:nvPicPr>
        <p:blipFill>
          <a:blip r:embed="rId4"/>
          <a:stretch/>
        </p:blipFill>
        <p:spPr>
          <a:xfrm>
            <a:off x="669960" y="-146160"/>
            <a:ext cx="8113680" cy="264492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2" descr=""/>
          <p:cNvPicPr/>
          <p:nvPr/>
        </p:nvPicPr>
        <p:blipFill>
          <a:blip r:embed="rId5"/>
          <a:stretch/>
        </p:blipFill>
        <p:spPr>
          <a:xfrm>
            <a:off x="-219240" y="5583240"/>
            <a:ext cx="4523040" cy="11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E:\Анимация\Цветы, орнамент\Орнамент, оформление\animflower2.gif"/>
          <p:cNvPicPr/>
          <p:nvPr/>
        </p:nvPicPr>
        <p:blipFill>
          <a:blip r:embed="rId6"/>
          <a:stretch/>
        </p:blipFill>
        <p:spPr>
          <a:xfrm>
            <a:off x="4140360" y="6157800"/>
            <a:ext cx="3762360" cy="60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E:\Анимация\Цветы, орнамент\Орнамент, оформление\tn_animation2.gif"/>
          <p:cNvPicPr/>
          <p:nvPr/>
        </p:nvPicPr>
        <p:blipFill>
          <a:blip r:embed="rId7"/>
          <a:stretch/>
        </p:blipFill>
        <p:spPr>
          <a:xfrm>
            <a:off x="8337600" y="24685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E:\Анимация\Цветы, орнамент\Орнамент, оформление\tn_animation2.gif"/>
          <p:cNvPicPr/>
          <p:nvPr/>
        </p:nvPicPr>
        <p:blipFill>
          <a:blip r:embed="rId8"/>
          <a:stretch/>
        </p:blipFill>
        <p:spPr>
          <a:xfrm>
            <a:off x="8450280" y="57675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E:\Анимация\Цветы, орнамент\Орнамент, оформление\tn_animation2.gif"/>
          <p:cNvPicPr/>
          <p:nvPr/>
        </p:nvPicPr>
        <p:blipFill>
          <a:blip r:embed="rId9"/>
          <a:stretch/>
        </p:blipFill>
        <p:spPr>
          <a:xfrm>
            <a:off x="8026560" y="200808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E:\Анимация\Цветы, орнамент\Орнамент, оформление\tn_animation2.gif"/>
          <p:cNvPicPr/>
          <p:nvPr/>
        </p:nvPicPr>
        <p:blipFill>
          <a:blip r:embed="rId10"/>
          <a:stretch/>
        </p:blipFill>
        <p:spPr>
          <a:xfrm>
            <a:off x="8217000" y="615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E:\Анимация\Книги, письмо, канцелярия\jlgbook.gif"/>
          <p:cNvPicPr/>
          <p:nvPr/>
        </p:nvPicPr>
        <p:blipFill>
          <a:blip r:embed="rId11"/>
          <a:stretch/>
        </p:blipFill>
        <p:spPr>
          <a:xfrm>
            <a:off x="3798720" y="3357720"/>
            <a:ext cx="1872000" cy="1871640"/>
          </a:xfrm>
          <a:prstGeom prst="rect">
            <a:avLst/>
          </a:prstGeom>
          <a:ln w="0">
            <a:noFill/>
          </a:ln>
        </p:spPr>
      </p:pic>
      <p:sp>
        <p:nvSpPr>
          <p:cNvPr id="187" name="Номер слайда 1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931-9B3F-498F-B368-A972A8F0CFB4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ижний колонтитул 1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Documents and Settings\Иятта\Рабочий стол\ЭТО СРОЧНО\Новая папка\DSC07710-conv-ok-sq-s-web.jpg"/>
          <p:cNvPicPr/>
          <p:nvPr/>
        </p:nvPicPr>
        <p:blipFill>
          <a:blip r:embed="rId2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D:\Документы Серебряковой\Аттестация 1012\Вечер Ф.Павлова\ФП\pavlov.jpg"/>
          <p:cNvPicPr/>
          <p:nvPr/>
        </p:nvPicPr>
        <p:blipFill>
          <a:blip r:embed="rId3"/>
          <a:stretch/>
        </p:blipFill>
        <p:spPr>
          <a:xfrm>
            <a:off x="5425920" y="549360"/>
            <a:ext cx="2291040" cy="31748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4"/>
          <a:stretch/>
        </p:blipFill>
        <p:spPr>
          <a:xfrm>
            <a:off x="1249200" y="804960"/>
            <a:ext cx="3859200" cy="5473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E:\Анимация\Цветы, орнамент\Орнамент, оформление\animflower2.gif"/>
          <p:cNvPicPr/>
          <p:nvPr/>
        </p:nvPicPr>
        <p:blipFill>
          <a:blip r:embed="rId5"/>
          <a:stretch/>
        </p:blipFill>
        <p:spPr>
          <a:xfrm>
            <a:off x="5148360" y="3638520"/>
            <a:ext cx="2805120" cy="44784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369A-F2B9-438F-94BE-C891ABDB6BD1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Нижний колонтитул 7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11800" y="303516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6900840" cy="18223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7" descr=""/>
          <p:cNvPicPr/>
          <p:nvPr/>
        </p:nvPicPr>
        <p:blipFill>
          <a:blip r:embed="rId3"/>
          <a:stretch/>
        </p:blipFill>
        <p:spPr>
          <a:xfrm>
            <a:off x="554040" y="1792440"/>
            <a:ext cx="5310360" cy="9205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9" descr=""/>
          <p:cNvPicPr/>
          <p:nvPr/>
        </p:nvPicPr>
        <p:blipFill>
          <a:blip r:embed="rId4"/>
          <a:stretch/>
        </p:blipFill>
        <p:spPr>
          <a:xfrm>
            <a:off x="957240" y="2505240"/>
            <a:ext cx="4011480" cy="9205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2" descr=""/>
          <p:cNvPicPr/>
          <p:nvPr/>
        </p:nvPicPr>
        <p:blipFill>
          <a:blip r:embed="rId5"/>
          <a:stretch/>
        </p:blipFill>
        <p:spPr>
          <a:xfrm>
            <a:off x="-23760" y="1085760"/>
            <a:ext cx="823428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E:\Анимация\Книги, письмо, канцелярия\book02.gif"/>
          <p:cNvPicPr/>
          <p:nvPr/>
        </p:nvPicPr>
        <p:blipFill>
          <a:blip r:embed="rId6"/>
          <a:stretch/>
        </p:blipFill>
        <p:spPr>
          <a:xfrm>
            <a:off x="5778360" y="2139840"/>
            <a:ext cx="1427400" cy="11318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8" descr=""/>
          <p:cNvPicPr/>
          <p:nvPr/>
        </p:nvPicPr>
        <p:blipFill>
          <a:blip r:embed="rId7"/>
          <a:stretch/>
        </p:blipFill>
        <p:spPr>
          <a:xfrm>
            <a:off x="1103400" y="3498840"/>
            <a:ext cx="3724200" cy="9208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10" descr=""/>
          <p:cNvPicPr/>
          <p:nvPr/>
        </p:nvPicPr>
        <p:blipFill>
          <a:blip r:embed="rId8"/>
          <a:stretch/>
        </p:blipFill>
        <p:spPr>
          <a:xfrm>
            <a:off x="334800" y="4181400"/>
            <a:ext cx="5548320" cy="13114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1" descr=""/>
          <p:cNvPicPr/>
          <p:nvPr/>
        </p:nvPicPr>
        <p:blipFill>
          <a:blip r:embed="rId9"/>
          <a:stretch/>
        </p:blipFill>
        <p:spPr>
          <a:xfrm>
            <a:off x="1530360" y="5357880"/>
            <a:ext cx="2743200" cy="920520"/>
          </a:xfrm>
          <a:prstGeom prst="rect">
            <a:avLst/>
          </a:prstGeom>
          <a:ln w="0">
            <a:noFill/>
          </a:ln>
        </p:spPr>
      </p:pic>
      <p:sp>
        <p:nvSpPr>
          <p:cNvPr id="205" name="Номер слайда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7BD-7D2F-44F1-96D4-72201120FBB3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1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6054840" y="17640"/>
            <a:ext cx="3089160" cy="2547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E:\Анимация\Цветы, орнамент\Орнамент, оформление\fairyln.gif"/>
          <p:cNvPicPr/>
          <p:nvPr/>
        </p:nvPicPr>
        <p:blipFill>
          <a:blip r:embed="rId3"/>
          <a:stretch/>
        </p:blipFill>
        <p:spPr>
          <a:xfrm>
            <a:off x="222120" y="5877000"/>
            <a:ext cx="5715000" cy="79992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" descr=""/>
          <p:cNvPicPr/>
          <p:nvPr/>
        </p:nvPicPr>
        <p:blipFill>
          <a:blip r:embed="rId4"/>
          <a:stretch/>
        </p:blipFill>
        <p:spPr>
          <a:xfrm>
            <a:off x="-23760" y="378000"/>
            <a:ext cx="5906880" cy="2639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E:\Анимация\Музыка\image566.gif"/>
          <p:cNvPicPr/>
          <p:nvPr/>
        </p:nvPicPr>
        <p:blipFill>
          <a:blip r:embed="rId5"/>
          <a:stretch/>
        </p:blipFill>
        <p:spPr>
          <a:xfrm>
            <a:off x="6300720" y="301788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E:\Анимация\Музыка\image840.gif"/>
          <p:cNvPicPr/>
          <p:nvPr/>
        </p:nvPicPr>
        <p:blipFill>
          <a:blip r:embed="rId6"/>
          <a:stretch/>
        </p:blipFill>
        <p:spPr>
          <a:xfrm>
            <a:off x="117360" y="404640"/>
            <a:ext cx="696960" cy="8877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3" descr=""/>
          <p:cNvPicPr/>
          <p:nvPr/>
        </p:nvPicPr>
        <p:blipFill>
          <a:blip r:embed="rId7"/>
          <a:stretch/>
        </p:blipFill>
        <p:spPr>
          <a:xfrm>
            <a:off x="139680" y="2419200"/>
            <a:ext cx="6041880" cy="2652840"/>
          </a:xfrm>
          <a:prstGeom prst="rect">
            <a:avLst/>
          </a:prstGeom>
          <a:ln w="0">
            <a:noFill/>
          </a:ln>
        </p:spPr>
      </p:pic>
      <p:sp>
        <p:nvSpPr>
          <p:cNvPr id="214" name="Номер слайда 8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DDCB-447F-49F4-B02E-236A716A8218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Нижний колонтитул 9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1"/>
          <a:stretch/>
        </p:blipFill>
        <p:spPr>
          <a:xfrm>
            <a:off x="731880" y="1060560"/>
            <a:ext cx="6570720" cy="3530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E:\Анимация\Музыка\music.gif"/>
          <p:cNvPicPr/>
          <p:nvPr/>
        </p:nvPicPr>
        <p:blipFill>
          <a:blip r:embed="rId2"/>
          <a:stretch/>
        </p:blipFill>
        <p:spPr>
          <a:xfrm rot="19952400">
            <a:off x="7068960" y="5668920"/>
            <a:ext cx="1422720" cy="56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208560" y="4521240"/>
            <a:ext cx="762120" cy="1257120"/>
          </a:xfrm>
          <a:prstGeom prst="rect">
            <a:avLst/>
          </a:prstGeom>
          <a:ln w="0">
            <a:noFill/>
          </a:ln>
        </p:spPr>
      </p:pic>
      <p:sp>
        <p:nvSpPr>
          <p:cNvPr id="219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907-3CD5-4C7E-94AA-39E4EEDE8610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Admin</cp:lastModifiedBy>
  <dcterms:modified xsi:type="dcterms:W3CDTF">2013-03-29T17:21:14Z</dcterms:modified>
  <cp:revision>67</cp:revision>
  <dc:subject/>
  <dc:title>Слайд 1</dc:title>
</cp:coreProperties>
</file>