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9.gif" ContentType="image/gif"/>
  <Override PartName="/ppt/media/image30.png" ContentType="image/png"/>
  <Override PartName="/ppt/media/image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gif" ContentType="image/gif"/>
  <Override PartName="/ppt/media/image24.png" ContentType="image/png"/>
  <Override PartName="/ppt/media/image3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389-E6F5-4A92-8F1B-B49720FD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1AC-83E0-4B3C-9338-03DD7BE3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818-B18F-4A10-BC0F-98F65B58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2CF-4669-489B-A4C8-DDD66567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0736-9908-42FB-80F2-BC6087B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1437-73E6-4BC2-8648-6A6AC10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5FC9-87EA-4419-AB2C-3CE209A3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1D6-12D7-4854-92DA-B485F9B0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857-98D9-417C-A34D-EECECFC3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E71-ACE5-4E71-B208-7C2A75C3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B578-8B4A-4D68-B78C-7937535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619-9800-419C-88C4-B9AE9097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7C39-35EF-4850-A686-4DADD1A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D18-1F38-453D-9928-18A67C2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0054-3FC0-453D-909E-520AAE59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444-54E7-4523-8ACB-D6B19DE5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DDFA-53BC-4EFF-B4A8-29D1B044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420E-D6D2-4D86-89DE-B7BCAA66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6ECF-FA85-4496-BEAC-0E90012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5EC6-265E-49FA-8CFE-DA03633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7B77-4CD9-473D-981F-F970B62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50FD-6F0F-4526-A606-BCE626C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6B1-20A5-4DD6-9CBD-2D2B57F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B03E-68B8-4BAF-AA9B-7AAB9FB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8A97-C1F9-49F2-B7D2-C8D8501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8825-DF52-499A-8CC9-7937379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83BB-388A-4222-93F5-9B12D745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B041-A902-401A-8004-74A2145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F878-7D3F-414A-B4A5-FE101529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3D46-CDE3-41AC-8242-C5E21464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C344-1D8E-4D3E-A5B6-8744D33E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D00D-9B3B-49BB-9BE5-EFD3F83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CF886-BAD6-4207-8A6D-439D5F19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574-BAFD-44A8-827C-600B233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48CF-1778-4531-95E0-BA6A4EB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01580-4E5B-4D72-B282-E23505DE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6226A-B483-4297-82D3-9DA4752F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9E9A-5F14-4744-804C-3C91224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0B5A-B794-4B09-977B-64CEE2C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3DA5-A605-4535-A60B-34D7FE6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4D5A-3A28-463A-BB37-CFB02B9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3ADB-5104-42A1-B1D1-277B541D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2811-888A-4065-911F-5536A41D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76C-F997-4633-9AC8-538E3D3F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530-AFBB-4FF7-9614-04BD37B7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1D9-FD95-42A3-B8EF-434F99C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5ED-2148-4151-AD88-08C09966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1D1-DF55-4EB4-A49B-81F031D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E33B-EFFF-4A9D-AF6F-CB657F483411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E78-2641-421D-957B-77AE5ABEE41B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C625-557F-4E03-B2F7-E2DD35000076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16CF-D0C4-444E-8272-3E0AD86B6346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92C-0594-4A10-8E47-7B20331485CA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5DD3-76FC-4812-B2BC-630E471CBE4A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E90C-8ADA-4823-A772-54C00285AE5E}" type="datetime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4CAF-39BA-481C-AAB0-723048C76E00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gi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6716880" y="3357720"/>
            <a:ext cx="1618920" cy="319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901800" y="1951200"/>
            <a:ext cx="2506680" cy="769932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" descr=""/>
          <p:cNvPicPr/>
          <p:nvPr/>
        </p:nvPicPr>
        <p:blipFill>
          <a:blip r:embed="rId4"/>
          <a:stretch/>
        </p:blipFill>
        <p:spPr>
          <a:xfrm>
            <a:off x="669960" y="-146160"/>
            <a:ext cx="8113680" cy="264492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" descr=""/>
          <p:cNvPicPr/>
          <p:nvPr/>
        </p:nvPicPr>
        <p:blipFill>
          <a:blip r:embed="rId5"/>
          <a:stretch/>
        </p:blipFill>
        <p:spPr>
          <a:xfrm>
            <a:off x="-219240" y="5583240"/>
            <a:ext cx="4523040" cy="111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E:\Анимация\Цветы, орнамент\Орнамент, оформление\animflower2.gif"/>
          <p:cNvPicPr/>
          <p:nvPr/>
        </p:nvPicPr>
        <p:blipFill>
          <a:blip r:embed="rId6"/>
          <a:stretch/>
        </p:blipFill>
        <p:spPr>
          <a:xfrm>
            <a:off x="4140360" y="6157800"/>
            <a:ext cx="3762360" cy="60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E:\Анимация\Цветы, орнамент\Орнамент, оформление\tn_animation2.gif"/>
          <p:cNvPicPr/>
          <p:nvPr/>
        </p:nvPicPr>
        <p:blipFill>
          <a:blip r:embed="rId7"/>
          <a:stretch/>
        </p:blipFill>
        <p:spPr>
          <a:xfrm>
            <a:off x="8337600" y="24685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E:\Анимация\Цветы, орнамент\Орнамент, оформление\tn_animation2.gif"/>
          <p:cNvPicPr/>
          <p:nvPr/>
        </p:nvPicPr>
        <p:blipFill>
          <a:blip r:embed="rId8"/>
          <a:stretch/>
        </p:blipFill>
        <p:spPr>
          <a:xfrm>
            <a:off x="8450280" y="57675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E:\Анимация\Цветы, орнамент\Орнамент, оформление\tn_animation2.gif"/>
          <p:cNvPicPr/>
          <p:nvPr/>
        </p:nvPicPr>
        <p:blipFill>
          <a:blip r:embed="rId9"/>
          <a:stretch/>
        </p:blipFill>
        <p:spPr>
          <a:xfrm>
            <a:off x="8026560" y="20080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7" descr="E:\Анимация\Цветы, орнамент\Орнамент, оформление\tn_animation2.gif"/>
          <p:cNvPicPr/>
          <p:nvPr/>
        </p:nvPicPr>
        <p:blipFill>
          <a:blip r:embed="rId10"/>
          <a:stretch/>
        </p:blipFill>
        <p:spPr>
          <a:xfrm>
            <a:off x="8217000" y="61578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E:\Анимация\Книги, письмо, канцелярия\jlgbook.gif"/>
          <p:cNvPicPr/>
          <p:nvPr/>
        </p:nvPicPr>
        <p:blipFill>
          <a:blip r:embed="rId11"/>
          <a:stretch/>
        </p:blipFill>
        <p:spPr>
          <a:xfrm>
            <a:off x="3798720" y="3357720"/>
            <a:ext cx="1872000" cy="1871640"/>
          </a:xfrm>
          <a:prstGeom prst="rect">
            <a:avLst/>
          </a:prstGeom>
          <a:ln w="0">
            <a:noFill/>
          </a:ln>
        </p:spPr>
      </p:pic>
      <p:sp>
        <p:nvSpPr>
          <p:cNvPr id="187" name="Номер слайда 1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51E3-4F66-4973-B86F-98F90151164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Нижний колонтитул 1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Иятта\Рабочий стол\ЭТО СРОЧНО\Новая папка\чернильница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:\Documents and Settings\Иятта\Рабочий стол\ЭТО СРОЧНО\Новая папка\DSC07710-conv-ok-sq-s-web.jpg"/>
          <p:cNvPicPr/>
          <p:nvPr/>
        </p:nvPicPr>
        <p:blipFill>
          <a:blip r:embed="rId2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D:\Документы Серебряковой\Аттестация 1012\Вечер Ф.Павлова\ФП\pavlov.jpg"/>
          <p:cNvPicPr/>
          <p:nvPr/>
        </p:nvPicPr>
        <p:blipFill>
          <a:blip r:embed="rId3"/>
          <a:stretch/>
        </p:blipFill>
        <p:spPr>
          <a:xfrm>
            <a:off x="5425920" y="549360"/>
            <a:ext cx="2291040" cy="31748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4"/>
          <a:stretch/>
        </p:blipFill>
        <p:spPr>
          <a:xfrm>
            <a:off x="1249200" y="804960"/>
            <a:ext cx="3859200" cy="5473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E:\Анимация\Цветы, орнамент\Орнамент, оформление\animflower2.gif"/>
          <p:cNvPicPr/>
          <p:nvPr/>
        </p:nvPicPr>
        <p:blipFill>
          <a:blip r:embed="rId5"/>
          <a:stretch/>
        </p:blipFill>
        <p:spPr>
          <a:xfrm>
            <a:off x="5148360" y="3638520"/>
            <a:ext cx="2805120" cy="44784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671B-D77A-4A47-8612-2E632BD2EF0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Нижний колонтитул 7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11800" y="303516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6900840" cy="18223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7" descr=""/>
          <p:cNvPicPr/>
          <p:nvPr/>
        </p:nvPicPr>
        <p:blipFill>
          <a:blip r:embed="rId3"/>
          <a:stretch/>
        </p:blipFill>
        <p:spPr>
          <a:xfrm>
            <a:off x="554040" y="1792440"/>
            <a:ext cx="5310360" cy="9205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9" descr=""/>
          <p:cNvPicPr/>
          <p:nvPr/>
        </p:nvPicPr>
        <p:blipFill>
          <a:blip r:embed="rId4"/>
          <a:stretch/>
        </p:blipFill>
        <p:spPr>
          <a:xfrm>
            <a:off x="957240" y="2505240"/>
            <a:ext cx="4011480" cy="9205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2" descr=""/>
          <p:cNvPicPr/>
          <p:nvPr/>
        </p:nvPicPr>
        <p:blipFill>
          <a:blip r:embed="rId5"/>
          <a:stretch/>
        </p:blipFill>
        <p:spPr>
          <a:xfrm>
            <a:off x="-23760" y="1085760"/>
            <a:ext cx="823428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E:\Анимация\Книги, письмо, канцелярия\book02.gif"/>
          <p:cNvPicPr/>
          <p:nvPr/>
        </p:nvPicPr>
        <p:blipFill>
          <a:blip r:embed="rId6"/>
          <a:stretch/>
        </p:blipFill>
        <p:spPr>
          <a:xfrm>
            <a:off x="5778360" y="2139840"/>
            <a:ext cx="1427400" cy="11318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8" descr=""/>
          <p:cNvPicPr/>
          <p:nvPr/>
        </p:nvPicPr>
        <p:blipFill>
          <a:blip r:embed="rId7"/>
          <a:stretch/>
        </p:blipFill>
        <p:spPr>
          <a:xfrm>
            <a:off x="1103400" y="3498840"/>
            <a:ext cx="3724200" cy="9208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10" descr=""/>
          <p:cNvPicPr/>
          <p:nvPr/>
        </p:nvPicPr>
        <p:blipFill>
          <a:blip r:embed="rId8"/>
          <a:stretch/>
        </p:blipFill>
        <p:spPr>
          <a:xfrm>
            <a:off x="334800" y="4181400"/>
            <a:ext cx="5548320" cy="13114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1" descr=""/>
          <p:cNvPicPr/>
          <p:nvPr/>
        </p:nvPicPr>
        <p:blipFill>
          <a:blip r:embed="rId9"/>
          <a:stretch/>
        </p:blipFill>
        <p:spPr>
          <a:xfrm>
            <a:off x="1530360" y="5357880"/>
            <a:ext cx="2743200" cy="920520"/>
          </a:xfrm>
          <a:prstGeom prst="rect">
            <a:avLst/>
          </a:prstGeom>
          <a:ln w="0">
            <a:noFill/>
          </a:ln>
        </p:spPr>
      </p:pic>
      <p:sp>
        <p:nvSpPr>
          <p:cNvPr id="205" name="Номер слайда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825E-0AC6-402A-BF3A-D4FD53C935C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Нижний колонтитул 1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6054840" y="17640"/>
            <a:ext cx="3089160" cy="254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E:\Анимация\Цветы, орнамент\Орнамент, оформление\fairyln.gif"/>
          <p:cNvPicPr/>
          <p:nvPr/>
        </p:nvPicPr>
        <p:blipFill>
          <a:blip r:embed="rId3"/>
          <a:stretch/>
        </p:blipFill>
        <p:spPr>
          <a:xfrm>
            <a:off x="222120" y="5877000"/>
            <a:ext cx="5715000" cy="79992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" descr=""/>
          <p:cNvPicPr/>
          <p:nvPr/>
        </p:nvPicPr>
        <p:blipFill>
          <a:blip r:embed="rId4"/>
          <a:stretch/>
        </p:blipFill>
        <p:spPr>
          <a:xfrm>
            <a:off x="-23760" y="378000"/>
            <a:ext cx="5906880" cy="263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Анимация\Музыка\image566.gif"/>
          <p:cNvPicPr/>
          <p:nvPr/>
        </p:nvPicPr>
        <p:blipFill>
          <a:blip r:embed="rId5"/>
          <a:stretch/>
        </p:blipFill>
        <p:spPr>
          <a:xfrm>
            <a:off x="6300720" y="301788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E:\Анимация\Музыка\image840.gif"/>
          <p:cNvPicPr/>
          <p:nvPr/>
        </p:nvPicPr>
        <p:blipFill>
          <a:blip r:embed="rId6"/>
          <a:stretch/>
        </p:blipFill>
        <p:spPr>
          <a:xfrm>
            <a:off x="117360" y="404640"/>
            <a:ext cx="696960" cy="8877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3" descr=""/>
          <p:cNvPicPr/>
          <p:nvPr/>
        </p:nvPicPr>
        <p:blipFill>
          <a:blip r:embed="rId7"/>
          <a:stretch/>
        </p:blipFill>
        <p:spPr>
          <a:xfrm>
            <a:off x="139680" y="2419200"/>
            <a:ext cx="6041880" cy="2652840"/>
          </a:xfrm>
          <a:prstGeom prst="rect">
            <a:avLst/>
          </a:prstGeom>
          <a:ln w="0">
            <a:noFill/>
          </a:ln>
        </p:spPr>
      </p:pic>
      <p:sp>
        <p:nvSpPr>
          <p:cNvPr id="214" name="Номер слайда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E6AB-C84A-4CC9-92C0-D18888240681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Нижний колонтитул 9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731880" y="1060560"/>
            <a:ext cx="6570720" cy="3530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Анимация\Музыка\music.gif"/>
          <p:cNvPicPr/>
          <p:nvPr/>
        </p:nvPicPr>
        <p:blipFill>
          <a:blip r:embed="rId2"/>
          <a:stretch/>
        </p:blipFill>
        <p:spPr>
          <a:xfrm rot="19952400">
            <a:off x="7068960" y="5668920"/>
            <a:ext cx="1422720" cy="560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208560" y="4521240"/>
            <a:ext cx="762120" cy="1257120"/>
          </a:xfrm>
          <a:prstGeom prst="rect">
            <a:avLst/>
          </a:prstGeom>
          <a:ln w="0">
            <a:noFill/>
          </a:ln>
        </p:spPr>
      </p:pic>
      <p:sp>
        <p:nvSpPr>
          <p:cNvPr id="219" name="Номер слайда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06B-BC5E-45B5-ADA5-7633C3ED612C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21:14Z</dcterms:modified>
  <cp:revision>67</cp:revision>
  <dc:subject/>
  <dc:title>Слайд 1</dc:title>
</cp:coreProperties>
</file>