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433-F108-4C87-8656-3D4EDE93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ED3-E617-4958-B4E8-9CC242A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598-CF18-4CA5-AC4E-13F4AD6F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74F-1AB0-4B05-B34F-DAFF5721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42F1-F1B3-4C25-9BCE-7ACD4DD5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AA40-74EE-4B7F-A54F-79E9F17A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045-A5EF-4EDB-8E24-2D2A4A85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5D48-B799-4F2A-ACB4-61A5F6BF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194D-8A53-49C6-8E2E-79ED76FC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FD93-F17E-4E16-84E0-505D0623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45EB-EEDD-4C0B-B77A-A8F5B684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4B2-1AC9-4E6C-875B-FFCBBCAB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5D0B-206E-4019-A002-180A4C1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CF62-C5F6-4F41-9FD6-DFDBC243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D749-BD87-4B62-8A5A-78D27994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DFE3-E6CC-4197-9DCF-D9E505CA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5347-B4A4-4569-ADE3-17D4F5CC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B9BB-03F5-44E2-B046-CE97F139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A454-D45A-491A-9212-513A85F0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5A02-F969-4E60-A904-05447858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68E79-A755-4343-9041-C1DE480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C74F-8AF7-4A48-B3C6-A27B9A95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AFD-3ECB-4F64-AD34-02847401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EC2E-6348-4F18-83C2-89942436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A4D8-3D74-403A-9A7E-D4056F7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0E6D-ED79-49F1-A827-60EA1284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40E29-5DD6-4A7B-AE16-312F2F70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FF8E-B519-49AC-AE42-699B54EE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5880-EAD7-4BCD-8CBC-BA04E682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53510-6BAE-4BB6-8415-613AC76F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EC23-B65B-4768-BB92-5DCD32CA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B1EB-39AC-45FF-8BAB-F78AAE1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3527-B646-4D5B-9761-121E9C41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02F-C6A8-47DE-9829-BBE8770E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5FC2-BD7A-4480-A553-D54DFF76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F6CB-E1A6-418F-9EED-2F4AA479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AABC-0C20-420D-8234-3256F7D0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7C40-F960-48AA-AEB8-48C043A3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93465-06F5-41BB-A4DE-8C8ADA0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21FC-81F1-4E4C-B837-BA63044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02676-0BB0-4849-A63A-FA6471FC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70C33-59ED-42E9-99B6-6AA47411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C8C4-B1D8-4D70-98EA-0B88643A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64D-B329-414C-9373-504B4288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43B-D366-42BC-AD87-D12CA836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267-02AD-4545-B0AE-2D8DD5B2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1B9-E671-4449-B4D6-306AE25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552-03C7-45BD-AF77-2879F343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D06-A869-49B0-8B73-4BBDE6B3681A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F162-3126-4255-A8FC-599794F0FDB0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54F1-27CA-4CD1-B438-681E8F88DB46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9BC1-0BF8-4759-A582-5371A7A1B615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Прямоугольник 1" descr=""/>
          <p:cNvPicPr/>
          <p:nvPr/>
        </p:nvPicPr>
        <p:blipFill>
          <a:blip r:embed="rId1"/>
          <a:stretch/>
        </p:blipFill>
        <p:spPr>
          <a:xfrm>
            <a:off x="237960" y="85680"/>
            <a:ext cx="8601120" cy="26449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3" descr=""/>
          <p:cNvPicPr/>
          <p:nvPr/>
        </p:nvPicPr>
        <p:blipFill>
          <a:blip r:embed="rId2"/>
          <a:stretch/>
        </p:blipFill>
        <p:spPr>
          <a:xfrm>
            <a:off x="-23760" y="2114640"/>
            <a:ext cx="8832960" cy="474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3"/>
          <a:stretch/>
        </p:blipFill>
        <p:spPr>
          <a:xfrm>
            <a:off x="7126200" y="4797360"/>
            <a:ext cx="1693800" cy="18543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225360"/>
            <a:ext cx="8150400" cy="1841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Documents and Settings\Admin\Рабочий стол\maksimov_stepan_1000.jpg"/>
          <p:cNvPicPr/>
          <p:nvPr/>
        </p:nvPicPr>
        <p:blipFill>
          <a:blip r:embed="rId2"/>
          <a:stretch/>
        </p:blipFill>
        <p:spPr>
          <a:xfrm>
            <a:off x="928800" y="1428840"/>
            <a:ext cx="1857240" cy="2670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D:\Мои документы\Павлов 2\павлов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5929200" y="1571760"/>
            <a:ext cx="1784520" cy="25002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5929200" y="15717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ор Пав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J:\Анимированные рисунки\Знаки\image365.gif"/>
          <p:cNvPicPr/>
          <p:nvPr/>
        </p:nvPicPr>
        <p:blipFill>
          <a:blip r:embed="rId4"/>
          <a:stretch/>
        </p:blipFill>
        <p:spPr>
          <a:xfrm>
            <a:off x="3357720" y="228600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J:\Анимированные рисунки\Знаки\image365.gif"/>
          <p:cNvPicPr/>
          <p:nvPr/>
        </p:nvPicPr>
        <p:blipFill>
          <a:blip r:embed="rId5"/>
          <a:stretch/>
        </p:blipFill>
        <p:spPr>
          <a:xfrm flipH="1">
            <a:off x="4500360" y="2214720"/>
            <a:ext cx="1214280" cy="1357200"/>
          </a:xfrm>
          <a:prstGeom prst="rect">
            <a:avLst/>
          </a:prstGeom>
          <a:ln w="0">
            <a:noFill/>
          </a:ln>
        </p:spPr>
      </p:pic>
      <p:sp>
        <p:nvSpPr>
          <p:cNvPr id="186" name="Сердце 10"/>
          <p:cNvSpPr/>
          <p:nvPr/>
        </p:nvSpPr>
        <p:spPr>
          <a:xfrm>
            <a:off x="2286000" y="3929040"/>
            <a:ext cx="4572000" cy="2928960"/>
          </a:xfrm>
          <a:custGeom>
            <a:avLst/>
            <a:gdLst>
              <a:gd name="textAreaLeft" fmla="*/ 761760 w 4572000"/>
              <a:gd name="textAreaRight" fmla="*/ 3810240 w 4572000"/>
              <a:gd name="textAreaTop" fmla="*/ 732240 h 2928960"/>
              <a:gd name="textAreaBottom" fmla="*/ 1952640 h 2928960"/>
            </a:gdLst>
            <a:ahLst/>
            <a:rect l="textAreaLeft" t="textAreaTop" r="textAreaRight" b="textAreaBottom"/>
            <a:pathLst>
              <a:path w="4572000" h="2928937">
                <a:moveTo>
                  <a:pt x="2286000" y="732234"/>
                </a:moveTo>
                <a:cubicBezTo>
                  <a:pt x="3238500" y="-976312"/>
                  <a:pt x="6953250" y="732234"/>
                  <a:pt x="2286000" y="2928937"/>
                </a:cubicBezTo>
                <a:cubicBezTo>
                  <a:pt x="-2381250" y="732234"/>
                  <a:pt x="1333500" y="-976312"/>
                  <a:pt x="2286000" y="732234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3b3b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Прямоугольник 12" descr=""/>
          <p:cNvPicPr/>
          <p:nvPr/>
        </p:nvPicPr>
        <p:blipFill>
          <a:blip r:embed="rId6"/>
          <a:stretch/>
        </p:blipFill>
        <p:spPr>
          <a:xfrm>
            <a:off x="3103560" y="4535640"/>
            <a:ext cx="3363840" cy="1315800"/>
          </a:xfrm>
          <a:prstGeom prst="rect">
            <a:avLst/>
          </a:prstGeom>
          <a:ln w="0">
            <a:noFill/>
          </a:ln>
        </p:spPr>
      </p:pic>
      <p:sp>
        <p:nvSpPr>
          <p:cNvPr id="188" name="Нижний колонтитул 9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C:\Documents and Settings\Иятта\Рабочий стол\ЭТО СРОЧНО\Новая папка\DSC07710-conv-ok-sq-s-web.jpg"/>
          <p:cNvPicPr/>
          <p:nvPr/>
        </p:nvPicPr>
        <p:blipFill>
          <a:blip r:embed="rId1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4" descr=""/>
          <p:cNvPicPr/>
          <p:nvPr/>
        </p:nvPicPr>
        <p:blipFill>
          <a:blip r:embed="rId3"/>
          <a:stretch/>
        </p:blipFill>
        <p:spPr>
          <a:xfrm>
            <a:off x="-139680" y="231840"/>
            <a:ext cx="9416880" cy="18162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6" descr=""/>
          <p:cNvPicPr/>
          <p:nvPr/>
        </p:nvPicPr>
        <p:blipFill>
          <a:blip r:embed="rId4"/>
          <a:stretch/>
        </p:blipFill>
        <p:spPr>
          <a:xfrm>
            <a:off x="1017720" y="1676520"/>
            <a:ext cx="5675040" cy="1736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5"/>
          <a:stretch/>
        </p:blipFill>
        <p:spPr>
          <a:xfrm>
            <a:off x="1768320" y="3511440"/>
            <a:ext cx="4370400" cy="5803920"/>
          </a:xfrm>
          <a:prstGeom prst="rect">
            <a:avLst/>
          </a:prstGeom>
          <a:ln w="0">
            <a:noFill/>
          </a:ln>
        </p:spPr>
      </p:pic>
      <p:sp>
        <p:nvSpPr>
          <p:cNvPr id="194" name="Нижний колонтитул 7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Иятта\Рабочий стол\ЭТО СРОЧНО\Новая папка\чернильница.gif"/>
          <p:cNvPicPr/>
          <p:nvPr/>
        </p:nvPicPr>
        <p:blipFill>
          <a:blip r:embed="rId1"/>
          <a:stretch/>
        </p:blipFill>
        <p:spPr>
          <a:xfrm>
            <a:off x="8175600" y="5084640"/>
            <a:ext cx="793800" cy="1563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Прямоугольник 4" descr=""/>
          <p:cNvPicPr/>
          <p:nvPr/>
        </p:nvPicPr>
        <p:blipFill>
          <a:blip r:embed="rId2"/>
          <a:stretch/>
        </p:blipFill>
        <p:spPr>
          <a:xfrm>
            <a:off x="139680" y="1006560"/>
            <a:ext cx="8742240" cy="4456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E:\Анимация\Картины анимации\bea37e2b36b3.gif"/>
          <p:cNvPicPr/>
          <p:nvPr/>
        </p:nvPicPr>
        <p:blipFill>
          <a:blip r:embed="rId3"/>
          <a:stretch/>
        </p:blipFill>
        <p:spPr>
          <a:xfrm>
            <a:off x="200160" y="4405320"/>
            <a:ext cx="245412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3744720" cy="380520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Admin</cp:lastModifiedBy>
  <dcterms:modified xsi:type="dcterms:W3CDTF">2013-03-29T17:30:57Z</dcterms:modified>
  <cp:revision>65</cp:revision>
  <dc:subject/>
  <dc:title>Слайд 1</dc:title>
</cp:coreProperties>
</file>