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B3A-56E3-474F-AA48-228F03DA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FF0-1896-4931-BFAF-7003A16B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3FE-D9E2-4191-B4A8-F145C186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4D7-673C-4F98-B462-7F30520B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CA44-261D-4AAA-8FAF-BB464C9E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DE1C-AFB9-4132-9C02-9EC1382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0D2F-A306-4429-B3A5-FBD87F5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AF56-1874-4D6E-AC8A-2076B065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2530-C0C1-4474-AAC8-50CE78F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DD3F-DE80-44A3-9C40-D6CEF52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A1F-C0F6-49D2-8AE8-0D9979A3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4B9-D488-4684-A7F7-45DD07BE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00DD-CE45-4553-862F-F74BAF0B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EE7-F08A-4EB4-A4F5-0BEC434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45D9-B24E-471D-B79E-4EAF336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8417-AE67-47CB-A785-689E90FF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13DB-8ECA-4EFF-8C95-9C68853E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A54A-1166-42F3-AE58-D19CC3B9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4181-8108-4DAC-B052-3830C79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51B0-6DDC-4002-81B3-2912AA8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2C06-56AD-49FF-855B-E4A8877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7F98-C779-4BC8-96E2-8DC811F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F82-64FF-4132-A47A-84D917E5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23DA-8D45-4899-B798-386D315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E197-D8BD-4A0D-B4A5-286B2BB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D6CB-D0C6-4D6B-9DE9-5673AED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593B-1E8F-46AB-8357-57DF3A88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E0AA-8E2E-48C1-8F36-AC6249B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5BED-0939-4B68-99A3-9F179FCB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83A9-481A-4514-B57B-BEBAF8D7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9C34-1BA8-408A-BB34-CB18852A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4574-84BE-46FA-87DD-1C0D91FB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8FB1-ADBF-4EFC-A69D-031F95F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A4E-38F5-4CD4-B75E-1D664861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B112-D628-40D9-ACD0-6B028BBD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6ED1-CAA4-4701-82B9-F031DDE3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E90C-FE18-42B6-969D-343CDC2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61A1-C244-47AE-BBEE-3E0F6D3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FD64-C126-42FE-B66E-8ED59D0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2EAD-4ED8-4DD6-A1AD-F1ACC76A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9027-21AF-4F06-BA14-1EC7C6C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C8DF-F180-447E-99A2-4A361FC1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A6B9-34F9-46B5-9E44-11803118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AC7-7810-4430-8513-BB65884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D73-A09D-40C9-BDEF-12720A9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17A-65A0-4043-A781-1B038818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32C-4792-4F45-843F-1024A2A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610-ABD9-4CA8-BC85-AD4DC40E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A649-2413-44C5-873A-F871290E3213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306-877E-40C7-B6FC-4CD940A9DFAB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F485-9BC2-46B7-8A72-F76F9D8A220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55A8-C670-43DE-A2DF-9531689C356D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237960" y="85680"/>
            <a:ext cx="8601120" cy="26449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2114640"/>
            <a:ext cx="8832960" cy="474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3"/>
          <a:stretch/>
        </p:blipFill>
        <p:spPr>
          <a:xfrm>
            <a:off x="7126200" y="4797360"/>
            <a:ext cx="1693800" cy="18543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225360"/>
            <a:ext cx="8150400" cy="184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Documents and Settings\Admin\Рабочий стол\maksimov_stepan_1000.jpg"/>
          <p:cNvPicPr/>
          <p:nvPr/>
        </p:nvPicPr>
        <p:blipFill>
          <a:blip r:embed="rId2"/>
          <a:stretch/>
        </p:blipFill>
        <p:spPr>
          <a:xfrm>
            <a:off x="928800" y="1428840"/>
            <a:ext cx="1857240" cy="267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Мои документы\Павлов 2\павлов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929200" y="1571760"/>
            <a:ext cx="1784520" cy="25002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5929200" y="1571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ор Пав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J:\Анимированные рисунки\Знаки\image365.gif"/>
          <p:cNvPicPr/>
          <p:nvPr/>
        </p:nvPicPr>
        <p:blipFill>
          <a:blip r:embed="rId4"/>
          <a:stretch/>
        </p:blipFill>
        <p:spPr>
          <a:xfrm>
            <a:off x="3357720" y="228600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J:\Анимированные рисунки\Знаки\image365.gif"/>
          <p:cNvPicPr/>
          <p:nvPr/>
        </p:nvPicPr>
        <p:blipFill>
          <a:blip r:embed="rId5"/>
          <a:stretch/>
        </p:blipFill>
        <p:spPr>
          <a:xfrm flipH="1">
            <a:off x="4500360" y="2214720"/>
            <a:ext cx="1214280" cy="1357200"/>
          </a:xfrm>
          <a:prstGeom prst="rect">
            <a:avLst/>
          </a:prstGeom>
          <a:ln w="0">
            <a:noFill/>
          </a:ln>
        </p:spPr>
      </p:pic>
      <p:sp>
        <p:nvSpPr>
          <p:cNvPr id="186" name="Сердце 10"/>
          <p:cNvSpPr/>
          <p:nvPr/>
        </p:nvSpPr>
        <p:spPr>
          <a:xfrm>
            <a:off x="2286000" y="3929040"/>
            <a:ext cx="4572000" cy="2928960"/>
          </a:xfrm>
          <a:custGeom>
            <a:avLst/>
            <a:gdLst>
              <a:gd name="textAreaLeft" fmla="*/ 761760 w 4572000"/>
              <a:gd name="textAreaRight" fmla="*/ 3810240 w 4572000"/>
              <a:gd name="textAreaTop" fmla="*/ 732240 h 2928960"/>
              <a:gd name="textAreaBottom" fmla="*/ 1952640 h 2928960"/>
            </a:gdLst>
            <a:ahLst/>
            <a:rect l="textAreaLeft" t="textAreaTop" r="textAreaRight" b="textAreaBottom"/>
            <a:pathLst>
              <a:path w="4572000" h="2928937">
                <a:moveTo>
                  <a:pt x="2286000" y="732234"/>
                </a:moveTo>
                <a:cubicBezTo>
                  <a:pt x="3238500" y="-976312"/>
                  <a:pt x="6953250" y="732234"/>
                  <a:pt x="2286000" y="2928937"/>
                </a:cubicBezTo>
                <a:cubicBezTo>
                  <a:pt x="-2381250" y="732234"/>
                  <a:pt x="1333500" y="-976312"/>
                  <a:pt x="2286000" y="732234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Прямоугольник 12" descr=""/>
          <p:cNvPicPr/>
          <p:nvPr/>
        </p:nvPicPr>
        <p:blipFill>
          <a:blip r:embed="rId6"/>
          <a:stretch/>
        </p:blipFill>
        <p:spPr>
          <a:xfrm>
            <a:off x="3103560" y="4535640"/>
            <a:ext cx="3363840" cy="131580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9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C:\Documents and Settings\Иятта\Рабочий стол\ЭТО СРОЧНО\Новая папка\DSC07710-conv-ok-sq-s-web.jpg"/>
          <p:cNvPicPr/>
          <p:nvPr/>
        </p:nvPicPr>
        <p:blipFill>
          <a:blip r:embed="rId1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" descr=""/>
          <p:cNvPicPr/>
          <p:nvPr/>
        </p:nvPicPr>
        <p:blipFill>
          <a:blip r:embed="rId3"/>
          <a:stretch/>
        </p:blipFill>
        <p:spPr>
          <a:xfrm>
            <a:off x="-139680" y="231840"/>
            <a:ext cx="9416880" cy="18162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4"/>
          <a:stretch/>
        </p:blipFill>
        <p:spPr>
          <a:xfrm>
            <a:off x="1017720" y="1676520"/>
            <a:ext cx="5675040" cy="1736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5"/>
          <a:stretch/>
        </p:blipFill>
        <p:spPr>
          <a:xfrm>
            <a:off x="1768320" y="3511440"/>
            <a:ext cx="4370400" cy="5803920"/>
          </a:xfrm>
          <a:prstGeom prst="rect">
            <a:avLst/>
          </a:prstGeom>
          <a:ln w="0">
            <a:noFill/>
          </a:ln>
        </p:spPr>
      </p:pic>
      <p:sp>
        <p:nvSpPr>
          <p:cNvPr id="194" name="Нижний колонтитул 7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Иятта\Рабочий стол\ЭТО СРОЧНО\Новая папка\чернильница.gif"/>
          <p:cNvPicPr/>
          <p:nvPr/>
        </p:nvPicPr>
        <p:blipFill>
          <a:blip r:embed="rId1"/>
          <a:stretch/>
        </p:blipFill>
        <p:spPr>
          <a:xfrm>
            <a:off x="8175600" y="5084640"/>
            <a:ext cx="793800" cy="1563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1006560"/>
            <a:ext cx="8742240" cy="445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E:\Анимация\Картины анимации\bea37e2b36b3.gif"/>
          <p:cNvPicPr/>
          <p:nvPr/>
        </p:nvPicPr>
        <p:blipFill>
          <a:blip r:embed="rId3"/>
          <a:stretch/>
        </p:blipFill>
        <p:spPr>
          <a:xfrm>
            <a:off x="200160" y="4405320"/>
            <a:ext cx="245412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3744720" cy="380520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30:57Z</dcterms:modified>
  <cp:revision>65</cp:revision>
  <dc:subject/>
  <dc:title>Слайд 1</dc:title>
</cp:coreProperties>
</file>