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5C4-61B2-44D2-AEC9-D5BA3F87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5B1-D184-49E5-AC69-4C19367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F6F-A0AC-441E-8350-34556055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F78-65FC-451D-A18A-9BB28D15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2FF8-2B1E-4903-8A11-9473B358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E7F8-6991-4CD5-AD47-F076271C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8D5-A5D7-4129-A13C-DEF3AA14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ACD-FAFB-43F4-90E8-296846F8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FAC-9E9E-4BF1-8B1F-C8862278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DB0A-CC25-4283-8C38-507D9AE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25DB-BD39-4BB2-B103-281CA23D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EC0-1BAF-4F55-B34F-469B6F7C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73E6-FF13-4BFD-9B85-1675834C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B012-8F64-4DA7-A881-9F967FB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5F0E-26BC-4220-BCC6-80569A0D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EC0-11F9-4052-B48A-AA99B99C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761-AC52-42D6-8AF8-BD7B8B1D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8752-F51B-477F-A609-725F784F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C9F4-4EB2-4B22-813B-B3D6FA7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A2D5-9E10-46AC-B34B-DC5EE65E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E11D-03A4-446E-82AC-C396F93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8D43-DC16-44C9-83C9-D7C5549B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588-D56C-472B-8C57-CD2D744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6338-148C-40F1-8A5C-A0A0F80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8718-CB3B-4FD9-8657-26503BE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AC88-A661-437D-9FF4-0EC1DB6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10F4-1B16-4414-AED0-ACF4108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4981-0061-4771-8160-95984E4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B341-66BB-49A4-BCCA-815EC122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3A11-7A9C-4E8D-A03E-ECF4F1C7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6CCA6-14C4-49F8-89FB-9263BCB5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C3BA-364D-4274-8F3F-929E229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91B9-E395-42B2-9F01-F96896C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8F2-C4AD-4677-BFAF-D137189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E8DE-40A0-4675-B728-B7BB4472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51D9-A653-4EE7-A72A-4ED6FD2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E8F3E-30A7-45B6-9669-2E0725D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E26B8-4ECF-4973-9F1E-386556F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4856-6281-4FF6-A9A5-7414EE5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2C8BD-9DAE-49AF-91F0-00A8B96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8CFB-01FA-483C-A189-4E14D05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33AB-4659-4C20-A6F3-0E6F1F60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1DEF-0561-4231-AC0E-05728042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7BF-53E0-4D0B-8F98-E453BF75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ABD4-6876-44E9-9E2B-6B9A1628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A19-CC02-4E40-B8D8-F4DF348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E97-E02B-491C-A2E6-7544838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6E0-154C-4468-96E5-44D8581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E857-B86C-4268-A1DB-C964BFDD7D45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142A-0B97-4C13-A10A-02C997FE3919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9C7-E9A0-4454-B658-697DDD954D3E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61A8-69E2-4888-B878-C026532B646C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705-6B0C-4A9D-8961-3986D0BB2B15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E01-C7A2-47D4-B80E-005AB6B8CC09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5A3-29F6-4465-92F1-80188DD7B662}" type="datetime">
              <a:rPr b="0" lang="ru-RU" sz="1000" spc="-1" strike="noStrike">
                <a:solidFill>
                  <a:srgbClr val="bcb37d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F0A6-45F6-4366-9C92-B9A5555CAB1A}" type="slidenum">
              <a:rPr b="0" lang="ru-RU" sz="1000" spc="-1" strike="noStrike">
                <a:solidFill>
                  <a:srgbClr val="bcb3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49400" y="0"/>
            <a:ext cx="8888400" cy="23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:\Ф Павлов драматург\Изображение 011.jpg"/>
          <p:cNvPicPr/>
          <p:nvPr/>
        </p:nvPicPr>
        <p:blipFill>
          <a:blip r:embed="rId2"/>
          <a:stretch/>
        </p:blipFill>
        <p:spPr>
          <a:xfrm>
            <a:off x="317520" y="974880"/>
            <a:ext cx="3614760" cy="549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J:\22.jpg"/>
          <p:cNvPicPr/>
          <p:nvPr/>
        </p:nvPicPr>
        <p:blipFill>
          <a:blip r:embed="rId3"/>
          <a:stretch/>
        </p:blipFill>
        <p:spPr>
          <a:xfrm>
            <a:off x="5000760" y="4429080"/>
            <a:ext cx="1931760" cy="1857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C:\Documents and Settings\Admin\Рабочий стол\img3.gif"/>
          <p:cNvPicPr/>
          <p:nvPr/>
        </p:nvPicPr>
        <p:blipFill>
          <a:blip r:embed="rId4"/>
          <a:srcRect l="35593" t="36597" r="0" b="0"/>
          <a:stretch/>
        </p:blipFill>
        <p:spPr>
          <a:xfrm>
            <a:off x="4214880" y="1857240"/>
            <a:ext cx="2714400" cy="185760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8" descr=""/>
          <p:cNvPicPr/>
          <p:nvPr/>
        </p:nvPicPr>
        <p:blipFill>
          <a:blip r:embed="rId5"/>
          <a:stretch/>
        </p:blipFill>
        <p:spPr>
          <a:xfrm>
            <a:off x="4968720" y="5962680"/>
            <a:ext cx="2011680" cy="70020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9" descr=""/>
          <p:cNvPicPr/>
          <p:nvPr/>
        </p:nvPicPr>
        <p:blipFill>
          <a:blip r:embed="rId6"/>
          <a:stretch/>
        </p:blipFill>
        <p:spPr>
          <a:xfrm>
            <a:off x="4773600" y="3529080"/>
            <a:ext cx="1865160" cy="708120"/>
          </a:xfrm>
          <a:prstGeom prst="rect">
            <a:avLst/>
          </a:prstGeom>
          <a:ln w="0">
            <a:noFill/>
          </a:ln>
        </p:spPr>
      </p:pic>
      <p:sp>
        <p:nvSpPr>
          <p:cNvPr id="182" name="Нижний колонтитул 10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D:\Документы Серебряковой\Аттестация 1012\Вечер Ф.Павлова\ФП\11466.jpg"/>
          <p:cNvPicPr/>
          <p:nvPr/>
        </p:nvPicPr>
        <p:blipFill>
          <a:blip r:embed="rId1"/>
          <a:stretch/>
        </p:blipFill>
        <p:spPr>
          <a:xfrm>
            <a:off x="6978600" y="0"/>
            <a:ext cx="2146320" cy="263700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3" descr=""/>
          <p:cNvPicPr/>
          <p:nvPr/>
        </p:nvPicPr>
        <p:blipFill>
          <a:blip r:embed="rId2"/>
          <a:stretch/>
        </p:blipFill>
        <p:spPr>
          <a:xfrm>
            <a:off x="-66600" y="-30240"/>
            <a:ext cx="7405560" cy="20908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11968200" y="35481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F:\Музыка\барабан.jpg"/>
          <p:cNvPicPr/>
          <p:nvPr/>
        </p:nvPicPr>
        <p:blipFill>
          <a:blip r:embed="rId3"/>
          <a:stretch/>
        </p:blipFill>
        <p:spPr>
          <a:xfrm>
            <a:off x="250920" y="2055960"/>
            <a:ext cx="2913120" cy="217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F:\Музыка\волынка.jpg"/>
          <p:cNvPicPr/>
          <p:nvPr/>
        </p:nvPicPr>
        <p:blipFill>
          <a:blip r:embed="rId4"/>
          <a:stretch/>
        </p:blipFill>
        <p:spPr>
          <a:xfrm>
            <a:off x="6611760" y="2868480"/>
            <a:ext cx="1802160" cy="2714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:\Музыка\многоствольная флейта.jpg"/>
          <p:cNvPicPr/>
          <p:nvPr/>
        </p:nvPicPr>
        <p:blipFill>
          <a:blip r:embed="rId5"/>
          <a:stretch/>
        </p:blipFill>
        <p:spPr>
          <a:xfrm>
            <a:off x="3419640" y="2147760"/>
            <a:ext cx="2520720" cy="28004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8" descr=""/>
          <p:cNvPicPr/>
          <p:nvPr/>
        </p:nvPicPr>
        <p:blipFill>
          <a:blip r:embed="rId6"/>
          <a:stretch/>
        </p:blipFill>
        <p:spPr>
          <a:xfrm>
            <a:off x="244440" y="4164120"/>
            <a:ext cx="3035160" cy="10364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1" descr=""/>
          <p:cNvPicPr/>
          <p:nvPr/>
        </p:nvPicPr>
        <p:blipFill>
          <a:blip r:embed="rId7"/>
          <a:stretch/>
        </p:blipFill>
        <p:spPr>
          <a:xfrm>
            <a:off x="6443640" y="5486400"/>
            <a:ext cx="2554200" cy="11826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3" descr=""/>
          <p:cNvPicPr/>
          <p:nvPr/>
        </p:nvPicPr>
        <p:blipFill>
          <a:blip r:embed="rId8"/>
          <a:stretch/>
        </p:blipFill>
        <p:spPr>
          <a:xfrm>
            <a:off x="2998800" y="4572000"/>
            <a:ext cx="3578040" cy="185904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12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F:\Музыка\гармонь.jpg"/>
          <p:cNvPicPr/>
          <p:nvPr/>
        </p:nvPicPr>
        <p:blipFill>
          <a:blip r:embed="rId1"/>
          <a:stretch/>
        </p:blipFill>
        <p:spPr>
          <a:xfrm>
            <a:off x="468360" y="476280"/>
            <a:ext cx="2573280" cy="3429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F:\Музыка\гусли.jpg"/>
          <p:cNvPicPr/>
          <p:nvPr/>
        </p:nvPicPr>
        <p:blipFill>
          <a:blip r:embed="rId2"/>
          <a:stretch/>
        </p:blipFill>
        <p:spPr>
          <a:xfrm>
            <a:off x="6119640" y="3119400"/>
            <a:ext cx="2806920" cy="1571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F:\Музыка\домра.jpg"/>
          <p:cNvPicPr/>
          <p:nvPr/>
        </p:nvPicPr>
        <p:blipFill>
          <a:blip r:embed="rId3"/>
          <a:stretch/>
        </p:blipFill>
        <p:spPr>
          <a:xfrm>
            <a:off x="3708360" y="1279440"/>
            <a:ext cx="1727280" cy="510084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2" descr=""/>
          <p:cNvPicPr/>
          <p:nvPr/>
        </p:nvPicPr>
        <p:blipFill>
          <a:blip r:embed="rId4"/>
          <a:stretch/>
        </p:blipFill>
        <p:spPr>
          <a:xfrm>
            <a:off x="542880" y="3943440"/>
            <a:ext cx="2139840" cy="10364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4" descr=""/>
          <p:cNvPicPr/>
          <p:nvPr/>
        </p:nvPicPr>
        <p:blipFill>
          <a:blip r:embed="rId5"/>
          <a:stretch/>
        </p:blipFill>
        <p:spPr>
          <a:xfrm>
            <a:off x="6572160" y="1822320"/>
            <a:ext cx="1889280" cy="117648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6" descr=""/>
          <p:cNvPicPr/>
          <p:nvPr/>
        </p:nvPicPr>
        <p:blipFill>
          <a:blip r:embed="rId6"/>
          <a:stretch/>
        </p:blipFill>
        <p:spPr>
          <a:xfrm>
            <a:off x="5267160" y="5205240"/>
            <a:ext cx="2071800" cy="118296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8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F:\Музыка\свирель.jpg"/>
          <p:cNvPicPr/>
          <p:nvPr/>
        </p:nvPicPr>
        <p:blipFill>
          <a:blip r:embed="rId1"/>
          <a:stretch/>
        </p:blipFill>
        <p:spPr>
          <a:xfrm>
            <a:off x="108000" y="68400"/>
            <a:ext cx="3581280" cy="2387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F:\Музыка\свистулька.jpg"/>
          <p:cNvPicPr/>
          <p:nvPr/>
        </p:nvPicPr>
        <p:blipFill>
          <a:blip r:embed="rId2"/>
          <a:stretch/>
        </p:blipFill>
        <p:spPr>
          <a:xfrm>
            <a:off x="6329520" y="2033640"/>
            <a:ext cx="2724120" cy="2336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F:\Музыка\скрипка.jpg"/>
          <p:cNvPicPr/>
          <p:nvPr/>
        </p:nvPicPr>
        <p:blipFill>
          <a:blip r:embed="rId3"/>
          <a:stretch/>
        </p:blipFill>
        <p:spPr>
          <a:xfrm>
            <a:off x="4211640" y="765000"/>
            <a:ext cx="1846440" cy="48736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" descr=""/>
          <p:cNvPicPr/>
          <p:nvPr/>
        </p:nvPicPr>
        <p:blipFill>
          <a:blip r:embed="rId4"/>
          <a:stretch/>
        </p:blipFill>
        <p:spPr>
          <a:xfrm>
            <a:off x="6175440" y="4273560"/>
            <a:ext cx="3176640" cy="11826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" descr=""/>
          <p:cNvPicPr/>
          <p:nvPr/>
        </p:nvPicPr>
        <p:blipFill>
          <a:blip r:embed="rId5"/>
          <a:stretch/>
        </p:blipFill>
        <p:spPr>
          <a:xfrm>
            <a:off x="1749600" y="1663560"/>
            <a:ext cx="2498400" cy="11829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6" descr=""/>
          <p:cNvPicPr/>
          <p:nvPr/>
        </p:nvPicPr>
        <p:blipFill>
          <a:blip r:embed="rId6"/>
          <a:stretch/>
        </p:blipFill>
        <p:spPr>
          <a:xfrm>
            <a:off x="3041640" y="5546880"/>
            <a:ext cx="3024360" cy="11779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8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Admin</cp:lastModifiedBy>
  <dcterms:modified xsi:type="dcterms:W3CDTF">2013-03-29T17:25:23Z</dcterms:modified>
  <cp:revision>66</cp:revision>
  <dc:subject/>
  <dc:title>Слайд 1</dc:title>
</cp:coreProperties>
</file>