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36C-CACE-4184-8F05-4F0B0766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F55-34AF-4F4E-AB2F-01CF6E53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70D-F18F-4C9D-B83B-6C76E61D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784-25AA-4228-A294-D3F2E462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AE30-C384-4F92-A126-97C2FDD5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D88E-D0CA-4696-8CA3-0EC2592F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E187-B0C9-4FC2-96CB-F7BB9A02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41D8-2A2D-4395-B00C-E12EB67F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CB3F-AFF9-4B4F-A312-CC281402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541A-9FA9-4AE4-A4E7-8C7B95BB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5DBA-FA79-453D-B6FF-C79178D4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F36-56B8-42EB-B71D-8690F7E4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5E69-6A3E-4D11-9F6C-2AB66330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4F3C-E884-48E7-96FC-83ECEBE0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5508-AE1D-4AEA-AE98-A9D09DE8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632E-DBC2-4B5B-B827-32F2A449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845F-22D6-4146-9C95-8390F558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299A6-28B2-477F-B4E8-7AF8112A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E5717-D834-4B85-A020-85FB09E7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802A-78EA-4F32-A463-29AE439D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765F-D12E-4E51-8DAD-3D1322F7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850F-FBEF-4F5A-81A3-6A740A6D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9D1-7DD8-4B75-BD8A-9ED82FDD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7D0F-DFB9-4039-8EF4-EDC219BF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7062E-9186-40FB-85FD-998DBE87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44CC3-94BE-4D58-AFF9-37C2C88A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7AA4D-C1D6-46E1-BA28-0B81463F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C911-94C9-4DF0-BEF4-97F9A391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A5A43-5F04-449C-98A3-6B31F3C2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5C3A7-05B1-454E-9F87-4DD83393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1DE6-54C6-4F8C-A1DC-F456A3C2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13909-710D-4EFB-94EB-CB96AA90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898A-7FAC-4E0F-91BE-820629E9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757-CF88-45CE-A443-1D2803DA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81EE-3E8D-4C76-B2D1-9098D231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DE14-9FB2-4FE2-8469-96C51D53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BB40-B451-48E8-A916-104FE752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9EC9-59F9-4AA0-8949-2DB0D608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B1F01-A5F3-4BA4-853A-CAD73D5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55F03-BB6B-4EC3-952B-23EB39D8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E27A8-B644-403C-9267-2F95F422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39B12-4D96-4A7C-B8C8-811E9999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85C57-A8C6-4D6C-BBEA-B4F0B3F2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021-17FB-42DA-A029-28FC3545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C01-535F-475C-B576-0E914E17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A94-1570-462E-9396-82B7F1A8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C15-6F3A-4B53-B6DD-D80FF062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460-4855-4F69-895C-E77DE6B6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C35C-1B0A-4FFA-A502-85513795B0E6}" type="datetime">
              <a:rPr b="0" lang="ru-RU" sz="1000" spc="-1" strike="noStrike">
                <a:solidFill>
                  <a:srgbClr val="bcb37d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EA89-5110-477C-881C-0C7B3F5AB699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FC10-24AA-4AC5-A585-3789F483D678}" type="datetime">
              <a:rPr b="0" lang="ru-RU" sz="1000" spc="-1" strike="noStrike">
                <a:solidFill>
                  <a:srgbClr val="bcb37d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0DFC-F555-46C8-8219-3F86A7577D5A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E2E6-BDD9-4F5A-9D52-7D6B40788393}" type="datetime">
              <a:rPr b="0" lang="ru-RU" sz="1000" spc="-1" strike="noStrike">
                <a:solidFill>
                  <a:srgbClr val="bcb37d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033D-8051-48A5-AE28-401855D0654E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3574-69CB-4102-B108-048FE096FFC6}" type="datetime">
              <a:rPr b="0" lang="ru-RU" sz="1000" spc="-1" strike="noStrike">
                <a:solidFill>
                  <a:srgbClr val="bcb37d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77DD-4A6B-456F-A9DC-E9DBEE21A5FE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49400" y="0"/>
            <a:ext cx="8888400" cy="2384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F:\Ф Павлов драматург\Изображение 011.jpg"/>
          <p:cNvPicPr/>
          <p:nvPr/>
        </p:nvPicPr>
        <p:blipFill>
          <a:blip r:embed="rId2"/>
          <a:stretch/>
        </p:blipFill>
        <p:spPr>
          <a:xfrm>
            <a:off x="317520" y="974880"/>
            <a:ext cx="3614760" cy="549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J:\22.jpg"/>
          <p:cNvPicPr/>
          <p:nvPr/>
        </p:nvPicPr>
        <p:blipFill>
          <a:blip r:embed="rId3"/>
          <a:stretch/>
        </p:blipFill>
        <p:spPr>
          <a:xfrm>
            <a:off x="5000760" y="4429080"/>
            <a:ext cx="1931760" cy="1857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C:\Documents and Settings\Admin\Рабочий стол\img3.gif"/>
          <p:cNvPicPr/>
          <p:nvPr/>
        </p:nvPicPr>
        <p:blipFill>
          <a:blip r:embed="rId4"/>
          <a:srcRect l="35593" t="36597" r="0" b="0"/>
          <a:stretch/>
        </p:blipFill>
        <p:spPr>
          <a:xfrm>
            <a:off x="4214880" y="1857240"/>
            <a:ext cx="2714400" cy="185760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8" descr=""/>
          <p:cNvPicPr/>
          <p:nvPr/>
        </p:nvPicPr>
        <p:blipFill>
          <a:blip r:embed="rId5"/>
          <a:stretch/>
        </p:blipFill>
        <p:spPr>
          <a:xfrm>
            <a:off x="4968720" y="5962680"/>
            <a:ext cx="2011680" cy="70020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9" descr=""/>
          <p:cNvPicPr/>
          <p:nvPr/>
        </p:nvPicPr>
        <p:blipFill>
          <a:blip r:embed="rId6"/>
          <a:stretch/>
        </p:blipFill>
        <p:spPr>
          <a:xfrm>
            <a:off x="4773600" y="3529080"/>
            <a:ext cx="1865160" cy="70812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10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D:\Документы Серебряковой\Аттестация 1012\Вечер Ф.Павлова\ФП\11466.jpg"/>
          <p:cNvPicPr/>
          <p:nvPr/>
        </p:nvPicPr>
        <p:blipFill>
          <a:blip r:embed="rId1"/>
          <a:stretch/>
        </p:blipFill>
        <p:spPr>
          <a:xfrm>
            <a:off x="6978600" y="0"/>
            <a:ext cx="2146320" cy="263700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3" descr=""/>
          <p:cNvPicPr/>
          <p:nvPr/>
        </p:nvPicPr>
        <p:blipFill>
          <a:blip r:embed="rId2"/>
          <a:stretch/>
        </p:blipFill>
        <p:spPr>
          <a:xfrm>
            <a:off x="-66600" y="-30240"/>
            <a:ext cx="7405560" cy="209088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11968200" y="35481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F:\Музыка\барабан.jpg"/>
          <p:cNvPicPr/>
          <p:nvPr/>
        </p:nvPicPr>
        <p:blipFill>
          <a:blip r:embed="rId3"/>
          <a:stretch/>
        </p:blipFill>
        <p:spPr>
          <a:xfrm>
            <a:off x="250920" y="2055960"/>
            <a:ext cx="2913120" cy="2170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F:\Музыка\волынка.jpg"/>
          <p:cNvPicPr/>
          <p:nvPr/>
        </p:nvPicPr>
        <p:blipFill>
          <a:blip r:embed="rId4"/>
          <a:stretch/>
        </p:blipFill>
        <p:spPr>
          <a:xfrm>
            <a:off x="6611760" y="2868480"/>
            <a:ext cx="1802160" cy="2714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F:\Музыка\многоствольная флейта.jpg"/>
          <p:cNvPicPr/>
          <p:nvPr/>
        </p:nvPicPr>
        <p:blipFill>
          <a:blip r:embed="rId5"/>
          <a:stretch/>
        </p:blipFill>
        <p:spPr>
          <a:xfrm>
            <a:off x="3419640" y="2147760"/>
            <a:ext cx="2520720" cy="28004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8" descr=""/>
          <p:cNvPicPr/>
          <p:nvPr/>
        </p:nvPicPr>
        <p:blipFill>
          <a:blip r:embed="rId6"/>
          <a:stretch/>
        </p:blipFill>
        <p:spPr>
          <a:xfrm>
            <a:off x="244440" y="4164120"/>
            <a:ext cx="3035160" cy="103644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11" descr=""/>
          <p:cNvPicPr/>
          <p:nvPr/>
        </p:nvPicPr>
        <p:blipFill>
          <a:blip r:embed="rId7"/>
          <a:stretch/>
        </p:blipFill>
        <p:spPr>
          <a:xfrm>
            <a:off x="6443640" y="5486400"/>
            <a:ext cx="2554200" cy="11826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13" descr=""/>
          <p:cNvPicPr/>
          <p:nvPr/>
        </p:nvPicPr>
        <p:blipFill>
          <a:blip r:embed="rId8"/>
          <a:stretch/>
        </p:blipFill>
        <p:spPr>
          <a:xfrm>
            <a:off x="2998800" y="4572000"/>
            <a:ext cx="3578040" cy="185904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12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F:\Музыка\гармонь.jpg"/>
          <p:cNvPicPr/>
          <p:nvPr/>
        </p:nvPicPr>
        <p:blipFill>
          <a:blip r:embed="rId1"/>
          <a:stretch/>
        </p:blipFill>
        <p:spPr>
          <a:xfrm>
            <a:off x="468360" y="476280"/>
            <a:ext cx="2573280" cy="3429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F:\Музыка\гусли.jpg"/>
          <p:cNvPicPr/>
          <p:nvPr/>
        </p:nvPicPr>
        <p:blipFill>
          <a:blip r:embed="rId2"/>
          <a:stretch/>
        </p:blipFill>
        <p:spPr>
          <a:xfrm>
            <a:off x="6119640" y="3119400"/>
            <a:ext cx="2806920" cy="1571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F:\Музыка\домра.jpg"/>
          <p:cNvPicPr/>
          <p:nvPr/>
        </p:nvPicPr>
        <p:blipFill>
          <a:blip r:embed="rId3"/>
          <a:stretch/>
        </p:blipFill>
        <p:spPr>
          <a:xfrm>
            <a:off x="3708360" y="1279440"/>
            <a:ext cx="1727280" cy="510084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2" descr=""/>
          <p:cNvPicPr/>
          <p:nvPr/>
        </p:nvPicPr>
        <p:blipFill>
          <a:blip r:embed="rId4"/>
          <a:stretch/>
        </p:blipFill>
        <p:spPr>
          <a:xfrm>
            <a:off x="542880" y="3943440"/>
            <a:ext cx="2139840" cy="103644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4" descr=""/>
          <p:cNvPicPr/>
          <p:nvPr/>
        </p:nvPicPr>
        <p:blipFill>
          <a:blip r:embed="rId5"/>
          <a:stretch/>
        </p:blipFill>
        <p:spPr>
          <a:xfrm>
            <a:off x="6572160" y="1822320"/>
            <a:ext cx="1889280" cy="117648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6" descr=""/>
          <p:cNvPicPr/>
          <p:nvPr/>
        </p:nvPicPr>
        <p:blipFill>
          <a:blip r:embed="rId6"/>
          <a:stretch/>
        </p:blipFill>
        <p:spPr>
          <a:xfrm>
            <a:off x="5267160" y="5205240"/>
            <a:ext cx="2071800" cy="118296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8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F:\Музыка\свирель.jpg"/>
          <p:cNvPicPr/>
          <p:nvPr/>
        </p:nvPicPr>
        <p:blipFill>
          <a:blip r:embed="rId1"/>
          <a:stretch/>
        </p:blipFill>
        <p:spPr>
          <a:xfrm>
            <a:off x="108000" y="68400"/>
            <a:ext cx="3581280" cy="2387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F:\Музыка\свистулька.jpg"/>
          <p:cNvPicPr/>
          <p:nvPr/>
        </p:nvPicPr>
        <p:blipFill>
          <a:blip r:embed="rId2"/>
          <a:stretch/>
        </p:blipFill>
        <p:spPr>
          <a:xfrm>
            <a:off x="6329520" y="2033640"/>
            <a:ext cx="2724120" cy="2336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F:\Музыка\скрипка.jpg"/>
          <p:cNvPicPr/>
          <p:nvPr/>
        </p:nvPicPr>
        <p:blipFill>
          <a:blip r:embed="rId3"/>
          <a:stretch/>
        </p:blipFill>
        <p:spPr>
          <a:xfrm>
            <a:off x="4211640" y="765000"/>
            <a:ext cx="1846440" cy="487368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2" descr=""/>
          <p:cNvPicPr/>
          <p:nvPr/>
        </p:nvPicPr>
        <p:blipFill>
          <a:blip r:embed="rId4"/>
          <a:stretch/>
        </p:blipFill>
        <p:spPr>
          <a:xfrm>
            <a:off x="6175440" y="4273560"/>
            <a:ext cx="3176640" cy="11826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4" descr=""/>
          <p:cNvPicPr/>
          <p:nvPr/>
        </p:nvPicPr>
        <p:blipFill>
          <a:blip r:embed="rId5"/>
          <a:stretch/>
        </p:blipFill>
        <p:spPr>
          <a:xfrm>
            <a:off x="1749600" y="1663560"/>
            <a:ext cx="2498400" cy="118296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6" descr=""/>
          <p:cNvPicPr/>
          <p:nvPr/>
        </p:nvPicPr>
        <p:blipFill>
          <a:blip r:embed="rId6"/>
          <a:stretch/>
        </p:blipFill>
        <p:spPr>
          <a:xfrm>
            <a:off x="3041640" y="5546880"/>
            <a:ext cx="3024360" cy="11779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8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Iyatta</dc:creator>
  <dc:description/>
  <dc:language>en-US</dc:language>
  <cp:lastModifiedBy>Admin</cp:lastModifiedBy>
  <dcterms:modified xsi:type="dcterms:W3CDTF">2013-03-29T17:25:23Z</dcterms:modified>
  <cp:revision>66</cp:revision>
  <dc:subject/>
  <dc:title>Слайд 1</dc:title>
</cp:coreProperties>
</file>