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E32-7F88-40A9-9841-9818F292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1B3-3FB4-4BF3-8514-762B3FE6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B1A-AC54-43FA-A3A2-5C98CAC8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5B7-BBD9-40FE-A8AF-9B58DA32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9685-6E7A-4F03-A6E9-7C6BF56E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406-0F7C-43F1-A190-7C30605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E90-DCC0-4ADC-8244-C8C876F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435-37BF-46A9-90C4-D46FB79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A7B-1C27-4AF4-B2BE-B3FF6F3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D88-1F34-4F62-BD1A-C1A5DBD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1FA-1AA9-4116-ABF4-8073F18B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8D1-0719-4606-AD4B-9033C4A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1F3-7081-43CC-A8AF-2FCEC6F7CD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4357440"/>
            <a:ext cx="73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Работу выполнила:</a:t>
            </a:r>
            <a:br>
              <a:rPr sz="2000"/>
            </a:b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Поняева Ю.В.</a:t>
            </a:r>
            <a:br>
              <a:rPr sz="2000"/>
            </a:b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учитель начальных классов  МКОУ «Омутская СОШ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85716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Arial Narrow"/>
              </a:rPr>
              <a:t>«Проектная деятельно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дминистратор\Desktop\100_9307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организации проектной деятельности в начальной школе следует учитывать возрастные особенности младшего школьного возра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Темы детских работ выбираются из содержания учебных предметов или близкие к ни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роблема проекта, обеспечивающая мотивацию включения в самостоятельную работу, должна быть в области познавательных интересов ребенка и находиться в зоне ближайшего разви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еобходим подготовительный этап, в течение которого младшие школьники осваивают приемы и умения, соотносимые со структурой проектной деятельности. Таким значимым средством является обучение младших школьников решению творческих задач, которые будут включать в активную творческую деяте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ажным моментом для работы в проекте младших школьников является помощь родителей, включенность родителей в рабо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истратор\Desktop\image.jpg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1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Narrow"/>
              </a:rPr>
              <a:t>Проект «Живая Азбука»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 Narrow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213920"/>
            <a:ext cx="74167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бобщить  знания о буквах русского алфави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учиться искать информацию (стихи, загадки и т.д.) в сотрудничестве со взрослы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учиться работать в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«Детская цель» проек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редставить выбранную  букву в интересной форм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акрепить знания о согласных и гласных звуках, твёрдых и мягких согласных, об обозначении звуков буквами, алфавит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азвивать самостоятельность, творческие способности, реч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рививать интерес к обучению в школ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формировать навыки общения и сотрудниче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оспитывать бережное отношение к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7"/>
          <p:cNvSpPr/>
          <p:nvPr/>
        </p:nvSpPr>
        <p:spPr>
          <a:xfrm>
            <a:off x="714240" y="285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Impact"/>
              </a:rPr>
              <a:t>Проект «Живая Азбука»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Impact"/>
              </a:rPr>
              <a:t>1 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785880" y="1638360"/>
            <a:ext cx="8143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должительность работы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долгосроч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дметные област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уроки обучения грам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 числу участников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коллектив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 доминирующей деятельност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информационно-творче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Характер координаци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непосред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борудовани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– альбомные листы, цветная бумага, ножницы, клей, картинки ,карандаши, природный материал и другие материа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частники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– педагог, ученики 1  класса и их родите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2357280" y="35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этап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ПОГРУЖЕНИЕ В ПРО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1214280"/>
            <a:ext cx="34290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Знакомит с замыслом; формулирует проблему проекта, сюжетную ситуацию, цели и задачи; мотивирует учащих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4786200" y="1643040"/>
            <a:ext cx="33577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роисходит вживание в ситуац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(ребятам понравилась иде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II этап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ОРГАНИЗАЦИЯ ДЕЯТЕЛЬНОСТ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5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рганизует деятельность, предлагает спланировать работу по решению задач проекта, возможные формы презентации, вовлекает родителей в проек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071960" y="1643040"/>
            <a:ext cx="4572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Так как количество учеников-6, то каждый выбрал по 1 букве. Презентацию решили провести в форме праздника на уроке обучения грамо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III этап 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ОСУЩЕСТВЛЕНИЕ ДЕЯТЕЛЬНОСТИ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одбирает материал к урокам, связанный с темой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существляет с помощью ответственных контроль за подбором карти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Репетирует с учениками предстоящую презентацию результа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Ребята  вместе продумывают форму проекта и воплощают его. Внутри класса проводится конкурс на лучший проект буквы. Выбранный вариант представляется класс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IV этап 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ПРЕЗЕНТАЦИЯ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резентация проекта происходит в ходе парада букв на празднике «Прощание с Азбукой». Дети, читают стихи, которые приготовили  для представления своих букв. Класс украшен созданными в ходе проекта иллюстра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C:\Users\Администратор\Desktop\100_9301.JPG"/>
          <p:cNvPicPr/>
          <p:nvPr/>
        </p:nvPicPr>
        <p:blipFill>
          <a:blip r:embed="rId1"/>
          <a:stretch/>
        </p:blipFill>
        <p:spPr>
          <a:xfrm>
            <a:off x="4714920" y="1571760"/>
            <a:ext cx="378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 этап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Оценка результатов и процесса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42880" y="1600200"/>
            <a:ext cx="4543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Учитель вместе с учениками обобщает полученные результаты, подводит итоги обучения, акцентирует внимание на воспитательном моменте: умение работать индивидуально, в парах, в группах на общий результат. После праздника-презентации было организовано коллективное обсуждение, на котором школьники и педагог отметили, чьи именно работы и выступления показались более удачн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ажной функцией учителя на данном этапе являлся контроль за обоснованностью детских оценочных суждений. Учитель и ученики отметили самую интересную иллюстрацию (рисунок аккуратный, яркий, интересный), самое лучшее выступление (выучил и запомнил стих, рассказал стих правильно, выразительно, четко, громк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Users\Администратор\Desktop\100_9305.JPG"/>
          <p:cNvPicPr/>
          <p:nvPr/>
        </p:nvPicPr>
        <p:blipFill>
          <a:blip r:embed="rId1"/>
          <a:stretch/>
        </p:blipFill>
        <p:spPr>
          <a:xfrm>
            <a:off x="285840" y="1857240"/>
            <a:ext cx="39002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дминистратор\Desktop\100_9303.JPG"/>
          <p:cNvPicPr/>
          <p:nvPr/>
        </p:nvPicPr>
        <p:blipFill>
          <a:blip r:embed="rId1"/>
          <a:stretch/>
        </p:blipFill>
        <p:spPr>
          <a:xfrm>
            <a:off x="428760" y="785880"/>
            <a:ext cx="3929040" cy="534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Администратор\Desktop\100_9302.JPG"/>
          <p:cNvPicPr/>
          <p:nvPr/>
        </p:nvPicPr>
        <p:blipFill>
          <a:blip r:embed="rId2"/>
          <a:stretch/>
        </p:blipFill>
        <p:spPr>
          <a:xfrm>
            <a:off x="4786200" y="785880"/>
            <a:ext cx="40006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юлия</cp:lastModifiedBy>
  <dcterms:modified xsi:type="dcterms:W3CDTF">2013-03-21T02:46:35Z</dcterms:modified>
  <cp:revision>43</cp:revision>
  <dc:subject/>
  <dc:title>Слайд 1</dc:title>
</cp:coreProperties>
</file>