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FF97-3D6E-450B-812A-5B627FF2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4BB-70B8-40BB-BE52-3D01BE0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AA4-B435-4475-B26B-BF960877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F33-A66F-408C-A0D4-108CDEB7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271-52AD-462B-AFE9-2CD9383A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425-79A8-498D-A13F-D9C31C26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3C1-676E-48DA-9B2F-75E0E50F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CDC-EA9E-4619-AC46-DF6448AD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13B-36BC-4BCB-9D5D-20E6E7D6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136-3DD1-4E1F-9CD4-83EC6DF9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AC7-D46B-4EF8-A456-FCA6329A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758-1BB1-44C4-A138-F888FAA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AB74-41EB-4429-9B52-AEA24F42D9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4357440"/>
            <a:ext cx="73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Работу выполнила:</a:t>
            </a:r>
            <a:br>
              <a:rPr sz="2000"/>
            </a:b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Поняева Ю.В.</a:t>
            </a:r>
            <a:br>
              <a:rPr sz="2000"/>
            </a:br>
            <a:r>
              <a:rPr b="0" lang="ru-RU" sz="2000" spc="-1" strike="noStrike">
                <a:solidFill>
                  <a:srgbClr val="007000"/>
                </a:solidFill>
                <a:latin typeface="Times New Roman"/>
              </a:rPr>
              <a:t>учитель начальных классов  МКОУ «Омутская СОШ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85716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7030a0"/>
                </a:solidFill>
                <a:latin typeface="Arial Narrow"/>
              </a:rPr>
              <a:t>«Проектная деятельность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Администратор\Desktop\100_9307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организации проектной деятельности в начальной школе следует учитывать возрастные особенности младшего школьного возрас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Темы детских работ выбираются из содержания учебных предметов или близкие к ни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роблема проекта, обеспечивающая мотивацию включения в самостоятельную работу, должна быть в области познавательных интересов ребенка и находиться в зоне ближайшего разви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Необходим подготовительный этап, в течение которого младшие школьники осваивают приемы и умения, соотносимые со структурой проектной деятельности. Таким значимым средством является обучение младших школьников решению творческих задач, которые будут включать в активную творческую деяте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ажным моментом для работы в проекте младших школьников является помощь родителей, включенность родителей в рабо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Администратор\Desktop\image.jpg"/>
          <p:cNvPicPr/>
          <p:nvPr/>
        </p:nvPicPr>
        <p:blipFill>
          <a:blip r:embed="rId1"/>
          <a:stretch/>
        </p:blipFill>
        <p:spPr>
          <a:xfrm>
            <a:off x="214200" y="714240"/>
            <a:ext cx="87156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41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Narrow"/>
              </a:rPr>
              <a:t>Проект «Живая Азбука»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Arial Narrow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213920"/>
            <a:ext cx="74167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Цель проек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обобщить  знания о буквах русского алфавит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учиться искать информацию (стихи, загадки и т.д.) в сотрудничестве со взрослы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учиться работать в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«Детская цель» проек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редставить выбранную  букву в интересной форм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закрепить знания о согласных и гласных звуках, твёрдых и мягких согласных, об обозначении звуков буквами, алфавит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развивать самостоятельность, творческие способности, реч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прививать интерес к обучению в школ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формировать навыки общения и сотрудничеств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оспитывать бережное отношение к приро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7"/>
          <p:cNvSpPr/>
          <p:nvPr/>
        </p:nvSpPr>
        <p:spPr>
          <a:xfrm>
            <a:off x="714240" y="285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Impact"/>
              </a:rPr>
              <a:t>Проект «Живая Азбука»</a:t>
            </a:r>
            <a:br>
              <a:rPr sz="3600"/>
            </a:br>
            <a:r>
              <a:rPr b="0" lang="ru-RU" sz="3600" spc="-1" strike="noStrike">
                <a:solidFill>
                  <a:srgbClr val="7030a0"/>
                </a:solidFill>
                <a:latin typeface="Impact"/>
              </a:rPr>
              <a:t>1 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785880" y="1638360"/>
            <a:ext cx="8143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одолжительность работы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долгосроч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дметные области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уроки обучения грам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 числу участников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коллектив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 доминирующей деятельности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информационно-творческ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Характер координации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– непосред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Оборудование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– альбомные листы, цветная бумага, ножницы, клей, картинки ,карандаши, природный материал и другие материа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Участники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– педагог, ученики 1  класса и их родите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4"/>
          <p:cNvSpPr/>
          <p:nvPr/>
        </p:nvSpPr>
        <p:spPr>
          <a:xfrm>
            <a:off x="2357280" y="35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этап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ПОГРУЖЕНИЕ В ПРО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571680" y="1214280"/>
            <a:ext cx="34290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Учите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Знакомит с замыслом; формулирует проблему проекта, сюжетную ситуацию, цели и задачи; мотивирует учащих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4786200" y="1643040"/>
            <a:ext cx="33577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Times New Roman"/>
              </a:rPr>
              <a:t>Уче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Происходит вживание в ситуаци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(ребятам понравилась иде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II этап 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ОРГАНИЗАЦИЯ ДЕЯТЕЛЬНОСТ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35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организует деятельность, предлагает спланировать работу по решению задач проекта, возможные формы презентации, вовлекает родителей в проек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4071960" y="1643040"/>
            <a:ext cx="45720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Уче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Так как количество учеников-6, то каждый выбрал по 1 букве. Презентацию решили провести в форме праздника на уроке обучения грамо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III этап 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Times New Roman"/>
              </a:rPr>
              <a:t>ОСУЩЕСТВЛЕНИЕ ДЕЯТЕЛЬНОСТИ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Учит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одбирает материал к урокам, связанный с темой про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существляет с помощью ответственных контроль за подбором картин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Репетирует с учениками предстоящую презентацию результа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Уче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Ребята  вместе продумывают форму проекта и воплощают его. Внутри класса проводится конкурс на лучший проект буквы. Выбранный вариант представляется класс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IV этап 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ПРЕЗЕНТАЦИЯ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резентация проекта происходит в ходе парада букв на празднике «Прощание с Азбукой». Дети, читают стихи, которые приготовили  для представления своих букв. Класс украшен созданными в ходе проекта иллюстрац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C:\Users\Администратор\Desktop\100_9301.JPG"/>
          <p:cNvPicPr/>
          <p:nvPr/>
        </p:nvPicPr>
        <p:blipFill>
          <a:blip r:embed="rId1"/>
          <a:stretch/>
        </p:blipFill>
        <p:spPr>
          <a:xfrm>
            <a:off x="4714920" y="1571760"/>
            <a:ext cx="3786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 этап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Оценка результатов и процесса проектной деятель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42880" y="1600200"/>
            <a:ext cx="45435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Учитель вместе с учениками обобщает полученные результаты, подводит итоги обучения, акцентирует внимание на воспитательном моменте: умение работать индивидуально, в парах, в группах на общий результат. После праздника-презентации было организовано коллективное обсуждение, на котором школьники и педагог отметили, чьи именно работы и выступления показались более удачны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Важной функцией учителя на данном этапе являлся контроль за обоснованностью детских оценочных суждений. Учитель и ученики отметили самую интересную иллюстрацию (рисунок аккуратный, яркий, интересный), самое лучшее выступление (выучил и запомнил стих, рассказал стих правильно, выразительно, четко, громк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Users\Администратор\Desktop\100_9305.JPG"/>
          <p:cNvPicPr/>
          <p:nvPr/>
        </p:nvPicPr>
        <p:blipFill>
          <a:blip r:embed="rId1"/>
          <a:stretch/>
        </p:blipFill>
        <p:spPr>
          <a:xfrm>
            <a:off x="285840" y="1857240"/>
            <a:ext cx="39002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Администратор\Desktop\100_9303.JPG"/>
          <p:cNvPicPr/>
          <p:nvPr/>
        </p:nvPicPr>
        <p:blipFill>
          <a:blip r:embed="rId1"/>
          <a:stretch/>
        </p:blipFill>
        <p:spPr>
          <a:xfrm>
            <a:off x="428760" y="785880"/>
            <a:ext cx="3929040" cy="534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Администратор\Desktop\100_9302.JPG"/>
          <p:cNvPicPr/>
          <p:nvPr/>
        </p:nvPicPr>
        <p:blipFill>
          <a:blip r:embed="rId2"/>
          <a:stretch/>
        </p:blipFill>
        <p:spPr>
          <a:xfrm>
            <a:off x="4786200" y="785880"/>
            <a:ext cx="40006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юлия</cp:lastModifiedBy>
  <dcterms:modified xsi:type="dcterms:W3CDTF">2013-03-21T02:46:35Z</dcterms:modified>
  <cp:revision>43</cp:revision>
  <dc:subject/>
  <dc:title>Слайд 1</dc:title>
</cp:coreProperties>
</file>