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E677-DF10-4A78-87C9-54F6C0B87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ABC9-FA0A-497B-B532-4940BA14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A886-BA5D-4711-B307-96849FF2B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D388-E054-409C-A303-C6E9A5B1D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F8D66-E986-4D79-875D-63D7D6664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F3DD-E66D-48F8-B470-588ACC63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44CA-FC2C-4FE0-8633-4F4C4E2D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CDBE-6AFC-46C1-8D79-B1D00556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F011-1174-4BBE-9FD9-6A6BAA9A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FFD3-07BC-4A3E-A8A4-B5A529D2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D3F46-346D-4BD0-9C86-60E8293F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D069-34CE-4EE5-9934-F4F666E7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6E3A-9C9A-4A91-9999-8B82E52A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B7BF8-A96F-4AC7-9BF1-324146E7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033F-0806-4DCA-818B-3404CC67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E006-FBC1-466D-B88E-4CF19F36C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3533-2674-48EB-A146-37900A578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4EC2-A89E-4415-967B-AB18F99D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BB74-ACD8-422E-8306-EFF15FF6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5BF1-C1D5-4EE9-952E-AE6C5A35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378D-1426-441B-8939-9C708DDF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6908-92A7-4CCB-9852-040753E1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8541-D57C-4D67-BF6D-06A8A994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93DD-DB4A-4863-AAC6-7ACAA55A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4400"/>
                </a:gs>
                <a:gs pos="50000">
                  <a:srgbClr val="004800"/>
                </a:gs>
                <a:gs pos="100000">
                  <a:srgbClr val="0044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d8c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7D47-B5B7-4267-BB5B-2F62EE1FF90E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6d8c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5b3b1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4400"/>
                </a:gs>
                <a:gs pos="50000">
                  <a:srgbClr val="004800"/>
                </a:gs>
                <a:gs pos="100000">
                  <a:srgbClr val="0044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d8c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6d8c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5b3b1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88B4-3758-4D60-8F78-A89290266002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89040" y="2301480"/>
            <a:ext cx="6461280" cy="1120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d6d8c0"/>
                </a:solidFill>
                <a:latin typeface="Garamond"/>
              </a:rPr>
              <a:t>Путешествие в грибное царство</a:t>
            </a:r>
            <a:endParaRPr b="1" lang="en-US" sz="49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олчанова А. Л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читель биологи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ОУ Анненская сош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6d8c0"/>
                </a:solidFill>
                <a:latin typeface="Garamond"/>
              </a:rPr>
              <a:t>Спорынья</a:t>
            </a:r>
            <a:endParaRPr b="1" lang="en-US" sz="5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Поселяется на злаках. Их попадание в муку вызывает у людей очень тяжелые отравления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6" descr="спорынья"/>
          <p:cNvPicPr/>
          <p:nvPr/>
        </p:nvPicPr>
        <p:blipFill>
          <a:blip r:embed="rId1"/>
          <a:stretch/>
        </p:blipFill>
        <p:spPr>
          <a:xfrm>
            <a:off x="5934240" y="1957320"/>
            <a:ext cx="14666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8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9248760" cy="143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6d8c0"/>
                </a:solidFill>
                <a:latin typeface="Garamond"/>
              </a:rPr>
              <a:t>Сбор грибов</a:t>
            </a:r>
            <a:endParaRPr b="1" lang="en-US" sz="5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8360" y="1699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и сборе предпочтение следует отдавать молодым грибам. В старых, даже при самой тщательной обработке, не разрушается грибная клетчатка, содержащая вещество 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фургинин,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и пища плохо усваивается организмом. Поэтому неслучайно говорят: не бойся червивого гриба, бойся старого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6" descr="фото 3"/>
          <p:cNvPicPr/>
          <p:nvPr/>
        </p:nvPicPr>
        <p:blipFill>
          <a:blip r:embed="rId1"/>
          <a:stretch/>
        </p:blipFill>
        <p:spPr>
          <a:xfrm>
            <a:off x="5226120" y="1700280"/>
            <a:ext cx="35892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6d8c0"/>
                </a:solidFill>
                <a:latin typeface="Garamond"/>
              </a:rPr>
              <a:t>Народные приметы</a:t>
            </a:r>
            <a:endParaRPr b="1" lang="en-US" sz="5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скрылись цветки сирени – подошли первые шампиньоны.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Есть в лесу волнушки – скоро будут грузди. 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спели семена осины – пора собирать первые подосиновики.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аколосилась рожь – время идти за первыми белыми грибами.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Жнут рожь – наступило начало сбора второго урожая подберезовик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8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2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6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0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4" dur="2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6d8c0"/>
                </a:solidFill>
                <a:latin typeface="Garamond"/>
              </a:rPr>
              <a:t>Кто лишний?</a:t>
            </a:r>
            <a:endParaRPr b="1" lang="en-US" sz="5400" spc="-1" strike="noStrike">
              <a:solidFill>
                <a:srgbClr val="d6d8c0"/>
              </a:solidFill>
              <a:latin typeface="Garamond"/>
            </a:endParaRPr>
          </a:p>
        </p:txBody>
      </p:sp>
      <p:pic>
        <p:nvPicPr>
          <p:cNvPr id="154" name="Picture 9" descr="фото 9"/>
          <p:cNvPicPr/>
          <p:nvPr/>
        </p:nvPicPr>
        <p:blipFill>
          <a:blip r:embed="rId1"/>
          <a:stretch/>
        </p:blipFill>
        <p:spPr>
          <a:xfrm>
            <a:off x="1278000" y="1268280"/>
            <a:ext cx="1938240" cy="2592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фото 10"/>
          <p:cNvPicPr/>
          <p:nvPr/>
        </p:nvPicPr>
        <p:blipFill>
          <a:blip r:embed="rId2"/>
          <a:stretch/>
        </p:blipFill>
        <p:spPr>
          <a:xfrm>
            <a:off x="5076720" y="1268280"/>
            <a:ext cx="3168720" cy="26593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фото 11"/>
          <p:cNvPicPr/>
          <p:nvPr/>
        </p:nvPicPr>
        <p:blipFill>
          <a:blip r:embed="rId3"/>
          <a:stretch/>
        </p:blipFill>
        <p:spPr>
          <a:xfrm>
            <a:off x="755640" y="4005360"/>
            <a:ext cx="2664000" cy="2303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фото 12"/>
          <p:cNvPicPr/>
          <p:nvPr/>
        </p:nvPicPr>
        <p:blipFill>
          <a:blip r:embed="rId4"/>
          <a:stretch/>
        </p:blipFill>
        <p:spPr>
          <a:xfrm>
            <a:off x="5076720" y="4076640"/>
            <a:ext cx="309564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89308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6d8c0"/>
                </a:solidFill>
                <a:latin typeface="Garamond"/>
              </a:rPr>
              <a:t>Загадки</a:t>
            </a:r>
            <a:endParaRPr b="1" lang="en-US" sz="60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тот гриб живет под елью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д ее огромной тенью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удрый бородач-старик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Житель бора - …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6" descr="фото 1"/>
          <p:cNvPicPr/>
          <p:nvPr/>
        </p:nvPicPr>
        <p:blipFill>
          <a:blip r:embed="rId1"/>
          <a:stretch/>
        </p:blipFill>
        <p:spPr>
          <a:xfrm>
            <a:off x="5952960" y="3276720"/>
            <a:ext cx="14288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2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d8c0"/>
                </a:solidFill>
                <a:latin typeface="Garamond"/>
              </a:rPr>
              <a:t>Литература: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341360"/>
            <a:ext cx="91440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.В. Сорокина «Тематические игры и праздники по биологии.» г.Москва 200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cc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tai.fio.r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cc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ww.p-shkola.b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6d8c0"/>
                </a:solidFill>
                <a:latin typeface="Garamond"/>
              </a:rPr>
              <a:t>Цель праздника</a:t>
            </a:r>
            <a:r>
              <a:rPr b="1" lang="en-US" sz="4800" spc="-1" strike="noStrike">
                <a:solidFill>
                  <a:srgbClr val="d6d8c0"/>
                </a:solidFill>
                <a:latin typeface="Garamond"/>
              </a:rPr>
              <a:t>:</a:t>
            </a:r>
            <a:endParaRPr b="1" lang="en-US" sz="48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акрепить расширить знания по биологи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учить детей видеть красоту окружающего мир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юбить природу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звивать внимание, сообразительность, умение, умение работать в коллективе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6d8c0"/>
                </a:solidFill>
                <a:latin typeface="Garamond"/>
              </a:rPr>
              <a:t>История</a:t>
            </a:r>
            <a:endParaRPr b="1" lang="en-US" sz="48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ыла даже на Руси своя грибная столица – город Судиславль в Костромской губернии. Иностранцы, жившие в России, восторгались вкусовыми качествами русских грибов. Грибных блюд уже в то время знали множество. Так на званом обеде 17 марта   столы  патриарха Андриана украшали три пирога долгие с грибами, два пирожка с груздями, грибы холодные под хреном, грузди колодные с маслом, грузди гретые соком да с маслом, капуста шотковая с грибами, галушки грибные да два "наряди грибов в тесте"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6" descr="фото13"/>
          <p:cNvPicPr/>
          <p:nvPr/>
        </p:nvPicPr>
        <p:blipFill>
          <a:blip r:embed="rId1"/>
          <a:stretch/>
        </p:blipFill>
        <p:spPr>
          <a:xfrm>
            <a:off x="4572000" y="2205000"/>
            <a:ext cx="421308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6d8c0"/>
                </a:solidFill>
                <a:latin typeface="Garamond"/>
              </a:rPr>
              <a:t>Многообразие</a:t>
            </a:r>
            <a:endParaRPr b="1" lang="en-US" sz="4800" spc="-1" strike="noStrike">
              <a:solidFill>
                <a:srgbClr val="d6d8c0"/>
              </a:solidFill>
              <a:latin typeface="Garamond"/>
            </a:endParaRPr>
          </a:p>
        </p:txBody>
      </p:sp>
      <p:grpSp>
        <p:nvGrpSpPr>
          <p:cNvPr id="122" name="Organization Chart 7"/>
          <p:cNvGrpSpPr/>
          <p:nvPr/>
        </p:nvGrpSpPr>
        <p:grpSpPr>
          <a:xfrm>
            <a:off x="431640" y="1589040"/>
            <a:ext cx="8208360" cy="4462560"/>
            <a:chOff x="431640" y="1589040"/>
            <a:chExt cx="8208360" cy="4462560"/>
          </a:xfrm>
        </p:grpSpPr>
        <p:cxnSp>
          <p:nvCxnSpPr>
            <p:cNvPr id="123" name="_s1028"/>
            <p:cNvCxnSpPr>
              <a:stCxn id="124" idx="0"/>
              <a:endCxn id="125" idx="2"/>
            </p:cNvCxnSpPr>
            <p:nvPr/>
          </p:nvCxnSpPr>
          <p:spPr>
            <a:xfrm flipV="1" rot="16200000">
              <a:off x="5525640" y="238284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6" name="_s1029"/>
            <p:cNvCxnSpPr>
              <a:stCxn id="127" idx="0"/>
              <a:endCxn id="125" idx="2"/>
            </p:cNvCxnSpPr>
            <p:nvPr/>
          </p:nvCxnSpPr>
          <p:spPr>
            <a:xfrm flipV="1">
              <a:off x="4536000" y="3373200"/>
              <a:ext cx="3600" cy="893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8" name="_s1030"/>
            <p:cNvCxnSpPr>
              <a:stCxn id="129" idx="0"/>
              <a:endCxn id="125" idx="2"/>
            </p:cNvCxnSpPr>
            <p:nvPr/>
          </p:nvCxnSpPr>
          <p:spPr>
            <a:xfrm flipH="1" flipV="1" rot="5400000">
              <a:off x="2652840" y="23832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25" name="_s1031"/>
            <p:cNvSpPr/>
            <p:nvPr/>
          </p:nvSpPr>
          <p:spPr>
            <a:xfrm>
              <a:off x="3304440" y="158904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Verdana"/>
                </a:rPr>
                <a:t>Грибы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_s1032"/>
            <p:cNvSpPr/>
            <p:nvPr/>
          </p:nvSpPr>
          <p:spPr>
            <a:xfrm>
              <a:off x="431640" y="426672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Verdana"/>
                </a:rPr>
                <a:t>Шляпочные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_s1033"/>
            <p:cNvSpPr/>
            <p:nvPr/>
          </p:nvSpPr>
          <p:spPr>
            <a:xfrm>
              <a:off x="3304440" y="426672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Verdana"/>
                </a:rPr>
                <a:t>Плесневые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_s1034"/>
            <p:cNvSpPr/>
            <p:nvPr/>
          </p:nvSpPr>
          <p:spPr>
            <a:xfrm>
              <a:off x="6177600" y="426672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Verdana"/>
                </a:rPr>
                <a:t>Паразиты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Garamond"/>
              </a:rPr>
              <a:t>Шляпочные грибы</a:t>
            </a:r>
            <a:endParaRPr b="1" lang="en-US" sz="5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28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Съедобные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руздь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исичк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асленок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трочок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морчок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Ядовитые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ледная поганк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ухомор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ожный опенок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ожная лисичка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6d8c0"/>
                </a:solidFill>
                <a:latin typeface="Garamond"/>
              </a:rPr>
              <a:t>Пластинчатые грибы</a:t>
            </a:r>
            <a:endParaRPr b="1" lang="en-US" sz="60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4398840" cy="46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ядышком с иголка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ы растем под елками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Любим сосны мы и ели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Шляпку плоскую имеем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 по ней идут круги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режь-ка нас и не беги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огда увидишь на руке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к, оранжевый на вид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е бойся, он не ядовит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6" descr="фото 8"/>
          <p:cNvPicPr/>
          <p:nvPr/>
        </p:nvPicPr>
        <p:blipFill>
          <a:blip r:embed="rId1"/>
          <a:stretch/>
        </p:blipFill>
        <p:spPr>
          <a:xfrm>
            <a:off x="5435640" y="1925640"/>
            <a:ext cx="3384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6d8c0"/>
                </a:solidFill>
                <a:latin typeface="Garamond"/>
              </a:rPr>
              <a:t>Трубчатые грибы</a:t>
            </a:r>
            <a:endParaRPr b="1" lang="en-US" sz="5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зывают меня люди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Часто – боровик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тому что знают люди –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 бору я привык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равятся мне сосны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Ели я люблю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 многими деревьями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Я вообще друж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6" descr="фото 2"/>
          <p:cNvPicPr/>
          <p:nvPr/>
        </p:nvPicPr>
        <p:blipFill>
          <a:blip r:embed="rId1"/>
          <a:stretch/>
        </p:blipFill>
        <p:spPr>
          <a:xfrm>
            <a:off x="4788000" y="1789200"/>
            <a:ext cx="435600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6d8c0"/>
                </a:solidFill>
                <a:latin typeface="Garamond"/>
              </a:rPr>
              <a:t>Грибы паразиты</a:t>
            </a:r>
            <a:endParaRPr b="1" lang="en-US" sz="5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Головня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Спорынья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Трутовик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64292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11" descr="Перейти к полноразмерному изображению"/>
          <p:cNvPicPr/>
          <p:nvPr/>
        </p:nvPicPr>
        <p:blipFill>
          <a:blip r:embed="rId1"/>
          <a:stretch/>
        </p:blipFill>
        <p:spPr>
          <a:xfrm>
            <a:off x="4551480" y="1628640"/>
            <a:ext cx="42177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d8c0"/>
                </a:solidFill>
                <a:latin typeface="Garamond"/>
              </a:rPr>
              <a:t>«Тайна оставленной записки»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Десятый век. Франция. «…ужасные бедствия распространились среди людей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скрытый огонь, съедающий конечности и тело. В народе это тяжелое заболевание получило название «злые корчи»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8T09:47:40Z</dcterms:created>
  <dc:creator>user</dc:creator>
  <dc:description/>
  <dc:language>en-US</dc:language>
  <cp:lastModifiedBy>Позитроника</cp:lastModifiedBy>
  <dcterms:modified xsi:type="dcterms:W3CDTF">2013-03-27T05:29:22Z</dcterms:modified>
  <cp:revision>43</cp:revision>
  <dc:subject/>
  <dc:title>Слайд 1</dc:title>
</cp:coreProperties>
</file>