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E74-CAB3-4FEE-A0E1-887717F4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13E-833A-4520-8FDF-23F9DC7C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7D6-13BB-416B-9CE9-E400268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3C0-F6E5-488D-A98F-F5589DAC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F0A-DF7E-449E-8018-3EEA4AE7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F024-D30F-4B0B-A6C7-B5942D1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D878-F82A-410B-B798-FC91881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C1A-C1B0-46DD-A5FB-4103828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E790-4CE7-485E-855E-76483B4D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152-AECA-4CC9-89D6-8647F385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EBEA-FDE6-453B-9333-7BCE59A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831-930A-4F1B-B53C-3981CF5B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44E-303F-4850-A3B5-DF58D4E3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A186-242D-47F0-8433-939D568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1DF-8EA6-4DCE-BECE-382CB76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21EA-C306-4269-8A26-33A08927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8B3A-4D6A-4653-8F9A-7DF4B31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21B-F4D0-4021-AEB5-9B5AF4F0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E26-600F-4D3B-932D-44FD74B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F89-0345-4D74-91BA-6A7822CB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775-7496-4C9C-B995-423D0881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5E7-9723-4A8C-8331-25B210F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D68-3D08-45BB-8E01-B7068B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197-3453-4131-A889-1E4DB6D2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5F8-641F-4D3D-A239-19C50906C11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4400"/>
                </a:gs>
                <a:gs pos="50000">
                  <a:srgbClr val="004800"/>
                </a:gs>
                <a:gs pos="100000">
                  <a:srgbClr val="0044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5e0f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732e"/>
                </a:gs>
                <a:gs pos="100000">
                  <a:srgbClr val="005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d8c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6d8c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5b3b1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896-150A-454F-B722-3862246C0AF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9040" y="2301480"/>
            <a:ext cx="6461280" cy="112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6d8c0"/>
                </a:solidFill>
                <a:latin typeface="Garamond"/>
              </a:rPr>
              <a:t>Путешествие в грибное царство</a:t>
            </a:r>
            <a:endParaRPr b="1" lang="en-US" sz="49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лчанова А. 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У Анненская сош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Спорынья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селяется на злаках. Их попадание в муку вызывает у людей очень тяжелые отравле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6" descr="спорынья"/>
          <p:cNvPicPr/>
          <p:nvPr/>
        </p:nvPicPr>
        <p:blipFill>
          <a:blip r:embed="rId1"/>
          <a:stretch/>
        </p:blipFill>
        <p:spPr>
          <a:xfrm>
            <a:off x="5934240" y="1957320"/>
            <a:ext cx="1466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24876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Сбор грибов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сборе предпочтение следует отдавать молодым грибам. В старых, даже при самой тщательной обработке, не разрушается грибная клетчатка, содержащая вещество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фургинин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пища плохо усваивается организмом. Поэтому неслучайно говорят: не бойся червивого гриба, бойся старог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6" descr="фото 3"/>
          <p:cNvPicPr/>
          <p:nvPr/>
        </p:nvPicPr>
        <p:blipFill>
          <a:blip r:embed="rId1"/>
          <a:stretch/>
        </p:blipFill>
        <p:spPr>
          <a:xfrm>
            <a:off x="5226120" y="1700280"/>
            <a:ext cx="35892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Народные примет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крылись цветки сирени – подошли первые шампиньоны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ть в лесу волнушки – скоро будут грузди. 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пели семена осины – пора собирать первые подосиновики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олосилась рожь – время идти за первыми белыми грибами.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нут рожь – наступило начало сбора второго урожая подберезов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Кто лишний?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pic>
        <p:nvPicPr>
          <p:cNvPr id="154" name="Picture 9" descr="фото 9"/>
          <p:cNvPicPr/>
          <p:nvPr/>
        </p:nvPicPr>
        <p:blipFill>
          <a:blip r:embed="rId1"/>
          <a:stretch/>
        </p:blipFill>
        <p:spPr>
          <a:xfrm>
            <a:off x="1278000" y="1268280"/>
            <a:ext cx="193824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фото 10"/>
          <p:cNvPicPr/>
          <p:nvPr/>
        </p:nvPicPr>
        <p:blipFill>
          <a:blip r:embed="rId2"/>
          <a:stretch/>
        </p:blipFill>
        <p:spPr>
          <a:xfrm>
            <a:off x="5076720" y="1268280"/>
            <a:ext cx="3168720" cy="265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фото 11"/>
          <p:cNvPicPr/>
          <p:nvPr/>
        </p:nvPicPr>
        <p:blipFill>
          <a:blip r:embed="rId3"/>
          <a:stretch/>
        </p:blipFill>
        <p:spPr>
          <a:xfrm>
            <a:off x="755640" y="4005360"/>
            <a:ext cx="2664000" cy="230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фото 12"/>
          <p:cNvPicPr/>
          <p:nvPr/>
        </p:nvPicPr>
        <p:blipFill>
          <a:blip r:embed="rId4"/>
          <a:stretch/>
        </p:blipFill>
        <p:spPr>
          <a:xfrm>
            <a:off x="5076720" y="407664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Garamond"/>
              </a:rPr>
              <a:t>Загадки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гриб живет под елью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 ее огромной тенью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дрый бородач-старик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итель бора - …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фото 1"/>
          <p:cNvPicPr/>
          <p:nvPr/>
        </p:nvPicPr>
        <p:blipFill>
          <a:blip r:embed="rId1"/>
          <a:stretch/>
        </p:blipFill>
        <p:spPr>
          <a:xfrm>
            <a:off x="5952960" y="327672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Литература: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.В. Сорокина «Тематические игры и праздники по биологии.» г.Москва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tai.fio.r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cc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p-shkola.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Цель праздника</a:t>
            </a:r>
            <a:r>
              <a:rPr b="1" lang="en-US" sz="4800" spc="-1" strike="noStrike">
                <a:solidFill>
                  <a:srgbClr val="d6d8c0"/>
                </a:solidFill>
                <a:latin typeface="Garamond"/>
              </a:rPr>
              <a:t>: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репить расширить знания по биолог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 детей видеть красоту окружающего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бить природ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ть внимание, сообразительность, умение, умение работать в коллектив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История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ыла даже на Руси своя грибная столица – город Судиславль в Костромской губернии. Иностранцы, жившие в России, восторгались вкусовыми качествами русских грибов. Грибных блюд уже в то время знали множество. Так на званом обеде 17 марта   столы  патриарха Андриана украшали три пирога долгие с грибами, два пирожка с груздями, грибы холодные под хреном, грузди колодные с маслом, грузди гретые соком да с маслом, капуста шотковая с грибами, галушки грибные да два "наряди грибов в тесте"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фото13"/>
          <p:cNvPicPr/>
          <p:nvPr/>
        </p:nvPicPr>
        <p:blipFill>
          <a:blip r:embed="rId1"/>
          <a:stretch/>
        </p:blipFill>
        <p:spPr>
          <a:xfrm>
            <a:off x="4572000" y="2205000"/>
            <a:ext cx="4213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d8c0"/>
                </a:solidFill>
                <a:latin typeface="Garamond"/>
              </a:rPr>
              <a:t>Многообразие</a:t>
            </a:r>
            <a:endParaRPr b="1" lang="en-US" sz="4800" spc="-1" strike="noStrike">
              <a:solidFill>
                <a:srgbClr val="d6d8c0"/>
              </a:solidFill>
              <a:latin typeface="Garamond"/>
            </a:endParaRPr>
          </a:p>
        </p:txBody>
      </p:sp>
      <p:grpSp>
        <p:nvGrpSpPr>
          <p:cNvPr id="122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29"/>
            <p:cNvCxnSpPr>
              <a:stCxn id="127" idx="0"/>
              <a:endCxn id="125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0"/>
            <p:cNvCxnSpPr>
              <a:stCxn id="129" idx="0"/>
              <a:endCxn id="125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5" name="_s1031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Гриб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Шляпоч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Плеснев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34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Парази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Шляпочные гриб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ъедобные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зд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ич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ен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оч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морч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Ядовитые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едная поган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хомор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жный опено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ожная лисич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6d8c0"/>
                </a:solidFill>
                <a:latin typeface="Garamond"/>
              </a:rPr>
              <a:t>Пластинчатые грибы</a:t>
            </a:r>
            <a:endParaRPr b="1" lang="en-US" sz="60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3988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ядышком с иголк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ы растем под елк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бим сосны мы и ел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Шляпку плоскую имеем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о ней идут круг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жь-ка нас и не бег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гда увидишь на ру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, оранжевый на вид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бойся, он не ядовит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фото 8"/>
          <p:cNvPicPr/>
          <p:nvPr/>
        </p:nvPicPr>
        <p:blipFill>
          <a:blip r:embed="rId1"/>
          <a:stretch/>
        </p:blipFill>
        <p:spPr>
          <a:xfrm>
            <a:off x="5435640" y="1925640"/>
            <a:ext cx="3384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Трубчатые гриб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меня люд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асто – борови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ому что знают люди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бору я привык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равятся мне сосны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ли я люблю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 многими деревьям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 вообще друж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фото 2"/>
          <p:cNvPicPr/>
          <p:nvPr/>
        </p:nvPicPr>
        <p:blipFill>
          <a:blip r:embed="rId1"/>
          <a:stretch/>
        </p:blipFill>
        <p:spPr>
          <a:xfrm>
            <a:off x="4788000" y="1789200"/>
            <a:ext cx="4356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d8c0"/>
                </a:solidFill>
                <a:latin typeface="Garamond"/>
              </a:rPr>
              <a:t>Грибы паразиты</a:t>
            </a:r>
            <a:endParaRPr b="1" lang="en-US" sz="5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оловн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порынья;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рутовик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11" descr="Перейти к полноразмерному изображению"/>
          <p:cNvPicPr/>
          <p:nvPr/>
        </p:nvPicPr>
        <p:blipFill>
          <a:blip r:embed="rId1"/>
          <a:stretch/>
        </p:blipFill>
        <p:spPr>
          <a:xfrm>
            <a:off x="4551480" y="1628640"/>
            <a:ext cx="4217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d8c0"/>
                </a:solidFill>
                <a:latin typeface="Garamond"/>
              </a:rPr>
              <a:t>«Тайна оставленной записки»</a:t>
            </a:r>
            <a:endParaRPr b="1" lang="en-US" sz="4400" spc="-1" strike="noStrike">
              <a:solidFill>
                <a:srgbClr val="d6d8c0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сятый век. Франция. «…ужасные бедствия распространились среди людей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скрытый огонь, съедающий конечности и тело. В народе это тяжелое заболевание получило название «злые корчи»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cc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9:47:40Z</dcterms:created>
  <dc:creator>user</dc:creator>
  <dc:description/>
  <dc:language>en-US</dc:language>
  <cp:lastModifiedBy>Позитроника</cp:lastModifiedBy>
  <dcterms:modified xsi:type="dcterms:W3CDTF">2013-03-27T05:29:22Z</dcterms:modified>
  <cp:revision>43</cp:revision>
  <dc:subject/>
  <dc:title>Слайд 1</dc:title>
</cp:coreProperties>
</file>