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FC3-FE57-4044-94FA-75CC33B4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938-FD87-4905-B7F6-32BD57BD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6EC-2790-4FEA-9D8C-1CF046E1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EEF-F60E-4887-A6FE-8AADAB89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A45-735C-4BD9-B950-3714585B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C28-F10C-4CF6-A191-2E89A782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492-9423-4371-B9EE-92BDA8AA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8A5-F6D2-4AF2-9CF7-DEBDAF9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7AF-06AE-4A1B-9362-31F49EC1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6BF-38E6-4FC8-A77F-42765E7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84C-10AF-4A94-9F8C-8BABFB6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5E8-F38F-46C8-9091-1C02D4D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291-8919-434A-9656-B49A5C5495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do.tsu.ru/schools/physmat/data/res/mehanika/spravochnik/text/13.html" TargetMode="External"/><Relationship Id="rId2" Type="http://schemas.openxmlformats.org/officeDocument/2006/relationships/hyperlink" Target="http://www.vseoremonte.ru/material/poli/drev.html" TargetMode="External"/><Relationship Id="rId3" Type="http://schemas.openxmlformats.org/officeDocument/2006/relationships/hyperlink" Target="http://ru.wikipedia.org/wiki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1571760" y="785880"/>
            <a:ext cx="5715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РУЖНАЯ НАУЧНО- ПРАКТИЧЕСКАЯ КОНФЕР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ервые шаги в наук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ЦИЯ «Физ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ль детской литературы в познании физ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ctr" pos="3149640"/>
                <a:tab algn="l" pos="4648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428920" y="1857240"/>
            <a:ext cx="1138320" cy="1155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714240" y="1693800"/>
            <a:ext cx="895320" cy="127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2928960" y="364320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572080" y="3857760"/>
            <a:ext cx="1373400" cy="88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5643720" y="1928880"/>
            <a:ext cx="1101600" cy="73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7358040" y="2500200"/>
            <a:ext cx="125748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8"/>
          <a:stretch/>
        </p:blipFill>
        <p:spPr>
          <a:xfrm>
            <a:off x="3643200" y="5643720"/>
            <a:ext cx="120492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9"/>
          <a:stretch/>
        </p:blipFill>
        <p:spPr>
          <a:xfrm>
            <a:off x="6143760" y="5715000"/>
            <a:ext cx="10825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10"/>
          <a:stretch/>
        </p:blipFill>
        <p:spPr>
          <a:xfrm>
            <a:off x="1571760" y="5715000"/>
            <a:ext cx="874440" cy="65736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2"/>
          <p:cNvSpPr/>
          <p:nvPr/>
        </p:nvSpPr>
        <p:spPr>
          <a:xfrm>
            <a:off x="1704960" y="2347920"/>
            <a:ext cx="554040" cy="25416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3"/>
          <p:cNvSpPr/>
          <p:nvPr/>
        </p:nvSpPr>
        <p:spPr>
          <a:xfrm>
            <a:off x="4643280" y="4143240"/>
            <a:ext cx="403560" cy="1699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углом вверх 4"/>
          <p:cNvSpPr/>
          <p:nvPr/>
        </p:nvSpPr>
        <p:spPr>
          <a:xfrm rot="5400000">
            <a:off x="6512760" y="2774160"/>
            <a:ext cx="350640" cy="51768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лево 5"/>
          <p:cNvSpPr/>
          <p:nvPr/>
        </p:nvSpPr>
        <p:spPr>
          <a:xfrm>
            <a:off x="2714760" y="5896080"/>
            <a:ext cx="428400" cy="24768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6"/>
          <p:cNvSpPr/>
          <p:nvPr/>
        </p:nvSpPr>
        <p:spPr>
          <a:xfrm>
            <a:off x="5429160" y="5857920"/>
            <a:ext cx="530280" cy="3189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50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1. Нравится  ли вам физика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Физика интересная или скучная наука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 Встречались ли вы с описанием физических явлений, процессов в художественной литературе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4. Если встречались, то всегда ли писатели описывают все верно с точки зрения знатока физики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6400" indent="-402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Объект 2" descr=""/>
          <p:cNvPicPr/>
          <p:nvPr/>
        </p:nvPicPr>
        <p:blipFill>
          <a:blip r:embed="rId2"/>
          <a:stretch/>
        </p:blipFill>
        <p:spPr>
          <a:xfrm>
            <a:off x="5529240" y="1549440"/>
            <a:ext cx="32083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28760" y="1357200"/>
          <a:ext cx="8229600" cy="4911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нравитс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чна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встречалис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C:\Users\Домашний\Pictures\Рисунок1.jpg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Домашний\Pictures\Рисунок1.jpg"/>
          <p:cNvPicPr/>
          <p:nvPr/>
        </p:nvPicPr>
        <p:blipFill>
          <a:blip r:embed="rId2"/>
          <a:stretch/>
        </p:blipFill>
        <p:spPr>
          <a:xfrm>
            <a:off x="-133200" y="152280"/>
            <a:ext cx="94294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0" y="214200"/>
            <a:ext cx="885816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физика интересует многих учащихся. Мы увидели физические явления и процессы в окружающей нас природе и художественной литературе, проанализировали прочитанное с точки зрения знатоков физики, применили свои знания в нестандартных ситу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, лишённый художественного воображения, беден духовно, а писатель не знающий основ физики, не сможет создать правдивое высокохудожественное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0" y="52560"/>
            <a:ext cx="9288360" cy="71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сок использованных источников и литерату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олина И. М. Использование художественной литературы на уроках физ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Сама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Самарский Дом печати,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ихомирова С.А. Дидактический материал по физике: Физика в худож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венной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ратур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7-11 кл. М.: Просвещ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Физика. 7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7 кл.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рофа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Физика. 8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8 кл. –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 Дроф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Гутник Е.М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Физика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Учебник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 –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Дроф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ифт Джонатан. Путешествия в некоторые отдалённые страны света Лемюэля Гулливера, сначала хирурга, а потом капитана нескольких кораблей. М.: Издательство «Детская литература», 198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овина В.Я. Литература. Учебник для 5 кл. Часть 1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Просвещение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ышкин А. 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ник задач по физике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-9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кл. М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«Экзамен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2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рро Шар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Золушк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.: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тельство «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Детская литерату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, 1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олнышко - колоколнышко. Песенки, потешки, считалки. Западно - сибирское книжное издатель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Новосибирск, 1979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ушкин А.С. Стихи и сказк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Детская литература»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ушкин А.С. Сказка о царе Салтане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тельство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«Малыш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алевала, Карело-финский эпос. Петрозаводс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«Карелия», 1981. Рисунки Н. Кочер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агин Л. И. Старик Хоттабы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Повесть – сказ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М.: Издательство «Детская литература»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сов Н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иключения Незнайки и его друз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М.: Издательство «Детская литерату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9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Ершов П.П. Конек – Горбун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.: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Советская Россия»,197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Русские народные сказки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.: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здательство «Детская литература», 198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ихомир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С.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Физика в пословицах и сказка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М.: Интерпракс, 199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подготовке использованы ресурсы Интерн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http://ido.tsu.ru/schools/physmat/data/res/mehanika/spravochnik/text/13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www.vseoremonte.ru/material/poli/drev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http://ru.wikipedia.org/wiki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42920" y="1832040"/>
            <a:ext cx="7437600" cy="28256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355840" y="2421000"/>
            <a:ext cx="49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714240"/>
            <a:ext cx="8229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вторы: Антипова Анжела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аснов Антон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арова Анастасия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учающиеся 7 к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уководитель: Фомакина Галина Вениаминов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читель физики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БОУ ООШ с. Аксаково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одическая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сследовать произведения детской литературы, содержащие физические явления, способствующие развитию культуры личности и полноценному качественному образованию в соответствии интересам учащих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идактическая 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ормирование компетентности самостоятельного поиска информации естественнонаучного содержания с использованием различных источников (художественных произведений, учебных текстов, справочных и научно-популярных изданий, компьютерных баз данных, ресурсов Интернета), обработки и представления в разных фор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иск в детской литературе описание физических явлений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физических явлений, описанных в художественной литератур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ализ влияния физических процессов на литературные сюжеты и судьбы герое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группировать выбранные примеры в соответствии с темами физики (плотность вещества, скорость, сила Архимеда, воздухоплавание, электричество и электромагнитные волны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формулировать условия задач по выбранным примерам и их реш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1200" cy="15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«Физики» и «лири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крытие тайн и законов природы человеком всегда волновало не только ученых, но и литераторов. Поразительно, насколько точно поэты предвосхищают порой важнейшие проблемы научного исследования. В связи с этим нельзя не вспомнить удивительное стихотворение А.С. Пушкина, где каждая строчка – глубокая мысль, под которой с удовольствием подпишется любой современный физи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 сколько нам открытий чуд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отовит просвещенья ду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опыт, сын ошибок труд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гений, парадоксов дру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случай, бог изобрета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378000" y="60480"/>
            <a:ext cx="8394480" cy="1463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твердил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емля, вертясь, круг Солнца ходит»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, что Солнце все с собой планеты вод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Коперник был, другой слыл Птолеме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отрывке стихотворения Ломоносов приводит веское доказательство гелиоцентрической системы мира, опираясь на принцип относительности механического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90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казке Шарля Перро «Золушка» героиня  одета в  наряд из золотой и серебряной парчи, богато расшитой драгоценными камнями. Платье действительно будет не таким уж и тяжёлым, даже учитывая драгоценные камни, если применить современные нанотехнологии в производстве ткан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ждой ноге у Золушки было больше 1 кг хрусталя - особо не побегаешь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7 г/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 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0 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1620 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шли солдат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на базар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что купи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самова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сколько стои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три руб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он какой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ы - баты, золот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: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100 кг : 19300 кг/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≈ 0,0052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0,0052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 3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≈ ≈0,001727 м 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≈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,7 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 толщине стенок в 1,7 мм из золота самовар не сомнётся под действием собственной тяжести и будет не таким уж тяжёлым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49360" y="1042920"/>
            <a:ext cx="1317600" cy="162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1866960" y="2301840"/>
            <a:ext cx="1247760" cy="138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2592360" y="5238720"/>
            <a:ext cx="1600200" cy="110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985680" y="4149720"/>
            <a:ext cx="15051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279880" y="1042920"/>
            <a:ext cx="55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ушка в платье из золотой и серебряной пар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рустальных туфель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406320" y="2565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вые солдаты несут золотой сам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917880" y="359424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123720" y="443700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рик догоняет парусны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4440960" y="54450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ник на лыжах ловит л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86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1857240" y="3929040"/>
            <a:ext cx="1130400" cy="84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805040" y="1928880"/>
            <a:ext cx="892080" cy="799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987640" y="801720"/>
            <a:ext cx="51134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ч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30 к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2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9,8 Н/кг ≈ 2019 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ч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бъём погружённой в жидкость части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637440" y="143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986560" y="2154240"/>
            <a:ext cx="4772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шкин не ошибся, царица с ребё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гли благополучно добраться до бере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993040" y="313992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опла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Изображение 332"/>
          <p:cNvPicPr/>
          <p:nvPr/>
        </p:nvPicPr>
        <p:blipFill>
          <a:blip r:embed="rId4"/>
          <a:srcRect l="9687" t="0" r="8068" b="11253"/>
          <a:stretch/>
        </p:blipFill>
        <p:spPr>
          <a:xfrm>
            <a:off x="6143760" y="3857760"/>
            <a:ext cx="1098360" cy="82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146240" y="5000760"/>
            <a:ext cx="235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рик Хоттабы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4522680" y="4857840"/>
            <a:ext cx="46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ключения Незнайки и его друз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38:27Z</dcterms:created>
  <dc:creator>Домашний</dc:creator>
  <dc:description/>
  <dc:language>en-US</dc:language>
  <cp:lastModifiedBy>Домашний</cp:lastModifiedBy>
  <dcterms:modified xsi:type="dcterms:W3CDTF">2013-03-29T19:22:44Z</dcterms:modified>
  <cp:revision>28</cp:revision>
  <dc:subject/>
  <dc:title>Слайд 1</dc:title>
</cp:coreProperties>
</file>