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A11-7245-4519-9666-B7B4AA6D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D2F-CB6D-4272-9ADF-EAAFBC5F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3A1-8F44-40C5-B25E-E508CF48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781-5983-4E14-8451-34D488A4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247-8C4A-4617-9C86-1407DA49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8DD-647D-404F-ABE4-013D5BA1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6ED-20B9-4894-ABBD-6806430F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B58-E868-45DC-AC0B-F0B9466A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097-4538-470C-B7A7-4A3FECAB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3E3-43F9-4DEF-857C-20AFA026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B6A-0671-457F-8B84-83963ED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BD4-07BE-47EA-82FB-B1671385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CFA7-840F-44B8-9C39-64FCF0DD0A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do.tsu.ru/schools/physmat/data/res/mehanika/spravochnik/text/13.html" TargetMode="External"/><Relationship Id="rId2" Type="http://schemas.openxmlformats.org/officeDocument/2006/relationships/hyperlink" Target="http://www.vseoremonte.ru/material/poli/drev.html" TargetMode="External"/><Relationship Id="rId3" Type="http://schemas.openxmlformats.org/officeDocument/2006/relationships/hyperlink" Target="http://ru.wikipedia.org/wiki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1571760" y="785880"/>
            <a:ext cx="5715000" cy="53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РУЖНАЯ НАУЧНО- ПРАКТИЧЕСКАЯ КОНФЕР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ервые шаги в наук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КЦИЯ «Физ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ль детской литературы в познании физ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428920" y="1857240"/>
            <a:ext cx="1138320" cy="1155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714240" y="1693800"/>
            <a:ext cx="895320" cy="1276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2928960" y="364320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5572080" y="3857760"/>
            <a:ext cx="1373400" cy="884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5643720" y="1928880"/>
            <a:ext cx="1101600" cy="73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7"/>
          <a:stretch/>
        </p:blipFill>
        <p:spPr>
          <a:xfrm>
            <a:off x="7358040" y="2500200"/>
            <a:ext cx="1257480" cy="12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8"/>
          <a:stretch/>
        </p:blipFill>
        <p:spPr>
          <a:xfrm>
            <a:off x="3643200" y="5643720"/>
            <a:ext cx="1204920" cy="90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9"/>
          <a:stretch/>
        </p:blipFill>
        <p:spPr>
          <a:xfrm>
            <a:off x="6143760" y="5715000"/>
            <a:ext cx="108252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10"/>
          <a:stretch/>
        </p:blipFill>
        <p:spPr>
          <a:xfrm>
            <a:off x="1571760" y="5715000"/>
            <a:ext cx="874440" cy="65736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право 2"/>
          <p:cNvSpPr/>
          <p:nvPr/>
        </p:nvSpPr>
        <p:spPr>
          <a:xfrm>
            <a:off x="1704960" y="2347920"/>
            <a:ext cx="554040" cy="25416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3"/>
          <p:cNvSpPr/>
          <p:nvPr/>
        </p:nvSpPr>
        <p:spPr>
          <a:xfrm>
            <a:off x="4643280" y="4143240"/>
            <a:ext cx="403560" cy="1699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углом вверх 4"/>
          <p:cNvSpPr/>
          <p:nvPr/>
        </p:nvSpPr>
        <p:spPr>
          <a:xfrm rot="5400000">
            <a:off x="6512760" y="2774160"/>
            <a:ext cx="350640" cy="51768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лево 5"/>
          <p:cNvSpPr/>
          <p:nvPr/>
        </p:nvSpPr>
        <p:spPr>
          <a:xfrm>
            <a:off x="2714760" y="5896080"/>
            <a:ext cx="428400" cy="247680"/>
          </a:xfrm>
          <a:prstGeom prst="leftArrow">
            <a:avLst>
              <a:gd name="adj1" fmla="val 50000"/>
              <a:gd name="adj2" fmla="val 4996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6"/>
          <p:cNvSpPr/>
          <p:nvPr/>
        </p:nvSpPr>
        <p:spPr>
          <a:xfrm>
            <a:off x="5429160" y="5857920"/>
            <a:ext cx="530280" cy="3189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50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. Нравится  ли вам физика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Физика интересная или скучная наука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 Встречались ли вы с описанием физических явлений, процессов в художественной литературе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4. Если встречались, то всегда ли писатели описывают все верно с точки зрения знатока физики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Объект 2" descr=""/>
          <p:cNvPicPr/>
          <p:nvPr/>
        </p:nvPicPr>
        <p:blipFill>
          <a:blip r:embed="rId2"/>
          <a:stretch/>
        </p:blipFill>
        <p:spPr>
          <a:xfrm>
            <a:off x="5529240" y="1549440"/>
            <a:ext cx="32083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428760" y="1357200"/>
          <a:ext cx="8229600" cy="4911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лас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нравитс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учн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встречалис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C:\Users\Домашний\Pictures\Рисунок1.jpg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Домашний\Pictures\Рисунок1.jpg"/>
          <p:cNvPicPr/>
          <p:nvPr/>
        </p:nvPicPr>
        <p:blipFill>
          <a:blip r:embed="rId2"/>
          <a:stretch/>
        </p:blipFill>
        <p:spPr>
          <a:xfrm>
            <a:off x="-133200" y="152280"/>
            <a:ext cx="94294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0" y="214200"/>
            <a:ext cx="8858160" cy="69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физика интересует многих учащихся. Мы увидели физические явления и процессы в окружающей нас природе и художественной литературе, проанализировали прочитанное с точки зрения знатоков физики, применили свои знания в нестандартных ситуац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, лишённый художественного воображения, беден духовно, а писатель не знающий основ физики, не сможет создать правдивое высокохудожественное прои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0" y="52560"/>
            <a:ext cx="9288360" cy="71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исок использованных источников и литерату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олина И. М. Использование художественной литературы на уроках физ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Сама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Самарский Дом печати,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99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Тихомирова С.А. Дидактический материал по физике: Физика в худож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твенной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л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ратуре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7-11 кл. М.: Просвещ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19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рышкин А. В. Физика. 7 к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Учебник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ля 7 кл. 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Дрофа,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2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рышкин А. В. Физика. 8 к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Учебник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ля 8 кл. – 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 Дроф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, 2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рышкин А. В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Гутник Е.М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Физика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к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Учебник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л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кл. – 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Дроф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, 2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8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ифт Джонатан. Путешествия в некоторые отдалённые страны света Лемюэля Гулливера, сначала хирурга, а потом капитана нескольких кораблей. М.: Издательство «Детская литература», 198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овина В.Я. Литература. Учебник для 5 кл. Часть 1.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Просвещение, 2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рышкин А. В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борник задач по физике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-9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кл. 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«Экзамен»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, 2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рро Шар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Золушк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М.: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з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тельство «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етская литерату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, 1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олнышко - колоколнышко. Песенки, потешки, считалки. Западно - сибирское книжное издатель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Новосибирск, 197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ушкин А.С. Стихи и сказки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.: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здательство «Детская литература», 198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ушкин А.С. Сказка о царе Салтане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.: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з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тельство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«Малыш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19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Калевала, Карело-финский эпос. Петрозаводс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«Карелия», 1981. Рисунки Н. Кочер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Лагин Л. И. Старик Хоттабы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Повесть – сказ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М.: Издательство «Детская литература», 199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осов Н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.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риключения Незнайки и его друз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М.: Издательство «Детская литерату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,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9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Ершов П.П. Конек – Горбунок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М.: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здательство «Советская Россия»,197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Русские народные сказки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.: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здательство «Детская литература», 198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Тихомир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С.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Физика в пословицах и сказка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М.: Интерпракс, 199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подготовке использованы ресурсы Интерн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10082"/>
                </a:solidFill>
                <a:uFillTx/>
                <a:latin typeface="Times New Roman"/>
                <a:hlinkClick r:id="rId1"/>
              </a:rPr>
              <a:t>http://ido.tsu.ru/schools/physmat/data/res/mehanika/spravochnik/text/13.ht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http://www.vseoremonte.ru/material/poli/drev.ht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http://ru.wikipedia.org/wiki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042920" y="1832040"/>
            <a:ext cx="7437600" cy="28256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2355840" y="2421000"/>
            <a:ext cx="49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71424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вторы: Антипова Анжела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раснов Антон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зарова Анастасия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учающиеся 7 к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уководитель: Фомакина Галина Вениаминов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читель физики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БОУ ООШ с. Аксаково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етодическая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сследовать произведения детской литературы, содержащие физические явления, способствующие развитию культуры личности и полноценному качественному образованию в соответствии интересам учащих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идактическая 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Формирование компетентности самостоятельного поиска информации естественнонаучного содержания с использованием различных источников (художественных произведений, учебных текстов, справочных и научно-популярных изданий, компьютерных баз данных, ресурсов Интернета), обработки и представления в разных форм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07136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иск в детской литературе описание физических явлений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физических явлений, описанных в художественной литератур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ализ влияния физических процессов на литературные сюжеты и судьбы герое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группировать выбранные примеры в соответствии с темами физики (плотность вещества, скорость, сила Архимеда, воздухоплавание, электричество и электромагнитные волны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формулировать условия задач по выбранным примерам и их реш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31200" cy="151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159984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«Физики» и «лири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крытие тайн и законов природы человеком всегда волновало не только ученых, но и литераторов. Поразительно, насколько точно поэты предвосхищают порой важнейшие проблемы научного исследования. В связи с этим нельзя не вспомнить удивительное стихотворение А.С. Пушкина, где каждая строчка – глубокая мысль, под которой с удовольствием подпишется любой современный физи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 сколько нам открытий чуд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отовит просвещенья ду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опыт, сын ошибок трудны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гений, парадоксов дру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случай, бог изобретат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378000" y="60480"/>
            <a:ext cx="8394480" cy="1463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твердил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емля, вертясь, круг Солнца ходит»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, что Солнце все с собой планеты вод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Коперник был, другой слыл Птолеме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отрывке стихотворения Ломоносов приводит веское доказательство гелиоцентрической системы мира, опираясь на принцип относительности механического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900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казке Шарля Перро «Золушка» героиня  одета в  наряд из золотой и серебряной парчи, богато расшитой драгоценными камнями. Платье действительно будет не таким уж и тяжёлым, даже учитывая драгоценные камни, если применить современные нанотехнологии в производстве ткан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ждой ноге у Золушки было больше 1 кг хрусталя - особо не побегаешь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: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7 г/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 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0 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620 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шли солдат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на базар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что купил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самова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сколько стои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три руб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он какой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золот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: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100 кг : 19300 кг/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≈ 0,0052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0,0052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: 3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≈ ≈0,001727 м 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≈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,7 м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 толщине стенок в 1,7 мм из золота самовар не сомнётся под действием собственной тяжести и будет не таким уж тяжёлым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4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49360" y="1042920"/>
            <a:ext cx="1317600" cy="162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1866960" y="2301840"/>
            <a:ext cx="1247760" cy="1381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4"/>
          <a:stretch/>
        </p:blipFill>
        <p:spPr>
          <a:xfrm>
            <a:off x="2592360" y="5238720"/>
            <a:ext cx="1600200" cy="1104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5"/>
          <a:stretch/>
        </p:blipFill>
        <p:spPr>
          <a:xfrm>
            <a:off x="985680" y="4149720"/>
            <a:ext cx="150516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279880" y="1042920"/>
            <a:ext cx="55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ушка в платье из золотой и серебряной пар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хрустальных туфель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406320" y="25653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вые солдаты несут золотой само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3917880" y="359424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123720" y="4437000"/>
            <a:ext cx="41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рик догоняет парусны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4440960" y="544500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отник на лыжах ловит л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86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1857240" y="3929040"/>
            <a:ext cx="1130400" cy="84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1805040" y="1928880"/>
            <a:ext cx="892080" cy="799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987640" y="801720"/>
            <a:ext cx="51134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ч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30 к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0,2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9,8 Н/кг ≈ 2019 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ч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бъём погружённой в жидкость части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637440" y="1432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986560" y="2154240"/>
            <a:ext cx="4772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шкин не ошибся, царица с ребё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гли благополучно добраться до берег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993040" y="3139920"/>
            <a:ext cx="30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опла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Изображение 332"/>
          <p:cNvPicPr/>
          <p:nvPr/>
        </p:nvPicPr>
        <p:blipFill>
          <a:blip r:embed="rId4"/>
          <a:srcRect l="9687" t="0" r="8068" b="11253"/>
          <a:stretch/>
        </p:blipFill>
        <p:spPr>
          <a:xfrm>
            <a:off x="6143760" y="3857760"/>
            <a:ext cx="1098360" cy="82368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146240" y="5000760"/>
            <a:ext cx="235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рик Хоттабы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4522680" y="4857840"/>
            <a:ext cx="46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ключения Незнайки и его друз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1:38:27Z</dcterms:created>
  <dc:creator>Домашний</dc:creator>
  <dc:description/>
  <dc:language>en-US</dc:language>
  <cp:lastModifiedBy>Домашний</cp:lastModifiedBy>
  <dcterms:modified xsi:type="dcterms:W3CDTF">2013-03-29T19:22:44Z</dcterms:modified>
  <cp:revision>28</cp:revision>
  <dc:subject/>
  <dc:title>Слайд 1</dc:title>
</cp:coreProperties>
</file>