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14.gif" ContentType="image/gif"/>
  <Override PartName="/ppt/media/image25.png" ContentType="image/png"/>
  <Override PartName="/ppt/media/image2.png" ContentType="image/png"/>
  <Override PartName="/ppt/media/image3.png" ContentType="image/png"/>
  <Override PartName="/ppt/media/image26.png" ContentType="image/png"/>
  <Override PartName="/ppt/media/image4.png" ContentType="image/png"/>
  <Override PartName="/ppt/media/image24.gif" ContentType="image/gif"/>
  <Override PartName="/ppt/media/image2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4520-CB56-4603-A6BF-FFCC2E0DB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E2DA-E73D-42F3-8ED6-2C8C0123F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F1F6-4299-4915-A5E1-173B59590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A6E5-01C7-46F0-8294-8B9B069B4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0DD22-866C-40AA-B8C9-FFD67B350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2094C-E693-4087-ACA1-B2E604008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8087C-D1FE-4236-B6DB-2432F927D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CAE82-3690-46C8-BB87-025985027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F2F1B-3BDD-4927-B05A-204E61F38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F5F05-5771-4EDB-9D9D-0847375E5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1151E-E10E-4D37-BB01-64470BF1D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4E28-5DF3-42D8-8D66-BEF39A0F6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8C547-9C64-47D0-B857-F20E83E2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B2F15-8EA6-4AB5-A0E3-01BE7BC13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E344F-D549-4929-8508-E9E752379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15943-D42F-43A3-8CA8-C8F1B9E5E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A8D89-A16A-464F-B64D-3467C16C1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6600-72CD-412C-A10F-D49C35B78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8ABF-FEBE-4814-BDCC-E54DBF610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EB16-8C7B-4A60-830B-D6D029F8F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A19E-4282-4FFF-8701-ECE4471B1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AAF7-4F71-4CA5-A13B-59364743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B1C1-10C8-49F7-901F-2AD66F8C2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6ED9-E886-49DB-9EFD-AE65A810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Хохрина Ольга Викторовна учитель ОБЖ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986A8-3D19-4950-A479-86AA857CAE1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Хохрина Ольга Викторовна учитель ОБЖ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EE20A-22A3-4B41-A974-C6B452275E6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Нижний колонтитул 3"/>
          <p:cNvSpPr/>
          <p:nvPr/>
        </p:nvSpPr>
        <p:spPr>
          <a:xfrm>
            <a:off x="3352680" y="6248520"/>
            <a:ext cx="338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хрина Ольга Викторовна учитель ОБЖ  МБОУ СОШ №32 г.Южно-Сахалин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4192560" y="2513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7280" y="333000"/>
            <a:ext cx="8226360" cy="423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Брак … есть правовая нравственная любовь.</a:t>
            </a:r>
            <a:br>
              <a:rPr sz="3800"/>
            </a:b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Никто не принуждается к заключению брака,</a:t>
            </a:r>
            <a:br>
              <a:rPr sz="3800"/>
            </a:b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но всякий должен быть принуждён подчиняться законам брака, раз он вступил в брак.</a:t>
            </a:r>
            <a:br>
              <a:rPr sz="3800"/>
            </a:br>
            <a:br>
              <a:rPr sz="3800"/>
            </a:br>
            <a:r>
              <a:rPr b="1" i="1" lang="ru-RU" sz="3400" spc="-1" strike="noStrike">
                <a:solidFill>
                  <a:srgbClr val="330033"/>
                </a:solidFill>
                <a:latin typeface="Times New Roman"/>
              </a:rPr>
              <a:t>К. Маркс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Нижний колонтитул 3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Хохрина Ольга Викторовна учитель ОБЖ  МБОУ СОШ №32 г.Южно-Сахалинс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Формула семьи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AutoShape 5"/>
          <p:cNvSpPr/>
          <p:nvPr/>
        </p:nvSpPr>
        <p:spPr>
          <a:xfrm>
            <a:off x="826920" y="1844640"/>
            <a:ext cx="3457800" cy="2664000"/>
          </a:xfrm>
          <a:custGeom>
            <a:avLst/>
            <a:gdLst>
              <a:gd name="textAreaLeft" fmla="*/ 806400 w 3457800"/>
              <a:gd name="textAreaRight" fmla="*/ 2650680 w 3457800"/>
              <a:gd name="textAreaTop" fmla="*/ 280800 h 2664000"/>
              <a:gd name="textAreaBottom" fmla="*/ 1686960 h 26640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6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7"/>
          <p:cNvSpPr/>
          <p:nvPr/>
        </p:nvSpPr>
        <p:spPr>
          <a:xfrm>
            <a:off x="4932360" y="1844640"/>
            <a:ext cx="3527280" cy="2879640"/>
          </a:xfrm>
          <a:prstGeom prst="pie">
            <a:avLst/>
          </a:prstGeom>
          <a:gradFill rotWithShape="0">
            <a:gsLst>
              <a:gs pos="0">
                <a:srgbClr val="ff0000"/>
              </a:gs>
              <a:gs pos="100000">
                <a:srgbClr val="76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бязатель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1836360" y="2536920"/>
            <a:ext cx="179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Люб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3997800" y="4508640"/>
            <a:ext cx="120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БЕ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5"/>
          <p:cNvSpPr/>
          <p:nvPr/>
        </p:nvSpPr>
        <p:spPr>
          <a:xfrm>
            <a:off x="1403280" y="4941720"/>
            <a:ext cx="2376720" cy="1295640"/>
          </a:xfrm>
          <a:prstGeom prst="upArrowCallout">
            <a:avLst>
              <a:gd name="adj1" fmla="val 45864"/>
              <a:gd name="adj2" fmla="val 45860"/>
              <a:gd name="adj3" fmla="val 16667"/>
              <a:gd name="adj4" fmla="val 66660"/>
            </a:avLst>
          </a:prstGeom>
          <a:gradFill rotWithShape="0">
            <a:gsLst>
              <a:gs pos="0">
                <a:srgbClr val="686a3c"/>
              </a:gs>
              <a:gs pos="50000">
                <a:srgbClr val="e0e581"/>
              </a:gs>
              <a:gs pos="100000">
                <a:srgbClr val="686a3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дел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6"/>
          <p:cNvSpPr/>
          <p:nvPr/>
        </p:nvSpPr>
        <p:spPr>
          <a:xfrm>
            <a:off x="5435640" y="4941720"/>
            <a:ext cx="2663640" cy="1368720"/>
          </a:xfrm>
          <a:prstGeom prst="upArrowCallout">
            <a:avLst>
              <a:gd name="adj1" fmla="val 48657"/>
              <a:gd name="adj2" fmla="val 48652"/>
              <a:gd name="adj3" fmla="val 16667"/>
              <a:gd name="adj4" fmla="val 66660"/>
            </a:avLst>
          </a:prstGeom>
          <a:gradFill rotWithShape="0">
            <a:gsLst>
              <a:gs pos="0">
                <a:srgbClr val="686a3c"/>
              </a:gs>
              <a:gs pos="50000">
                <a:srgbClr val="e0e581"/>
              </a:gs>
              <a:gs pos="100000">
                <a:srgbClr val="686a3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юбов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пиз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1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Нижний колонтитул 2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Хохрина Ольга Викторовна учитель ОБЖ  МБОУ СОШ №32 г.Южно-Сахалинс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WordArt 4"/>
          <p:cNvSpPr txBox="1"/>
          <p:nvPr/>
        </p:nvSpPr>
        <p:spPr>
          <a:xfrm>
            <a:off x="755640" y="2565360"/>
            <a:ext cx="792000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1" name="Picture 5" descr=""/>
          <p:cNvPicPr/>
          <p:nvPr/>
        </p:nvPicPr>
        <p:blipFill>
          <a:blip r:embed="rId1"/>
          <a:stretch/>
        </p:blipFill>
        <p:spPr>
          <a:xfrm>
            <a:off x="826920" y="260280"/>
            <a:ext cx="2737080" cy="2049480"/>
          </a:xfrm>
          <a:prstGeom prst="rect">
            <a:avLst/>
          </a:prstGeom>
          <a:ln w="0">
            <a:noFill/>
          </a:ln>
        </p:spPr>
      </p:pic>
      <p:pic>
        <p:nvPicPr>
          <p:cNvPr id="152" name="Прямоугольник 5" descr=""/>
          <p:cNvPicPr/>
          <p:nvPr/>
        </p:nvPicPr>
        <p:blipFill>
          <a:blip r:embed="rId2"/>
          <a:stretch/>
        </p:blipFill>
        <p:spPr>
          <a:xfrm>
            <a:off x="-255600" y="2365200"/>
            <a:ext cx="9655200" cy="27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Нижний колонтитул 5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Хохрина Ольга Викторовна учитель ОБЖ  МБОУ СОШ №32 г.Южно-Сахалинс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1 ситуац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5" name="Picture 4" descr="j0236282"/>
          <p:cNvPicPr/>
          <p:nvPr/>
        </p:nvPicPr>
        <p:blipFill>
          <a:blip r:embed="rId1"/>
          <a:stretch/>
        </p:blipFill>
        <p:spPr>
          <a:xfrm>
            <a:off x="7236000" y="189000"/>
            <a:ext cx="1368360" cy="12668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j0078764"/>
          <p:cNvPicPr/>
          <p:nvPr/>
        </p:nvPicPr>
        <p:blipFill>
          <a:blip r:embed="rId2"/>
          <a:stretch/>
        </p:blipFill>
        <p:spPr>
          <a:xfrm>
            <a:off x="826920" y="1773360"/>
            <a:ext cx="5616720" cy="3732120"/>
          </a:xfrm>
          <a:prstGeom prst="rect">
            <a:avLst/>
          </a:prstGeom>
          <a:ln w="0">
            <a:noFill/>
          </a:ln>
        </p:spPr>
      </p:pic>
      <p:sp>
        <p:nvSpPr>
          <p:cNvPr id="157" name="WordArt 10"/>
          <p:cNvSpPr txBox="1"/>
          <p:nvPr/>
        </p:nvSpPr>
        <p:spPr>
          <a:xfrm>
            <a:off x="3851280" y="1916280"/>
            <a:ext cx="1496880" cy="33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1.21387E-006 L 0.34358 0.00023 E">
                                      <p:cBhvr>
                                        <p:cTn id="287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Нижний колонтитул 7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Хохрина Ольга Викторовна учитель ОБЖ  МБОУ СОШ №32 г.Южно-Сахалинск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2 ситуац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60" name="Picture 4" descr="j0222003"/>
          <p:cNvPicPr/>
          <p:nvPr/>
        </p:nvPicPr>
        <p:blipFill>
          <a:blip r:embed="rId1"/>
          <a:stretch/>
        </p:blipFill>
        <p:spPr>
          <a:xfrm>
            <a:off x="1476360" y="4076640"/>
            <a:ext cx="1809720" cy="14922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5" descr="j0292038"/>
          <p:cNvPicPr/>
          <p:nvPr/>
        </p:nvPicPr>
        <p:blipFill>
          <a:blip r:embed="rId2"/>
          <a:stretch/>
        </p:blipFill>
        <p:spPr>
          <a:xfrm>
            <a:off x="1547640" y="1844640"/>
            <a:ext cx="1386000" cy="18115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8" descr="j0292040"/>
          <p:cNvPicPr/>
          <p:nvPr/>
        </p:nvPicPr>
        <p:blipFill>
          <a:blip r:embed="rId3"/>
          <a:stretch/>
        </p:blipFill>
        <p:spPr>
          <a:xfrm>
            <a:off x="6443640" y="2997360"/>
            <a:ext cx="1817640" cy="1414440"/>
          </a:xfrm>
          <a:prstGeom prst="rect">
            <a:avLst/>
          </a:prstGeom>
          <a:ln w="0">
            <a:noFill/>
          </a:ln>
        </p:spPr>
      </p:pic>
      <p:sp>
        <p:nvSpPr>
          <p:cNvPr id="163" name="WordArt 21"/>
          <p:cNvSpPr txBox="1"/>
          <p:nvPr/>
        </p:nvSpPr>
        <p:spPr>
          <a:xfrm>
            <a:off x="3995640" y="2421000"/>
            <a:ext cx="136836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4" name="Picture 25" descr="j0236282"/>
          <p:cNvPicPr/>
          <p:nvPr/>
        </p:nvPicPr>
        <p:blipFill>
          <a:blip r:embed="rId4"/>
          <a:stretch/>
        </p:blipFill>
        <p:spPr>
          <a:xfrm>
            <a:off x="7451640" y="189000"/>
            <a:ext cx="1366920" cy="12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Нижний колонтитул 2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Хохрина Ольга Викторовна учитель ОБЖ  МБОУ СОШ №32 г.Южно-Сахалинс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1189800" y="1916280"/>
            <a:ext cx="734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 увеселительная прогулка, это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0"/>
          <p:cNvSpPr/>
          <p:nvPr/>
        </p:nvSpPr>
        <p:spPr>
          <a:xfrm>
            <a:off x="1258920" y="3716280"/>
            <a:ext cx="936720" cy="1584360"/>
          </a:xfrm>
          <a:custGeom>
            <a:avLst/>
            <a:gdLst>
              <a:gd name="textAreaLeft" fmla="*/ 125280 w 936720"/>
              <a:gd name="textAreaRight" fmla="*/ 811440 w 936720"/>
              <a:gd name="textAreaTop" fmla="*/ 277200 h 1584360"/>
              <a:gd name="textAreaBottom" fmla="*/ 114876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1"/>
          <p:cNvSpPr/>
          <p:nvPr/>
        </p:nvSpPr>
        <p:spPr>
          <a:xfrm>
            <a:off x="6156360" y="3645000"/>
            <a:ext cx="1152360" cy="1728720"/>
          </a:xfrm>
          <a:custGeom>
            <a:avLst/>
            <a:gdLst>
              <a:gd name="textAreaLeft" fmla="*/ 154080 w 1152360"/>
              <a:gd name="textAreaRight" fmla="*/ 998280 w 1152360"/>
              <a:gd name="textAreaTop" fmla="*/ 302400 h 1728720"/>
              <a:gd name="textAreaBottom" fmla="*/ 125352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Прямоугольник 8" descr=""/>
          <p:cNvPicPr/>
          <p:nvPr/>
        </p:nvPicPr>
        <p:blipFill>
          <a:blip r:embed="rId3"/>
          <a:stretch/>
        </p:blipFill>
        <p:spPr>
          <a:xfrm>
            <a:off x="1620720" y="201600"/>
            <a:ext cx="5823000" cy="1133640"/>
          </a:xfrm>
          <a:prstGeom prst="rect">
            <a:avLst/>
          </a:prstGeom>
          <a:ln w="0">
            <a:noFill/>
          </a:ln>
        </p:spPr>
      </p:pic>
      <p:pic>
        <p:nvPicPr>
          <p:cNvPr id="170" name="Прямоугольник 9" descr=""/>
          <p:cNvPicPr/>
          <p:nvPr/>
        </p:nvPicPr>
        <p:blipFill>
          <a:blip r:embed="rId4"/>
          <a:stretch/>
        </p:blipFill>
        <p:spPr>
          <a:xfrm>
            <a:off x="3005280" y="3157560"/>
            <a:ext cx="2517480" cy="1128600"/>
          </a:xfrm>
          <a:prstGeom prst="rect">
            <a:avLst/>
          </a:prstGeom>
          <a:ln w="0">
            <a:noFill/>
          </a:ln>
        </p:spPr>
      </p:pic>
      <p:pic>
        <p:nvPicPr>
          <p:cNvPr id="171" name="Прямоугольник 10" descr=""/>
          <p:cNvPicPr/>
          <p:nvPr/>
        </p:nvPicPr>
        <p:blipFill>
          <a:blip r:embed="rId5"/>
          <a:stretch/>
        </p:blipFill>
        <p:spPr>
          <a:xfrm>
            <a:off x="2292480" y="4376880"/>
            <a:ext cx="412092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Нижний колонтитул 2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Хохрина Ольга Викторовна учитель ОБЖ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звёзды"/>
          <p:cNvPicPr/>
          <p:nvPr/>
        </p:nvPicPr>
        <p:blipFill>
          <a:blip r:embed="rId1"/>
          <a:stretch/>
        </p:blipFill>
        <p:spPr>
          <a:xfrm>
            <a:off x="0" y="0"/>
            <a:ext cx="9144000" cy="6939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1544760" y="1484280"/>
            <a:ext cx="5517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e1"/>
                </a:solidFill>
                <a:latin typeface="Arial"/>
              </a:rPr>
              <a:t>Чтобы лучше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e1"/>
                </a:solidFill>
                <a:latin typeface="Arial"/>
              </a:rPr>
              <a:t>теплее жилос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e1"/>
                </a:solidFill>
                <a:latin typeface="Arial"/>
              </a:rPr>
              <a:t>на Земле, нужно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e1"/>
                </a:solidFill>
                <a:latin typeface="Arial"/>
              </a:rPr>
              <a:t>прежде всего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e1"/>
                </a:solidFill>
                <a:latin typeface="Arial"/>
              </a:rPr>
              <a:t>научиться любит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емь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то общество в миниатюре, от целостности которого зависит безопасность всего большого человеческого общ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. Адлер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Нижний колонтитул 3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Хохрина Ольга Викторовна учитель ОБЖ  МБОУ СОШ №32 г.Южно-Сахалинск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1116000" y="3772080"/>
            <a:ext cx="23763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мейная любовь-  наиболее распространённое между людьми и наиболее прочное потому в семье влияния на жизнь людей, самое важное и самое благотворное изо всех добрых чувств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.Г.Чернышев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Нижний колонтитул 3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Хохрина Ольга Викторовна учитель ОБЖ  МБОУ СОШ №32 г.Южно-Сахалинск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1042920" y="4365720"/>
            <a:ext cx="1441440" cy="22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добрых супругов – две души, но единая во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. Серванте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Нижний колонтитул 3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Хохрина Ольга Викторовна учитель ОБЖ  МБОУ СОШ №32 г.Южно-Сахалинск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826920" y="4076640"/>
            <a:ext cx="21434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СПАСИБ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Нижний колонтитул 3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Хохрина Ольга Викторовна учитель ОБЖ  МБОУ СОШ №32 г.Южно-Сахалинс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4572000" y="3284640"/>
            <a:ext cx="3825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Нижний колонтитул 3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Хохрина Ольга Викторовна учитель ОБЖ  МБОУ СОШ №32 г.Южно-Сахалинск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5"/>
          <p:cNvSpPr txBox="1"/>
          <p:nvPr/>
        </p:nvSpPr>
        <p:spPr>
          <a:xfrm>
            <a:off x="826920" y="1844640"/>
            <a:ext cx="777744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емья в современном обществе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2" name="Picture 10" descr=""/>
          <p:cNvPicPr/>
          <p:nvPr/>
        </p:nvPicPr>
        <p:blipFill>
          <a:blip r:embed="rId1"/>
          <a:stretch/>
        </p:blipFill>
        <p:spPr>
          <a:xfrm>
            <a:off x="3059280" y="3789360"/>
            <a:ext cx="3240000" cy="23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Нижний колонтитул 2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Хохрина Ольга Викторовна учитель ОБЖ  МБОУ СОШ №32 г.Южно-Сахалинск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WordArt 5"/>
          <p:cNvSpPr txBox="1"/>
          <p:nvPr/>
        </p:nvSpPr>
        <p:spPr>
          <a:xfrm>
            <a:off x="539640" y="2349360"/>
            <a:ext cx="7775640" cy="177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Что такое семья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611640" y="692280"/>
            <a:ext cx="11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р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3059280" y="765000"/>
            <a:ext cx="185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д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5776200" y="466560"/>
            <a:ext cx="2928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ынов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дочер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9"/>
          <p:cNvSpPr/>
          <p:nvPr/>
        </p:nvSpPr>
        <p:spPr>
          <a:xfrm flipH="1" flipV="1">
            <a:off x="1476000" y="1341000"/>
            <a:ext cx="93492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0"/>
          <p:cNvSpPr/>
          <p:nvPr/>
        </p:nvSpPr>
        <p:spPr>
          <a:xfrm flipV="1">
            <a:off x="4067280" y="134100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1"/>
          <p:cNvSpPr/>
          <p:nvPr/>
        </p:nvSpPr>
        <p:spPr>
          <a:xfrm flipV="1">
            <a:off x="5724360" y="1557000"/>
            <a:ext cx="86364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3404160" y="4240080"/>
            <a:ext cx="308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Характеризуе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450720" y="5124600"/>
            <a:ext cx="199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щ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из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4"/>
          <p:cNvSpPr/>
          <p:nvPr/>
        </p:nvSpPr>
        <p:spPr>
          <a:xfrm>
            <a:off x="3495960" y="5157720"/>
            <a:ext cx="190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ди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тере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6230520" y="5229360"/>
            <a:ext cx="236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бо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руг о друг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6"/>
          <p:cNvSpPr/>
          <p:nvPr/>
        </p:nvSpPr>
        <p:spPr>
          <a:xfrm flipH="1">
            <a:off x="2124000" y="4653000"/>
            <a:ext cx="122400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7"/>
          <p:cNvSpPr/>
          <p:nvPr/>
        </p:nvSpPr>
        <p:spPr>
          <a:xfrm>
            <a:off x="4356000" y="4724280"/>
            <a:ext cx="71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5867280" y="4724280"/>
            <a:ext cx="86544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200"/>
                            </p:stCondLst>
                            <p:childTnLst>
                              <p:par>
                                <p:cTn id="7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500"/>
                            </p:stCondLst>
                            <p:childTnLst>
                              <p:par>
                                <p:cTn id="8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Нижний колонтитул 3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Хохрина Ольга Викторовна учитель ОБЖ  МБОУ СОШ №32 г.Южно-Сахалинск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WordArt 5"/>
          <p:cNvSpPr txBox="1"/>
          <p:nvPr/>
        </p:nvSpPr>
        <p:spPr>
          <a:xfrm>
            <a:off x="900000" y="1773360"/>
            <a:ext cx="777744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ля чего нужна семья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1"/>
          <a:stretch/>
        </p:blipFill>
        <p:spPr>
          <a:xfrm>
            <a:off x="826920" y="4221000"/>
            <a:ext cx="25052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4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4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Нижний колонтитул 4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Хохрина Ольга Викторовна учитель ОБЖ  МБОУ СОШ №32 г.Южно-Сахалинск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Функции семьи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69880" y="1847880"/>
            <a:ext cx="652968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Хозяйственная ячей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Рождение и воспитание дет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Наследств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Межпоколенная ( дети, родители и родители родителей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ижний колонтитул 2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Хохрина Ольга Викторовна учитель ОБЖ  МБОУ СОШ №32 г.Южно-Сахалинс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971640" y="155700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Хозяйственная функ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Малочисленность семь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Одно -, двухдетные семь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Вне зависимости от социальной, национальной, религиозной, региональной принадлеж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Свобода заключения и расторжения бра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Равноправие мужчин и женщин в бра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Преобладание гражданских и светских бра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Отстранение от церкв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Создание и поддержание психологического комфорта для каждого члена семь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WordArt 3"/>
          <p:cNvSpPr txBox="1"/>
          <p:nvPr/>
        </p:nvSpPr>
        <p:spPr>
          <a:xfrm>
            <a:off x="1116000" y="0"/>
            <a:ext cx="7489800" cy="14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собенности современной семь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4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9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4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9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4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9" dur="10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4" dur="10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9" dur="10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4" dur="1000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Нижний колонтитул 2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Хохрина Ольга Викторовна учитель ОБЖ  МБОУ СОШ №32 г.Южно-Сахалинс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WordArt 4"/>
          <p:cNvSpPr txBox="1"/>
          <p:nvPr/>
        </p:nvSpPr>
        <p:spPr>
          <a:xfrm>
            <a:off x="900000" y="2637000"/>
            <a:ext cx="7848720" cy="23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ужна ли человеку любовь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Нижний колонтитул 2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Хохрина Ольга Викторовна учитель ОБЖ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WordArt 5"/>
          <p:cNvSpPr txBox="1"/>
          <p:nvPr/>
        </p:nvSpPr>
        <p:spPr>
          <a:xfrm>
            <a:off x="1258920" y="2276640"/>
            <a:ext cx="6985080" cy="35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бязательно л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егистрировать брак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1" name="Picture 6" descr=""/>
          <p:cNvPicPr/>
          <p:nvPr/>
        </p:nvPicPr>
        <p:blipFill>
          <a:blip r:embed="rId1"/>
          <a:stretch/>
        </p:blipFill>
        <p:spPr>
          <a:xfrm>
            <a:off x="826920" y="1890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Нижний колонтитул 4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Хохрина Ольга Викторовна учитель ОБЖ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4457880" cy="29718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"/>
          <p:cNvPicPr/>
          <p:nvPr/>
        </p:nvPicPr>
        <p:blipFill>
          <a:blip r:embed="rId2"/>
          <a:stretch/>
        </p:blipFill>
        <p:spPr>
          <a:xfrm>
            <a:off x="1835280" y="1052640"/>
            <a:ext cx="4105080" cy="30747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"/>
          <p:cNvPicPr/>
          <p:nvPr/>
        </p:nvPicPr>
        <p:blipFill>
          <a:blip r:embed="rId3"/>
          <a:stretch/>
        </p:blipFill>
        <p:spPr>
          <a:xfrm>
            <a:off x="3708360" y="1628640"/>
            <a:ext cx="4751280" cy="32608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"/>
          <p:cNvPicPr/>
          <p:nvPr/>
        </p:nvPicPr>
        <p:blipFill>
          <a:blip r:embed="rId4"/>
          <a:stretch/>
        </p:blipFill>
        <p:spPr>
          <a:xfrm>
            <a:off x="2340000" y="3213000"/>
            <a:ext cx="4968720" cy="29815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"/>
          <p:cNvPicPr/>
          <p:nvPr/>
        </p:nvPicPr>
        <p:blipFill>
          <a:blip r:embed="rId5"/>
          <a:stretch/>
        </p:blipFill>
        <p:spPr>
          <a:xfrm>
            <a:off x="3262320" y="2557440"/>
            <a:ext cx="4189320" cy="27878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"/>
          <p:cNvPicPr/>
          <p:nvPr/>
        </p:nvPicPr>
        <p:blipFill>
          <a:blip r:embed="rId6"/>
          <a:stretch/>
        </p:blipFill>
        <p:spPr>
          <a:xfrm>
            <a:off x="3300480" y="2529000"/>
            <a:ext cx="4584600" cy="32446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"/>
          <p:cNvPicPr/>
          <p:nvPr/>
        </p:nvPicPr>
        <p:blipFill>
          <a:blip r:embed="rId7"/>
          <a:stretch/>
        </p:blipFill>
        <p:spPr>
          <a:xfrm>
            <a:off x="1116000" y="2552760"/>
            <a:ext cx="4761000" cy="31971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"/>
          <p:cNvPicPr/>
          <p:nvPr/>
        </p:nvPicPr>
        <p:blipFill>
          <a:blip r:embed="rId8"/>
          <a:stretch/>
        </p:blipFill>
        <p:spPr>
          <a:xfrm>
            <a:off x="2411280" y="981000"/>
            <a:ext cx="4834080" cy="36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6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7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3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5T06:31:06Z</dcterms:created>
  <dc:creator>Oem</dc:creator>
  <dc:description/>
  <dc:language>en-US</dc:language>
  <cp:lastModifiedBy>user</cp:lastModifiedBy>
  <dcterms:modified xsi:type="dcterms:W3CDTF">2011-12-24T07:24:11Z</dcterms:modified>
  <cp:revision>11</cp:revision>
  <dc:subject/>
  <dc:title>   Брак … есть правовая нравственная любовь. Никто не принуждается к заключению брака, но всякий должен быть принуждён подчиняться законам брака, раз он вступил в брак.  К. Маркс</dc:title>
</cp:coreProperties>
</file>