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4.gif" ContentType="image/gif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4.gif" ContentType="image/gi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A68-2182-493B-952A-167D392E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934-A4FE-468D-97B5-B278D013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778-1011-4EC6-BA03-AC4B0EE0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FA4-FFB5-4C65-876C-596A3E02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1819-938F-40AF-85DD-B2148158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F2EB-591D-4831-AADD-24173C94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24DC-B95B-4BCA-BAC1-33DF91CA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F042-9E1D-4061-8363-17076802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8A68-6004-4932-8247-3974AD76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034B-4FAE-4E3F-9A7E-3BC1908B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E5E3-1CEF-452C-A9E9-CFEFEB4F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BEF-CF83-4B8A-BD49-98BCF98B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FFA2-E546-424C-91D6-4BB0831B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0C92-8338-4224-A00D-9530E7F0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D0B0-B837-4E46-9100-63A60B93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DDB5-FAA0-4EDF-A2A0-151630BA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D3BD-0BAC-4D3D-9E35-9CBA0E3C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9D4-CEB6-4F3B-A662-41F43E5B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70C-0BD9-4340-8D5D-DDFFBA12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528-B682-46D8-B986-6F9CF2F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F5B-7A68-40B6-8815-1A6424AD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FF1-705C-4498-BC89-7FC1950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A70-EC87-40EA-936A-08CFEC6F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2F0-47BA-4840-8E3C-A97B42F7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D8C7-E631-4B39-8EAA-07EAC8F78D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999-41BF-472F-B83B-9C4A15251C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3"/>
          <p:cNvSpPr/>
          <p:nvPr/>
        </p:nvSpPr>
        <p:spPr>
          <a:xfrm>
            <a:off x="3352680" y="6248520"/>
            <a:ext cx="338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19256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280" y="333000"/>
            <a:ext cx="8226360" cy="42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Брак … есть правовая нравственная любовь.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Никто не принуждается к заключению брака,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но всякий должен быть принуждён подчиняться законам брака, раз он вступил в брак.</a:t>
            </a:r>
            <a:br>
              <a:rPr sz="3800"/>
            </a:br>
            <a:br>
              <a:rPr sz="3800"/>
            </a:b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К. Маркс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Формула семь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826920" y="1844640"/>
            <a:ext cx="3457800" cy="2664000"/>
          </a:xfrm>
          <a:custGeom>
            <a:avLst/>
            <a:gdLst>
              <a:gd name="textAreaLeft" fmla="*/ 806400 w 3457800"/>
              <a:gd name="textAreaRight" fmla="*/ 2650680 w 3457800"/>
              <a:gd name="textAreaTop" fmla="*/ 280800 h 2664000"/>
              <a:gd name="textAreaBottom" fmla="*/ 1686960 h 2664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4932360" y="1844640"/>
            <a:ext cx="3527280" cy="287964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язате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836360" y="253692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997800" y="450864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Б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1403280" y="4941720"/>
            <a:ext cx="2376720" cy="1295640"/>
          </a:xfrm>
          <a:prstGeom prst="upArrowCallout">
            <a:avLst>
              <a:gd name="adj1" fmla="val 45864"/>
              <a:gd name="adj2" fmla="val 45860"/>
              <a:gd name="adj3" fmla="val 16667"/>
              <a:gd name="adj4" fmla="val 66660"/>
            </a:avLst>
          </a:prstGeom>
          <a:gradFill rotWithShape="0">
            <a:gsLst>
              <a:gs pos="0">
                <a:srgbClr val="686a3c"/>
              </a:gs>
              <a:gs pos="50000">
                <a:srgbClr val="e0e581"/>
              </a:gs>
              <a:gs pos="100000">
                <a:srgbClr val="686a3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д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5435640" y="4941720"/>
            <a:ext cx="2663640" cy="1368720"/>
          </a:xfrm>
          <a:prstGeom prst="upArrowCallout">
            <a:avLst>
              <a:gd name="adj1" fmla="val 48657"/>
              <a:gd name="adj2" fmla="val 48652"/>
              <a:gd name="adj3" fmla="val 16667"/>
              <a:gd name="adj4" fmla="val 66660"/>
            </a:avLst>
          </a:prstGeom>
          <a:gradFill rotWithShape="0">
            <a:gsLst>
              <a:gs pos="0">
                <a:srgbClr val="686a3c"/>
              </a:gs>
              <a:gs pos="50000">
                <a:srgbClr val="e0e581"/>
              </a:gs>
              <a:gs pos="100000">
                <a:srgbClr val="686a3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ов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из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755640" y="2565360"/>
            <a:ext cx="7920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2737080" cy="204948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5" descr=""/>
          <p:cNvPicPr/>
          <p:nvPr/>
        </p:nvPicPr>
        <p:blipFill>
          <a:blip r:embed="rId2"/>
          <a:stretch/>
        </p:blipFill>
        <p:spPr>
          <a:xfrm>
            <a:off x="-255600" y="2365200"/>
            <a:ext cx="9655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 ситу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4" descr="j0236282"/>
          <p:cNvPicPr/>
          <p:nvPr/>
        </p:nvPicPr>
        <p:blipFill>
          <a:blip r:embed="rId1"/>
          <a:stretch/>
        </p:blipFill>
        <p:spPr>
          <a:xfrm>
            <a:off x="7236000" y="189000"/>
            <a:ext cx="1368360" cy="126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j0078764"/>
          <p:cNvPicPr/>
          <p:nvPr/>
        </p:nvPicPr>
        <p:blipFill>
          <a:blip r:embed="rId2"/>
          <a:stretch/>
        </p:blipFill>
        <p:spPr>
          <a:xfrm>
            <a:off x="826920" y="1773360"/>
            <a:ext cx="5616720" cy="3732120"/>
          </a:xfrm>
          <a:prstGeom prst="rect">
            <a:avLst/>
          </a:prstGeom>
          <a:ln w="0">
            <a:noFill/>
          </a:ln>
        </p:spPr>
      </p:pic>
      <p:sp>
        <p:nvSpPr>
          <p:cNvPr id="157" name="WordArt 10"/>
          <p:cNvSpPr txBox="1"/>
          <p:nvPr/>
        </p:nvSpPr>
        <p:spPr>
          <a:xfrm>
            <a:off x="3851280" y="1916280"/>
            <a:ext cx="149688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1387E-006 L 0.34358 0.00023 E">
                                      <p:cBhvr>
                                        <p:cTn id="28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7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 ситу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j0222003"/>
          <p:cNvPicPr/>
          <p:nvPr/>
        </p:nvPicPr>
        <p:blipFill>
          <a:blip r:embed="rId1"/>
          <a:stretch/>
        </p:blipFill>
        <p:spPr>
          <a:xfrm>
            <a:off x="1476360" y="4076640"/>
            <a:ext cx="1809720" cy="149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j0292038"/>
          <p:cNvPicPr/>
          <p:nvPr/>
        </p:nvPicPr>
        <p:blipFill>
          <a:blip r:embed="rId2"/>
          <a:stretch/>
        </p:blipFill>
        <p:spPr>
          <a:xfrm>
            <a:off x="1547640" y="1844640"/>
            <a:ext cx="1386000" cy="1811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j0292040"/>
          <p:cNvPicPr/>
          <p:nvPr/>
        </p:nvPicPr>
        <p:blipFill>
          <a:blip r:embed="rId3"/>
          <a:stretch/>
        </p:blipFill>
        <p:spPr>
          <a:xfrm>
            <a:off x="6443640" y="2997360"/>
            <a:ext cx="1817640" cy="1414440"/>
          </a:xfrm>
          <a:prstGeom prst="rect">
            <a:avLst/>
          </a:prstGeom>
          <a:ln w="0">
            <a:noFill/>
          </a:ln>
        </p:spPr>
      </p:pic>
      <p:sp>
        <p:nvSpPr>
          <p:cNvPr id="163" name="WordArt 21"/>
          <p:cNvSpPr txBox="1"/>
          <p:nvPr/>
        </p:nvSpPr>
        <p:spPr>
          <a:xfrm>
            <a:off x="3995640" y="2421000"/>
            <a:ext cx="136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Picture 25" descr="j0236282"/>
          <p:cNvPicPr/>
          <p:nvPr/>
        </p:nvPicPr>
        <p:blipFill>
          <a:blip r:embed="rId4"/>
          <a:stretch/>
        </p:blipFill>
        <p:spPr>
          <a:xfrm>
            <a:off x="7451640" y="189000"/>
            <a:ext cx="13669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189800" y="1916280"/>
            <a:ext cx="73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увеселительная прогулка,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258920" y="3716280"/>
            <a:ext cx="936720" cy="1584360"/>
          </a:xfrm>
          <a:custGeom>
            <a:avLst/>
            <a:gdLst>
              <a:gd name="textAreaLeft" fmla="*/ 125280 w 936720"/>
              <a:gd name="textAreaRight" fmla="*/ 811440 w 93672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6156360" y="3645000"/>
            <a:ext cx="1152360" cy="172872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8" descr=""/>
          <p:cNvPicPr/>
          <p:nvPr/>
        </p:nvPicPr>
        <p:blipFill>
          <a:blip r:embed="rId3"/>
          <a:stretch/>
        </p:blipFill>
        <p:spPr>
          <a:xfrm>
            <a:off x="1620720" y="201600"/>
            <a:ext cx="5823000" cy="11336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9" descr=""/>
          <p:cNvPicPr/>
          <p:nvPr/>
        </p:nvPicPr>
        <p:blipFill>
          <a:blip r:embed="rId4"/>
          <a:stretch/>
        </p:blipFill>
        <p:spPr>
          <a:xfrm>
            <a:off x="3005280" y="3157560"/>
            <a:ext cx="2517480" cy="11286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0" descr=""/>
          <p:cNvPicPr/>
          <p:nvPr/>
        </p:nvPicPr>
        <p:blipFill>
          <a:blip r:embed="rId5"/>
          <a:stretch/>
        </p:blipFill>
        <p:spPr>
          <a:xfrm>
            <a:off x="2292480" y="4376880"/>
            <a:ext cx="41209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звёз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544760" y="1484280"/>
            <a:ext cx="5517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Чтобы лучш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теплее жилос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на Земле, нужн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прежде всег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научиться люб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мь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бщество в миниатюре, от целостности которого зависит безопасность всего большого человече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Адлер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116000" y="377208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ая любовь-  наиболее распространённое между людьми и наиболее прочное потому в семье влияния на жизнь людей, самое важное и самое благотворное изо всех добрых чувств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Г.Черныш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14414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брых супругов – две души, но единая в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 Сервант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572000" y="3284640"/>
            <a:ext cx="3825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826920" y="1844640"/>
            <a:ext cx="7777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мья в современном обществ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059280" y="3789360"/>
            <a:ext cx="32400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539640" y="2349360"/>
            <a:ext cx="777564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семья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11640" y="69228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059280" y="76500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776200" y="466560"/>
            <a:ext cx="292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ыно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оче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H="1" flipV="1">
            <a:off x="1476000" y="1341000"/>
            <a:ext cx="93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4067280" y="13410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 flipV="1">
            <a:off x="5724360" y="1557000"/>
            <a:ext cx="863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404160" y="42400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арактериз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50720" y="5124600"/>
            <a:ext cx="19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495960" y="5157720"/>
            <a:ext cx="19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6230520" y="5229360"/>
            <a:ext cx="23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 о д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2124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4356000" y="472428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867280" y="4724280"/>
            <a:ext cx="8654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900000" y="1773360"/>
            <a:ext cx="7777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чего нужна семья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2505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ункции семь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69880" y="1847880"/>
            <a:ext cx="652968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озяйственная ячей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ождение и воспитание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сле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жпоколенная ( дети, родители и родители родителе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Хозяйственная фун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алочисленность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дно -, двухдетные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не зависимости от социальной, национальной, религиозной, региональной принадл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вобода заключения и расторжения бр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вноправие мужчин и женщин в бр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еобладание гражданских и светских бр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тстранение от церк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здание и поддержание психологического комфорта для каждого члена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1116000" y="0"/>
            <a:ext cx="7489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обенности современной семь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900000" y="2637000"/>
            <a:ext cx="784872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ужна ли человеку любовь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1258920" y="2276640"/>
            <a:ext cx="69850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язательно л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гистрировать брак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4105080" cy="3074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3708360" y="1628640"/>
            <a:ext cx="4751280" cy="326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4"/>
          <a:stretch/>
        </p:blipFill>
        <p:spPr>
          <a:xfrm>
            <a:off x="2340000" y="3213000"/>
            <a:ext cx="4968720" cy="2981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5"/>
          <a:stretch/>
        </p:blipFill>
        <p:spPr>
          <a:xfrm>
            <a:off x="3262320" y="2557440"/>
            <a:ext cx="4189320" cy="2787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6"/>
          <a:stretch/>
        </p:blipFill>
        <p:spPr>
          <a:xfrm>
            <a:off x="3300480" y="2529000"/>
            <a:ext cx="4584600" cy="3244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1116000" y="2552760"/>
            <a:ext cx="4761000" cy="3197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8"/>
          <a:stretch/>
        </p:blipFill>
        <p:spPr>
          <a:xfrm>
            <a:off x="2411280" y="981000"/>
            <a:ext cx="483408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6:31:06Z</dcterms:created>
  <dc:creator>Oem</dc:creator>
  <dc:description/>
  <dc:language>en-US</dc:language>
  <cp:lastModifiedBy>user</cp:lastModifiedBy>
  <dcterms:modified xsi:type="dcterms:W3CDTF">2011-12-24T07:24:11Z</dcterms:modified>
  <cp:revision>11</cp:revision>
  <dc:subject/>
  <dc:title>   Брак … есть правовая нравственная любовь. Никто не принуждается к заключению брака, но всякий должен быть принуждён подчиняться законам брака, раз он вступил в брак.  К. Маркс</dc:title>
</cp:coreProperties>
</file>