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977-83A4-4B71-9FFF-63CAB355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5A0-8048-4291-A022-4C420299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07BA-A77F-493B-86C0-5AD3E6D1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A48-C537-4947-96A1-02313529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41EB-DB32-4873-BC45-0D951AC6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1F19-056B-4F93-B67B-59978517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C51F-E351-4DD9-A190-2F2B752B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5004-2529-427E-8C8E-EA496C4E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CC29-35BA-4CE4-B33A-5BE7F4F7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2806-5F64-4CA8-AA31-DCA77FE8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299A-E725-4024-B586-57869AA1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8FE-31F6-490B-B2E1-2526F6DF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AC12-3E74-4EB2-A8DE-DA81D7B6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F2E6-6827-4A41-B9BE-B7D50290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3B65-05F6-4FB0-B91C-57906EEA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1A19-8BE7-47B1-BD3D-D7CFC523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33D5-64BB-475D-BC12-37D40244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A98-F3B6-4D38-9D70-8216189D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2E0-224E-4866-9509-A802D84B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2EE-5742-4FC6-91A5-A6A4DF76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1214-E736-445E-8699-478E6DAC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AFA5-A469-4E29-96A0-B96D2BBE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ADD-FE81-4E46-8C82-43601D8A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35E-565F-4BE2-8BD3-B447F64B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6D85-3BE0-420D-A07A-13FD3BAB5DC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22B3-C3AF-4809-9982-6AB8DB33FC9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72440" cy="131616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5" descr="694_large.jpg"/>
          <p:cNvPicPr/>
          <p:nvPr/>
        </p:nvPicPr>
        <p:blipFill>
          <a:blip r:embed="rId2"/>
          <a:stretch/>
        </p:blipFill>
        <p:spPr>
          <a:xfrm>
            <a:off x="1079640" y="2509920"/>
            <a:ext cx="2793960" cy="270504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6" descr="0_1d25_888e1497_XL.jpeg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3" descr="september-1024x768.jpg"/>
          <p:cNvPicPr/>
          <p:nvPr/>
        </p:nvPicPr>
        <p:blipFill>
          <a:blip r:embed="rId2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3" descr="0008-008-Zimnjaja-simmetrija.jpg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3" descr="Горы в отражении.jpg"/>
          <p:cNvPicPr/>
          <p:nvPr/>
        </p:nvPicPr>
        <p:blipFill>
          <a:blip r:embed="rId2"/>
          <a:stretch/>
        </p:blipFill>
        <p:spPr>
          <a:xfrm>
            <a:off x="285840" y="1600200"/>
            <a:ext cx="86439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42560" y="5857920"/>
            <a:ext cx="34290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ЬСКАЯ ЦЕРКОВЬ БАЛАХН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28760" y="592920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.САНКТ ПЕТЕРБУР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Содержимое 7" descr="03pokrchurch2.jpg"/>
          <p:cNvPicPr/>
          <p:nvPr/>
        </p:nvPicPr>
        <p:blipFill>
          <a:blip r:embed="rId2"/>
          <a:stretch/>
        </p:blipFill>
        <p:spPr>
          <a:xfrm>
            <a:off x="214200" y="1357200"/>
            <a:ext cx="3143520" cy="469116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8" descr="1475130.jpg"/>
          <p:cNvPicPr/>
          <p:nvPr/>
        </p:nvPicPr>
        <p:blipFill>
          <a:blip r:embed="rId3"/>
          <a:stretch/>
        </p:blipFill>
        <p:spPr>
          <a:xfrm>
            <a:off x="3995640" y="1373040"/>
            <a:ext cx="4810320" cy="42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2560" y="5643360"/>
            <a:ext cx="404028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И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14560" y="457200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И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Содержимое 8" descr="749726.jpg"/>
          <p:cNvPicPr/>
          <p:nvPr/>
        </p:nvPicPr>
        <p:blipFill>
          <a:blip r:embed="rId1"/>
          <a:stretch/>
        </p:blipFill>
        <p:spPr>
          <a:xfrm>
            <a:off x="214200" y="214200"/>
            <a:ext cx="3500640" cy="527868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11" descr="159-26-04-2007-VISTES-BASILICA.jpg"/>
          <p:cNvPicPr/>
          <p:nvPr/>
        </p:nvPicPr>
        <p:blipFill>
          <a:blip r:embed="rId2"/>
          <a:stretch/>
        </p:blipFill>
        <p:spPr>
          <a:xfrm>
            <a:off x="3922560" y="214200"/>
            <a:ext cx="50482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09:25:23Z</dcterms:created>
  <dc:creator>Миша</dc:creator>
  <dc:description/>
  <dc:language>en-US</dc:language>
  <cp:lastModifiedBy>Миша</cp:lastModifiedBy>
  <dcterms:modified xsi:type="dcterms:W3CDTF">2013-03-29T09:37:23Z</dcterms:modified>
  <cp:revision>2</cp:revision>
  <dc:subject/>
  <dc:title>Симметрия</dc:title>
</cp:coreProperties>
</file>