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8E6-331D-4027-BC4C-AB1B6EFC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2F9-5C4C-485C-BD70-5D76051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080-E3A4-4039-A172-E56EA62F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0BA-F5FB-437C-9F28-CD4BDED1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DBE-58B6-4E6E-9825-2006AADC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492B-6EFC-408A-8B7A-93F49047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43D6-C877-4EF9-BFA5-C2DC62FD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B93E-00C8-4934-BBCA-DCA90FED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3962-5A43-43B7-A9C2-6DCEDEC9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76BE-A71D-4AE3-8F8E-326D1404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E8A5-FDE2-41D7-BCA4-B3D4145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52D-4F4C-4F60-8A60-6988CF4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5E45-6A38-498A-B0E2-60E43DF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61D0-87AC-44B2-A3D5-31BB316D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CC7-DB38-4544-9018-CF103A0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1813-47FE-484B-B062-FD0CA854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3DEB-9028-4DA5-AAEF-B352F0C8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D46-78DE-4BC0-BB7F-5BE9CABD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195-0CDB-4B30-A0B2-FA7A2225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C88-F712-4139-9084-0231CF4F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22B-1BF9-4687-A3B8-7308B919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3A6-B13A-4E7A-8345-ACD06B6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E05-F2D4-4F93-BB95-98A4C7B3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862-7597-4258-B9FF-A9B8B13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FC71-B073-46CD-8102-F5A3285D4E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6E92-4E2B-4297-9495-B19BDE84788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72440" cy="131616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5" descr="694_large.jpg"/>
          <p:cNvPicPr/>
          <p:nvPr/>
        </p:nvPicPr>
        <p:blipFill>
          <a:blip r:embed="rId2"/>
          <a:stretch/>
        </p:blipFill>
        <p:spPr>
          <a:xfrm>
            <a:off x="1079640" y="2509920"/>
            <a:ext cx="2793960" cy="27050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6" descr="0_1d25_888e1497_XL.jpe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3" descr="september-1024x768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0008-008-Zimnjaja-simmetrija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3" descr="Горы в отражении.jpg"/>
          <p:cNvPicPr/>
          <p:nvPr/>
        </p:nvPicPr>
        <p:blipFill>
          <a:blip r:embed="rId2"/>
          <a:stretch/>
        </p:blipFill>
        <p:spPr>
          <a:xfrm>
            <a:off x="285840" y="1600200"/>
            <a:ext cx="86439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2560" y="5857920"/>
            <a:ext cx="3429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ЬСКАЯ ЦЕРКОВЬ БАЛАХН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28760" y="592920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САНКТ ПЕТЕРБУР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7" descr="03pokrchurch2.jpg"/>
          <p:cNvPicPr/>
          <p:nvPr/>
        </p:nvPicPr>
        <p:blipFill>
          <a:blip r:embed="rId2"/>
          <a:stretch/>
        </p:blipFill>
        <p:spPr>
          <a:xfrm>
            <a:off x="214200" y="1357200"/>
            <a:ext cx="3143520" cy="469116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8" descr="1475130.jpg"/>
          <p:cNvPicPr/>
          <p:nvPr/>
        </p:nvPicPr>
        <p:blipFill>
          <a:blip r:embed="rId3"/>
          <a:stretch/>
        </p:blipFill>
        <p:spPr>
          <a:xfrm>
            <a:off x="3995640" y="1373040"/>
            <a:ext cx="48103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5643360"/>
            <a:ext cx="404028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4560" y="457200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Содержимое 8" descr="749726.jpg"/>
          <p:cNvPicPr/>
          <p:nvPr/>
        </p:nvPicPr>
        <p:blipFill>
          <a:blip r:embed="rId1"/>
          <a:stretch/>
        </p:blipFill>
        <p:spPr>
          <a:xfrm>
            <a:off x="214200" y="214200"/>
            <a:ext cx="3500640" cy="527868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1" descr="159-26-04-2007-VISTES-BASILICA.jpg"/>
          <p:cNvPicPr/>
          <p:nvPr/>
        </p:nvPicPr>
        <p:blipFill>
          <a:blip r:embed="rId2"/>
          <a:stretch/>
        </p:blipFill>
        <p:spPr>
          <a:xfrm>
            <a:off x="3922560" y="214200"/>
            <a:ext cx="5048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9:25:23Z</dcterms:created>
  <dc:creator>Миша</dc:creator>
  <dc:description/>
  <dc:language>en-US</dc:language>
  <cp:lastModifiedBy>Миша</cp:lastModifiedBy>
  <dcterms:modified xsi:type="dcterms:W3CDTF">2013-03-29T09:37:23Z</dcterms:modified>
  <cp:revision>2</cp:revision>
  <dc:subject/>
  <dc:title>Симметрия</dc:title>
</cp:coreProperties>
</file>