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2D7-4FD8-4801-96CD-A7F534DB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2E8-2C05-4FA3-8EB5-54F87D5A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C10-BA8A-47DA-9B01-8A838C34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A3E-A9E4-4121-966A-37BC4924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E180-B3D7-4259-8C65-75293FB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509-1F20-4863-B362-686B25A6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DB0-5DEB-4956-AE85-4A84676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76CD-68FA-4772-93BC-249D9D0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434-D567-41C3-BB6B-DE890FA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6230-806F-4560-8615-1C604C6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6A43-690A-459C-A895-2FC3029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E889-E35A-422E-B265-2755D74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66FA-A842-4FD9-A96E-2558BBD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4E63-3B2D-4DFB-AE72-66A9F4E2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AF6-1D0A-4AB5-9326-1052A3B5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36D5-0301-4632-9882-3BD10F8D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2DB6-94EE-4449-BEF3-32959CBB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863-63C6-483A-80DD-DBBC6C4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3EBC-993D-4383-86F5-F56F59D8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FC7-28EA-470C-9F62-4B03372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90B-7B4A-4D3F-A274-E6361DD5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B42-5B8F-4A7F-ABA1-42B968C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83C-CB4A-4AF9-BBB0-C2A26FE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19E-083D-4689-A9B0-9BA0EC4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67A5-1B10-428A-BF39-7E15E05799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bd71"/>
                </a:gs>
                <a:gs pos="100000">
                  <a:srgbClr val="e1c9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e1c98b"/>
                </a:gs>
                <a:gs pos="100000">
                  <a:srgbClr val="dbbd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029-CC45-4966-930C-B7DFE70042D8}" type="slidenum">
              <a:rPr b="0" lang="ru-RU" sz="12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50a"/>
                </a:solidFill>
                <a:latin typeface="Arial"/>
              </a:rPr>
              <a:t>Действия с дробями </a:t>
            </a:r>
            <a:endParaRPr b="0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Tahoma"/>
              </a:rPr>
              <a:t>Сложение и вычитание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Сложить или вычесть дроби с одинаковыми   знаменателями каждый сможет. Ну уж совсем забывчивым напомним: при сложении или вычитании знаменатель не меняется. Числители складываются или вычитаются и дают числитель результата.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928800" y="4643280"/>
                <a:ext cx="7643880" cy="15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например: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642960" y="1857240"/>
                <a:ext cx="7500960" cy="41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Как видите, ничего сложного: просто складываем или вычитаем числители — и все.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Но даже в таких простых действиях люди умудряются допускать ошибки. Чаще всего забывают, что знаменатель не меняется. Например, при сложении их тоже начинают складывать, а это в корне неправильно.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Избавиться от вредной привычки складывать знаменатели достаточно просто. Попробуйте сделать то же самое при вычитании. В результате в знаменателе получится ноль, и дробь (внезапно!) потеряет смысл.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ahoma"/>
              </a:rPr>
              <a:t>Поэтому запомните раз и навсегда: при сложении и вычитании знаменатель не меняется!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Найдите значение выражения: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833400" y="1428840"/>
                <a:ext cx="238140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3357720" y="1571760"/>
                <a:ext cx="185724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7"/>
              <p:cNvSpPr txBox="1"/>
              <p:nvPr/>
            </p:nvSpPr>
            <p:spPr>
              <a:xfrm>
                <a:off x="857160" y="3643200"/>
                <a:ext cx="300060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4214880" y="3714840"/>
                <a:ext cx="135720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5:03:05Z</dcterms:created>
  <dc:creator>User</dc:creator>
  <dc:description/>
  <dc:language>en-US</dc:language>
  <cp:lastModifiedBy>Кротова </cp:lastModifiedBy>
  <dcterms:modified xsi:type="dcterms:W3CDTF">2013-02-21T07:10:36Z</dcterms:modified>
  <cp:revision>17</cp:revision>
  <dc:subject/>
  <dc:title>Действия с дробями </dc:title>
</cp:coreProperties>
</file>