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25E-CFA5-400A-BF09-C2D877E5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F81-AADE-4C31-AFDF-6014861E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B8E-C470-4F3D-9499-8EB1B966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5F8-640C-401A-8FA0-0661CEEC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B56-0939-49D5-A566-49782162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A499-27F9-4027-A100-E8CA95C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A53-DB94-418C-A33F-2243DD87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2655-2BFE-45E8-996B-445F52C8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C1E-F075-4B59-9038-A5DFE79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1CC-1DD0-4AF9-9124-5EFF6A5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9C6E-CAFC-46D0-9DC3-85EC127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D85-39A2-4FD3-800A-D3B299B9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4BD7-DB5E-40C1-88AF-D2EA508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1970-C9F9-4A2D-B507-C7120E2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E18-E4E8-4EC8-A09B-5095B6D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A9BF-940A-43E1-B2CA-FC91568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535-E92A-42B7-9282-C08F2C7E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E63-B6C0-4F9A-98E7-A5A85DA2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D59-211A-42B1-BCA0-D921F177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E6B-B3AD-420F-AA29-E90B993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571-E953-48C1-AB40-9264D2CF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C7B-18B0-47C8-AD72-1B78131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224-9D9F-41A8-95FF-2F3078F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941-4928-43BB-953F-BF1FA78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22B6-B63A-47DE-8BAC-68193E48FF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7746-675C-4DBD-8F5D-6B9C399A70F4}" type="slidenum">
              <a:rPr b="0" lang="ru-RU" sz="12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50a"/>
                </a:solidFill>
                <a:latin typeface="Arial"/>
              </a:rPr>
              <a:t>Действия с дробями </a:t>
            </a:r>
            <a:endParaRPr b="0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Сложение и вычитание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Сложить или вычесть дроби с одинаковыми   знаменателями каждый сможет. Ну уж совсем забывчивым напомним: при сложении или вычитании знаменатель не меняется. Числители складываются или вычитаются и дают числитель результата.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928800" y="4643280"/>
                <a:ext cx="76438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например: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642960" y="1857240"/>
                <a:ext cx="7500960" cy="41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Как видите, ничего сложного: просто складываем или вычитаем числители — и все.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Но даже в таких простых действиях люди умудряются допускать ошибки. Чаще всего забывают, что знаменатель не меняется. Например, при сложении их тоже начинают складывать, а это в корне неправильно.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Избавиться от вредной привычки складывать знаменатели достаточно просто. Попробуйте сделать то же самое при вычитании. В результате в знаменателе получится ноль, и дробь (внезапно!) потеряет смысл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Поэтому запомните раз и навсегда: при сложении и вычитании знаменатель не меняется!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Найдите значение выражения: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833400" y="1428840"/>
                <a:ext cx="238140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3357720" y="1571760"/>
                <a:ext cx="185724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857160" y="3643200"/>
                <a:ext cx="300060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4214880" y="3714840"/>
                <a:ext cx="135720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5:03:05Z</dcterms:created>
  <dc:creator>User</dc:creator>
  <dc:description/>
  <dc:language>en-US</dc:language>
  <cp:lastModifiedBy>Кротова </cp:lastModifiedBy>
  <dcterms:modified xsi:type="dcterms:W3CDTF">2013-02-21T07:10:36Z</dcterms:modified>
  <cp:revision>17</cp:revision>
  <dc:subject/>
  <dc:title>Действия с дробями </dc:title>
</cp:coreProperties>
</file>