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6A3-6674-495C-93B5-0EDF8D28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96C-2FE7-432B-B22E-F70EC6D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62B-37C6-455D-BE5B-6C1329EB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FCB-249E-455E-89E3-DF2AD944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81F-9845-4459-84C1-64B6D3E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47E-6213-4CB3-A45F-C3F5D2B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7B9-EF3A-482E-BD79-0ABB0E32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DEA-E39F-4908-ACC6-84FBA3B9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F9A-D5D8-45FC-8826-5CFF3D3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763-B07C-4317-B369-58B8ABD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BB1-9448-4FF1-8054-5EB74899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3F6-BF21-4C2C-9CF4-E7ACDD0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68F9-13FB-4613-94B4-378302C6E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owls.gif"/>
          <p:cNvPicPr/>
          <p:nvPr/>
        </p:nvPicPr>
        <p:blipFill>
          <a:blip r:embed="rId2"/>
          <a:stretch/>
        </p:blipFill>
        <p:spPr>
          <a:xfrm>
            <a:off x="0" y="0"/>
            <a:ext cx="393372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500720" y="785880"/>
            <a:ext cx="421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друзья, совсем не зла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 чужой идет – зала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ка? Забия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Обычная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f_6196458.jpg"/>
          <p:cNvPicPr/>
          <p:nvPr/>
        </p:nvPicPr>
        <p:blipFill>
          <a:blip r:embed="rId3"/>
          <a:stretch/>
        </p:blipFill>
        <p:spPr>
          <a:xfrm>
            <a:off x="4357800" y="3643200"/>
            <a:ext cx="44640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94175_original.jpg"/>
          <p:cNvPicPr/>
          <p:nvPr/>
        </p:nvPicPr>
        <p:blipFill>
          <a:blip r:embed="rId2"/>
          <a:stretch/>
        </p:blipFill>
        <p:spPr>
          <a:xfrm>
            <a:off x="428760" y="3065400"/>
            <a:ext cx="4678200" cy="3435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61848.jpg"/>
          <p:cNvPicPr/>
          <p:nvPr/>
        </p:nvPicPr>
        <p:blipFill>
          <a:blip r:embed="rId3"/>
          <a:stretch/>
        </p:blipFill>
        <p:spPr>
          <a:xfrm>
            <a:off x="3643200" y="0"/>
            <a:ext cx="55008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04cd8531161b.jpg"/>
          <p:cNvPicPr/>
          <p:nvPr/>
        </p:nvPicPr>
        <p:blipFill>
          <a:blip r:embed="rId2"/>
          <a:stretch/>
        </p:blipFill>
        <p:spPr>
          <a:xfrm>
            <a:off x="4581360" y="2990880"/>
            <a:ext cx="4562640" cy="3867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image394180502.jpg"/>
          <p:cNvPicPr/>
          <p:nvPr/>
        </p:nvPicPr>
        <p:blipFill>
          <a:blip r:embed="rId3"/>
          <a:stretch/>
        </p:blipFill>
        <p:spPr>
          <a:xfrm>
            <a:off x="0" y="0"/>
            <a:ext cx="5500800" cy="2979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14200" y="3000240"/>
            <a:ext cx="414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ерный дру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500040" y="357120"/>
            <a:ext cx="7929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слова Друг по Ожегов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 - сторонник, защитник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  - человек, который связан с кем-нибудь дружб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слова Друг по словарю синоним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 - товари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я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ыми признаками дружбы являются доверие и терп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71680" y="57168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Что нового вы сегодня узнали о собак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Что сегодня было трудным? Что больше всего понравилос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тересно ли вам узнать какие рассказы были у ребят в других групп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1267432663_6.png"/>
          <p:cNvPicPr/>
          <p:nvPr/>
        </p:nvPicPr>
        <p:blipFill>
          <a:blip r:embed="rId2"/>
          <a:stretch/>
        </p:blipFill>
        <p:spPr>
          <a:xfrm>
            <a:off x="1143000" y="3071880"/>
            <a:ext cx="70992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5:03:08Z</dcterms:created>
  <dc:creator>1</dc:creator>
  <dc:description/>
  <dc:language>en-US</dc:language>
  <cp:lastModifiedBy>1</cp:lastModifiedBy>
  <dcterms:modified xsi:type="dcterms:W3CDTF">2013-03-18T17:25:43Z</dcterms:modified>
  <cp:revision>15</cp:revision>
  <dc:subject/>
  <dc:title>Слайд 1</dc:title>
</cp:coreProperties>
</file>