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EE3-3BD8-422C-91B8-EA4762DB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448-BA79-4039-9C72-05F137B1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B36-D45A-4980-B4AB-224E092A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5C42-8FB8-4BA2-AFF1-43BC1FD0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D3DD-0482-4A74-9041-8DCB8015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A42-D337-49E3-A1BA-5245F3BA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40D0-836D-4E29-9449-B188421C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DA1-BF4B-4577-BB3B-5DD110A8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5695-85F5-46E5-B76F-9DFF1640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E4D-D823-4987-98F4-C53508ED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979B-355C-4511-9D31-495E3DA9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85C-0664-4CB1-B6F8-1B67E078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560F-E779-4A75-8A14-0773842C01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owls.gif"/>
          <p:cNvPicPr/>
          <p:nvPr/>
        </p:nvPicPr>
        <p:blipFill>
          <a:blip r:embed="rId2"/>
          <a:stretch/>
        </p:blipFill>
        <p:spPr>
          <a:xfrm>
            <a:off x="0" y="0"/>
            <a:ext cx="3933720" cy="50007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4500720" y="785880"/>
            <a:ext cx="4214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 друзья, совсем не зла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м чужой идет – зала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вака? Забия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 Обычная 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5" descr="f_6196458.jpg"/>
          <p:cNvPicPr/>
          <p:nvPr/>
        </p:nvPicPr>
        <p:blipFill>
          <a:blip r:embed="rId3"/>
          <a:stretch/>
        </p:blipFill>
        <p:spPr>
          <a:xfrm>
            <a:off x="4357800" y="3643200"/>
            <a:ext cx="446400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94175_original.jpg"/>
          <p:cNvPicPr/>
          <p:nvPr/>
        </p:nvPicPr>
        <p:blipFill>
          <a:blip r:embed="rId2"/>
          <a:stretch/>
        </p:blipFill>
        <p:spPr>
          <a:xfrm>
            <a:off x="428760" y="3065400"/>
            <a:ext cx="4678200" cy="34354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61848.jpg"/>
          <p:cNvPicPr/>
          <p:nvPr/>
        </p:nvPicPr>
        <p:blipFill>
          <a:blip r:embed="rId3"/>
          <a:stretch/>
        </p:blipFill>
        <p:spPr>
          <a:xfrm>
            <a:off x="3643200" y="0"/>
            <a:ext cx="55008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04cd8531161b.jpg"/>
          <p:cNvPicPr/>
          <p:nvPr/>
        </p:nvPicPr>
        <p:blipFill>
          <a:blip r:embed="rId2"/>
          <a:stretch/>
        </p:blipFill>
        <p:spPr>
          <a:xfrm>
            <a:off x="4581360" y="2990880"/>
            <a:ext cx="4562640" cy="38671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image394180502.jpg"/>
          <p:cNvPicPr/>
          <p:nvPr/>
        </p:nvPicPr>
        <p:blipFill>
          <a:blip r:embed="rId3"/>
          <a:stretch/>
        </p:blipFill>
        <p:spPr>
          <a:xfrm>
            <a:off x="0" y="0"/>
            <a:ext cx="5500800" cy="29797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214200" y="3000240"/>
            <a:ext cx="41436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верный друг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cc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500040" y="357120"/>
            <a:ext cx="7929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ение слова Друг по Ожегов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 - сторонник, защитник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  - человек, который связан с кем-нибудь дружб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ение слова Друг по словарю синоним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 - товари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ят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язательными признаками дружбы являются доверие и терп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571680" y="571680"/>
            <a:ext cx="82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Что нового вы сегодня узнали о собака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Что сегодня было трудным? Что больше всего понравилос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нтересно ли вам узнать какие рассказы были у ребят в других группа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2" descr="1267432663_6.png"/>
          <p:cNvPicPr/>
          <p:nvPr/>
        </p:nvPicPr>
        <p:blipFill>
          <a:blip r:embed="rId2"/>
          <a:stretch/>
        </p:blipFill>
        <p:spPr>
          <a:xfrm>
            <a:off x="1143000" y="3071880"/>
            <a:ext cx="70992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5:03:08Z</dcterms:created>
  <dc:creator>1</dc:creator>
  <dc:description/>
  <dc:language>en-US</dc:language>
  <cp:lastModifiedBy>1</cp:lastModifiedBy>
  <dcterms:modified xsi:type="dcterms:W3CDTF">2013-03-18T17:25:43Z</dcterms:modified>
  <cp:revision>15</cp:revision>
  <dc:subject/>
  <dc:title>Слайд 1</dc:title>
</cp:coreProperties>
</file>