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11.png" ContentType="image/png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3048-74A3-4573-AA30-FF16AF92A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378-CC68-4B74-8DA5-7ED0249B5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94B-8D20-4D18-9AC7-9E2DE4A28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6769-27D5-4176-A4AF-20EA82A50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68F8-8E62-428B-80B8-AD65346B9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F227-33EA-40C8-A2D5-19A22C858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6FA-F46E-4664-ACAD-4C93E66C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7B2-08A5-4F52-9699-C93A218E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793-BC83-4B5B-BC57-E8B80232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809-DBA1-4258-8F4D-E8382446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018-E5CD-4FFE-ACF7-EB33BEF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1D6-1D47-4B53-9DE9-46E7C816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443-4082-44CF-A268-0475610E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B7A-8180-4BAB-A46D-8024A07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15D-D128-455A-B58A-968FCC7B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B12-745A-46E9-8DF8-74DE4F1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D25-7579-4D08-BF9F-A1F9FA7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305-EBA2-4D6C-A23E-FA10AA7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A69C-CCE6-49A3-96A4-1BE40316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50920" cy="221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347640" y="5589720"/>
            <a:ext cx="5256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идоренко Н.А., зам. директора по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МОУ Мирная СОШ Зон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9079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35280" y="4437000"/>
            <a:ext cx="5257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ционной сред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04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Далеко заходит тот, кто не знает как далеко ему ид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50920" cy="221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411280" y="2060640"/>
            <a:ext cx="2979720" cy="2235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651640" y="1197000"/>
            <a:ext cx="2979720" cy="2235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2752560" cy="23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95360" y="1771560"/>
            <a:ext cx="72914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рмативных док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результат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 и потребностей учащихся и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76720" y="404640"/>
            <a:ext cx="259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25000" y="170640"/>
            <a:ext cx="7040520" cy="6513120"/>
            <a:chOff x="1125000" y="170640"/>
            <a:chExt cx="7040520" cy="6513120"/>
          </a:xfrm>
        </p:grpSpPr>
        <p:sp>
          <p:nvSpPr>
            <p:cNvPr id="91" name="_s34847"/>
            <p:cNvSpPr/>
            <p:nvPr/>
          </p:nvSpPr>
          <p:spPr>
            <a:xfrm flipH="1" flipV="1">
              <a:off x="2947680" y="2609280"/>
              <a:ext cx="849600" cy="411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4846"/>
            <p:cNvSpPr/>
            <p:nvPr/>
          </p:nvSpPr>
          <p:spPr>
            <a:xfrm>
              <a:off x="1125000" y="1392480"/>
              <a:ext cx="195552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ектр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4841"/>
            <p:cNvSpPr/>
            <p:nvPr/>
          </p:nvSpPr>
          <p:spPr>
            <a:xfrm flipH="1">
              <a:off x="2947320" y="3834000"/>
              <a:ext cx="852120" cy="40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4840"/>
            <p:cNvSpPr/>
            <p:nvPr/>
          </p:nvSpPr>
          <p:spPr>
            <a:xfrm>
              <a:off x="1127520" y="3836160"/>
              <a:ext cx="1956240" cy="1628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4835"/>
            <p:cNvSpPr/>
            <p:nvPr/>
          </p:nvSpPr>
          <p:spPr>
            <a:xfrm>
              <a:off x="4644000" y="4238280"/>
              <a:ext cx="2520" cy="817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4834"/>
            <p:cNvSpPr/>
            <p:nvPr/>
          </p:nvSpPr>
          <p:spPr>
            <a:xfrm>
              <a:off x="3670560" y="5055840"/>
              <a:ext cx="1955520" cy="1627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 учеб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оспитательн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оцес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4833"/>
            <p:cNvSpPr/>
            <p:nvPr/>
          </p:nvSpPr>
          <p:spPr>
            <a:xfrm>
              <a:off x="5490720" y="3828960"/>
              <a:ext cx="848880" cy="411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4832"/>
            <p:cNvSpPr/>
            <p:nvPr/>
          </p:nvSpPr>
          <p:spPr>
            <a:xfrm>
              <a:off x="6210000" y="3831120"/>
              <a:ext cx="1955520" cy="1628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 управлен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4831"/>
            <p:cNvSpPr/>
            <p:nvPr/>
          </p:nvSpPr>
          <p:spPr>
            <a:xfrm flipV="1">
              <a:off x="5487840" y="2609280"/>
              <a:ext cx="851400" cy="408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4827"/>
            <p:cNvSpPr/>
            <p:nvPr/>
          </p:nvSpPr>
          <p:spPr>
            <a:xfrm>
              <a:off x="6207480" y="1389600"/>
              <a:ext cx="1955520" cy="1628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30"/>
            <p:cNvSpPr/>
            <p:nvPr/>
          </p:nvSpPr>
          <p:spPr>
            <a:xfrm flipV="1">
              <a:off x="4644000" y="1796400"/>
              <a:ext cx="0" cy="817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4825"/>
            <p:cNvSpPr/>
            <p:nvPr/>
          </p:nvSpPr>
          <p:spPr>
            <a:xfrm>
              <a:off x="3667680" y="170640"/>
              <a:ext cx="1955520" cy="1627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ТБ школ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34823"/>
            <p:cNvSpPr/>
            <p:nvPr/>
          </p:nvSpPr>
          <p:spPr>
            <a:xfrm>
              <a:off x="3667680" y="2614320"/>
              <a:ext cx="195552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вития 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600200"/>
          <a:ext cx="8229600" cy="4749840"/>
        </p:xfrm>
        <a:graphic>
          <a:graphicData uri="http://schemas.openxmlformats.org/drawingml/2006/table">
            <a:tbl>
              <a:tblPr/>
              <a:tblGrid>
                <a:gridCol w="5486400"/>
                <a:gridCol w="1371600"/>
                <a:gridCol w="1371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щихся на 1 компьютер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преподавателей, использующих ИКТ при подготовке учебных занятий, 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учебных дисциплин мультимедийными учебными компакт-дисками, %.(применение на урока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едметов, которые преподаются с использованием ИКТ, 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еподавателей, прошедших переподготовку и повышение квалификации в области (ИКТ),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ш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В 2007 – 2008 учебном году школа стала победителем в национальном приоритетном проекте «Образование», получ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 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54200" y="189000"/>
            <a:ext cx="7278840" cy="6477840"/>
            <a:chOff x="754200" y="189000"/>
            <a:chExt cx="7278840" cy="6477840"/>
          </a:xfrm>
        </p:grpSpPr>
        <p:sp>
          <p:nvSpPr>
            <p:cNvPr id="108" name="_s25604"/>
            <p:cNvSpPr/>
            <p:nvPr/>
          </p:nvSpPr>
          <p:spPr>
            <a:xfrm flipV="1">
              <a:off x="4392720" y="1808640"/>
              <a:ext cx="0" cy="809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5605"/>
            <p:cNvSpPr/>
            <p:nvPr/>
          </p:nvSpPr>
          <p:spPr>
            <a:xfrm>
              <a:off x="3482640" y="189000"/>
              <a:ext cx="1820160" cy="162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роектов, написание рефера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5606"/>
            <p:cNvSpPr/>
            <p:nvPr/>
          </p:nvSpPr>
          <p:spPr>
            <a:xfrm flipV="1">
              <a:off x="5035320" y="228240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07"/>
            <p:cNvSpPr/>
            <p:nvPr/>
          </p:nvSpPr>
          <p:spPr>
            <a:xfrm>
              <a:off x="5412960" y="899640"/>
              <a:ext cx="1820160" cy="162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готовление презентаций учащими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5301720" y="3427920"/>
              <a:ext cx="910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5609"/>
            <p:cNvSpPr/>
            <p:nvPr/>
          </p:nvSpPr>
          <p:spPr>
            <a:xfrm>
              <a:off x="6212880" y="2617920"/>
              <a:ext cx="1820160" cy="1620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иск в Интерне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сторических справок, фак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0"/>
            <p:cNvSpPr/>
            <p:nvPr/>
          </p:nvSpPr>
          <p:spPr>
            <a:xfrm>
              <a:off x="5035320" y="399996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11"/>
            <p:cNvSpPr/>
            <p:nvPr/>
          </p:nvSpPr>
          <p:spPr>
            <a:xfrm>
              <a:off x="5412960" y="4335840"/>
              <a:ext cx="1820160" cy="1620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 тестов, использование гот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2"/>
            <p:cNvSpPr/>
            <p:nvPr/>
          </p:nvSpPr>
          <p:spPr>
            <a:xfrm>
              <a:off x="4392720" y="4236840"/>
              <a:ext cx="0" cy="810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5613"/>
            <p:cNvSpPr/>
            <p:nvPr/>
          </p:nvSpPr>
          <p:spPr>
            <a:xfrm>
              <a:off x="3482640" y="5046840"/>
              <a:ext cx="1820160" cy="162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спользование программ, электронных учебных пособ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14"/>
            <p:cNvSpPr/>
            <p:nvPr/>
          </p:nvSpPr>
          <p:spPr>
            <a:xfrm flipH="1">
              <a:off x="3105720" y="399996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5615"/>
            <p:cNvSpPr/>
            <p:nvPr/>
          </p:nvSpPr>
          <p:spPr>
            <a:xfrm>
              <a:off x="1553040" y="4335120"/>
              <a:ext cx="1820160" cy="161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рактические работ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тексты задач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омашнее зад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16"/>
            <p:cNvSpPr/>
            <p:nvPr/>
          </p:nvSpPr>
          <p:spPr>
            <a:xfrm flipH="1">
              <a:off x="2573280" y="3427920"/>
              <a:ext cx="910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17"/>
            <p:cNvSpPr/>
            <p:nvPr/>
          </p:nvSpPr>
          <p:spPr>
            <a:xfrm>
              <a:off x="754200" y="2617920"/>
              <a:ext cx="1820160" cy="162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здание дидактических материа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5618"/>
            <p:cNvSpPr/>
            <p:nvPr/>
          </p:nvSpPr>
          <p:spPr>
            <a:xfrm flipH="1" flipV="1">
              <a:off x="3105720" y="228240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5619"/>
            <p:cNvSpPr/>
            <p:nvPr/>
          </p:nvSpPr>
          <p:spPr>
            <a:xfrm>
              <a:off x="1553040" y="900720"/>
              <a:ext cx="1820160" cy="1619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сновные  формулы, таблиц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croso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er</a:t>
              </a:r>
              <a:r>
                <a:rPr b="0" lang="ru-RU" sz="18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20"/>
            <p:cNvSpPr/>
            <p:nvPr/>
          </p:nvSpPr>
          <p:spPr>
            <a:xfrm>
              <a:off x="3482640" y="2618640"/>
              <a:ext cx="1820160" cy="1620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на урок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0920" cy="221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50920" y="260280"/>
            <a:ext cx="6515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ие учащихся и учителе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онкурс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059280" cy="22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3024000" cy="2268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0880" y="432360"/>
            <a:ext cx="6553080" cy="6045120"/>
            <a:chOff x="1370880" y="432360"/>
            <a:chExt cx="6553080" cy="6045120"/>
          </a:xfrm>
        </p:grpSpPr>
        <p:sp>
          <p:nvSpPr>
            <p:cNvPr id="132" name="_s27653"/>
            <p:cNvSpPr/>
            <p:nvPr/>
          </p:nvSpPr>
          <p:spPr>
            <a:xfrm flipH="1" flipV="1">
              <a:off x="3024360" y="3183840"/>
              <a:ext cx="815760" cy="25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7654"/>
            <p:cNvSpPr/>
            <p:nvPr/>
          </p:nvSpPr>
          <p:spPr>
            <a:xfrm>
              <a:off x="1370880" y="212292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57240">
              <a:solidFill>
                <a:srgbClr val="008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Техн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омпл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7655"/>
            <p:cNvSpPr/>
            <p:nvPr/>
          </p:nvSpPr>
          <p:spPr>
            <a:xfrm flipH="1">
              <a:off x="3643920" y="4343040"/>
              <a:ext cx="502560" cy="663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7656"/>
            <p:cNvSpPr/>
            <p:nvPr/>
          </p:nvSpPr>
          <p:spPr>
            <a:xfrm>
              <a:off x="2297160" y="48506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57240">
              <a:solidFill>
                <a:srgbClr val="ff66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в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иде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 видеомонта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7657"/>
            <p:cNvSpPr/>
            <p:nvPr/>
          </p:nvSpPr>
          <p:spPr>
            <a:xfrm>
              <a:off x="5142600" y="4343040"/>
              <a:ext cx="502560" cy="663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7658"/>
            <p:cNvSpPr/>
            <p:nvPr/>
          </p:nvSpPr>
          <p:spPr>
            <a:xfrm>
              <a:off x="5297400" y="48506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>
                    <a:alpha val="49019"/>
                  </a:srgbClr>
                </a:gs>
              </a:gsLst>
              <a:lin ang="5400000"/>
            </a:gradFill>
            <a:ln w="57240">
              <a:solidFill>
                <a:srgbClr val="00ff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во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уди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7659"/>
            <p:cNvSpPr/>
            <p:nvPr/>
          </p:nvSpPr>
          <p:spPr>
            <a:xfrm flipV="1">
              <a:off x="5449320" y="3183840"/>
              <a:ext cx="815760" cy="25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7660"/>
            <p:cNvSpPr/>
            <p:nvPr/>
          </p:nvSpPr>
          <p:spPr>
            <a:xfrm>
              <a:off x="6223680" y="21200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57240">
              <a:solidFill>
                <a:srgbClr val="99cc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Изд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7661"/>
            <p:cNvSpPr/>
            <p:nvPr/>
          </p:nvSpPr>
          <p:spPr>
            <a:xfrm flipV="1">
              <a:off x="4644720" y="2057040"/>
              <a:ext cx="0" cy="820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7662"/>
            <p:cNvSpPr/>
            <p:nvPr/>
          </p:nvSpPr>
          <p:spPr>
            <a:xfrm>
              <a:off x="3795840" y="43236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ультмеди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ступ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7663"/>
            <p:cNvSpPr/>
            <p:nvPr/>
          </p:nvSpPr>
          <p:spPr>
            <a:xfrm>
              <a:off x="3795840" y="2877120"/>
              <a:ext cx="1700280" cy="1626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57240">
              <a:solidFill>
                <a:srgbClr val="9933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некласс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441800" y="189000"/>
            <a:ext cx="6620040" cy="6665760"/>
            <a:chOff x="1441800" y="189000"/>
            <a:chExt cx="6620040" cy="6665760"/>
          </a:xfrm>
        </p:grpSpPr>
        <p:sp>
          <p:nvSpPr>
            <p:cNvPr id="144" name="_s28676"/>
            <p:cNvSpPr/>
            <p:nvPr/>
          </p:nvSpPr>
          <p:spPr>
            <a:xfrm flipV="1">
              <a:off x="4752000" y="1855800"/>
              <a:ext cx="0" cy="833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8677"/>
            <p:cNvSpPr/>
            <p:nvPr/>
          </p:nvSpPr>
          <p:spPr>
            <a:xfrm>
              <a:off x="3831840" y="189000"/>
              <a:ext cx="1839600" cy="1667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Базы дан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8678"/>
            <p:cNvSpPr/>
            <p:nvPr/>
          </p:nvSpPr>
          <p:spPr>
            <a:xfrm flipV="1">
              <a:off x="5546880" y="2687040"/>
              <a:ext cx="797400" cy="41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8679"/>
            <p:cNvSpPr/>
            <p:nvPr/>
          </p:nvSpPr>
          <p:spPr>
            <a:xfrm>
              <a:off x="6219720" y="1436760"/>
              <a:ext cx="1838880" cy="1667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Отчетнос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8680"/>
            <p:cNvSpPr/>
            <p:nvPr/>
          </p:nvSpPr>
          <p:spPr>
            <a:xfrm>
              <a:off x="5549400" y="3935160"/>
              <a:ext cx="794880" cy="419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8681"/>
            <p:cNvSpPr/>
            <p:nvPr/>
          </p:nvSpPr>
          <p:spPr>
            <a:xfrm>
              <a:off x="6222240" y="3935160"/>
              <a:ext cx="1839600" cy="16668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резентаци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8682"/>
            <p:cNvSpPr/>
            <p:nvPr/>
          </p:nvSpPr>
          <p:spPr>
            <a:xfrm>
              <a:off x="4752000" y="4354560"/>
              <a:ext cx="2520" cy="833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8683"/>
            <p:cNvSpPr/>
            <p:nvPr/>
          </p:nvSpPr>
          <p:spPr>
            <a:xfrm>
              <a:off x="3835080" y="5187600"/>
              <a:ext cx="1838880" cy="1667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Аналитическ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график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иаграммы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8684"/>
            <p:cNvSpPr/>
            <p:nvPr/>
          </p:nvSpPr>
          <p:spPr>
            <a:xfrm flipH="1">
              <a:off x="3159000" y="3940200"/>
              <a:ext cx="797400" cy="414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8685"/>
            <p:cNvSpPr/>
            <p:nvPr/>
          </p:nvSpPr>
          <p:spPr>
            <a:xfrm>
              <a:off x="1445040" y="3940200"/>
              <a:ext cx="1838880" cy="1666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Электронн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оч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8686"/>
            <p:cNvSpPr/>
            <p:nvPr/>
          </p:nvSpPr>
          <p:spPr>
            <a:xfrm flipH="1" flipV="1">
              <a:off x="3159360" y="2686680"/>
              <a:ext cx="794880" cy="419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8687"/>
            <p:cNvSpPr/>
            <p:nvPr/>
          </p:nvSpPr>
          <p:spPr>
            <a:xfrm>
              <a:off x="1441800" y="1439280"/>
              <a:ext cx="1839600" cy="1667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Веде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школьно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окумен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8688"/>
            <p:cNvSpPr/>
            <p:nvPr/>
          </p:nvSpPr>
          <p:spPr>
            <a:xfrm>
              <a:off x="3831840" y="2689920"/>
              <a:ext cx="1839600" cy="1666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Школа дает современное образование…формирует информационную культуру учащихся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Проект  соответствует требованиям времен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Нравится новаторство в школе…учебные кабинеты оснащены компьютерной техник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Кабинет информатики не уступает кабинетам городских школ. Техническое обеспечение  соответствует  современным нормам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Заметно повысилась мотивация учащихся к самообразованию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В школе уважают личность ребенка, с ним занимаются не только на уроках, но и в системе дополнительного образования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Ученики школы относятся к ИКТ как к  необходимому сопровождению их пребывания в школ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00360" y="33336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лизация проект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зами родител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98080" y="170640"/>
            <a:ext cx="7035840" cy="6273360"/>
            <a:chOff x="1198080" y="170640"/>
            <a:chExt cx="7035840" cy="6273360"/>
          </a:xfrm>
        </p:grpSpPr>
        <p:sp>
          <p:nvSpPr>
            <p:cNvPr id="161" name="_s30724"/>
            <p:cNvSpPr/>
            <p:nvPr/>
          </p:nvSpPr>
          <p:spPr>
            <a:xfrm flipH="1" flipV="1">
              <a:off x="3313440" y="2412000"/>
              <a:ext cx="700560" cy="50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725"/>
            <p:cNvSpPr/>
            <p:nvPr/>
          </p:nvSpPr>
          <p:spPr>
            <a:xfrm>
              <a:off x="1716480" y="1091160"/>
              <a:ext cx="1793160" cy="16290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развивать алгоритмическое мыш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726"/>
            <p:cNvSpPr/>
            <p:nvPr/>
          </p:nvSpPr>
          <p:spPr>
            <a:xfrm flipH="1">
              <a:off x="2967120" y="3610440"/>
              <a:ext cx="873720" cy="18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727"/>
            <p:cNvSpPr/>
            <p:nvPr/>
          </p:nvSpPr>
          <p:spPr>
            <a:xfrm>
              <a:off x="1198080" y="3157920"/>
              <a:ext cx="1792800" cy="162864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развивать логичес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ое мыш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28"/>
            <p:cNvSpPr/>
            <p:nvPr/>
          </p:nvSpPr>
          <p:spPr>
            <a:xfrm flipH="1">
              <a:off x="3937680" y="4162680"/>
              <a:ext cx="3898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729"/>
            <p:cNvSpPr/>
            <p:nvPr/>
          </p:nvSpPr>
          <p:spPr>
            <a:xfrm>
              <a:off x="2653560" y="4815000"/>
              <a:ext cx="1793160" cy="16290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амо-утвердить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30"/>
            <p:cNvSpPr/>
            <p:nvPr/>
          </p:nvSpPr>
          <p:spPr>
            <a:xfrm>
              <a:off x="5105520" y="4161240"/>
              <a:ext cx="387360" cy="73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731"/>
            <p:cNvSpPr/>
            <p:nvPr/>
          </p:nvSpPr>
          <p:spPr>
            <a:xfrm>
              <a:off x="4986720" y="4813920"/>
              <a:ext cx="1793160" cy="1629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азвивать вообра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732"/>
            <p:cNvSpPr/>
            <p:nvPr/>
          </p:nvSpPr>
          <p:spPr>
            <a:xfrm>
              <a:off x="5589720" y="3607920"/>
              <a:ext cx="87372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733"/>
            <p:cNvSpPr/>
            <p:nvPr/>
          </p:nvSpPr>
          <p:spPr>
            <a:xfrm>
              <a:off x="6440760" y="3156480"/>
              <a:ext cx="1793160" cy="1629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мыслить и твор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734"/>
            <p:cNvSpPr/>
            <p:nvPr/>
          </p:nvSpPr>
          <p:spPr>
            <a:xfrm flipV="1">
              <a:off x="5415840" y="2412360"/>
              <a:ext cx="70164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735"/>
            <p:cNvSpPr/>
            <p:nvPr/>
          </p:nvSpPr>
          <p:spPr>
            <a:xfrm>
              <a:off x="5921280" y="1089720"/>
              <a:ext cx="1793160" cy="162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ознавать ми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736"/>
            <p:cNvSpPr/>
            <p:nvPr/>
          </p:nvSpPr>
          <p:spPr>
            <a:xfrm flipV="1">
              <a:off x="4715640" y="179964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737"/>
            <p:cNvSpPr/>
            <p:nvPr/>
          </p:nvSpPr>
          <p:spPr>
            <a:xfrm>
              <a:off x="3818880" y="170640"/>
              <a:ext cx="1792800" cy="1629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учить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738"/>
            <p:cNvSpPr/>
            <p:nvPr/>
          </p:nvSpPr>
          <p:spPr>
            <a:xfrm>
              <a:off x="3818880" y="2614320"/>
              <a:ext cx="1792800" cy="162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Times New Roman"/>
                </a:rPr>
                <a:t>Компьютер помогает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5920" y="27432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8000" y="2276640"/>
          <a:ext cx="5645160" cy="39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645160" cy="39780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1835280" y="476280"/>
            <a:ext cx="70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намика освоения 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дагогами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39120" y="513360"/>
            <a:ext cx="6522480" cy="5835960"/>
            <a:chOff x="1239120" y="513360"/>
            <a:chExt cx="6522480" cy="5835960"/>
          </a:xfrm>
        </p:grpSpPr>
        <p:sp>
          <p:nvSpPr>
            <p:cNvPr id="178" name="_s31749"/>
            <p:cNvSpPr/>
            <p:nvPr/>
          </p:nvSpPr>
          <p:spPr>
            <a:xfrm>
              <a:off x="3000240" y="513360"/>
              <a:ext cx="3002400" cy="3034440"/>
            </a:xfrm>
            <a:custGeom>
              <a:avLst/>
              <a:gdLst>
                <a:gd name="textAreaLeft" fmla="*/ 0 w 3002400"/>
                <a:gd name="textAreaRight" fmla="*/ 3002760 w 300240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1750"/>
            <p:cNvSpPr/>
            <p:nvPr/>
          </p:nvSpPr>
          <p:spPr>
            <a:xfrm rot="3600000">
              <a:off x="4183200" y="122760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1751"/>
            <p:cNvSpPr/>
            <p:nvPr/>
          </p:nvSpPr>
          <p:spPr>
            <a:xfrm rot="7200000">
              <a:off x="4185360" y="262728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31752"/>
            <p:cNvSpPr/>
            <p:nvPr/>
          </p:nvSpPr>
          <p:spPr>
            <a:xfrm rot="10800000">
              <a:off x="3003120" y="3314880"/>
              <a:ext cx="3002400" cy="3034440"/>
            </a:xfrm>
            <a:custGeom>
              <a:avLst/>
              <a:gdLst>
                <a:gd name="textAreaLeft" fmla="*/ 0 w 3002400"/>
                <a:gd name="textAreaRight" fmla="*/ 3002760 w 300240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1753"/>
            <p:cNvSpPr/>
            <p:nvPr/>
          </p:nvSpPr>
          <p:spPr>
            <a:xfrm rot="14400000">
              <a:off x="1785600" y="263232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31754"/>
            <p:cNvSpPr/>
            <p:nvPr/>
          </p:nvSpPr>
          <p:spPr>
            <a:xfrm rot="18000000">
              <a:off x="1780560" y="123264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5"/>
            <p:cNvSpPr/>
            <p:nvPr/>
          </p:nvSpPr>
          <p:spPr>
            <a:xfrm>
              <a:off x="5265000" y="55044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Оснащ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школ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31756"/>
            <p:cNvSpPr/>
            <p:nvPr/>
          </p:nvSpPr>
          <p:spPr>
            <a:xfrm>
              <a:off x="1298880" y="286308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Наращивание фонд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нетрадиционных материал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(диски с энциклопедиями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правочниками и т.д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1757"/>
            <p:cNvSpPr/>
            <p:nvPr/>
          </p:nvSpPr>
          <p:spPr>
            <a:xfrm>
              <a:off x="5265000" y="517752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Привлечение родител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 ведению круж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8"/>
            <p:cNvSpPr/>
            <p:nvPr/>
          </p:nvSpPr>
          <p:spPr>
            <a:xfrm>
              <a:off x="2620800" y="517752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31759"/>
            <p:cNvSpPr/>
            <p:nvPr/>
          </p:nvSpPr>
          <p:spPr>
            <a:xfrm>
              <a:off x="6587280" y="2863080"/>
              <a:ext cx="111708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Повыш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валифик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учител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60"/>
            <p:cNvSpPr/>
            <p:nvPr/>
          </p:nvSpPr>
          <p:spPr>
            <a:xfrm>
              <a:off x="2620800" y="54756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Накоп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творческих рабо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учителей и 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56000" y="256536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8360" y="5229360"/>
            <a:ext cx="13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а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2492280"/>
            <a:ext cx="2448000" cy="1630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1800360" cy="135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195640" y="5300640"/>
            <a:ext cx="1873080" cy="124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grpSp>
        <p:nvGrpSpPr>
          <p:cNvPr id="195" name=""/>
          <p:cNvGrpSpPr/>
          <p:nvPr/>
        </p:nvGrpSpPr>
        <p:grpSpPr>
          <a:xfrm>
            <a:off x="972000" y="584280"/>
            <a:ext cx="7761600" cy="5688360"/>
            <a:chOff x="972000" y="584280"/>
            <a:chExt cx="7761600" cy="5688360"/>
          </a:xfrm>
        </p:grpSpPr>
        <p:sp>
          <p:nvSpPr>
            <p:cNvPr id="196" name="_s32774"/>
            <p:cNvSpPr/>
            <p:nvPr/>
          </p:nvSpPr>
          <p:spPr>
            <a:xfrm>
              <a:off x="3048480" y="623520"/>
              <a:ext cx="3625560" cy="2918520"/>
            </a:xfrm>
            <a:custGeom>
              <a:avLst/>
              <a:gdLst>
                <a:gd name="textAreaLeft" fmla="*/ 0 w 3625560"/>
                <a:gd name="textAreaRight" fmla="*/ 3625920 w 3625560"/>
                <a:gd name="textAreaTop" fmla="*/ 0 h 2918520"/>
                <a:gd name="textAreaBottom" fmla="*/ 2918880 h 291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2775"/>
            <p:cNvSpPr/>
            <p:nvPr/>
          </p:nvSpPr>
          <p:spPr>
            <a:xfrm rot="3600000">
              <a:off x="4849920" y="941400"/>
              <a:ext cx="2918520" cy="36255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2776"/>
            <p:cNvSpPr/>
            <p:nvPr/>
          </p:nvSpPr>
          <p:spPr>
            <a:xfrm rot="7200000">
              <a:off x="4849560" y="2289600"/>
              <a:ext cx="2918520" cy="36255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2777"/>
            <p:cNvSpPr/>
            <p:nvPr/>
          </p:nvSpPr>
          <p:spPr>
            <a:xfrm rot="10800000">
              <a:off x="3048120" y="3314880"/>
              <a:ext cx="3625560" cy="2918520"/>
            </a:xfrm>
            <a:custGeom>
              <a:avLst/>
              <a:gdLst>
                <a:gd name="textAreaLeft" fmla="*/ 0 w 3625560"/>
                <a:gd name="textAreaRight" fmla="*/ 3625920 w 3625560"/>
                <a:gd name="textAreaTop" fmla="*/ 0 h 2918520"/>
                <a:gd name="textAreaBottom" fmla="*/ 2918880 h 291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2778"/>
            <p:cNvSpPr/>
            <p:nvPr/>
          </p:nvSpPr>
          <p:spPr>
            <a:xfrm rot="14400000">
              <a:off x="1953360" y="2289600"/>
              <a:ext cx="2918520" cy="362484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4840"/>
                <a:gd name="textAreaBottom" fmla="*/ 3625200 h 36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ff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2779"/>
            <p:cNvSpPr/>
            <p:nvPr/>
          </p:nvSpPr>
          <p:spPr>
            <a:xfrm rot="18000000">
              <a:off x="1953720" y="943920"/>
              <a:ext cx="2918520" cy="362484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4840"/>
                <a:gd name="textAreaBottom" fmla="*/ 3625200 h 36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32780"/>
            <p:cNvSpPr/>
            <p:nvPr/>
          </p:nvSpPr>
          <p:spPr>
            <a:xfrm>
              <a:off x="5784840" y="65808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2781"/>
            <p:cNvSpPr/>
            <p:nvPr/>
          </p:nvSpPr>
          <p:spPr>
            <a:xfrm>
              <a:off x="992160" y="28839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2782"/>
            <p:cNvSpPr/>
            <p:nvPr/>
          </p:nvSpPr>
          <p:spPr>
            <a:xfrm>
              <a:off x="2589840" y="6555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32783"/>
            <p:cNvSpPr/>
            <p:nvPr/>
          </p:nvSpPr>
          <p:spPr>
            <a:xfrm>
              <a:off x="7382880" y="28839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2784"/>
            <p:cNvSpPr/>
            <p:nvPr/>
          </p:nvSpPr>
          <p:spPr>
            <a:xfrm>
              <a:off x="5784840" y="511200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32785"/>
            <p:cNvSpPr/>
            <p:nvPr/>
          </p:nvSpPr>
          <p:spPr>
            <a:xfrm>
              <a:off x="2589840" y="511200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972000" y="2636640"/>
              <a:ext cx="1812600" cy="136224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sp>
        <p:nvSpPr>
          <p:cNvPr id="209" name=""/>
          <p:cNvSpPr/>
          <p:nvPr/>
        </p:nvSpPr>
        <p:spPr>
          <a:xfrm>
            <a:off x="3203640" y="1844640"/>
            <a:ext cx="3456000" cy="3143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тизация школы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гий и непрерывный процесс изменения содержания, методов и форм образовательной подготовки школьников, которым предстоит жить и работать в условиях неограниченного доступа к информ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867280" y="189000"/>
            <a:ext cx="1800360" cy="135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435640" y="5373720"/>
            <a:ext cx="1687320" cy="1265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164360" y="2852640"/>
            <a:ext cx="1584360" cy="1327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145200">
            <a:off x="1332000" y="1197000"/>
            <a:ext cx="322416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 rot="858000">
            <a:off x="5076720" y="1125360"/>
            <a:ext cx="302436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3284640"/>
          <a:ext cx="4170240" cy="29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284640"/>
                    <a:ext cx="4170240" cy="294012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1557360"/>
          <a:ext cx="3897360" cy="294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557360"/>
                    <a:ext cx="3897360" cy="2944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226836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росы учителе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изкий уровень материально-техническ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недостаточное использование потенциала  имеющегося оборудования  для организации творческой деятельности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чный уровень компьютерной грамотности учителей и управления информатизаци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76720" y="404640"/>
            <a:ext cx="36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ы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РФ «Об образовани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Алтайского края «Об образовании в Алтайском крае» (утв. КСНД, постановление от 29.11.2004 № 43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ая программа развития образования в Алтайском крае на 2006-2010 годы (принятая Советом администрации Алтайского края 12 декабря 2005 г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НПО «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4000" y="404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рмативные докумен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инирующ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проекта 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ый (приклад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ники проекта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дминистрация, учителя и учащиеся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авленност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на профессиональную деятельность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на социальную активн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19280" y="333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 «Создание еди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ционной среды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словий подготовки участников образовательного процесса к полноценной жизни и деятельности в информационном обществе за счет повышения качества образования посредством формирования единой информационно-образовательной среды и интенсивного внедрения информационно-коммуникационных технологий в образов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84360" y="260280"/>
            <a:ext cx="5372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егическая це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тизации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4912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дрение ИКТ в преподавание различных предметов и во внекласс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е использование возможностей глобаль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ие потребностей участников образовательного процесса в оперативном получении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каталогов учебных информационных материалов и баз данных нормативно-правовых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08360" y="54936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приоритет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системного подх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непрерывного развития систе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автоматизации документообор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единой информационной баз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40464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нцип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05:21:05Z</dcterms:created>
  <dc:creator>Школа</dc:creator>
  <dc:description/>
  <dc:language>en-US</dc:language>
  <cp:lastModifiedBy>Анатолий Павлович</cp:lastModifiedBy>
  <dcterms:modified xsi:type="dcterms:W3CDTF">2008-12-24T17:07:07Z</dcterms:modified>
  <cp:revision>8</cp:revision>
  <dc:subject/>
  <dc:title>Слайд 1</dc:title>
</cp:coreProperties>
</file>