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AF6D-F2DD-488C-AA89-9B910F99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5DA2-DC34-4004-97A0-19F1BF27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B988-D4AB-48D0-83DB-0859224F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DC81-C3F1-4578-895D-E98F7A50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DD8B-1578-49D6-B7ED-22A68B6F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189B-8D9D-4CA9-9F92-8D54AE62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1752-667A-4ADE-93EE-5B1E119C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2FE7-C865-4769-9A3F-C0FBF58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9E1E-5956-4443-B152-7518F7B3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59CF-0E83-4B6B-9E54-9A2B29A6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CAD-D9B8-4F02-B808-5A474F1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0087-92FA-4790-B88C-1D12C966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4C6E-BC8D-49EE-AFDD-94D2C83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813A-174E-42D4-A519-6720DDB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CC1-12F6-4511-B063-1BDA4EDE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BA37-E54E-46A5-92DE-117779B5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EA4E-F3F5-4CD3-BF1C-A4BE9EA0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E1F8-755A-4173-8E7F-D59E58D7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B571-42D2-477C-980F-708D7E9B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01FE-1473-4D43-B85B-27DEA9D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8250-7FAF-4019-94DA-E6059EB0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A999-4AC2-453F-AE02-53E1E2D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1DFD-3972-4FAA-95D2-818CA1A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03E3-F0BD-4E4B-AB72-DF0263D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EA0-8ABE-4A26-8C31-DEA3DF5991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0CFA-B7C9-4007-BD6D-CEAAAA670FD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Театр – это дивное диво, </a:t>
            </a: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здесь всё необычно и очень красиво.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ом рождения театра принято считать Древнюю Грецию. Именно там появилось слово «театр», что обозначает место для зрелища, да и самое зрелищ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цена», «актёр» - слова тоже греческого происхождения. Там же появился символ театра – маски. А покровительницами театра стали две греческие муз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льпомена – муза трагедии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лия – муза коме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43200" y="4800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Театральные жанр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анр – это угол зрения режиссёра на спектак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ь разные театральные жанры –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ЕДИЯ — вид драмы, в котором действие и характеры трактованы в формах комического. Как и трагедия, родилась в Древней Греции из обрядов, сопровождавших шествия в честь бога Диониса. Комедия, трезво исследуя человеческую природу, высмеивала пороки и заблуждения людей. Лучшие образцы этого жанра отличаются бескомпромиссность» анализа, остротой и смелостью в высмеивании пороков общества. В разных странах возникали свои варианты комедии. Известны «ученая» комедия итальянских гуманистов и испанская комедия Лопе де Вега и Кальдерона, английская комедия эпохи Возрождения, французская классицистская комедия эпохи Просвещения, русская реалистическая комедия. По принципу организации действия различают комедию характеров, положений, идей. По типу Сюжетов комедии могут быть бытовыми и лирическими, по характеру комического — юмористическими, сатирически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-4950000"/>
            <a:ext cx="745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ЮЗИКЛ — музыкально-сценическое произведение, главным образом комедийного характера, в котором используются средства эстрадной и бытовой музыки, драматического, хореографического и оперного искусств, жанр сформировался в США в конц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РАМА — пьеса с острой интригой, преувеличенной эмоциональностью, резким противопоставлением добра и зла, морально-поучительной тенденцией. Возникла в конц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 во Франции, в России — в 20-е гг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АМА — один из ведущих жанров драматургии, начиная с эпохи Просвещения, в котором изображается мир реального человека в его остроконфликтных, но не безысходных отношениях с обществом или собой. В XX в. драма отличалась серьезным содержанием, отражала различные аспекты жизни человека и общества, исследовала человеческую психолог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5221800"/>
            <a:ext cx="763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ГЕДИЯ (в переводе с греческого — «песнь козлов») — вид драмы, проникнутый пафосом трагического. В античности отображал непосредственную жизнь персонажей трагических событий, действие преобладало над рассказом. В эпоху Возрождения в пьесах было отброшено считавшееся обязательным единство действия, трагическое часто соединялось с комическим. В дальнейшем трагедия строго регламентируется: опять преобладает единство действия, места и времени; наблюдается размежевание комического и трагического. В современном театре трагедия в чистом виде встречается редко. Основу трагедии составляют острые общественные конфликты, коренные проблемы бытия, столкновения личности с судьбой и обществом. Трагическая коллизия обычно разрешается гибелью геро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гикомедия, фарс, парод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м, водевиль, монодрама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040" y="320400"/>
            <a:ext cx="79581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авила поведения в театр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е того, как вы купили билет, рекомендуется прочитать пьесу, узнать о её авторе, в результате чего у вас сформируется своё видение пьесы, с которым вы сможете сравнить постановку режиссера, трактовку того или иного образа актёром. Это сделает восприятие спектакля более полным. Даст возможность обсудить его (после окончания или в антракте) с вашим спутни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д приобретением билетов следует изучить план зала, который висит рядом с окошком кассы, и выбрать удобные для вас ме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нет возможности свободного выбора, 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а находятся далеко от сцены, следует взять с собо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атраль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инок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-4918320"/>
            <a:ext cx="15228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случае недомогания посещение театра следует отложить, чтобы не мешать кашлем, или другими проявлениями нездоровья другим зрител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ежда для театра должна быть торжественной. Вечерний туалет и украшения предназначены для оперного театра. Более академичный туалет – на концерт в филармонию и драматический театр. Причёска должна быть такой, чтобы не мешать зрителям на местах сзади. Неуместны также сумки, предназначенные для улицы, магазинов. Косметика и одежда не должны быть яркими и броск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театр мужчина заходит первым, предъявляя билеты. Необходимо иметь запас времени, чтобы занять свои места до третьего звонка. Только в ложу можно входить, когда в зале погаснет с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жчина также, проходит первым на своё место, за ним следует женщина. Проходить следует лицом  к сидящим, причём извиняться при этом не следует. Если проход узкий, то сидящие должны встать. Женщины могут не поднима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7680" y="-4950000"/>
            <a:ext cx="7308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следует разглядывать публику в бинокль, одалживать бинокль у соседей, рассказывать им содержание пье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место занято, следует обратиться к дежурной по за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вы опоздали, следует пройти на ярусы или балкон,   независимо от купленного места. Если свободных мест нет, следует постоять у двери до антракта, после которого нужно занять свои ме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в театре вы встретили  знакомых, то если они близко к вам поздоровайтесь, если далеко – просто поклоните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 время спектакля запрещается шуметь. Но в оперном театре после удачных арий приняты ов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антракте – можно остаться в зале или выйти. Если дама не хочет выходить – мужчина должен остаться с н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уйти из театра до начала второго действия, если пьеса не понравилась. Если решили остаться не следует своим видом или репликами мешать окружающ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ходить из зала можно только после того, как все актёры покинут сце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 время просмотра спектакля мобильные телефоны должны быть выключ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2280" y="3886560"/>
            <a:ext cx="2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92400"/>
            <a:ext cx="763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прощание вам желаем сказать: «дорогу в театр не забыват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1-03-26T05:25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