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6AE47-4AD2-4C26-98E4-8A39628CA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37C5B-3ABE-487F-B930-8E6664C53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B40F5-6010-4896-BECA-A53CBA6C4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DA6DF-EE4D-440A-BBBE-D6D4488A4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BED18-FCE0-458F-835A-4F19FC93E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A8B2D-92AA-424E-B87D-B0C0B4478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949CE-921A-4D42-B3E6-4150F8537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F76A7-B4C7-46C0-B9B5-758B47248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E9587-5D48-441F-AD9E-7F24037F0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639E0-821C-4C08-94A7-64D7A4D8E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9B2EC-74F5-43A5-848F-8F08CA97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40E52-0032-4F74-9BA6-3FA515DDA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5E2CC-462D-43A9-8A0E-569AF306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41B63-6871-4390-8251-E29BAFC0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3CEB1-C3CA-46B2-AB05-BC6D89394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DCF64-0204-4347-8E77-4CF6306DB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A63E7-8178-4FDE-87F9-9107A6680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BE914-9B5A-4EF5-991A-45F28A879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6591F-C2AB-4E37-8D8B-6B452A2D4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1901A-9FEB-4BAD-BEB2-D2FD0784C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E614F-AE91-49C3-8EE4-62E1A4A36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32C30-E53C-4E2D-BF01-7F41591C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FD60D-8996-480E-9F40-0120F51C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F8B35-E3CE-42CD-B592-894C9752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AF0A-1BEE-4F01-AC24-BD95F29DB17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A5FB1-749C-42D8-AD8F-EFE971B1F42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Tahoma"/>
              </a:rPr>
              <a:t>Театр – это дивное диво, </a:t>
            </a:r>
            <a:br>
              <a:rPr sz="2500"/>
            </a:br>
            <a:r>
              <a:rPr b="0" lang="en-US" sz="2500" spc="-1" strike="noStrike">
                <a:solidFill>
                  <a:srgbClr val="ffffcc"/>
                </a:solidFill>
                <a:latin typeface="Tahoma"/>
              </a:rPr>
              <a:t>здесь всё необычно и очень красиво. 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762120" y="2514600"/>
            <a:ext cx="73152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естом рождения театра принято считать Древнюю Грецию. Именно там появилось слово «театр», что обозначает место для зрелища, да и самое зрелищ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«Сцена», «актёр» - слова тоже греческого происхождения. Там же появился символ театра – маски. А покровительницами театра стали две греческие музы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ельпомена – муза трагедии 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Талия – муза комед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743200" y="4800600"/>
            <a:ext cx="3048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Театральные жанры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Жанр – это угол зрения режиссёра на спектакл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сть разные театральные жанры – эт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МЕДИЯ — вид драмы, в котором действие и характеры трактованы в формах комического. Как и трагедия, родилась в Древней Греции из обрядов, сопровождавших шествия в честь бога Диониса. Комедия, трезво исследуя человеческую природу, высмеивала пороки и заблуждения людей. Лучшие образцы этого жанра отличаются бескомпромиссность» анализа, остротой и смелостью в высмеивании пороков общества. В разных странах возникали свои варианты комедии. Известны «ученая» комедия итальянских гуманистов и испанская комедия Лопе де Вега и Кальдерона, английская комедия эпохи Возрождения, французская классицистская комедия эпохи Просвещения, русская реалистическая комедия. По принципу организации действия различают комедию характеров, положений, идей. По типу Сюжетов комедии могут быть бытовыми и лирическими, по характеру комического — юмористическими, сатирическим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-4950000"/>
            <a:ext cx="74520" cy="1052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ЮЗИКЛ — музыкально-сценическое произведение, главным образом комедийного характера, в котором используются средства эстрадной и бытовой музыки, драматического, хореографического и оперного искусств, жанр сформировался в США в конце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XIX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ЕЛОДРАМА — пьеса с острой интригой, преувеличенной эмоциональностью, резким противопоставлением добра и зла, морально-поучительной тенденцией. Возникла в конце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XVII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в. во Франции, в России — в 20-е гг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XIX 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РАМА — один из ведущих жанров драматургии, начиная с эпохи Просвещения, в котором изображается мир реального человека в его остроконфликтных, но не безысходных отношениях с обществом или собой. В XX в. драма отличалась серьезным содержанием, отражала различные аспекты жизни человека и общества, исследовала человеческую психологию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280" y="-5221800"/>
            <a:ext cx="76320" cy="1052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ТРАГЕДИЯ (в переводе с греческого — «песнь козлов») — вид драмы, проникнутый пафосом трагического. В античности отображал непосредственную жизнь персонажей трагических событий, действие преобладало над рассказом. В эпоху Возрождения в пьесах было отброшено считавшееся обязательным единство действия, трагическое часто соединялось с комическим. В дальнейшем трагедия строго регламентируется: опять преобладает единство действия, места и времени; наблюдается размежевание комического и трагического. В современном театре трагедия в чистом виде встречается редко. Основу трагедии составляют острые общественные конфликты, коренные проблемы бытия, столкновения личности с судьбой и обществом. Трагическая коллизия обычно разрешается гибелью героя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Трагикомедия, фарс, пародия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им, водевиль, монодрама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8040" y="320400"/>
            <a:ext cx="7958160" cy="10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Правила поведения в театре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сле того, как вы купили билет, рекомендуется прочитать пьесу, узнать о её авторе, в результате чего у вас сформируется своё видение пьесы, с которым вы сможете сравнить постановку режиссера, трактовку того или иного образа актёром. Это сделает восприятие спектакля более полным. Даст возможность обсудить его (после окончания или в антракте) с вашим спутник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еред приобретением билетов следует изучить план зала, который висит рядом с окошком кассы, и выбрать удобные для вас мес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Если нет возможности свободного выбора, 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еста находятся далеко от сцены, следует взять с собой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театральный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бинокл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-4918320"/>
            <a:ext cx="152280" cy="1052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8240"/>
            <a:ext cx="8229600" cy="59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 случае недомогания посещение театра следует отложить, чтобы не мешать кашлем, или другими проявлениями нездоровья другим зрителя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дежда для театра должна быть торжественной. Вечерний туалет и украшения предназначены для оперного театра. Более академичный туалет – на концерт в филармонию и драматический театр. Причёска должна быть такой, чтобы не мешать зрителям на местах сзади. Неуместны также сумки, предназначенные для улицы, магазинов. Косметика и одежда не должны быть яркими и броски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 театр мужчина заходит первым, предъявляя билеты. Необходимо иметь запас времени, чтобы занять свои места до третьего звонка. Только в ложу можно входить, когда в зале погаснет све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ужчина также, проходит первым на своё место, за ним следует женщина. Проходить следует лицом  к сидящим, причём извиняться при этом не следует. Если проход узкий, то сидящие должны встать. Женщины могут не подниматьс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7680" y="-4950000"/>
            <a:ext cx="73080" cy="1052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8229600" cy="61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е следует разглядывать публику в бинокль, одалживать бинокль у соседей, рассказывать им содержание пьес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Если место занято, следует обратиться к дежурной по зал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Если вы опоздали, следует пройти на ярусы или балкон,   независимо от купленного места. Если свободных мест нет, следует постоять у двери до антракта, после которого нужно занять свои мес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Если в театре вы встретили  знакомых, то если они близко к вам поздоровайтесь, если далеко – просто поклонитес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о время спектакля запрещается шуметь. Но в оперном театре после удачных арий приняты овац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 антракте – можно остаться в зале или выйти. Если дама не хочет выходить – мужчина должен остаться с н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ожно уйти из театра до начала второго действия, если пьеса не понравилась. Если решили остаться не следует своим видом или репликами мешать окружающи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ыходить из зала можно только после того, как все актёры покинут сцену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о время просмотра спектакля мобильные телефоны должны быть выключен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152280" y="3886560"/>
            <a:ext cx="25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4892400"/>
            <a:ext cx="76320" cy="1052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8229600" cy="55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 прощание вам желаем сказать: «дорогу в театр не забывать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67057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лья</cp:lastModifiedBy>
  <dcterms:modified xsi:type="dcterms:W3CDTF">2011-03-26T05:25:28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