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818-C162-47DF-8C9F-4DDAB70F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130-9704-49CC-8D13-04690BC9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F39-F381-4BE3-8E45-BAB69E48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610-12E4-4EF9-A894-12AD2650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7D9B-2439-4295-B0CA-B6906434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382-5850-4645-94C1-E2381293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705-88D8-4A76-964D-DD772751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B6F5-D56B-4417-AE5C-FC7CC421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86A-4F48-4250-BCBB-2E44EFBB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C24A-DF0D-4CCF-80B0-55EAE692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3BB-EABE-49C1-B61F-4120598D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7A7-9B00-47DD-A2E1-F1B947FE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2E8D-2A7C-4E2F-9414-6DD4260E0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-66600" y="1852560"/>
            <a:ext cx="928368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Татьята\Desktop\Иллюстрац\вентиляторы, мельницы\ventilator1.gif"/>
          <p:cNvPicPr/>
          <p:nvPr/>
        </p:nvPicPr>
        <p:blipFill>
          <a:blip r:embed="rId2"/>
          <a:stretch/>
        </p:blipFill>
        <p:spPr>
          <a:xfrm>
            <a:off x="7451640" y="3500280"/>
            <a:ext cx="1252800" cy="1681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Татьята\Desktop\Иллюстрац\Картинки\картинки\АНИМАЦИИ\Technic\Technic_62.GIF"/>
          <p:cNvPicPr/>
          <p:nvPr/>
        </p:nvPicPr>
        <p:blipFill>
          <a:blip r:embed="rId3"/>
          <a:stretch/>
        </p:blipFill>
        <p:spPr>
          <a:xfrm>
            <a:off x="2268360" y="549360"/>
            <a:ext cx="1495440" cy="1666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Татьята\Desktop\Иллюстрац\Картинки\картинки\АНИМАЦИИ\Technic\Technic_43.gif"/>
          <p:cNvPicPr/>
          <p:nvPr/>
        </p:nvPicPr>
        <p:blipFill>
          <a:blip r:embed="rId4"/>
          <a:stretch/>
        </p:blipFill>
        <p:spPr>
          <a:xfrm>
            <a:off x="2050920" y="4653000"/>
            <a:ext cx="1143000" cy="72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Татьята\Desktop\Иллюстрац\Картинки\картинки\АНИМАЦИИ\Technic\Technic_59.gif"/>
          <p:cNvPicPr/>
          <p:nvPr/>
        </p:nvPicPr>
        <p:blipFill>
          <a:blip r:embed="rId5"/>
          <a:stretch/>
        </p:blipFill>
        <p:spPr>
          <a:xfrm>
            <a:off x="5651640" y="5157720"/>
            <a:ext cx="1085760" cy="866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Татьята\Desktop\Иллюстрац\Картинки\картинки\АНИМАЦИИ\Technic\Technic_9.gif"/>
          <p:cNvPicPr/>
          <p:nvPr/>
        </p:nvPicPr>
        <p:blipFill>
          <a:blip r:embed="rId6"/>
          <a:stretch/>
        </p:blipFill>
        <p:spPr>
          <a:xfrm>
            <a:off x="7451640" y="765000"/>
            <a:ext cx="533520" cy="838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Татьята\Desktop\Иллюстрац\Картинки\картинки\АНИМАЦИИ\Computers\Comp_8.gif"/>
          <p:cNvPicPr/>
          <p:nvPr/>
        </p:nvPicPr>
        <p:blipFill>
          <a:blip r:embed="rId7"/>
          <a:stretch/>
        </p:blipFill>
        <p:spPr>
          <a:xfrm>
            <a:off x="4427640" y="3573360"/>
            <a:ext cx="1143000" cy="79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 the following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03280" y="1600200"/>
            <a:ext cx="77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What things are usually advertis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Which good reasons are given to buy a camera, a mobile phon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Which good reasons are given to buy a microwave oven, a compu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Which characteristics of the things are usually highlighted in the advertisemen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Which features that are highlighted in the advertisements are essential for customers? 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Which of the arguments would you give for or against the advertised thing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Users\Татьята\Desktop\Иллюстрац\Картинки\картинки\АНИМАЦИИ\Computers\Comp_17.gif"/>
          <p:cNvPicPr/>
          <p:nvPr/>
        </p:nvPicPr>
        <p:blipFill>
          <a:blip r:embed="rId1"/>
          <a:stretch/>
        </p:blipFill>
        <p:spPr>
          <a:xfrm>
            <a:off x="7740720" y="1052640"/>
            <a:ext cx="933480" cy="123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03280" y="907560"/>
            <a:ext cx="77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) Would you buy the advertised things? Why? Why no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) What gadgets and machines have you got in your home? When did you buy th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) What is your opinion about your gadgets and machin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) What arguments would you give to convince your parents to buy (a videophone, a cordless phone, roller blades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) What electrical or electronic goods would you never like to have in the ho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) Is there anything that you would like to have but it hasn’t been invented yet? What would you use this thing fo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Татьята\Desktop\Иллюстрац\Картинки\картинки\АНИМАЦИИ\Computers\Comp_16.gif"/>
          <p:cNvPicPr/>
          <p:nvPr/>
        </p:nvPicPr>
        <p:blipFill>
          <a:blip r:embed="rId1"/>
          <a:stretch/>
        </p:blipFill>
        <p:spPr>
          <a:xfrm>
            <a:off x="7236000" y="6048360"/>
            <a:ext cx="809280" cy="80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Read these words and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332000" y="476280"/>
            <a:ext cx="7812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dvert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talo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reat var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y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ot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apture special family mo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w generation of compact came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offer automatic film lo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tness and body building mach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stand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ct home gy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instr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cord exciting holiday ev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Татьята\Desktop\Иллюстрац\Картинки\картинки\АНИМАЦИИ\Computers\Comp_25.gif"/>
          <p:cNvPicPr/>
          <p:nvPr/>
        </p:nvPicPr>
        <p:blipFill>
          <a:blip r:embed="rId1"/>
          <a:stretch/>
        </p:blipFill>
        <p:spPr>
          <a:xfrm>
            <a:off x="7020000" y="1197000"/>
            <a:ext cx="16239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759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Fill in prepositions and translate the word combi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00000" y="1989000"/>
            <a:ext cx="82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to be boring _______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скучать бе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a waste ____ time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вляться тратой времен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ad _____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ыть плохим дл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worry ________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___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покоиться 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) to live ___________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ить с /бе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no use ______ all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ыть совсем ненужны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(of, about, without, for, with, without, f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492360" y="198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ith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3635280" y="2492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843280" y="342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059280" y="393372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b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2556000" y="4437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ith /with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3492360" y="501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Grammar revision(Past Simple)</a:t>
            </a: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Open the bracke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19280" y="1125000"/>
            <a:ext cx="752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(to see) them last year, but it (to be) long a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Dad (to buy) his car in 200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oor (to open) and Tom (to come) in wet and ti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ar (to go) wrong when we were travelling yester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ll (to ring) and Jane (to hurry) to open the do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bus passengers (to die) in the accident last we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sister (to pass) her exam in Physics two days a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(to buy) our computer in 199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hip (to sink) there some years a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r (to end) in 1945 when the countries of antihitler coalition (to sign) the capitulation of Germa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5796000" y="141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saw, wa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796000" y="184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bou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5796000" y="2276640"/>
            <a:ext cx="18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opened, cam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3492360" y="285264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w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5796000" y="350028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rang, hurri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5796000" y="393372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di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5796000" y="4365720"/>
            <a:ext cx="10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pass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5796000" y="486900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bou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5796000" y="522936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san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8"/>
          <p:cNvSpPr/>
          <p:nvPr/>
        </p:nvSpPr>
        <p:spPr>
          <a:xfrm>
            <a:off x="5796000" y="609300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ended, sign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Present Perfect Tense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Open the bracke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32000" y="1268280"/>
            <a:ext cx="7812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k! He (to repair) the car and we can start right n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oat just (to bring) the passengers to the opposite side of the ri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(to use) this equipment since last year, but now it’s getting ol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oy just (to break) the window in the libra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lay (to be) a success for a we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ermarkets (to be) popular with the customers for a long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 not you (to do) the exercises y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ildren (to write) the composition right n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4140360" y="1484280"/>
            <a:ext cx="57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has repair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4140360" y="2060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had just brou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140360" y="2924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have been u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4140360" y="3573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has just brok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4140360" y="400536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has be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4140360" y="458136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had be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4140360" y="5229360"/>
            <a:ext cx="21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haven’t you d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4140360" y="5805360"/>
            <a:ext cx="17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(have writt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Татьята</cp:lastModifiedBy>
  <dcterms:modified xsi:type="dcterms:W3CDTF">2013-03-27T07:54:33Z</dcterms:modified>
  <cp:revision>21</cp:revision>
  <dc:subject/>
  <dc:title>Презентация PowerPoint</dc:title>
</cp:coreProperties>
</file>