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3B1-B09B-40E9-8735-52FBD916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C70-6071-4378-8EBE-67292A88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1D1-EEF6-47C6-BB8B-ACD140ED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C18-A9BD-4DF0-A828-78F7CF02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90B-B60E-46E8-93E0-FF76F11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1EA-846D-4A0F-B7CF-B97E4AEA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500-6EB3-4BCB-8C55-88C19813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044-0F8F-439B-8D94-D3EA7705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F85-573B-4C0D-950A-0847C1E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BE7-B76A-4D63-A24B-F65E8EB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AED-6148-46B9-BA09-C6E743F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C94-FFF4-424C-81AE-4656A005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F04-3820-4AB8-977A-6D1BFA979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1852560"/>
            <a:ext cx="928368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Татьята\Desktop\Иллюстрац\вентиляторы, мельницы\ventilator1.gif"/>
          <p:cNvPicPr/>
          <p:nvPr/>
        </p:nvPicPr>
        <p:blipFill>
          <a:blip r:embed="rId2"/>
          <a:stretch/>
        </p:blipFill>
        <p:spPr>
          <a:xfrm>
            <a:off x="7451640" y="3500280"/>
            <a:ext cx="1252800" cy="16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Татьята\Desktop\Иллюстрац\Картинки\картинки\АНИМАЦИИ\Technic\Technic_62.GIF"/>
          <p:cNvPicPr/>
          <p:nvPr/>
        </p:nvPicPr>
        <p:blipFill>
          <a:blip r:embed="rId3"/>
          <a:stretch/>
        </p:blipFill>
        <p:spPr>
          <a:xfrm>
            <a:off x="2268360" y="549360"/>
            <a:ext cx="1495440" cy="166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Татьята\Desktop\Иллюстрац\Картинки\картинки\АНИМАЦИИ\Technic\Technic_43.gif"/>
          <p:cNvPicPr/>
          <p:nvPr/>
        </p:nvPicPr>
        <p:blipFill>
          <a:blip r:embed="rId4"/>
          <a:stretch/>
        </p:blipFill>
        <p:spPr>
          <a:xfrm>
            <a:off x="2050920" y="465300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Татьята\Desktop\Иллюстрац\Картинки\картинки\АНИМАЦИИ\Technic\Technic_59.gif"/>
          <p:cNvPicPr/>
          <p:nvPr/>
        </p:nvPicPr>
        <p:blipFill>
          <a:blip r:embed="rId5"/>
          <a:stretch/>
        </p:blipFill>
        <p:spPr>
          <a:xfrm>
            <a:off x="5651640" y="5157720"/>
            <a:ext cx="1085760" cy="8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Татьята\Desktop\Иллюстрац\Картинки\картинки\АНИМАЦИИ\Technic\Technic_9.gif"/>
          <p:cNvPicPr/>
          <p:nvPr/>
        </p:nvPicPr>
        <p:blipFill>
          <a:blip r:embed="rId6"/>
          <a:stretch/>
        </p:blipFill>
        <p:spPr>
          <a:xfrm>
            <a:off x="7451640" y="765000"/>
            <a:ext cx="533520" cy="83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Татьята\Desktop\Иллюстрац\Картинки\картинки\АНИМАЦИИ\Computers\Comp_8.gif"/>
          <p:cNvPicPr/>
          <p:nvPr/>
        </p:nvPicPr>
        <p:blipFill>
          <a:blip r:embed="rId7"/>
          <a:stretch/>
        </p:blipFill>
        <p:spPr>
          <a:xfrm>
            <a:off x="4427640" y="3573360"/>
            <a:ext cx="1143000" cy="7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follow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things are usually advertis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ich good reasons are given to buy a camera, a mobile ph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ich good reasons are given to buy a microwave oven, a compu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Which characteristics of the things are usually highlighted in the advertisem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Which features that are highlighted in the advertisements are essential for customers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Which of the arguments would you give for or against the advertised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Татьята\Desktop\Иллюстрац\Картинки\картинки\АНИМАЦИИ\Computers\Comp_17.gif"/>
          <p:cNvPicPr/>
          <p:nvPr/>
        </p:nvPicPr>
        <p:blipFill>
          <a:blip r:embed="rId1"/>
          <a:stretch/>
        </p:blipFill>
        <p:spPr>
          <a:xfrm>
            <a:off x="7740720" y="1052640"/>
            <a:ext cx="933480" cy="123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3280" y="907560"/>
            <a:ext cx="77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Would you buy the advertised things? Why? Why no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What gadgets and machines have you got in your home? When did you buy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What is your opinion about your gadgets and mach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What arguments would you give to convince your parents to buy (a videophone, a cordless phone, roller blades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What electrical or electronic goods would you never like to have in the h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) Is there anything that you would like to have but it hasn’t been invented yet? What would you use this thing f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Татьята\Desktop\Иллюстрац\Картинки\картинки\АНИМАЦИИ\Computers\Comp_16.gif"/>
          <p:cNvPicPr/>
          <p:nvPr/>
        </p:nvPicPr>
        <p:blipFill>
          <a:blip r:embed="rId1"/>
          <a:stretch/>
        </p:blipFill>
        <p:spPr>
          <a:xfrm>
            <a:off x="7236000" y="6048360"/>
            <a:ext cx="809280" cy="8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ad these words and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32000" y="476280"/>
            <a:ext cx="781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v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eat var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apture special family mo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generation of compact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ffer automatic film lo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tness and body building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ct home g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str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cord exciting holiday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Татьята\Desktop\Иллюстрац\Картинки\картинки\АНИМАЦИИ\Computers\Comp_25.gif"/>
          <p:cNvPicPr/>
          <p:nvPr/>
        </p:nvPicPr>
        <p:blipFill>
          <a:blip r:embed="rId1"/>
          <a:stretch/>
        </p:blipFill>
        <p:spPr>
          <a:xfrm>
            <a:off x="7020000" y="1197000"/>
            <a:ext cx="16239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Fill in prepositions and translate the word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1989000"/>
            <a:ext cx="82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to be boring _______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кучать бе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 waste ____ time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ться тратой време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d _____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ь плохим дл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worry ________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окоиться 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) to live ___________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ть с /бе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no use ______ all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ь совсем ненужны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(of, about, without, for, with, without, f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492360" y="198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635280" y="2492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43280" y="342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59280" y="3933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556000" y="4437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 /with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49236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Grammar revision(Past Simple)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Open the bracke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19280" y="1125000"/>
            <a:ext cx="752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(to see) them last year, but it (to be) long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Dad (to buy) his car in 2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or (to open) and Tom (to come) in wet and t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r (to go) wrong when we were travelling yester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ll (to ring) and Jane (to hurry) to open the d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bus passengers (to die) in the accident last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ster (to pass) her exam in Physics two days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(to buy) our computer in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ip (to sink) there some years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r (to end) in 1945 when the countries of antihitler coalition (to sign) the capitulation of Germ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796000" y="141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saw, w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79600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b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796000" y="227664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opened, ca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492360" y="285264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w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796000" y="350028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rang, hurri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796000" y="39337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di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796000" y="43657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pas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5796000" y="48690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b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796000" y="522936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san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5796000" y="609300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ended, sign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resent Perfect Tense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pen the bracke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32000" y="1268280"/>
            <a:ext cx="7812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! He (to repair) the car and we can start right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at just (to bring) the passengers to the opposite side of the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(to use) this equipment since last year, but now it’s getting ol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y just (to break) the window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ay (to be) a success for a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markets (to be) popular with the customers for a long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not you (to do) the exercises y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ldren (to write) the composition right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140360" y="1484280"/>
            <a:ext cx="57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repair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14036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d just br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0360" y="292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 been u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140360" y="357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just b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140360" y="4005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be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4140360" y="458136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d be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4140360" y="5229360"/>
            <a:ext cx="21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n’t you d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140360" y="580536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 writt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Татьята</cp:lastModifiedBy>
  <dcterms:modified xsi:type="dcterms:W3CDTF">2013-03-27T07:54:33Z</dcterms:modified>
  <cp:revision>21</cp:revision>
  <dc:subject/>
  <dc:title>Презентация PowerPoint</dc:title>
</cp:coreProperties>
</file>