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D8CF-05B7-4021-84F3-859EEE9C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FB66-BD28-4970-A5DB-5DDA1F2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7250-6A8F-4317-ADCA-252D7CA5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8B9D-23FF-4D27-BBEC-31595541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AE3-CC65-40D0-9294-ED77539D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A59-C6C3-4C3B-9F0F-3829982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6B39-BB80-4942-B1E5-BC8183CA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BF65-D291-4845-ACD9-1E574258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A96D-4990-4AAA-9E49-839E12C3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1482-A395-4091-9F16-3D3EC009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AEBD-7235-4348-A177-CB27C08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9CE6-E4EA-4E18-AD34-17804D97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33C4-3D14-427D-BAD5-68D1EF0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7875-8142-4A0C-B0CC-21398F8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A851-2163-4B33-AD01-6ED52C3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85D9-5C86-4700-AAF2-2762337D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878E-CC1A-4B45-A5B1-C0B90424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0816-F1B8-4B14-ACC8-EFD02A3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770F6-3BB5-46E4-BFA5-F694437D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5D5B-8667-4653-B62F-8ECE065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5303-26DD-4748-B072-7AE87E7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8E32-774A-4623-AEFE-D2AF07B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79852-CA45-4FDA-9F63-EEFF426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F18A-96EA-4CE0-ABF4-F4E62801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2CAF-5A53-452A-AB91-72C5410B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9879-7A0C-4B96-81C8-25DBEAA15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ект на тему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Вредные привычки среди подростков».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Выполнили: Королёва Л., Назимова Ю., Белицкая 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Руководитель проекта: Красильникова Е.В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2464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Исследования учащихся 7А класса на предмет курения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43000" y="2209680"/>
            <a:ext cx="7009560" cy="4453200"/>
            <a:chOff x="1143000" y="2209680"/>
            <a:chExt cx="7009560" cy="4453200"/>
          </a:xfrm>
        </p:grpSpPr>
        <p:cxnSp>
          <p:nvCxnSpPr>
            <p:cNvPr id="127" name="_s18842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428800" y="3209040"/>
              <a:ext cx="891360" cy="2453760"/>
            </a:xfrm>
            <a:prstGeom prst="bentConnector3">
              <a:avLst>
                <a:gd name="adj1" fmla="val 141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88421"/>
            <p:cNvCxnSpPr>
              <a:stCxn id="131" idx="0"/>
              <a:endCxn id="129" idx="2"/>
            </p:cNvCxnSpPr>
            <p:nvPr/>
          </p:nvCxnSpPr>
          <p:spPr>
            <a:xfrm flipV="1">
              <a:off x="4647960" y="3990600"/>
              <a:ext cx="2880" cy="89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88422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974680" y="3209400"/>
              <a:ext cx="891360" cy="2453760"/>
            </a:xfrm>
            <a:prstGeom prst="bentConnector3">
              <a:avLst>
                <a:gd name="adj1" fmla="val 141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188423"/>
            <p:cNvSpPr/>
            <p:nvPr/>
          </p:nvSpPr>
          <p:spPr>
            <a:xfrm>
              <a:off x="3596400" y="220968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ш класс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ур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88424"/>
            <p:cNvSpPr/>
            <p:nvPr/>
          </p:nvSpPr>
          <p:spPr>
            <a:xfrm>
              <a:off x="1143000" y="488160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уря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88425"/>
            <p:cNvSpPr/>
            <p:nvPr/>
          </p:nvSpPr>
          <p:spPr>
            <a:xfrm>
              <a:off x="3596400" y="488160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росили кур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88426"/>
            <p:cNvSpPr/>
            <p:nvPr/>
          </p:nvSpPr>
          <p:spPr>
            <a:xfrm>
              <a:off x="6049800" y="488160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 начина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Количество учащихся – 27 человек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Рассматриваемый период – ноябрь – декабрь 2009 г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Исследования учащихся 7А класса на предмет употребления алкоголя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Количество учащихся – 27 человек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Рассматриваемый период – ноябрь – декабрь 2009 г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66680" y="2438280"/>
            <a:ext cx="7086240" cy="4067280"/>
            <a:chOff x="1066680" y="2438280"/>
            <a:chExt cx="7086240" cy="4067280"/>
          </a:xfrm>
        </p:grpSpPr>
        <p:cxnSp>
          <p:nvCxnSpPr>
            <p:cNvPr id="138" name="_s190472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442480" y="3231000"/>
              <a:ext cx="813960" cy="2480760"/>
            </a:xfrm>
            <a:prstGeom prst="bentConnector3">
              <a:avLst>
                <a:gd name="adj1" fmla="val 141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90473"/>
            <p:cNvCxnSpPr>
              <a:stCxn id="142" idx="0"/>
              <a:endCxn id="140" idx="2"/>
            </p:cNvCxnSpPr>
            <p:nvPr/>
          </p:nvCxnSpPr>
          <p:spPr>
            <a:xfrm flipV="1">
              <a:off x="4609800" y="4064400"/>
              <a:ext cx="2880" cy="81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90474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2962440" y="3231000"/>
              <a:ext cx="813960" cy="2480760"/>
            </a:xfrm>
            <a:prstGeom prst="bentConnector3">
              <a:avLst>
                <a:gd name="adj1" fmla="val 141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90475"/>
            <p:cNvSpPr/>
            <p:nvPr/>
          </p:nvSpPr>
          <p:spPr>
            <a:xfrm>
              <a:off x="3546720" y="243828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ш класс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лког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90476"/>
            <p:cNvSpPr/>
            <p:nvPr/>
          </p:nvSpPr>
          <p:spPr>
            <a:xfrm>
              <a:off x="1066680" y="487872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потребляют част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90477"/>
            <p:cNvSpPr/>
            <p:nvPr/>
          </p:nvSpPr>
          <p:spPr>
            <a:xfrm>
              <a:off x="3546720" y="487872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Употребляют 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семье 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раз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родителе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2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90478"/>
            <p:cNvSpPr/>
            <p:nvPr/>
          </p:nvSpPr>
          <p:spPr>
            <a:xfrm>
              <a:off x="6027120" y="487872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Не употребляю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16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кета - опрос для учащихся 6-8 классов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«Основные проблемы молодёжи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Ответьте на вопрос: «Какие из перечисленных молодежных проблем важны лично для вас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о 10 бальной шкале выставите свою оценк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№  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облема                             Количество баллов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 Проблемы трудоустройств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 Арм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 Сдача ЕГЭ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Злоупотребление алкоголем и курени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Неумелое вмешательство родителей в судьбу дете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Результаты анкетирова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роблема трудоустройства 9,1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Армия 8,4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дача ЕГЭ 6,3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Злоупотребление алкоголем и курение 56,4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еумелое вмешательство родителей в судьбу детей 19,8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игаретку на конфетку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91120" cy="2852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3434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ольяттинские студенты решили помочь курящи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ачку сигарет на интересную книгу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878280" cy="260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4614840" cy="2643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нига – лучшее увлеч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Личный дневник наблюдений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Контролируемый параметр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. Частота пульса(ударов в минуту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. Дыхание во время кроссов на уроке физкультуры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. Внимательность на уроке (по 5 бальной шкале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 Рост (в течении месяца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. Тяга к курению(сильная, слабая, нет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6. Количество выкуриваемых сигарет в день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7. Внешнее состояние кожи и зубов 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8. Запах изо рта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9. Нервозность 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0. Занятие спортом 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ыводы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вы уже начали употреблять эти вредные вещи, то самое главное  вовремя остановить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целом, работа над проектом позволила нам расширить свой кругозор и узнать много полезной информации о вреде курения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зультатом нашей работы является создание комплекта эскизов в виде «открыток-плакатов» и личного дневника наблюдений за организм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роблема проекта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блема: зависимость подростков от вредных привычек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ктуальность: таких подростков всё больше и возраст детей на начало вредных привычек снижается. Здоровье нации зависит от здоровья наших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ь проекта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ь: помочь подросткам осознать вред этих привычек и научить противостоять им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Задачи проекта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Наглядно и доступно рассказать ребятам о возможных изменениях в организме курящего человека, в том числе и школьн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подготовить комплект эскизов в виде «открыток-плакатов», иллюстрирующих возможные последствия для курильщиков-подростков, а также рассказывающих о возможных путях выхода из вредного увлеч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Создание личного дневн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ереходный возраст тинейджеров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4038480" cy="3251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ереходном возрасте тинейджер изменяется как физически, так и  характерном план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Алкоголь и организм подростка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 и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зг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 и сердц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 и печень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40384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урение и организм подростка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рение и лёг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рение и глаз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ешнее состояние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товой полос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62412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3657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Наркотики это зло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33560" y="335232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н думал так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в жизни надо всё попробовать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дин раз не страшно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чем я хуже других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 возможно он не думал вообщ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2895480" cy="1946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971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Признаки и симптомы возможного употребления  ребенком наркотиков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ФИЗИОЛОГИЧЕСКИ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бледность кож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расширенные или суженные зрачк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замедленная, несвязанная реч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плохая координация движений (пошатывание или спотыкание)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ПОВЕДЕНЧЕСКИ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беспричинное возбуждение или вял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частая и резкая смена настро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повышенная утомляемость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ОЧЕВИДНЫ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следы от уколов, порезов, синяк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капсулы, пузырьки, жестяные банк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пачки лекарств снотворного или успокоительного действ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3-03-29T15:28:57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