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48742-C953-4647-9F3B-06521276F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03AF0-D0C3-4E72-B73A-53B952112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EF693-2181-4A86-93E1-E843A36E9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75525-5A98-4B8B-B0A0-FE2DFC845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E555A-E5C9-4FED-8258-75AFDD717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B9C24-A64C-4E2F-99E2-BBB46031C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B3C91-AE46-4774-A383-3C8E347EC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A8356-2B20-46A0-BCE8-25475DA23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F5FE4-F902-483A-B3AE-3D7AA4C59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4F70E-E65D-4E07-AD2A-A0D72C5A3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E1644-038D-4206-8D81-CBE9E93B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6F88D-7D00-4BE8-8D9F-1CEF2374E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DF387-3B0D-424C-B7AC-5B1D455C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5F214-55B2-40B0-B684-15C74A4E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317FE-0AA0-4BA5-9744-03C5C8C2F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E5E21-E2DA-41CA-A509-B87210ABB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D86D9-6C21-4BF8-9B9A-AECE08E50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54B85-3963-41DE-A62D-A4D81F9AB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ABA14-402C-4A0C-82C0-731C60B1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A10EC-C2EE-49E0-A66A-BF567576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5483E-18BA-4C7A-97DF-650116132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6942D-957D-44B6-9638-E66DE633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6B972-4A95-45E4-AE15-2B123E24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1975F-4F1B-417E-8F9C-FAC5B7F3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21620-CBEA-4F58-846D-DAD89AE60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d0d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d0d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322F3-9807-4104-908A-DACA2B9EE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3352320"/>
            <a:ext cx="81532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Проект на тему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«Вредные привычки среди подростков».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Выполнили: Королёва Л., Назимова Ю., Белицкая А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Руководитель проекта: Красильникова Е.В.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438280" y="228600"/>
            <a:ext cx="4724640" cy="306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Исследования учащихся 7А класса на предмет курения.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143000" y="2209680"/>
            <a:ext cx="7009560" cy="4453200"/>
            <a:chOff x="1143000" y="2209680"/>
            <a:chExt cx="7009560" cy="4453200"/>
          </a:xfrm>
        </p:grpSpPr>
        <p:cxnSp>
          <p:nvCxnSpPr>
            <p:cNvPr id="127" name="_s188420"/>
            <p:cNvCxnSpPr>
              <a:stCxn id="128" idx="0"/>
              <a:endCxn id="129" idx="2"/>
            </p:cNvCxnSpPr>
            <p:nvPr/>
          </p:nvCxnSpPr>
          <p:spPr>
            <a:xfrm flipV="1" rot="16200000">
              <a:off x="5428800" y="3209040"/>
              <a:ext cx="891360" cy="2453760"/>
            </a:xfrm>
            <a:prstGeom prst="bentConnector3">
              <a:avLst>
                <a:gd name="adj1" fmla="val 1414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0" name="_s188421"/>
            <p:cNvCxnSpPr>
              <a:stCxn id="131" idx="0"/>
              <a:endCxn id="129" idx="2"/>
            </p:cNvCxnSpPr>
            <p:nvPr/>
          </p:nvCxnSpPr>
          <p:spPr>
            <a:xfrm flipV="1">
              <a:off x="4647960" y="3990600"/>
              <a:ext cx="2880" cy="891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2" name="_s188422"/>
            <p:cNvCxnSpPr>
              <a:stCxn id="133" idx="0"/>
              <a:endCxn id="129" idx="2"/>
            </p:cNvCxnSpPr>
            <p:nvPr/>
          </p:nvCxnSpPr>
          <p:spPr>
            <a:xfrm flipH="1" flipV="1" rot="5400000">
              <a:off x="2974680" y="3209400"/>
              <a:ext cx="891360" cy="2453760"/>
            </a:xfrm>
            <a:prstGeom prst="bentConnector3">
              <a:avLst>
                <a:gd name="adj1" fmla="val 1414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9" name="_s188423"/>
            <p:cNvSpPr/>
            <p:nvPr/>
          </p:nvSpPr>
          <p:spPr>
            <a:xfrm>
              <a:off x="3596400" y="2209680"/>
              <a:ext cx="2102760" cy="178128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аш класс 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ур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188424"/>
            <p:cNvSpPr/>
            <p:nvPr/>
          </p:nvSpPr>
          <p:spPr>
            <a:xfrm>
              <a:off x="1143000" y="4881600"/>
              <a:ext cx="2102760" cy="178128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3 челове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уря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188425"/>
            <p:cNvSpPr/>
            <p:nvPr/>
          </p:nvSpPr>
          <p:spPr>
            <a:xfrm>
              <a:off x="3596400" y="4881600"/>
              <a:ext cx="2102760" cy="178128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 челове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бросили кури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188426"/>
            <p:cNvSpPr/>
            <p:nvPr/>
          </p:nvSpPr>
          <p:spPr>
            <a:xfrm>
              <a:off x="6049800" y="4881600"/>
              <a:ext cx="2102760" cy="178128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 челове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е начинал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Количество учащихся – 27 человек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Рассматриваемый период – ноябрь – декабрь 2009 г.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Исследования учащихся 7А класса на предмет употребления алкоголя.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Количество учащихся – 27 человек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34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Рассматриваемый период – ноябрь – декабрь 2009 г.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066680" y="2438280"/>
            <a:ext cx="7086240" cy="4067280"/>
            <a:chOff x="1066680" y="2438280"/>
            <a:chExt cx="7086240" cy="4067280"/>
          </a:xfrm>
        </p:grpSpPr>
        <p:cxnSp>
          <p:nvCxnSpPr>
            <p:cNvPr id="138" name="_s190472"/>
            <p:cNvCxnSpPr>
              <a:stCxn id="139" idx="0"/>
              <a:endCxn id="140" idx="2"/>
            </p:cNvCxnSpPr>
            <p:nvPr/>
          </p:nvCxnSpPr>
          <p:spPr>
            <a:xfrm flipV="1" rot="16200000">
              <a:off x="5442480" y="3231000"/>
              <a:ext cx="813960" cy="2480760"/>
            </a:xfrm>
            <a:prstGeom prst="bentConnector3">
              <a:avLst>
                <a:gd name="adj1" fmla="val 1415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1" name="_s190473"/>
            <p:cNvCxnSpPr>
              <a:stCxn id="142" idx="0"/>
              <a:endCxn id="140" idx="2"/>
            </p:cNvCxnSpPr>
            <p:nvPr/>
          </p:nvCxnSpPr>
          <p:spPr>
            <a:xfrm flipV="1">
              <a:off x="4609800" y="4064400"/>
              <a:ext cx="2880" cy="813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3" name="_s190474"/>
            <p:cNvCxnSpPr>
              <a:stCxn id="144" idx="0"/>
              <a:endCxn id="140" idx="2"/>
            </p:cNvCxnSpPr>
            <p:nvPr/>
          </p:nvCxnSpPr>
          <p:spPr>
            <a:xfrm flipH="1" flipV="1" rot="5400000">
              <a:off x="2962440" y="3231000"/>
              <a:ext cx="813960" cy="2480760"/>
            </a:xfrm>
            <a:prstGeom prst="bentConnector3">
              <a:avLst>
                <a:gd name="adj1" fmla="val 1415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0" name="_s190475"/>
            <p:cNvSpPr/>
            <p:nvPr/>
          </p:nvSpPr>
          <p:spPr>
            <a:xfrm>
              <a:off x="3546720" y="2438280"/>
              <a:ext cx="2125800" cy="162684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аш класс 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алкого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190476"/>
            <p:cNvSpPr/>
            <p:nvPr/>
          </p:nvSpPr>
          <p:spPr>
            <a:xfrm>
              <a:off x="1066680" y="4878720"/>
              <a:ext cx="2125800" cy="162684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Употребляют часто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 челове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190477"/>
            <p:cNvSpPr/>
            <p:nvPr/>
          </p:nvSpPr>
          <p:spPr>
            <a:xfrm>
              <a:off x="3546720" y="4878720"/>
              <a:ext cx="2125800" cy="162684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Употребляют в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семье с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разреш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родителей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2 челове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190478"/>
            <p:cNvSpPr/>
            <p:nvPr/>
          </p:nvSpPr>
          <p:spPr>
            <a:xfrm>
              <a:off x="6027120" y="4878720"/>
              <a:ext cx="2125800" cy="162684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Не употребляют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16 челове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Анкета - опрос для учащихся 6-8 классов 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«Основные проблемы молодёжи»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Ответьте на вопрос: «Какие из перечисленных молодежных проблем важны лично для вас»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По 10 бальной шкале выставите свою оценку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 №        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Проблема                             Количество баллов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1 Проблемы трудоустройства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2 Армия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3 Сдача ЕГЭ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4 Злоупотребление алкоголем и курение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5 Неумелое вмешательство родителей в судьбу детей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Результаты анкетирования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Проблема трудоустройства 9,1%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Армия 8,4%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Сдача ЕГЭ 6,3%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Злоупотребление алкоголем и курение 56,4%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Неумелое вмешательство родителей в судьбу детей 19,8%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Сигаретку на конфетку.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4191120" cy="28526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57200" y="3733920"/>
            <a:ext cx="4343400" cy="29718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876920" y="1294920"/>
            <a:ext cx="40384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Тольяттинские студенты решили помочь курящим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Пачку сигарет на интересную книгу</a:t>
            </a: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3878280" cy="26002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4614840" cy="264312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нига – лучшее увлечени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Личный дневник наблюдений.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Контролируемый параметр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1. Частота пульса(ударов в минуту) 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2. Дыхание во время кроссов на уроке физкультуры 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3. Внимательность на уроке (по 5 бальной шкале) 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4. Рост (в течении месяца) 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5. Тяга к курению(сильная, слабая, нет) 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6. Количество выкуриваемых сигарет в день 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7. Внешнее состояние кожи и зубов  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8. Запах изо рта 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9. Нервозность  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10. Занятие спортом  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Выводы.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Если вы уже начали употреблять эти вредные вещи, то самое главное  вовремя остановитьс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 целом, работа над проектом позволила нам расширить свой кругозор и узнать много полезной информации о вреде курения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езультатом нашей работы является создание комплекта эскизов в виде «открыток-плакатов» и личного дневника наблюдений за организмом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Проблема проекта.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облема: зависимость подростков от вредных привычек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Актуальность: таких подростков всё больше и возраст детей на начало вредных привычек снижается. Здоровье нации зависит от здоровья наших детей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Цель проекта.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Цель: помочь подросткам осознать вред этих привычек и научить противостоять им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Задачи проекта.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 Наглядно и доступно рассказать ребятам о возможных изменениях в организме курящего человека, в том числе и школьник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подготовить комплект эскизов в виде «открыток-плакатов», иллюстрирующих возможные последствия для курильщиков-подростков, а также рассказывающих о возможных путях выхода из вредного увлечени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 Создание личного дневник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Переходный возраст тинейджеров.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" y="2236680"/>
            <a:ext cx="4038480" cy="32511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 переходном возрасте тинейджер изменяется как физически, так и  характерном плане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Алкоголь и организм подростка.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лкоголь и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мозг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лкоголь и сердц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лкоголь и печень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371600" y="3505320"/>
            <a:ext cx="2343240" cy="3124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33520" y="1523880"/>
            <a:ext cx="40384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Курение и организм подростка.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урение и лёгки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урение и глаз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нешнее состояние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отовой полост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3624120" cy="2209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85800" y="4648320"/>
            <a:ext cx="365760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Наркотики это зло.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733560" y="3352320"/>
            <a:ext cx="4800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Он думал так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в жизни надо всё попробовать…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один раз не страшно…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чем я хуже других…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а возможно он не думал вообще…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80880" y="3962520"/>
            <a:ext cx="3048120" cy="20574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800600" y="1219320"/>
            <a:ext cx="2895480" cy="1946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457200" y="1143000"/>
            <a:ext cx="297180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Признаки и симптомы возможного употребления  ребенком наркотиков</a:t>
            </a: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ФИЗИОЛОГИЧЕСКИЕ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 бледность кожи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 расширенные или суженные зрачки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 замедленная, несвязанная речь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 плохая координация движений (пошатывание или спотыкание).</a:t>
            </a: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ПОВЕДЕНЧЕСКИЕ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 беспричинное возбуждение или вялость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 частая и резкая смена настроения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 повышенная утомляемость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ОЧЕВИДНЫЕ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 следы от уколов, порезов, синяки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 капсулы, пузырьки, жестяные банки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 пачки лекарств снотворного или успокоительного действия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me</cp:lastModifiedBy>
  <dcterms:modified xsi:type="dcterms:W3CDTF">2013-03-29T15:28:57Z</dcterms:modified>
  <cp:revision>4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