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227-9E1C-4B11-B699-DB01BD4E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8B9-3B6C-4F3E-BA7E-255E08C5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812-8E9A-4424-AB8E-02B99426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C56-5DC4-492E-AC09-32D770AC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C622-2BAB-4474-AAB0-F0147708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994C-B860-419F-A303-9C821B1F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1607-2E9B-46B8-B2AE-4F1AF0D5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E066-F24A-45FA-B3FC-1328F107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12C7-6CC6-49EB-9EE1-CF98A96D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DF04-1993-43A5-AC61-3FCE2AEE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186B-2EB3-46A6-AD45-3277CC0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C37-BBE4-488D-89F7-340FA4ED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3C3-909A-43D8-94AE-B5D3EE9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5945-99C6-4F57-BA44-FE84BA59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21CD-B5D8-44A8-A063-870D4914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CA91-3EC3-4C1A-BE0B-619E5C3A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1CD4-8A80-4209-89FF-6F879EF3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A0C-76B1-45AC-AB09-7C86C915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4D9-AC0C-4BC6-855A-239EA796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333-DB62-424A-BC29-2B7835A5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B34-AD3D-4838-A994-08E2FA0A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EDD-B799-4FA9-BD94-26BE9737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DEE-68D6-4041-A90F-B955F81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6FB-0596-4A05-BAC7-2B70E365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E868-25C8-4A01-8BB0-A20528CC07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D79F-1D21-49F0-BABE-C5B60816A9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6320" y="1357200"/>
            <a:ext cx="76201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Защита рефера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(представ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учебно-исследовательской работы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6072120" y="392904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Модели защиты реферата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</a:rPr>
              <a:t>Классическая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стное выступление старшеклассника сосредоточено на принципиальных вопрос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тема исследования и ее актуаль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круг использованных источников и основные научные ходы к проблем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новизна работы (изучение малоизвестных источников, движение новой версии, новые подходы к решению проблем и т. д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основные выводы по содержанию рефер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II. “Индивидуальна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Старшеклассник раскрывает личные аспекты работы над реферат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обоснование выбора темы рефера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способы работы над рефера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оригинальные находки, собственные суждения, интересные момен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) личная значимость проделанной работ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) перспективы продолжения исслед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259920"/>
            <a:ext cx="76201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III “Творческая”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формление стенда с документальным и иллюстративным материалом по теме исследования, их комментар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демонстрацию слайдов, видеозаписей, прослушивание аудио записей, подготовленных в процессе рефериров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яркое, оригинальное представление фрагмента основной части рефера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428760"/>
            <a:ext cx="7620120" cy="592920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ычное время для выступления на защите экзаменационного реферата, на конференциях от 5 до 10 мину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упающий должен говорить достаточно громко эмоционально, грамотно, логично, уверен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есть наглядный стендовый материал или презентация, надо использовать их данные для доказательств своих выводов и основных положени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Для выступления учащимся рекомендуется следующая схем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Представление работы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Почему выбрана данная тем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Чем эта тема актуальна, интерес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Каково ее значение для познания курса географии (экологии, истории …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Сообщение об использованных технологиях и методах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Характеристика источников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Анализ других примененных метод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речи со специалистам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а в различных организациях по сбору статистического и другого материал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320" y="285840"/>
            <a:ext cx="76201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кое изложение основных ид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ник излагает свои мысли, наблюдения выводы, положения, сделанные на основе первоисточников включенных в текст реферата. Приводит доказательства главных положений. Использует фактический и практический материал. Делает описание процесса, явления, страны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Ученик делает в лаконичной форме выводы, собирает личные открытия, составляет прогнозы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9680" y="380520"/>
            <a:ext cx="81867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Работы оцениваются по следующим критерия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428480"/>
            <a:ext cx="7791480" cy="4438440"/>
          </a:xfrm>
          <a:prstGeom prst="rect">
            <a:avLst/>
          </a:prstGeom>
          <a:solidFill>
            <a:srgbClr val="fef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уальность содержания, глубина, полнота анализа факторов, проблем, относящихся к тем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ая насыщенность, новизна, оригинальность изложения вопрос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та и доходчивость излож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ная организованность, логичность, грамматическая правильность и стилистическая выразительно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бедительность, аргументированность, практическая значимость и теоретическая обоснованность предложений и выводов, сделанных в рефер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амятка по конспектированию </a:t>
            </a:r>
            <a:br>
              <a:rPr sz="24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и составлению тезисов.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9720" y="1499760"/>
            <a:ext cx="7905960" cy="50007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делите в тексте логически законченные ч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тко сформулируйте главную мысль каждой части, выпишите их в виде заголовков в левой части развернутого листа тетради, нумеру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ждой части выделите факты и выводы, уточняющие и развивающие главную мыс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итируйте или кратко изложите их своими словами (против соответствующих заголовков, в правовой части лист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320" y="475920"/>
            <a:ext cx="76201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нот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раткая характеристика книги (или статьи), содержащая перечень основных разделов, тем или вопросов, рассматриваемых в рабо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3419640" y="3500280"/>
            <a:ext cx="23857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e2a4"/>
            </a:gs>
            <a:gs pos="100000">
              <a:srgbClr val="eef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404640"/>
          <a:ext cx="8569440" cy="6264360"/>
        </p:xfrm>
        <a:graphic>
          <a:graphicData uri="http://schemas.openxmlformats.org/drawingml/2006/table">
            <a:tbl>
              <a:tblPr/>
              <a:tblGrid>
                <a:gridCol w="2322360"/>
                <a:gridCol w="6247080"/>
              </a:tblGrid>
              <a:tr h="27561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 ЧЕМ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ниге (статье) рассматриваются вопросы …, излагаются задачи …, дается обзор …, даются сведения …; В книге (статье) рассмотрены вопросы …, главное (особое) внимание обращено на …, уделено (чему?) …, описан метод …, изложена теория …;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 анализирует, рассказывает, утверждает, предлага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</a:tr>
              <a:tr h="10555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З КАКИХ ЧАСТ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состоит из двух частей, трех разделов,  четырех глав…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ниге содержатся следующие разде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</a:tr>
              <a:tr h="13971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АК? КАКИЕ?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ниге (статье) подробно рассмотрены … приведены многочисленные примеры (цифровые данные), малоизвестные сведения, дано систематическое изложение … делается попы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</a:tr>
              <a:tr h="10555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ЛЯ КОГ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предназначена для …, а также для …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чтения книги не требуется специальных знаний в области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56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3-03-29T10:59:44Z</dcterms:modified>
  <cp:revision>35</cp:revision>
  <dc:subject/>
  <dc:title>PowerPoint Presentation</dc:title>
</cp:coreProperties>
</file>