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6766-709B-4A86-9AE8-C1100DD3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EB48-DECB-45A0-B292-01235E45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E8D1-9CD2-4EA0-B540-273A044A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3191-24A1-481A-93E2-D574F6288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DDE9-F66C-420B-93D8-BD587283C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D9D0-B645-479E-B4FB-E7FB9459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B883-D055-477F-A9E0-D5561066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BFAA-C7B6-434F-9AB3-7A0CF899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459C-9881-4956-ACB7-78D0BA1A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5FAE-4332-42D4-A4AB-B390986A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9CB6-65AC-4EC4-9004-AF09F45C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B2DC-20CC-402D-BC6D-6B7A1E23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B25E-EA34-478E-8457-F25D9292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DD31-6A44-4CB2-B4C5-CBACBC02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224A-DDCA-4CF0-B180-B79599ED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0554-4118-4E55-8984-07BEDBF2F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2DFA-9E21-407D-BCC6-07A37E05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4BED-81EE-4F75-8C64-5E4EE580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FB67-85B4-406C-A2F9-E36F61A5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5805-513C-4CD8-9D8A-998C7F3F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21DD-86DE-4690-BF2C-2C576E60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C5BB-2330-4826-8140-A8B71D59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00DB-8689-407C-B9FA-30A6ADA3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9EBE-5924-4A1B-A936-88C7C4C6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7317-A103-4173-9F4F-316AFC9F1A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744B-15A4-4AE6-93F0-94B8A5EE86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66320" y="1357200"/>
            <a:ext cx="762012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Защита рефера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(представл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учебно-исследовательской работы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C:\Program Files\Microsoft Office\MEDIA\CAGCAT10\j0233018.wmf"/>
          <p:cNvPicPr/>
          <p:nvPr/>
        </p:nvPicPr>
        <p:blipFill>
          <a:blip r:embed="rId1"/>
          <a:stretch/>
        </p:blipFill>
        <p:spPr>
          <a:xfrm>
            <a:off x="6072120" y="3929040"/>
            <a:ext cx="257508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Модели защиты реферата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</a:rPr>
              <a:t>Классическая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Устное выступление старшеклассника сосредоточено на принципиальных вопроса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тема исследования и ее актуально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круг использованных источников и основные научные ходы к проблем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новизна работы (изучение малоизвестных источников, движение новой версии, новые подходы к решению проблем и т. д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основные выводы по содержанию рефера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320" y="475920"/>
            <a:ext cx="762012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II. “Индивидуальная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Старшеклассник раскрывает личные аспекты работы над реферато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 обоснование выбора темы реферат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способы работы над реферато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) оригинальные находки, собственные суждения, интересные момент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) личная значимость проделанной работы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) перспективы продолжения исследов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66320" y="259920"/>
            <a:ext cx="762012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III “Творческая”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оформление стенда с документальным и иллюстративным материалом по теме исследования, их комментари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демонстрацию слайдов, видеозаписей, прослушивание аудио записей, подготовленных в процессе реферирова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яркое, оригинальное представление фрагмента основной части реферат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6320" y="428760"/>
            <a:ext cx="7620120" cy="5929200"/>
          </a:xfrm>
          <a:prstGeom prst="rect">
            <a:avLst/>
          </a:prstGeom>
          <a:solidFill>
            <a:srgbClr val="fefe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ычное время для выступления на защите экзаменационного реферата, на конференциях от 5 до 10 мину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тупающий должен говорить достаточно громко эмоционально, грамотно, логично, уверен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есть наглядный стендовый материал или презентация, надо использовать их данные для доказательств своих выводов и основных положений рабо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fefe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Для выступления учащимся рекомендуется следующая схема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solidFill>
            <a:srgbClr val="fefe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Представление работы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Почему выбрана данная тем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Чем эта тема актуальна, интересн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 Каково ее значение для познания курса географии (экологии, истории …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66320" y="428400"/>
            <a:ext cx="7620120" cy="5438520"/>
          </a:xfrm>
          <a:prstGeom prst="rect">
            <a:avLst/>
          </a:prstGeom>
          <a:solidFill>
            <a:srgbClr val="fefe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Сообщение об использованных технологиях и методах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Характеристика источников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Анализ других примененных методов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тречи со специалистам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а в различных организациях по сбору статистического и другого материал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66320" y="285840"/>
            <a:ext cx="762012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аткое изложение основных ид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еник излагает свои мысли, наблюдения выводы, положения, сделанные на основе первоисточников включенных в текст реферата. Приводит доказательства главных положений. Использует фактический и практический материал. Делает описание процесса, явления, страны и т.д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Заключ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Ученик делает в лаконичной форме выводы, собирает личные открытия, составляет прогнозы и т.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9680" y="380520"/>
            <a:ext cx="818676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Работы оцениваются по следующим критериям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66320" y="1428480"/>
            <a:ext cx="7791480" cy="4438440"/>
          </a:xfrm>
          <a:prstGeom prst="rect">
            <a:avLst/>
          </a:prstGeom>
          <a:solidFill>
            <a:srgbClr val="fefe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туальность содержания, глубина, полнота анализа факторов, проблем, относящихся к тем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формационная насыщенность, новизна, оригинальность изложения вопросов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стота и доходчивость изложения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уктурная организованность, логичность, грамматическая правильность и стилистическая выразительность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бедительность, аргументированность, практическая значимость и теоретическая обоснованность предложений и выводов, сделанных в рефера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Памятка по конспектированию </a:t>
            </a:r>
            <a:br>
              <a:rPr sz="2400"/>
            </a:b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и составлению тезисов.</a:t>
            </a:r>
            <a:br>
              <a:rPr sz="2400"/>
            </a:b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9720" y="1499760"/>
            <a:ext cx="7905960" cy="500076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делите в тексте логически законченные ча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атко сформулируйте главную мысль каждой части, выпишите их в виде заголовков в левой части развернутого листа тетради, нумеру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каждой части выделите факты и выводы, уточняющие и развивающие главную мысл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итируйте или кратко изложите их своими словами (против соответствующих заголовков, в правовой части листа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66320" y="475920"/>
            <a:ext cx="762012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ннот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краткая характеристика книги (или статьи), содержащая перечень основных разделов, тем или вопросов, рассматриваемых в работ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C:\Program Files\Microsoft Office\MEDIA\CAGCAT10\j0217698.wmf"/>
          <p:cNvPicPr/>
          <p:nvPr/>
        </p:nvPicPr>
        <p:blipFill>
          <a:blip r:embed="rId1"/>
          <a:stretch/>
        </p:blipFill>
        <p:spPr>
          <a:xfrm>
            <a:off x="3419640" y="3500280"/>
            <a:ext cx="238572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e2a4"/>
            </a:gs>
            <a:gs pos="100000">
              <a:srgbClr val="eef5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95280" y="404640"/>
          <a:ext cx="8569440" cy="6264360"/>
        </p:xfrm>
        <a:graphic>
          <a:graphicData uri="http://schemas.openxmlformats.org/drawingml/2006/table">
            <a:tbl>
              <a:tblPr/>
              <a:tblGrid>
                <a:gridCol w="2322360"/>
                <a:gridCol w="6247080"/>
              </a:tblGrid>
              <a:tr h="27561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 ЧЕМ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56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книге (статье) рассматриваются вопросы …, излагаются задачи …, дается обзор …, даются сведения …; В книге (статье) рассмотрены вопросы …, главное (особое) внимание обращено на …, уделено (чему?) …, описан метод …, изложена теория …;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р анализирует, рассказывает, утверждает, предлага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56f"/>
                    </a:solidFill>
                  </a:tcPr>
                </a:tc>
              </a:tr>
              <a:tr h="10555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З КАКИХ ЧАСТЕЙ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56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нига состоит из двух частей, трех разделов,  четырех глав…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книге содержатся следующие разде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56f"/>
                    </a:solidFill>
                  </a:tcPr>
                </a:tc>
              </a:tr>
              <a:tr h="13971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КАК? КАКИЕ?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56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книге (статье) подробно рассмотрены … приведены многочисленные примеры (цифровые данные), малоизвестные сведения, дано систематическое изложение … делается попы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56f"/>
                    </a:solidFill>
                  </a:tcPr>
                </a:tc>
              </a:tr>
              <a:tr h="10555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ДЛЯ КОГО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56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нига предназначена для …, а также для …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чтения книги не требуется специальных знаний в области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56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на</cp:lastModifiedBy>
  <dcterms:modified xsi:type="dcterms:W3CDTF">2013-03-29T10:59:44Z</dcterms:modified>
  <cp:revision>35</cp:revision>
  <dc:subject/>
  <dc:title>PowerPoint Presentation</dc:title>
</cp:coreProperties>
</file>