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19.jpeg" ContentType="image/jpeg"/>
  <Override PartName="/ppt/media/image4.jpeg" ContentType="image/jpeg"/>
  <Override PartName="/ppt/media/image40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34.png" ContentType="image/png"/>
  <Override PartName="/ppt/media/image46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CC2-32B4-4B83-A638-D730E109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E56-9CE4-488B-ACA9-78D7A4E1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788-66D4-4EF4-B59B-59D990C4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0AA-9013-4533-B6DD-AB3C1AFA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6C8F-DBC9-4DF5-B421-9C886A77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A4E3-D9ED-44DF-8DD1-4DB2B848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9D8D-BF1B-4643-B011-A6A2108F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3E82-D0AA-4B8D-ABD4-F2572466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DC7E-A4E5-4315-867B-B7130E31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C389-7672-43F3-88C0-2C330897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661F-733E-448E-8059-CC94D21C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DED-C786-4BC1-9A76-57D280AC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8881-FCB3-4A7C-9A75-9A90ECF4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4D5D-146B-4284-9112-E1C9C906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2CB3-33A9-4F7B-BA5F-480D73FC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5616-2CF9-462B-8102-046895E6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B516-5C76-4724-8463-B00F7F9B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6A7-5A30-4E78-8F62-9495FFDE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637-CD3E-446B-926D-08FBBB41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B31-C2E7-42DB-BDF3-DE69555F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6C4-8696-43BF-982E-9542D98D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223-FDFE-4996-9174-0082D7B5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2EB-B19F-46EE-A518-FFE26FB9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A3F-8348-45E8-9D87-2BB39D49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FE5D-99CF-4939-9A8C-18624C3CD0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AABE-4ACE-418B-88B5-A913C7BC7F0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he_Trinity_Cathedral_Troitse_Sergiyeva_Lavra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cc00"/>
                </a:solidFill>
                <a:latin typeface="Garamond"/>
              </a:rPr>
              <a:t>ЗОЛОТОЕ  КОЛЬЦО  РОССИИ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Ростов Великий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кинувшийся на берегу живописного Неро озера, - настоящий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город-музей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обладающий драгоценными сокровищами русской культуры, привлекающий многочисленных туристов, путешествующих по Золотому кольцу Росси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00720" y="2205000"/>
            <a:ext cx="3311280" cy="3889440"/>
            <a:chOff x="4500720" y="2205000"/>
            <a:chExt cx="3311280" cy="38894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4500720" y="2205000"/>
              <a:ext cx="331128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3" name=""/>
            <p:cNvSpPr txBox="1"/>
            <p:nvPr/>
          </p:nvSpPr>
          <p:spPr>
            <a:xfrm>
              <a:off x="4500720" y="2205000"/>
              <a:ext cx="3311280" cy="388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00720" y="6180120"/>
            <a:ext cx="49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рковь Одигитри. 169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Ярославль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один из красивейших городов Золотого кольца Росси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Величественный город, раскинувшийся на высоком берегу Волги, богат архитектурными и культурными памятникам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усской истор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948360" y="189000"/>
            <a:ext cx="1756080" cy="1969920"/>
            <a:chOff x="6948360" y="189000"/>
            <a:chExt cx="1756080" cy="19699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6948360" y="189000"/>
              <a:ext cx="1756080" cy="19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6948360" y="189000"/>
              <a:ext cx="1756080" cy="196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4195440" cy="331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3924360" y="6093000"/>
            <a:ext cx="71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асо – Преображенский монаст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Кострома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 обоих берегах Волги располагается город Кострома, известный уникальными фресками Ипатьевского и Богоявленского монастырей. История и архитектура города дает представление о развитии здесь льняной промышленности. Юрьев-Польской, возникший в верховьях реки Колокши, знаменит белокаменным Георгиевским собором 12 века, а город Плес — Успенским собором 17 ве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093080" y="11592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59280" y="2133720"/>
            <a:ext cx="2565360" cy="341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4643280" y="5661000"/>
            <a:ext cx="40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патьевский монасты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оицкий со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Иваново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В архитектурном плане Иваново известно прежде всего памятниками, относящимися к эпохе конструктивизма (30-е годы XX в.). В городе существует большое количество историко-революционных памятников, придающих ему своеобразный колорит. Определенный интерес представляет и промышленная архитектура XIX 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3999240" cy="300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643280" y="56768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Храм Святой Трои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а площади Пушк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Мышкин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уникальный город Золотого кольц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стоящий несколько на отшибе от классического Золотого кольца России, но неизменно привлекающий туристов самобытностью и нетрадиционностью экскурс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32360" y="2276640"/>
            <a:ext cx="3297240" cy="3698640"/>
            <a:chOff x="4932360" y="2276640"/>
            <a:chExt cx="3297240" cy="369864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4932360" y="2276640"/>
              <a:ext cx="3297240" cy="3698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59" name=""/>
            <p:cNvSpPr txBox="1"/>
            <p:nvPr/>
          </p:nvSpPr>
          <p:spPr>
            <a:xfrm>
              <a:off x="4932360" y="2276640"/>
              <a:ext cx="3297240" cy="369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932360" y="603576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Музей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Вологда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амый северный город, входящий в Золотое кольцо России, расположен на берегу небольшой реки с одноименным названием. Город Вологда, впервые упоминаемый в летописи 1147 года, основан новгородцами на пути волока, соединявшего бассейны рек Сухона и Шексн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932360" y="2637000"/>
            <a:ext cx="3598920" cy="3314520"/>
            <a:chOff x="4932360" y="2637000"/>
            <a:chExt cx="3598920" cy="331452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4932360" y="2637000"/>
              <a:ext cx="3598920" cy="33145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66" name=""/>
            <p:cNvSpPr txBox="1"/>
            <p:nvPr/>
          </p:nvSpPr>
          <p:spPr>
            <a:xfrm>
              <a:off x="4932360" y="2637000"/>
              <a:ext cx="3598920" cy="331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04000" y="33336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716360" y="62514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асо-Прилуцкий монаст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Муром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город, стоящий на высоком левом берегу реки Оки, считается Родиной русского былинного героя Ильи Муромца. Город Муром, впервые упоминаемый в летописи 862 года, - уникальный город Золотого кольца, где сплетаются воедино истовое православие и древнее язычество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003640" y="2421000"/>
            <a:ext cx="3164040" cy="3549600"/>
            <a:chOff x="5003640" y="2421000"/>
            <a:chExt cx="3164040" cy="354960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5003640" y="2421000"/>
              <a:ext cx="3164040" cy="35496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73" name=""/>
            <p:cNvSpPr txBox="1"/>
            <p:nvPr/>
          </p:nvSpPr>
          <p:spPr>
            <a:xfrm>
              <a:off x="5003640" y="2421000"/>
              <a:ext cx="3164040" cy="354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932360" y="6108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Благовещенский монаст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Коломна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дин из старейших городов Золотого кольца, расположенный на берегу Коломенки, в месте впадения Москва-реки в Оку. Город Коломна, впервые упоминаемый в Лаврентьевской летописи 1177 года, сочетает в себе современность, патриархальность и мощь Коломенского Кремл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788000" y="2205000"/>
            <a:ext cx="3163680" cy="3549600"/>
            <a:chOff x="4788000" y="2205000"/>
            <a:chExt cx="3163680" cy="35496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4788000" y="2205000"/>
              <a:ext cx="3163680" cy="35496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80" name=""/>
            <p:cNvSpPr txBox="1"/>
            <p:nvPr/>
          </p:nvSpPr>
          <p:spPr>
            <a:xfrm>
              <a:off x="4788000" y="2205000"/>
              <a:ext cx="3163680" cy="354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500720" y="5877000"/>
            <a:ext cx="44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то-Троицкий Новоголут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енский монаст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Рязань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дин из городов на южных рубежах Золотого кольца, расположенный в месте слияния рек Трубеж и Лыбедь, недалеко от Оки. Город Рязань впервые упоминает Следованная псалтырь в 1095 году, как Переяславль, позднее ставший Рязанью Указом Екатерины II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076720" y="2205000"/>
            <a:ext cx="3164040" cy="3549600"/>
            <a:chOff x="5076720" y="2205000"/>
            <a:chExt cx="3164040" cy="354960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5076720" y="2205000"/>
              <a:ext cx="3164040" cy="35496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87" name=""/>
            <p:cNvSpPr txBox="1"/>
            <p:nvPr/>
          </p:nvSpPr>
          <p:spPr>
            <a:xfrm>
              <a:off x="5076720" y="2205000"/>
              <a:ext cx="3164040" cy="354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859280" y="58197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язань. Кремль. В центре – Успен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Боголюбово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большой городок, расположенный в месте впадения реки Нерль в Клязьму, в 10 км к северу-востоку от Владимира. Град Боголюбов, заложенный в 1158 году князем Боголюбским и служивший ему загородной резиденцией, был первым каменным городом Северо-восточной Руси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48360" y="1557360"/>
            <a:ext cx="3436920" cy="3855960"/>
            <a:chOff x="5148360" y="1557360"/>
            <a:chExt cx="3436920" cy="385596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5148360" y="1557360"/>
              <a:ext cx="3436920" cy="3855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 txBox="1"/>
            <p:nvPr/>
          </p:nvSpPr>
          <p:spPr>
            <a:xfrm>
              <a:off x="5148360" y="1557360"/>
              <a:ext cx="3436920" cy="385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610160" y="5748480"/>
            <a:ext cx="42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Церковь Покрова на Нер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16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 северо-востоке Центральной России, совсем недалеко от Москвы расположено несколько древнерусских городов. Они связаны друг с другом общей непростой историей и самое примечательное — сохранившимися памятниками древнерусского зодчества. Эти земли помнят Ярослава Мудрого и Владимира Мономаха, Александра Невского и Дмитрия Пожарского; здесь черпали свое вдохновение художники Исаак Левитан и Константин Коровин, Михаил Врубель и Виктор Васнецов, Федор Василье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ермин «Золотое кольцо» был предложен литератором Юрием Бычковым в 1967 году. Этим названием он озаглавил цикл очерков о русских городах и их достопримечательност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9900"/>
                </a:solidFill>
                <a:latin typeface="Garamond"/>
              </a:rPr>
              <a:t>Кидекша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большое село, расположенное недалеко от Суздаля в устье реки Каменка, впадающей в Нерль. Село Кидекша служило загородной резиденцией князя Юрия Долгорукого, центром которой была церковь Бориса и Глеба - древнейший белокаменный храм Северо-восточной Рус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003640" y="1628640"/>
            <a:ext cx="3513240" cy="3942000"/>
            <a:chOff x="5003640" y="1628640"/>
            <a:chExt cx="3513240" cy="394200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5003640" y="1628640"/>
              <a:ext cx="3513240" cy="3942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00" name=""/>
            <p:cNvSpPr txBox="1"/>
            <p:nvPr/>
          </p:nvSpPr>
          <p:spPr>
            <a:xfrm>
              <a:off x="5003640" y="1628640"/>
              <a:ext cx="3513240" cy="394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559400" y="5892840"/>
            <a:ext cx="41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Борисоглебская це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Александров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рупный туристический и культурный центр Владимирской области недалеко от Сергиева Посада, в самом центре Золотого кольца России. Александровская Слобода, а ныне город Александров, был главной царской резиденцией Ивана Грозного и фактической столицей древней Руси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003640" y="2349360"/>
            <a:ext cx="3164040" cy="3549960"/>
            <a:chOff x="5003640" y="2349360"/>
            <a:chExt cx="3164040" cy="354996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5003640" y="2349360"/>
              <a:ext cx="3164040" cy="3549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06" name=""/>
            <p:cNvSpPr txBox="1"/>
            <p:nvPr/>
          </p:nvSpPr>
          <p:spPr>
            <a:xfrm>
              <a:off x="5003640" y="2349360"/>
              <a:ext cx="3164040" cy="354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459240" y="6108840"/>
            <a:ext cx="54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нсамбль Александровской слоб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Гороховец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дин из «малых» городов Владимирской области, расположенный на восточной границе Золотого кольца России. Город Гороховец, сохранивший свой неповторимый шарм и провинциальность, оставляет ощущение, что XVII-XVIII век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где-то совсем рядо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148360" y="2349360"/>
            <a:ext cx="3027240" cy="3395880"/>
            <a:chOff x="5148360" y="2349360"/>
            <a:chExt cx="3027240" cy="339588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5148360" y="2349360"/>
              <a:ext cx="3027240" cy="3395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13" name=""/>
            <p:cNvSpPr txBox="1"/>
            <p:nvPr/>
          </p:nvSpPr>
          <p:spPr>
            <a:xfrm>
              <a:off x="5148360" y="2349360"/>
              <a:ext cx="3027240" cy="339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67120" y="610884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ом Сапожникова - Ерш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Плёс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ревний русский город в Приволжском районе Ивановской области, входящий в Золотое кольцо России. Город Плес - великолепный памятник русской природы, прославленный великим русским художником Исааком Ильичем Левитано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932360" y="2421000"/>
            <a:ext cx="3164040" cy="3549600"/>
            <a:chOff x="4932360" y="2421000"/>
            <a:chExt cx="3164040" cy="35496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4932360" y="2421000"/>
              <a:ext cx="3164040" cy="35496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20" name=""/>
            <p:cNvSpPr txBox="1"/>
            <p:nvPr/>
          </p:nvSpPr>
          <p:spPr>
            <a:xfrm>
              <a:off x="4932360" y="2421000"/>
              <a:ext cx="3164040" cy="354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04000" y="260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863960" y="609300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Церков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арвары Великомуче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Городец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ываемый «Город Мастеров», еще один центр худоственных промыслов, прославивший города Золотого кольца России знаменитой городецкой сюжетной росписи и золотной вышивкой, а также изумительной по красоте резьбой по дереву и др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643280" y="2565360"/>
            <a:ext cx="3544920" cy="3467160"/>
            <a:chOff x="4643280" y="2565360"/>
            <a:chExt cx="3544920" cy="346716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4643280" y="2565360"/>
              <a:ext cx="3544920" cy="3467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27" name=""/>
            <p:cNvSpPr txBox="1"/>
            <p:nvPr/>
          </p:nvSpPr>
          <p:spPr>
            <a:xfrm>
              <a:off x="4643280" y="2565360"/>
              <a:ext cx="3544920" cy="346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750200" y="6251400"/>
            <a:ext cx="35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Городец. Панорама гор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Рыбинск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расположен на берегу реки Волга у входа в Рыбинское водохранилищ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толица бурлак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о второй половины 19в. Интенсивно развивалась промышленность,  появились мукомольные и судостроительные пред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076720" y="2349360"/>
            <a:ext cx="3164040" cy="3549960"/>
            <a:chOff x="5076720" y="2349360"/>
            <a:chExt cx="3164040" cy="354996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5076720" y="2349360"/>
              <a:ext cx="3164040" cy="3549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34" name=""/>
            <p:cNvSpPr txBox="1"/>
            <p:nvPr/>
          </p:nvSpPr>
          <p:spPr>
            <a:xfrm>
              <a:off x="5076720" y="2349360"/>
              <a:ext cx="3164040" cy="354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995640" y="596412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амятник бурла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а Волжской набережной. 197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Тутаев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ород га берегу реки Волги (Романов-Борисоглебск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ород основан угличским князем Романом Владимировиче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Тутаевском районе разводят романовскую породу овец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500720" y="2421000"/>
            <a:ext cx="3882960" cy="3549600"/>
            <a:chOff x="4500720" y="2421000"/>
            <a:chExt cx="3882960" cy="354960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4500720" y="2421000"/>
              <a:ext cx="3882960" cy="35496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241" name=""/>
            <p:cNvSpPr txBox="1"/>
            <p:nvPr/>
          </p:nvSpPr>
          <p:spPr>
            <a:xfrm>
              <a:off x="4500720" y="2421000"/>
              <a:ext cx="3882960" cy="354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995640" y="6035760"/>
            <a:ext cx="46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еображенско-Казанская це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левобережной части города. 175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Гусь - Хрустальный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ород во Владимирской обла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таринный центр хрустально-стекольной промышлен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648320" y="2852640"/>
            <a:ext cx="3789360" cy="307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284720" y="60357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Храм Св. Георгия Победонос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547640" y="4724280"/>
            <a:ext cx="2067120" cy="1543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Калязин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город в Тверской области на правом берегу реки Волг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снован в 1434 год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азвивалось кузнечное дело, плетение кружев, строительство суд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249720" cy="364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883120" y="6370560"/>
            <a:ext cx="27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51280" y="618012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олокольня Никольского соб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ысота 74 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Палех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ёлок городского типа в Ивановской обла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центр русского народного искусства – миниатюрной живопис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3163680" cy="3549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987640" y="4653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003640" y="61801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естовоздвиженская це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Garamond"/>
              </a:rPr>
              <a:t>Золото́е кольцо́ Росси́и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 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ли посмотреть на карту, то становится понятно, почему маршрут по этим местам стал называться «Золотое кольцо»: старинные русские города образуют на карте как бы окружность. В «Золотое кольцо» входят: Сергиев Посад, Переславль-Залесский, Ростов Великий, Ярославль, Кострома, Плес, Владимир, Боголюбово, Суздаль, Юрьев-Польской, Углич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таринные храмы, образцы деревянного зодчества, уникальные фрески и иконы можно увидеть во всех городах «Золотого кольца». Архитекторы, живописцы, мастера декоративно-прикладного искусства приглашают вас совершить путешествие в далекое прошлое, увидеть облик многих древних улиц, площадей и урочищ старейших городов Северо-Восточной Ру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Владимир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утешествие по «Золотому кольцу» по традиции начинается с Владимира. Это один из древнейших русских городов. Он раскинулся на зеленых живописных холмах левого берега реки Клязьмы. Здесь находится уникальный памятник 12 века — Золотые ворота и красивейший Дмитриевский собор. Неподалеку от Владимира, при впадении Нерли в Клязьму стоит один из первых каменных храмов на Руси — церковь Покрова на Нерли (12 век). А это значит, мы можем получить представление, какими были храмы в глубокой древ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3772080" cy="2828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5003640" y="56037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олотые в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Суздаль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много севернее Владимира расположен город Суздаль — один из наиболее ярких представителей зодчества Руси. Многочисленные деревянные постройки расскажут об удивительных способностях наших предков строить без гвоздя и молотка. Недалеко от Москвы находится город Сергиев Посад. В середине 14 века старец Сергий Радонежский основал здесь знаменитый Троице-Сергиев монастырь, который по сей день является важнейшим культурным и духовным центром Росс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3630600" cy="27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4716360" y="56037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окровский монасты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Переславль Залесски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ород Переславль-Залесский славится могучим Спасо-Преображенским собором и монастырями. Старейший из которых — Никитский монастырь, расположен на самом крупном озере средней полосы России — Плещеевом озере. Наглядное представление о каждодневной жизни древних русичей дает внутреннее убранство ростовских митрополичьих и государских хор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2803320" cy="418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00720" y="603576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асо-Преображенский со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Углич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Город Углич раскинулся на живописных берегах Верхней Волги. Город вошел в историю после трагических событий: здесь произошло убийство царевича Дмитрия, которое впоследствии привело к известным событиям, названным историками Смутным временем (начало 17 века). Ярославль — крупный торговый центр Древней Руси, находился на пути транзитной торговли. Наряду с красивейшими соборами и церквями в Ярославле сохранились и многочисленные «подворья» иностранных купц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59280" y="2205000"/>
            <a:ext cx="2987640" cy="3352680"/>
            <a:chOff x="4859280" y="2205000"/>
            <a:chExt cx="2987640" cy="335268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4859280" y="2205000"/>
              <a:ext cx="2987640" cy="33526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0" name=""/>
            <p:cNvSpPr txBox="1"/>
            <p:nvPr/>
          </p:nvSpPr>
          <p:spPr>
            <a:xfrm>
              <a:off x="4859280" y="2205000"/>
              <a:ext cx="2987640" cy="33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00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27640" y="5676840"/>
            <a:ext cx="44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няжеские палаты. Часть княжеского комплекса князя Андрея Васильевича Больш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00"/>
                </a:solidFill>
                <a:latin typeface="Garamond"/>
              </a:rPr>
              <a:t>Сергиев Посад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крупный духовный, туристический, культурный и административный центр Московской области. В Троице-Сергиевой Лавре города Сергиева Посада покоятся мощи Преподобного Сергия Радонежского, именем которого и назван этот древний город Золотого кольц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628640"/>
            <a:ext cx="2471760" cy="370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093080" y="18900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0" y="5516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Троицкий соб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Троице-Сергиевой лав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0:36:50Z</dcterms:created>
  <dc:creator>Владелец</dc:creator>
  <dc:description/>
  <dc:language>en-US</dc:language>
  <cp:lastModifiedBy>Владелец</cp:lastModifiedBy>
  <dcterms:modified xsi:type="dcterms:W3CDTF">2013-03-28T16:00:35Z</dcterms:modified>
  <cp:revision>3</cp:revision>
  <dc:subject/>
  <dc:title>ЗОЛОТОЕ  КОЛЬЦО  РОССИИ</dc:title>
</cp:coreProperties>
</file>