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40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471-590A-41C5-AEEA-AEB18683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C7B-57FA-46CB-83A7-671C9385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CAF-5251-48D9-958A-95D9D01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D9F-5BD9-4AF4-95E4-F57FFB1F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3769-0A49-4A3B-B04B-DEEC6190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273-B1B9-466D-97D6-4270E0BF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F54F-6191-4AAE-8808-8302428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892-4863-4083-8DF3-EF7835A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3EBD-7D87-4CC6-9AC2-1E2A276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1D35-59C3-4731-9A87-B4EE06D5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D504-A8DC-43B6-9948-583105A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6E7-F9D2-4A8F-B19E-D5323D9C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0C3-F8FE-493E-B08E-BE2DC7A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039-CABE-43AC-A32C-04B06B5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90A6-926F-4EF0-8A00-6FB5B7D3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F8AF-17A1-479D-9F49-BFCE8978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90D1-3A12-49AB-BF86-62EECC6F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9CA-1B41-4DF6-90DC-FEE7FD5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1B1-6396-447E-ACAB-07C9F7B7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F8C-7106-494D-8C7D-4918E110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B42-1798-42AC-8ECD-58038F5A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48F-D03B-4029-9215-1E6A5F2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819-5C97-4F53-975D-DB61CE6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B4E-2C90-4FF2-A6A7-BF3226E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5AD-F888-4A94-B4FE-7984C89786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4BC-535F-4859-BB3D-C09EF90F46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e_Trinity_Cathedral_Troitse_Sergiyeva_Lavra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cc00"/>
                </a:solidFill>
                <a:latin typeface="Garamond"/>
              </a:rPr>
              <a:t>ЗОЛОТОЕ  КОЛЬЦО  РОССИИ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остов Великий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кинувшийся на берегу живописного Неро озера, - настоящий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ород-музей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обладающий драгоценными сокровищами русской культуры, привлекающий многочисленных туристов, путешествующих по Золотому кольцу Росс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0720" y="2205000"/>
            <a:ext cx="3311280" cy="3889440"/>
            <a:chOff x="4500720" y="2205000"/>
            <a:chExt cx="3311280" cy="38894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500720" y="2205000"/>
              <a:ext cx="331128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3" name=""/>
            <p:cNvSpPr txBox="1"/>
            <p:nvPr/>
          </p:nvSpPr>
          <p:spPr>
            <a:xfrm>
              <a:off x="4500720" y="2205000"/>
              <a:ext cx="3311280" cy="38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00720" y="6180120"/>
            <a:ext cx="49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рковь Одигитри. 169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Ярославл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дин из красивейших городов Золотого кольца Росси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Величественный город, раскинувшийся на высоком берегу Волги, богат архитектурными и культурными памятникам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усской истор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948360" y="189000"/>
            <a:ext cx="1756080" cy="1969920"/>
            <a:chOff x="6948360" y="189000"/>
            <a:chExt cx="1756080" cy="1969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948360" y="189000"/>
              <a:ext cx="175608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6948360" y="189000"/>
              <a:ext cx="1756080" cy="19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95440" cy="331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924360" y="609300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 – Преображ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остром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обоих берегах Волги располагается город Кострома, известный уникальными фресками Ипатьевского и Богоявленского монастырей. История и архитектура города дает представление о развитии здесь льняной промышленности. Юрьев-Польской, возникший в верховьях реки Колокши, знаменит белокаменным Георгиевским собором 12 века, а город Плес — Успенским собором 17 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2565360" cy="34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643280" y="566100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патьевский монас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оиц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Иваново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 архитектурном плане Иваново известно прежде всего памятниками, относящимися к эпохе конструктивизма (30-е годы XX в.). В городе существует большое количество историко-революционных памятников, придающих ему своеобразный колорит. Определенный интерес представляет и промышленная архитектура XIX 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399924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643280" y="56768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рам Святой Тро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а площади Пу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Мышк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никальный город Золотого кольц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стоящий несколько на отшибе от классического Золотого кольца России, но неизменно привлекающий туристов самобытностью и нетрадиционностью экскурс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32360" y="2276640"/>
            <a:ext cx="3297240" cy="3698640"/>
            <a:chOff x="4932360" y="2276640"/>
            <a:chExt cx="3297240" cy="36986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4932360" y="2276640"/>
              <a:ext cx="3297240" cy="3698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9" name=""/>
            <p:cNvSpPr txBox="1"/>
            <p:nvPr/>
          </p:nvSpPr>
          <p:spPr>
            <a:xfrm>
              <a:off x="4932360" y="2276640"/>
              <a:ext cx="3297240" cy="369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60357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узе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Вологд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амый северный город, входящий в Золотое кольцо России, расположен на берегу небольшой реки с одноименным названием. Город Вологда, впервые упоминаемый в летописи 1147 года, основан новгородцами на пути волока, соединявшего бассейны рек Сухона и Шексн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932360" y="2637000"/>
            <a:ext cx="3598920" cy="3314520"/>
            <a:chOff x="4932360" y="2637000"/>
            <a:chExt cx="3598920" cy="33145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4932360" y="2637000"/>
              <a:ext cx="3598920" cy="33145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932360" y="2637000"/>
              <a:ext cx="3598920" cy="331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16360" y="62514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-Прилуц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Муром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ород, стоящий на высоком левом берегу реки Оки, считается Родиной русского былинного героя Ильи Муромца. Город Муром, впервые упоминаемый в летописи 862 года, - уникальный город Золотого кольца, где сплетаются воедино истовое православие и древнее язычество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03640" y="2421000"/>
            <a:ext cx="3164040" cy="3549600"/>
            <a:chOff x="5003640" y="2421000"/>
            <a:chExt cx="3164040" cy="35496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003640" y="2421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003640" y="2421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32360" y="6108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лаговещ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оломн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дин из старейших городов Золотого кольца, расположенный на берегу Коломенки, в месте впадения Москва-реки в Оку. Город Коломна, впервые упоминаемый в Лаврентьевской летописи 1177 года, сочетает в себе современность, патриархальность и мощь Коломенского Крем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788000" y="2205000"/>
            <a:ext cx="3163680" cy="3549600"/>
            <a:chOff x="4788000" y="2205000"/>
            <a:chExt cx="3163680" cy="35496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788000" y="2205000"/>
              <a:ext cx="316368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788000" y="2205000"/>
              <a:ext cx="316368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0720" y="5877000"/>
            <a:ext cx="44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-Троицкий Новоголут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язан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дин из городов на южных рубежах Золотого кольца, расположенный в месте слияния рек Трубеж и Лыбедь, недалеко от Оки. Город Рязань впервые упоминает Следованная псалтырь в 1095 году, как Переяславль, позднее ставший Рязанью Указом Екатерины II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076720" y="2205000"/>
            <a:ext cx="3164040" cy="3549600"/>
            <a:chOff x="5076720" y="2205000"/>
            <a:chExt cx="3164040" cy="354960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076720" y="2205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7" name=""/>
            <p:cNvSpPr txBox="1"/>
            <p:nvPr/>
          </p:nvSpPr>
          <p:spPr>
            <a:xfrm>
              <a:off x="5076720" y="2205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59280" y="58197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язань. Кремль. В центре – Усп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Боголюбово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большой городок, расположенный в месте впадения реки Нерль в Клязьму, в 10 км к северу-востоку от Владимира. Град Боголюбов, заложенный в 1158 году князем Боголюбским и служивший ему загородной резиденцией, был первым каменным городом Северо-восточной Рус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48360" y="1557360"/>
            <a:ext cx="3436920" cy="3855960"/>
            <a:chOff x="5148360" y="1557360"/>
            <a:chExt cx="3436920" cy="38559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5148360" y="1557360"/>
              <a:ext cx="3436920" cy="3855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 txBox="1"/>
            <p:nvPr/>
          </p:nvSpPr>
          <p:spPr>
            <a:xfrm>
              <a:off x="5148360" y="1557360"/>
              <a:ext cx="3436920" cy="38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610160" y="5748480"/>
            <a:ext cx="42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Церковь Покрова на Нер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16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северо-востоке Центральной России, совсем недалеко от Москвы расположено несколько древнерусских городов. Они связаны друг с другом общей непростой историей и самое примечательное — сохранившимися памятниками древнерусского зодчества. Эти земли помнят Ярослава Мудрого и Владимира Мономаха, Александра Невского и Дмитрия Пожарского; здесь черпали свое вдохновение художники Исаак Левитан и Константин Коровин, Михаил Врубель и Виктор Васнецов, Федор Василь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ермин «Золотое кольцо» был предложен литератором Юрием Бычковым в 1967 году. Этим названием он озаглавил цикл очерков о русских городах и их достопримечательност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Кидекш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большое село, расположенное недалеко от Суздаля в устье реки Каменка, впадающей в Нерль. Село Кидекша служило загородной резиденцией князя Юрия Долгорукого, центром которой была церковь Бориса и Глеба - древнейший белокаменный храм Северо-восточн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03640" y="1628640"/>
            <a:ext cx="3513240" cy="3942000"/>
            <a:chOff x="5003640" y="1628640"/>
            <a:chExt cx="3513240" cy="394200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5003640" y="1628640"/>
              <a:ext cx="3513240" cy="3942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00" name=""/>
            <p:cNvSpPr txBox="1"/>
            <p:nvPr/>
          </p:nvSpPr>
          <p:spPr>
            <a:xfrm>
              <a:off x="5003640" y="1628640"/>
              <a:ext cx="3513240" cy="394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59400" y="5892840"/>
            <a:ext cx="41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орисоглеб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Александр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рупный туристический и культурный центр Владимирской области недалеко от Сергиева Посада, в самом центре Золотого кольца России. Александровская Слобода, а ныне город Александров, был главной царской резиденцией Ивана Грозного и фактической столицей древней Руси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03640" y="2349360"/>
            <a:ext cx="3164040" cy="3549960"/>
            <a:chOff x="5003640" y="2349360"/>
            <a:chExt cx="3164040" cy="35499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5003640" y="2349360"/>
              <a:ext cx="3164040" cy="3549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06" name=""/>
            <p:cNvSpPr txBox="1"/>
            <p:nvPr/>
          </p:nvSpPr>
          <p:spPr>
            <a:xfrm>
              <a:off x="5003640" y="2349360"/>
              <a:ext cx="3164040" cy="354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59240" y="610884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самбль Александровской слоб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ороховец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дин из «малых» городов Владимирской области, расположенный на восточной границе Золотого кольца России. Город Гороховец, сохранивший свой неповторимый шарм и провинциальность, оставляет ощущение, что XVII-XVIII в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де-то совсем ряд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48360" y="2349360"/>
            <a:ext cx="3027240" cy="3395880"/>
            <a:chOff x="5148360" y="2349360"/>
            <a:chExt cx="3027240" cy="33958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5148360" y="2349360"/>
              <a:ext cx="3027240" cy="3395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13" name=""/>
            <p:cNvSpPr txBox="1"/>
            <p:nvPr/>
          </p:nvSpPr>
          <p:spPr>
            <a:xfrm>
              <a:off x="5148360" y="2349360"/>
              <a:ext cx="3027240" cy="33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67120" y="610884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ом Сапожникова - Ерш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Плё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евний русский город в Приволжском районе Ивановской области, входящий в Золотое кольцо России. Город Плес - великолепный памятник русской природы, прославленный великим русским художником Исааком Ильичем Левитан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32360" y="2421000"/>
            <a:ext cx="3164040" cy="3549600"/>
            <a:chOff x="4932360" y="2421000"/>
            <a:chExt cx="3164040" cy="35496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932360" y="2421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20" name=""/>
            <p:cNvSpPr txBox="1"/>
            <p:nvPr/>
          </p:nvSpPr>
          <p:spPr>
            <a:xfrm>
              <a:off x="4932360" y="2421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63960" y="609300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Церк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арвары Великомуче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ородец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ываемый «Город Мастеров», еще один центр худоственных промыслов, прославивший города Золотого кольца России знаменитой городецкой сюжетной росписи и золотной вышивкой, а также изумительной по красоте резьбой по дереву и др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43280" y="2565360"/>
            <a:ext cx="3544920" cy="3467160"/>
            <a:chOff x="4643280" y="2565360"/>
            <a:chExt cx="3544920" cy="346716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643280" y="2565360"/>
              <a:ext cx="3544920" cy="3467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27" name=""/>
            <p:cNvSpPr txBox="1"/>
            <p:nvPr/>
          </p:nvSpPr>
          <p:spPr>
            <a:xfrm>
              <a:off x="4643280" y="2565360"/>
              <a:ext cx="3544920" cy="346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750200" y="625140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родец. Панорама г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ыбинск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сположен на берегу реки Волга у входа в Рыбинское водохранилищ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олица бурл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о второй половины 19в. Интенсивно развивалась промышленность,  появились мукомольные и судостроительные пред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76720" y="2349360"/>
            <a:ext cx="3164040" cy="3549960"/>
            <a:chOff x="5076720" y="2349360"/>
            <a:chExt cx="3164040" cy="35499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076720" y="2349360"/>
              <a:ext cx="3164040" cy="3549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34" name=""/>
            <p:cNvSpPr txBox="1"/>
            <p:nvPr/>
          </p:nvSpPr>
          <p:spPr>
            <a:xfrm>
              <a:off x="5076720" y="2349360"/>
              <a:ext cx="3164040" cy="354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95640" y="59641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мятник бурл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а Волжской набережной. 197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Тутае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ород га берегу реки Волги (Романов-Борисоглебск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ород основан угличским князем Романом Владимирович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Тутаевском районе разводят романовскую породу ове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00720" y="2421000"/>
            <a:ext cx="3882960" cy="3549600"/>
            <a:chOff x="4500720" y="2421000"/>
            <a:chExt cx="3882960" cy="35496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500720" y="2421000"/>
              <a:ext cx="388296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1" name=""/>
            <p:cNvSpPr txBox="1"/>
            <p:nvPr/>
          </p:nvSpPr>
          <p:spPr>
            <a:xfrm>
              <a:off x="4500720" y="2421000"/>
              <a:ext cx="388296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603576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ображенско-Казан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левобережной части города. 175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усь - Хрустальный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ород во Владимирской об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аринный центр хрустально-стекольной промышле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2852640"/>
            <a:ext cx="378936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84720" y="60357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рам Св. Георгия Победонос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аляз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ород в Тверской области на правом берегу реки Вол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снован в 1434 год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звивалось кузнечное дело, плетение кружев, строительство су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249720" cy="364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883120" y="6370560"/>
            <a:ext cx="27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61801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окольня Никольского соб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ота 74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Палех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ёлок городского типа в Ивановской об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ентр русского народного искусства – миниатюрной живоп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163680" cy="354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003640" y="61801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стовоздвижен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Золото́е кольцо́ Росси́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 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посмотреть на карту, то становится понятно, почему маршрут по этим местам стал называться «Золотое кольцо»: старинные русские города образуют на карте как бы окружность. В «Золотое кольцо» входят: Сергиев Посад, Переславль-Залесский, Ростов Великий, Ярославль, Кострома, Плес, Владимир, Боголюбово, Суздаль, Юрьев-Польской, Угл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аринные храмы, образцы деревянного зодчества, уникальные фрески и иконы можно увидеть во всех городах «Золотого кольца». Архитекторы, живописцы, мастера декоративно-прикладного искусства приглашают вас совершить путешествие в далекое прошлое, увидеть облик многих древних улиц, площадей и урочищ старейших городов Северо-Восточной Ру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Владимир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тешествие по «Золотому кольцу» по традиции начинается с Владимира. Это один из древнейших русских городов. Он раскинулся на зеленых живописных холмах левого берега реки Клязьмы. Здесь находится уникальный памятник 12 века — Золотые ворота и красивейший Дмитриевский собор. Неподалеку от Владимира, при впадении Нерли в Клязьму стоит один из первых каменных храмов на Руси — церковь Покрова на Нерли (12 век). А это значит, мы можем получить представление, какими были храмы в глубокой древ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772080" cy="282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003640" y="56037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олотые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Суздал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много севернее Владимира расположен город Суздаль — один из наиболее ярких представителей зодчества Руси. Многочисленные деревянные постройки расскажут об удивительных способностях наших предков строить без гвоздя и молотка. Недалеко от Москвы находится город Сергиев Посад. В середине 14 века старец Сергий Радонежский основал здесь знаменитый Троице-Сергиев монастырь, который по сей день является важнейшим культурным и духовным центром Росс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630600" cy="27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716360" y="56037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кров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Переславль Залесск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ород Переславль-Залесский славится могучим Спасо-Преображенским собором и монастырями. Старейший из которых — Никитский монастырь, расположен на самом крупном озере средней полосы России — Плещеевом озере. Наглядное представление о каждодневной жизни древних русичей дает внутреннее убранство ростовских митрополичьих и государских х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2803320" cy="418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60357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-Преображ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Углич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Город Углич раскинулся на живописных берегах Верхней Волги. Город вошел в историю после трагических событий: здесь произошло убийство царевича Дмитрия, которое впоследствии привело к известным событиям, названным историками Смутным временем (начало 17 века). Ярославль — крупный торговый центр Древней Руси, находился на пути транзитной торговли. Наряду с красивейшими соборами и церквями в Ярославле сохранились и многочисленные «подворья» иностранных купц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59280" y="2205000"/>
            <a:ext cx="2987640" cy="3352680"/>
            <a:chOff x="4859280" y="2205000"/>
            <a:chExt cx="298764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859280" y="2205000"/>
              <a:ext cx="298764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859280" y="2205000"/>
              <a:ext cx="2987640" cy="33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56768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няжеские палаты. Часть княжеского комплекса князя Андрея Васильевича Больш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Сергиев Посад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рупный духовный, туристический, культурный и административный центр Московской области. В Троице-Сергиевой Лавре города Сергиева Посада покоятся мощи Преподобного Сергия Радонежского, именем которого и назван этот древний город Золотого кольц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628640"/>
            <a:ext cx="2471760" cy="370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0" y="5516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роиц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роице-Сергиевой л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36:50Z</dcterms:created>
  <dc:creator>Владелец</dc:creator>
  <dc:description/>
  <dc:language>en-US</dc:language>
  <cp:lastModifiedBy>Владелец</cp:lastModifiedBy>
  <dcterms:modified xsi:type="dcterms:W3CDTF">2013-03-28T16:00:35Z</dcterms:modified>
  <cp:revision>3</cp:revision>
  <dc:subject/>
  <dc:title>ЗОЛОТОЕ  КОЛЬЦО  РОССИИ</dc:title>
</cp:coreProperties>
</file>