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9.wmf" ContentType="image/x-wmf"/>
  <Override PartName="/ppt/media/image1.jpeg" ContentType="image/jpe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wmf" ContentType="image/x-wmf"/>
  <Override PartName="/ppt/media/image14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dsf dsfz fze ey ytkuilh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50D6B517-E06A-48B6-84BB-875E8E0D5C29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wmf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7" descr="sdqvdsvd geg ey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1042920" y="765000"/>
            <a:ext cx="7345440" cy="37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ffff"/>
                </a:solidFill>
                <a:latin typeface="Arial"/>
              </a:rPr>
              <a:t>Балаларның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интеллектуаль </a:t>
            </a:r>
            <a:r>
              <a:rPr b="0" i="1" lang="tt-RU" sz="4400" spc="-1" strike="noStrike">
                <a:solidFill>
                  <a:srgbClr val="ffffff"/>
                </a:solidFill>
                <a:latin typeface="Arial"/>
              </a:rPr>
              <a:t>сәләтләрен үстерүдә фән түгәрәкләренең р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18"/>
          <p:cNvSpPr/>
          <p:nvPr/>
        </p:nvSpPr>
        <p:spPr>
          <a:xfrm>
            <a:off x="1042920" y="765000"/>
            <a:ext cx="7345440" cy="37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ffff"/>
                </a:solidFill>
                <a:latin typeface="Arial"/>
              </a:rPr>
              <a:t>Балаларның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интеллектуаль </a:t>
            </a:r>
            <a:r>
              <a:rPr b="0" i="1" lang="tt-RU" sz="4400" spc="-1" strike="noStrike">
                <a:solidFill>
                  <a:srgbClr val="ffffff"/>
                </a:solidFill>
                <a:latin typeface="Arial"/>
              </a:rPr>
              <a:t>сәләтләрен үстерүдә фән түгәрәкләренең р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80643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помочь ребенку при подготовке к экзамена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 тревожьтесь о количестве баллов, которые ребенок получит на экзамене, и не критикуйте ребенка после экзамена. Внушайте ребенку мысль, что количество баллов не является совершенным измерением его возможностей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 повышайте тревожность ребенка накануне экзаменов - это может отрицательно сказаться на результате тестирования. Ребенку всегда передается волнение родителей и, если взрослые в ответственный момент могут справиться со своими эмоциями, то ребенок в силу возрастных особенностей может эмоционально «сорваться»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дбадривайте детей, хвалите их за то, что они делают хорошо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вышайте их уверенность в себе, так как чем больше ребенок боится неудачи, тем более вероятности допущения ошибок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аблюдайте за самочувствием ребенка никто, кроме Вас не сможет вовремя заметить и предотвратить ухудшение состояние ребенка связанное с переутомлением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Контролируйте режим подготовки ребенка, не допускайте перегрузок, объясните ему, что он обязательно должен чередовать занятия с отдыхом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беспечьте дома удобное место для занятий, проследите, чтобы никто из домашних не мешал подготовке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братите внимание на питание ребенка во время интенсивного умственного напряжения, ему необходима питательная и разнообразная пища и сбалансированный комплекс витаминов. Такие продукты, как рыба, творог, орехи курага и т.д. стимулируют работу головного мозга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могите детям распределить темы подготовки по дням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знакомьте ребенка с методикой подготовки к экзаменам. Не имеет смысла зазубривать весь фактический материал, достаточно просмотреть ключевые моменты и уловить смысл и логику материала. Очень полезно делать краткие схематические выписки и таблицы, упорядочивая изучаемый материал по плану. Основные формулы и определения можно выписать на листочках и повесить над письменным столом, над кроватью, в столовой и т.д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дготовьте различные варианты тестовых заданий по предмету (сейчас существует множество различных сборников тестовых заданий). Большое значение имеет тренаж ребенка именно по тестированию, ведь эта форма отличается от привычных письменных и устных экзаменов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Заранее во время тренировки по тестовым заданиям приучайте ребенка ориентироваться во времени и уметь его распределять. Тогда у ребенка будет навык умения концентрироваться на протяжении всего тестирования, что придаст ему спокойствие и снимет излишнюю тревожность. Если ребенок не носит часов, обязательно дайте ему часы на экзамен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акануне экзамена обеспечьте ребенку полноценный отдых, он должен отдохнуть и как следует высп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Имтихандагы уңыш (100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5"/>
          <p:cNvGraphicFramePr/>
          <p:nvPr/>
        </p:nvGraphicFramePr>
        <p:xfrm>
          <a:off x="1258920" y="1773360"/>
          <a:ext cx="5183280" cy="445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73360"/>
                    <a:ext cx="518328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 Box 8"/>
          <p:cNvSpPr/>
          <p:nvPr/>
        </p:nvSpPr>
        <p:spPr>
          <a:xfrm>
            <a:off x="6948360" y="2060640"/>
            <a:ext cx="21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3"/>
          <a:stretch/>
        </p:blipFill>
        <p:spPr>
          <a:xfrm>
            <a:off x="7236000" y="4724280"/>
            <a:ext cx="151128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6948360" y="198900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Бу нәрсәләргә бәй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Имтихандагы уңы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6"/>
          <p:cNvGraphicFramePr/>
          <p:nvPr/>
        </p:nvGraphicFramePr>
        <p:xfrm>
          <a:off x="457200" y="1838160"/>
          <a:ext cx="8229600" cy="404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38160"/>
                    <a:ext cx="822960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 нче оч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20108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Дүрткә-бишкә генә укып йөрүче укучы пробный ЕГЭдан күңел төшенкелеге белән кайтып керде. Бу очракта сез әти-әни буларак нәрсә эшләр идегез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 нче оч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ала компьютер алдында кич буе утыра. Әнисе кисәтү ясагач, бала: “Мин дәрескә әзерләнәм, тестлар эшлим”,- дип җавап бирә. Сез бу җаваптан канәга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 булып китеп барасызм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 нче оч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35280" y="1844640"/>
            <a:ext cx="64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ала компьютерда имтиханга әзерләнеп утырганда музыка да кычкыртып куя. Сез моңа каршы киләсезм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 нче оч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аланың түгәрәккә барасы бар. Ә шулвакыт әнисе: “Бүгенгә түгәрәккә бармассың, чирләдем дип әйтерсең. Әтиең хәзер кайткач, безнең Чаллыга барасы бар, син апаеңны карарсың”, - ди. Бу әни дөрес эшләдем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 нче оч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86920" y="1628640"/>
            <a:ext cx="751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7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ер әти-әни баласын гел дәрес кенә әзерләтә: уйнатмый да, спорт түгәрәгенә дә җибәрми, эшләтми дә, ә баланың билгеләре барыбер өчледән артмый. Сез әти-әнигә нинди киңәш бирер идегез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6948360" y="404640"/>
            <a:ext cx="1511280" cy="132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1778040" cy="132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800000" cy="128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943280" cy="128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5"/>
          <a:stretch/>
        </p:blipFill>
        <p:spPr>
          <a:xfrm>
            <a:off x="6804000" y="4653000"/>
            <a:ext cx="1954080" cy="1954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3564000" y="5435640"/>
            <a:ext cx="2171520" cy="142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i?id=178203353-29-72&amp;n=21"/>
          <p:cNvPicPr/>
          <p:nvPr/>
        </p:nvPicPr>
        <p:blipFill>
          <a:blip r:embed="rId7"/>
          <a:stretch/>
        </p:blipFill>
        <p:spPr>
          <a:xfrm>
            <a:off x="3780000" y="333360"/>
            <a:ext cx="20095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7"/>
          <p:cNvSpPr txBox="1"/>
          <p:nvPr/>
        </p:nvSpPr>
        <p:spPr>
          <a:xfrm>
            <a:off x="3203640" y="227664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уклан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21" descr="0_6915b_fb849240_XL"/>
          <p:cNvPicPr/>
          <p:nvPr/>
        </p:nvPicPr>
        <p:blipFill>
          <a:blip r:embed="rId8"/>
          <a:stretch/>
        </p:blipFill>
        <p:spPr>
          <a:xfrm>
            <a:off x="2700360" y="3645000"/>
            <a:ext cx="1800360" cy="138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7" descr="i?id=489403720-54-72&amp;n=21"/>
          <p:cNvPicPr/>
          <p:nvPr/>
        </p:nvPicPr>
        <p:blipFill>
          <a:blip r:embed="rId9"/>
          <a:stretch/>
        </p:blipFill>
        <p:spPr>
          <a:xfrm>
            <a:off x="6877080" y="2492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9" descr="i?id=313737440-27-72&amp;n=21"/>
          <p:cNvPicPr/>
          <p:nvPr/>
        </p:nvPicPr>
        <p:blipFill>
          <a:blip r:embed="rId10"/>
          <a:stretch/>
        </p:blipFill>
        <p:spPr>
          <a:xfrm>
            <a:off x="4788000" y="3645000"/>
            <a:ext cx="1944720" cy="129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Күнегүлә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6920" y="2331720"/>
            <a:ext cx="1584360" cy="30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м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i?id=363169794-63-72&amp;n=21"/>
          <p:cNvPicPr/>
          <p:nvPr/>
        </p:nvPicPr>
        <p:blipFill>
          <a:blip r:embed="rId1"/>
          <a:stretch/>
        </p:blipFill>
        <p:spPr>
          <a:xfrm>
            <a:off x="3132000" y="2276640"/>
            <a:ext cx="5832720" cy="401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4357440" y="196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476360" y="836640"/>
            <a:ext cx="619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2124000" y="907920"/>
            <a:ext cx="628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Ата-ана өчен тәрбияле баладан да зур байлык булмас. Тәрбияле бала дөньяда җанга шатлык китерсә, ахирәттә йөзгә аклык китер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3059280" y="9079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Канатлы с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4211640" y="3789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Р. Фәхред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9" descr="i?id=187186718-37-72&amp;n=21"/>
          <p:cNvPicPr/>
          <p:nvPr/>
        </p:nvPicPr>
        <p:blipFill>
          <a:blip r:embed="rId1"/>
          <a:stretch/>
        </p:blipFill>
        <p:spPr>
          <a:xfrm>
            <a:off x="6888240" y="3429000"/>
            <a:ext cx="193500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Күнегүлә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38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Һава тутырылган ш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648240" cy="46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итуация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Бала мәктәптә сыйныфташлары белән якалашкач, сезне ашыгыч рәвештә мәктәпкә чакыралар. Мондый очракта сез нишләр идеге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а) баланы җәзага тарт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б) кыйнашның ничек килеп чыкканын ачыклагач, нинди адым ясарга кирәклеген билгел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в) иң элек сыйныф җитәкчесе белән сөйләшеп а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i?id=577403222-10-72&amp;n=21"/>
          <p:cNvPicPr/>
          <p:nvPr/>
        </p:nvPicPr>
        <p:blipFill>
          <a:blip r:embed="rId1"/>
          <a:stretch/>
        </p:blipFill>
        <p:spPr>
          <a:xfrm>
            <a:off x="7696080" y="5229360"/>
            <a:ext cx="1447920" cy="142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итуация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Өй җыештырырга булышканда, бала, ялгышып, вазаны төшереп ватты. Сез бу очракта нинди чара күрерсе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) җилкәсенә берне тамы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б) бүлмәдән куып чыгар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в) баланы тынычланды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i?id=274404926-23-72&amp;n=21"/>
          <p:cNvPicPr/>
          <p:nvPr/>
        </p:nvPicPr>
        <p:blipFill>
          <a:blip r:embed="rId1"/>
          <a:stretch/>
        </p:blipFill>
        <p:spPr>
          <a:xfrm>
            <a:off x="6600960" y="5229360"/>
            <a:ext cx="2543040" cy="142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итуация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Әгәр сез улыгызга яки кызыгызга җәза бирүнең гадел булмавын аңласагы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) дәрәҗәмне төшермәс өчен, дәшми кал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б) гафу үтенә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в) үз гаебемне таныйм, өлкәннәрнең дә ялгышу ихтималын аңла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i?id=21696334-69-72&amp;n=21"/>
          <p:cNvPicPr/>
          <p:nvPr/>
        </p:nvPicPr>
        <p:blipFill>
          <a:blip r:embed="rId1"/>
          <a:stretch/>
        </p:blipFill>
        <p:spPr>
          <a:xfrm>
            <a:off x="7812000" y="5229360"/>
            <a:ext cx="1150920" cy="162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итуация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Эштән арып кайткан чагыгыз. Балагыз сезне сораулар, үтенечләр белән күмә. Бу очракта нишләр идеге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а)  “Бер генә минут булса да, мине борчымыйча тора аласыңмы?” – дип, аны бүлдерә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б) телемә нәрсә туры килсә, шуны әйтә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в) арып кайтуымны аңлатам һәм әңгәмәне соңрак вакытта дәвам итәргә вәгъдә бирә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55520" y="-685800"/>
            <a:ext cx="21528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итуация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Бала инша язуда ярдәм сор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) караламага язып бирәм, аңа күчереп алырга гына к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б) “Үзең яз. Шулай тырышканда гына эшкә өйрәнергә мөмкин”, - дип әйтә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в) тема сайлап алырга, әдәбият табарга булышам, ә аннары мөстәкыйль рәвештә инша язарга тәкъдим итә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7491"/>
          <p:cNvPicPr/>
          <p:nvPr/>
        </p:nvPicPr>
        <p:blipFill>
          <a:blip r:embed="rId1"/>
          <a:stretch/>
        </p:blipFill>
        <p:spPr>
          <a:xfrm>
            <a:off x="7164360" y="5608800"/>
            <a:ext cx="1979640" cy="124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Ихтибарыгыз өче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рәхмәт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2627280" y="1270080"/>
            <a:ext cx="619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035080" y="404640"/>
            <a:ext cx="652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Мәктәпнең төп макс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195640" y="1484280"/>
            <a:ext cx="619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укучыларның эчке мөмкинлекләрен, яшь  үзенчәлекләрен исәпкә алып, шәхес буларак ачу, үстерү һәм камилләштерү, тормышта үзенә урын табарга ярдәм ит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укучыларның белемнәрен тирәнәйтү, логик фикерләү сәләтләрен үстерү, зирәклек, ихтыяр көче тәрбияләү, ЕГЭ һәм ГИАга әзерлә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332000" y="47628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Түгәрәкнең төп макс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Яш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ь математик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” түгәрә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65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SC04870"/>
          <p:cNvPicPr/>
          <p:nvPr/>
        </p:nvPicPr>
        <p:blipFill>
          <a:blip r:embed="rId1"/>
          <a:stretch/>
        </p:blipFill>
        <p:spPr>
          <a:xfrm>
            <a:off x="1908000" y="155736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Математика серләре” түгәрә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8170291"/>
          <p:cNvPicPr/>
          <p:nvPr/>
        </p:nvPicPr>
        <p:blipFill>
          <a:blip r:embed="rId1"/>
          <a:stretch/>
        </p:blipFill>
        <p:spPr>
          <a:xfrm>
            <a:off x="1979640" y="1557360"/>
            <a:ext cx="6481800" cy="48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Русское слово” түгәрәг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8170289"/>
          <p:cNvPicPr/>
          <p:nvPr/>
        </p:nvPicPr>
        <p:blipFill>
          <a:blip r:embed="rId1"/>
          <a:stretch/>
        </p:blipFill>
        <p:spPr>
          <a:xfrm>
            <a:off x="1979640" y="1413000"/>
            <a:ext cx="6408720" cy="480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Олимпиада нәтиҗәлә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ffffff"/>
                </a:solidFill>
                <a:latin typeface="Arial"/>
              </a:rPr>
              <a:t>2008-2009 нчы уку елында 7 призлы уры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ffffff"/>
                </a:solidFill>
                <a:latin typeface="Arial"/>
              </a:rPr>
              <a:t>2009-2010 нчы уку елында 5 призлы уры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ffffff"/>
                </a:solidFill>
                <a:latin typeface="Arial"/>
              </a:rPr>
              <a:t>2010-2011 нче уку елында 15 призлы уры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ffffff"/>
                </a:solidFill>
                <a:latin typeface="Arial"/>
              </a:rPr>
              <a:t>2011-2012 нче уку елында 11 призлы уры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ffffff"/>
                </a:solidFill>
                <a:latin typeface="Arial"/>
              </a:rPr>
              <a:t>2012-2013 нче уку елында 5 призлы уры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7708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Экзамен (лат) - сынау, имтихан –испытание –тягостное пер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724360" y="3716280"/>
            <a:ext cx="2511720" cy="247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Зулейха</cp:lastModifiedBy>
  <dcterms:modified xsi:type="dcterms:W3CDTF">2013-01-14T09:11:34Z</dcterms:modified>
  <cp:revision>42</cp:revision>
  <dc:subject/>
  <dc:title>Shining Purple Curves</dc:title>
</cp:coreProperties>
</file>