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2C8-F487-4348-B1E2-B1DB9327B6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F80-5F04-4948-9717-8486CE04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7B2-1EF1-4E82-A79A-140CB2A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CCA-7426-4351-B1F0-8B94CB47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763-22B7-4AF3-9B12-DC0AD3DB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094-4F4F-45E3-BBAA-B3FF4C74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8BCE-811A-4CFC-8BDE-2B401B8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962-D7E9-4ED1-909F-898040E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8B15-C746-4661-819F-47A4454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A13F-ECC0-4CFE-BD3D-E635E33B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2AE5-9966-4E3C-A4C9-2639A385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02B9-4C50-4DD0-A7A4-F8BD277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014-989B-4C74-A215-80439310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C644-D911-4EF7-824F-A469CCE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D686-C14F-449D-92F6-7A6AA5A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19D2-F7E1-4683-AA3F-14716FB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A712-CC3E-4D29-B088-6657BD2E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34F-26E7-45ED-A29D-CC7FB360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90D-042B-499A-BB65-BEDA1263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757-8514-4CCC-8A4D-8A8240D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969-7B98-4744-BBA0-23153813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35A-0E4B-4274-8079-D5C9FFBE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CF5-F409-45A7-BFC0-D1527D9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6DD-B9D6-4E0D-8CD9-8A1E198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E88-60F2-436D-A3F2-4D92C92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123-06B4-45B9-93D0-9556C1B1E0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ED91-CCD4-41E7-BCC7-581B2681A2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16200" y="34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031840" y="333360"/>
            <a:ext cx="57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 клас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91628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Единицы измерения длины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антиметр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643720"/>
            <a:ext cx="47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готов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алахутдинова Зульфия Тагир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imes New Roman"/>
              </a:rPr>
              <a:t>Устаревшие единицы изме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локо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саж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пя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вершо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ладонь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дюй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ф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539640" y="11592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8094" t="0" r="5598" b="48369"/>
          <a:stretch/>
        </p:blipFill>
        <p:spPr>
          <a:xfrm>
            <a:off x="1004760" y="1700280"/>
            <a:ext cx="306252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24761" t="60215" r="44597" b="17276"/>
          <a:stretch/>
        </p:blipFill>
        <p:spPr>
          <a:xfrm>
            <a:off x="5219640" y="1757520"/>
            <a:ext cx="2737080" cy="2030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54476" t="69101" r="24" b="2961"/>
          <a:stretch/>
        </p:blipFill>
        <p:spPr>
          <a:xfrm>
            <a:off x="5003640" y="4005360"/>
            <a:ext cx="3095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6" descr=""/>
          <p:cNvPicPr/>
          <p:nvPr/>
        </p:nvPicPr>
        <p:blipFill>
          <a:blip r:embed="rId1"/>
          <a:srcRect l="30333" t="19250" r="32215" b="45902"/>
          <a:stretch/>
        </p:blipFill>
        <p:spPr>
          <a:xfrm>
            <a:off x="900000" y="1916280"/>
            <a:ext cx="3494160" cy="41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Rectangle 6" descr=""/>
          <p:cNvPicPr/>
          <p:nvPr/>
        </p:nvPicPr>
        <p:blipFill>
          <a:blip r:embed="rId2"/>
          <a:srcRect l="2476" t="81439" r="45213" b="0"/>
          <a:stretch/>
        </p:blipFill>
        <p:spPr>
          <a:xfrm>
            <a:off x="4788000" y="2637000"/>
            <a:ext cx="3671640" cy="2952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2"/>
          <p:cNvSpPr/>
          <p:nvPr/>
        </p:nvSpPr>
        <p:spPr>
          <a:xfrm>
            <a:off x="684360" y="404640"/>
            <a:ext cx="770400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Да игрушечку-кон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остом толь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тр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вершк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а с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аршинны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ушам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.П.Ерш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КОНЁК- ГОРБУН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5640" y="404640"/>
            <a:ext cx="763272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Picture 7" descr="ershov5_32.jpg"/>
          <p:cNvPicPr/>
          <p:nvPr/>
        </p:nvPicPr>
        <p:blipFill>
          <a:blip r:embed="rId1"/>
          <a:stretch/>
        </p:blipFill>
        <p:spPr>
          <a:xfrm>
            <a:off x="611280" y="2492280"/>
            <a:ext cx="3103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Rectangle 6" descr=""/>
          <p:cNvPicPr/>
          <p:nvPr/>
        </p:nvPicPr>
        <p:blipFill>
          <a:blip r:embed="rId1"/>
          <a:srcRect l="0" t="35537" r="71834" b="16781"/>
          <a:stretch/>
        </p:blipFill>
        <p:spPr>
          <a:xfrm>
            <a:off x="2771640" y="1628640"/>
            <a:ext cx="3760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Rectangle 6" descr=""/>
          <p:cNvPicPr/>
          <p:nvPr/>
        </p:nvPicPr>
        <p:blipFill>
          <a:blip r:embed="rId1"/>
          <a:srcRect l="50760" t="52319" r="24" b="31095"/>
          <a:stretch/>
        </p:blipFill>
        <p:spPr>
          <a:xfrm>
            <a:off x="684360" y="2276640"/>
            <a:ext cx="766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Сантиметр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1 см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219560"/>
            <a:ext cx="49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Times New Roman"/>
              </a:rPr>
              <a:t>АК = 1 см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197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47640" y="1484280"/>
            <a:ext cx="5924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Я узнал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было  легко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было трудно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- Мне понравилось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7120" y="15001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1268280"/>
            <a:ext cx="673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Спасибо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за  работу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Times New Roman"/>
              </a:rPr>
              <a:t>на уроке!</a:t>
            </a: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ы друг друга поним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Хорошо всегда счит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А задачи мы реш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На уроке засып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Пожелаем всем удачи – 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За работу, в добрый ча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ум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друж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вним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стар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 первом классе учимс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ё у нас получится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Rectangle 6" descr=""/>
          <p:cNvPicPr/>
          <p:nvPr/>
        </p:nvPicPr>
        <p:blipFill>
          <a:blip r:embed="rId1"/>
          <a:stretch/>
        </p:blipFill>
        <p:spPr>
          <a:xfrm>
            <a:off x="4524480" y="1628640"/>
            <a:ext cx="3592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+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+3         5+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lt;6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5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Times New Roman"/>
              </a:rPr>
              <a:t>Измерь длину отрез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Чтобы измерить длину, надо выбрать мерку и узнать, сколько раз она содержится в измеряемой величин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7120" y="574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971640" y="5661000"/>
            <a:ext cx="71992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 попугаев</a:t>
            </a:r>
            <a:endParaRPr b="0" lang="en-US" sz="72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02Z</dcterms:created>
  <dc:creator>Customer</dc:creator>
  <dc:description/>
  <dc:language>en-US</dc:language>
  <cp:lastModifiedBy>User</cp:lastModifiedBy>
  <dcterms:modified xsi:type="dcterms:W3CDTF">2013-03-30T12:41:11Z</dcterms:modified>
  <cp:revision>93</cp:revision>
  <dc:subject/>
  <dc:title>Сосна и Ел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110000000000010250600207b74006b004c800</vt:lpwstr>
  </property>
</Properties>
</file>