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1E24-9BDF-4330-8C2C-480209D65A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340-6618-4ED5-BC88-AA3EDCD3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870-9D76-4579-8BB5-C4C2AEE4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3D5-DF16-46F7-866B-67A8418E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6BE-9BF9-48E9-BA15-D1715DEB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F634-42A8-42B9-9214-4130747E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E72C-11B7-4668-B806-9ECBF3A2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003-E053-4E3D-A2F1-822A5F77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C53B-DF1F-417C-89FB-ACC82AB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2CED-3A4C-45A1-91F6-65A29572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1121-9439-443A-9D45-C69C796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1DEA-22CD-4656-B40D-73A2BCC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FF0-AC8A-4DA2-8F36-7C3D6096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3413-8F49-4471-AE80-1AE29C8F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939C-B4C4-45BE-A54A-896B146C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4482-0F37-4256-941F-D21855EF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AAC0-0476-4CC6-AE6A-9AB841EF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6C7C-29E9-4074-B97F-9547D7B8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C3B-AE07-4FA0-AA17-BD8C94CA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607-3796-46BF-A950-A062D223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C7E-35CE-424D-BC6A-ED9F9143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A9A-C197-4C94-88FB-FF24236F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4F0-3E2D-40A8-8635-D9D5F2B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9DC-CF99-4A88-9B20-F785DE3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112-815C-4758-B9A0-B7C657A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5068-EA47-4271-BB58-6CB45A68E6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0A17-97F9-45C6-9165-008DED0C60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16200" y="34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031840" y="333360"/>
            <a:ext cx="57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Математика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 клас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916280"/>
            <a:ext cx="748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Единицы измерения длины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антиметр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643720"/>
            <a:ext cx="47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дготовил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алахутдинова Зульфия Тагир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imes New Roman"/>
              </a:rPr>
              <a:t>Устаревшие единицы измер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локо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саж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пя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вершо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ладонь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я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дюй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фут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539640" y="11592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8094" t="0" r="5598" b="48369"/>
          <a:stretch/>
        </p:blipFill>
        <p:spPr>
          <a:xfrm>
            <a:off x="1004760" y="1700280"/>
            <a:ext cx="3062520" cy="475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24761" t="60215" r="44597" b="17276"/>
          <a:stretch/>
        </p:blipFill>
        <p:spPr>
          <a:xfrm>
            <a:off x="5219640" y="1757520"/>
            <a:ext cx="2737080" cy="203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54476" t="69101" r="24" b="2961"/>
          <a:stretch/>
        </p:blipFill>
        <p:spPr>
          <a:xfrm>
            <a:off x="5003640" y="4005360"/>
            <a:ext cx="309564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6" descr=""/>
          <p:cNvPicPr/>
          <p:nvPr/>
        </p:nvPicPr>
        <p:blipFill>
          <a:blip r:embed="rId1"/>
          <a:srcRect l="30333" t="19250" r="32215" b="45902"/>
          <a:stretch/>
        </p:blipFill>
        <p:spPr>
          <a:xfrm>
            <a:off x="900000" y="1916280"/>
            <a:ext cx="3494160" cy="41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Rectangle 6" descr=""/>
          <p:cNvPicPr/>
          <p:nvPr/>
        </p:nvPicPr>
        <p:blipFill>
          <a:blip r:embed="rId2"/>
          <a:srcRect l="2476" t="81439" r="45213" b="0"/>
          <a:stretch/>
        </p:blipFill>
        <p:spPr>
          <a:xfrm>
            <a:off x="4788000" y="2637000"/>
            <a:ext cx="367164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2"/>
          <p:cNvSpPr/>
          <p:nvPr/>
        </p:nvSpPr>
        <p:spPr>
          <a:xfrm>
            <a:off x="684360" y="404640"/>
            <a:ext cx="7704000" cy="110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Да игрушечку-конь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Ростом толь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в три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вершка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а спине с двумя горб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Да с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аршинны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ушам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П.П.Ерш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КОНЁК- ГОРБУНО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5640" y="404640"/>
            <a:ext cx="7632720" cy="110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Picture 7" descr="ershov5_32.jpg"/>
          <p:cNvPicPr/>
          <p:nvPr/>
        </p:nvPicPr>
        <p:blipFill>
          <a:blip r:embed="rId1"/>
          <a:stretch/>
        </p:blipFill>
        <p:spPr>
          <a:xfrm>
            <a:off x="611280" y="2492280"/>
            <a:ext cx="3103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Rectangle 6" descr=""/>
          <p:cNvPicPr/>
          <p:nvPr/>
        </p:nvPicPr>
        <p:blipFill>
          <a:blip r:embed="rId1"/>
          <a:srcRect l="0" t="35537" r="71834" b="16781"/>
          <a:stretch/>
        </p:blipFill>
        <p:spPr>
          <a:xfrm>
            <a:off x="2771640" y="1628640"/>
            <a:ext cx="37609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Rectangle 6" descr=""/>
          <p:cNvPicPr/>
          <p:nvPr/>
        </p:nvPicPr>
        <p:blipFill>
          <a:blip r:embed="rId1"/>
          <a:srcRect l="50760" t="52319" r="24" b="31095"/>
          <a:stretch/>
        </p:blipFill>
        <p:spPr>
          <a:xfrm>
            <a:off x="684360" y="2276640"/>
            <a:ext cx="766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Times New Roman"/>
              </a:rPr>
              <a:t>Сантиметр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2421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1 см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4219560"/>
            <a:ext cx="49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Times New Roman"/>
              </a:rPr>
              <a:t>АК = 1 см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197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0" y="2833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было легко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было трудно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понравилось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6" descr="C024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47640" y="1484280"/>
            <a:ext cx="5924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Я узнал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- Мне было  легко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- Мне было трудно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- Мне понравилось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0" y="2833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было легко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было трудно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понравилось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6" descr="C024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7120" y="150012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1268280"/>
            <a:ext cx="673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Спасибо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за  работу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на уроке!</a:t>
            </a: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ы друг друга поним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Хорошо всегда счит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А задачи мы реш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На уроке засып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Игры, шутки, всё для вас!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Пожелаем всем удачи – 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За работу, в добрый час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 – ум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- друж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- вним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 – стар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 первом классе учимс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сё у нас получится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Rectangle 6" descr=""/>
          <p:cNvPicPr/>
          <p:nvPr/>
        </p:nvPicPr>
        <p:blipFill>
          <a:blip r:embed="rId1"/>
          <a:stretch/>
        </p:blipFill>
        <p:spPr>
          <a:xfrm>
            <a:off x="4524480" y="1628640"/>
            <a:ext cx="3592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4+2         7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3+3         5+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2         7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&lt;6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5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ff"/>
                </a:solidFill>
                <a:latin typeface="Times New Roman"/>
              </a:rPr>
              <a:t>Измерь длину отрезк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Чтобы измерить длину, надо выбрать мерку и узнать, сколько раз она содержится в измеряемой величин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7120" y="5748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971640" y="5661000"/>
            <a:ext cx="71992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8 попугаев</a:t>
            </a:r>
            <a:endParaRPr b="0" lang="en-US" sz="72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5:38:02Z</dcterms:created>
  <dc:creator>Customer</dc:creator>
  <dc:description/>
  <dc:language>en-US</dc:language>
  <cp:lastModifiedBy>User</cp:lastModifiedBy>
  <dcterms:modified xsi:type="dcterms:W3CDTF">2013-03-30T12:41:11Z</dcterms:modified>
  <cp:revision>93</cp:revision>
  <dc:subject/>
  <dc:title>Сосна и Ел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110000000000010250600207b74006b004c800</vt:lpwstr>
  </property>
</Properties>
</file>