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FA2-DBCE-4783-8448-D2F0D24C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508-3319-4BF5-BC55-F5978F34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AC4-72E2-4CCF-AC6B-865A8A1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6B7-BCC6-44A9-BC9E-5AD5AD35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2A1-2B22-4E83-87FB-AB15FD3B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2EE-39C2-44F1-BC03-76B85972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AA9-3902-44D8-95DD-6C95B64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6514-C2F0-418A-B8F0-75046EF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4C3-ABD1-48BD-B721-7D65E6B3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4B8-FB22-4E24-9AE4-7159650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A67-35EB-44A7-AE47-12FE05B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C7F-80B1-49BE-9680-8849C42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7D7C-B2A1-4793-92F0-25838F12A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2.jpeg"/><Relationship Id="rId51" Type="http://schemas.openxmlformats.org/officeDocument/2006/relationships/image" Target="../media/image2.jpeg"/><Relationship Id="rId52" Type="http://schemas.openxmlformats.org/officeDocument/2006/relationships/image" Target="../media/image2.jpeg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image" Target="../media/image2.jpeg"/><Relationship Id="rId56" Type="http://schemas.openxmlformats.org/officeDocument/2006/relationships/image" Target="../media/image2.jpeg"/><Relationship Id="rId57" Type="http://schemas.openxmlformats.org/officeDocument/2006/relationships/image" Target="../media/image2.jpeg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image" Target="../media/image2.jpeg"/><Relationship Id="rId62" Type="http://schemas.openxmlformats.org/officeDocument/2006/relationships/image" Target="../media/image2.jpeg"/><Relationship Id="rId63" Type="http://schemas.openxmlformats.org/officeDocument/2006/relationships/image" Target="../media/image2.jpeg"/><Relationship Id="rId64" Type="http://schemas.openxmlformats.org/officeDocument/2006/relationships/image" Target="../media/image2.jpeg"/><Relationship Id="rId65" Type="http://schemas.openxmlformats.org/officeDocument/2006/relationships/audio" Target="../media/drumroll.wav"/><Relationship Id="rId6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777240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38088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29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2743200" y="2819520"/>
            <a:ext cx="67816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7 класс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2819520"/>
            <a:ext cx="7467480" cy="25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 о р м и р о в а н и е   л и ч н о с т и   п о д р о с т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и  е г о   в з а и м о о т н о ш е н и я 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о   с в е р с т н и к а м и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5715000"/>
            <a:ext cx="184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/З: 6.5,  6.6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33368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 Легко ли ты включаешься в новые для тебя комп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 Легко ли ты осваиваешься в новом коллекти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читаешь ли ты общение с людьми одиночест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ли ты проявляешь инициативу для знакомства с новым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ы чувствуешь себя уверенно среди малознакомы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28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64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мишься ли ты постоянно расширять круг своих знаком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увствуешь ли ты себя достаточно уверенно и спокойно, когда приходится говорить большой группе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увствуешь ли ты себя уверенно при общении с малознакомыми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++++++++++++++++++++++++++++++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8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4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9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57200"/>
            <a:ext cx="8153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зультат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3252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9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1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3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– 15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20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е сред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diamond/>
    <p:sndAc>
      <p:stSnd>
        <p:snd r:embed="rId12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зируй конфликтные ситуации, возникающие у тебя при общении со свер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арайся разобраться в причи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щи правильное решение для внесения изменений в своё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45720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комендации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4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280"/>
                            </p:stCondLst>
                            <p:childTnLst>
                              <p:par>
                                <p:cTn id="17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2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28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5" dur="3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28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8" dur="3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ричины конфликтов между подростками и взросл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ути разрешения конфликтных ситуаций между подростками и взросл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0600" spc="-1" strike="noStrike">
                <a:solidFill>
                  <a:srgbClr val="ff3300"/>
                </a:solidFill>
                <a:latin typeface="Arial"/>
              </a:rPr>
              <a:t>КОНФЛИ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(от лат. conflictus — столкновение) столкновение сторон, мнений, си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95480" y="76320"/>
            <a:ext cx="5153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ности к общени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838080"/>
          <a:ext cx="8229600" cy="574056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в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(1 бал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(0 балл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diamond/>
    <p:sndAc>
      <p:stSnd>
        <p:snd r:embed="rId65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ли у тебя друзей, с которыми ты постоянно общаеш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ть ли у тебя стремление к установлению новых знакомств с различными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ли ты устанавливаешь контакты с людьми, которые значительно старше тебя по возрас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ли тебе удается устанавливать контакты с незнакомыми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6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8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мишься ли ты при удобном случае познакомиться и побеседовать с новым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равится ли тебе находиться среди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бишь ли ты участвовать в коллективны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агаешь ли ты, что для тебя не представляет особого труда внести оживление в малознакомую тебе компа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2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3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увствуешь ли ты себя непринуждённо, попав в незнакомую тебе компа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йствительно ли у тебя много друз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ли у тебя проходит чувство обиды, причинённое тебе кем – то из знаком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бе больше нравится проводить время с людьми, чем с книгами или другими занят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88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6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04-26T05:36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