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drumroll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E547-7408-4A31-95D4-1BAD3192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660-3D1D-4F75-A30D-095BEFF5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506-4560-41FE-9A8B-A007853B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5300-24C5-403A-88B6-24D5C374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DB1-EC32-41D9-A558-80F9EA3F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AAC4-AF84-44AD-92D1-309F6BA8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936-E04F-40AE-A757-536F6444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9939-8695-4257-B1C7-610AA2EE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445-4BDC-4067-AE3F-AC6D6073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B25D-0650-4CBD-8CD9-47FFF9B0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B7FD-EFB7-49AD-8660-9E669C46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ABE3-45D7-476C-83AD-42446F1E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E7B2-DBA0-4BA1-88DE-7073EE61E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2.jpeg"/><Relationship Id="rId35" Type="http://schemas.openxmlformats.org/officeDocument/2006/relationships/image" Target="../media/image2.jpeg"/><Relationship Id="rId36" Type="http://schemas.openxmlformats.org/officeDocument/2006/relationships/image" Target="../media/image2.jpeg"/><Relationship Id="rId37" Type="http://schemas.openxmlformats.org/officeDocument/2006/relationships/image" Target="../media/image2.jpeg"/><Relationship Id="rId38" Type="http://schemas.openxmlformats.org/officeDocument/2006/relationships/image" Target="../media/image2.jpeg"/><Relationship Id="rId39" Type="http://schemas.openxmlformats.org/officeDocument/2006/relationships/image" Target="../media/image2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2.jpeg"/><Relationship Id="rId43" Type="http://schemas.openxmlformats.org/officeDocument/2006/relationships/image" Target="../media/image2.jpeg"/><Relationship Id="rId44" Type="http://schemas.openxmlformats.org/officeDocument/2006/relationships/image" Target="../media/image2.jpeg"/><Relationship Id="rId45" Type="http://schemas.openxmlformats.org/officeDocument/2006/relationships/image" Target="../media/image2.jpeg"/><Relationship Id="rId46" Type="http://schemas.openxmlformats.org/officeDocument/2006/relationships/image" Target="../media/image2.jpeg"/><Relationship Id="rId47" Type="http://schemas.openxmlformats.org/officeDocument/2006/relationships/image" Target="../media/image2.jpeg"/><Relationship Id="rId48" Type="http://schemas.openxmlformats.org/officeDocument/2006/relationships/image" Target="../media/image2.jpeg"/><Relationship Id="rId49" Type="http://schemas.openxmlformats.org/officeDocument/2006/relationships/image" Target="../media/image2.jpeg"/><Relationship Id="rId50" Type="http://schemas.openxmlformats.org/officeDocument/2006/relationships/image" Target="../media/image2.jpeg"/><Relationship Id="rId51" Type="http://schemas.openxmlformats.org/officeDocument/2006/relationships/image" Target="../media/image2.jpeg"/><Relationship Id="rId52" Type="http://schemas.openxmlformats.org/officeDocument/2006/relationships/image" Target="../media/image2.jpeg"/><Relationship Id="rId53" Type="http://schemas.openxmlformats.org/officeDocument/2006/relationships/image" Target="../media/image2.jpeg"/><Relationship Id="rId54" Type="http://schemas.openxmlformats.org/officeDocument/2006/relationships/image" Target="../media/image2.jpeg"/><Relationship Id="rId55" Type="http://schemas.openxmlformats.org/officeDocument/2006/relationships/image" Target="../media/image2.jpeg"/><Relationship Id="rId56" Type="http://schemas.openxmlformats.org/officeDocument/2006/relationships/image" Target="../media/image2.jpeg"/><Relationship Id="rId57" Type="http://schemas.openxmlformats.org/officeDocument/2006/relationships/image" Target="../media/image2.jpeg"/><Relationship Id="rId58" Type="http://schemas.openxmlformats.org/officeDocument/2006/relationships/image" Target="../media/image2.jpeg"/><Relationship Id="rId59" Type="http://schemas.openxmlformats.org/officeDocument/2006/relationships/image" Target="../media/image2.jpeg"/><Relationship Id="rId60" Type="http://schemas.openxmlformats.org/officeDocument/2006/relationships/image" Target="../media/image2.jpeg"/><Relationship Id="rId61" Type="http://schemas.openxmlformats.org/officeDocument/2006/relationships/image" Target="../media/image2.jpeg"/><Relationship Id="rId62" Type="http://schemas.openxmlformats.org/officeDocument/2006/relationships/image" Target="../media/image2.jpeg"/><Relationship Id="rId63" Type="http://schemas.openxmlformats.org/officeDocument/2006/relationships/image" Target="../media/image2.jpeg"/><Relationship Id="rId64" Type="http://schemas.openxmlformats.org/officeDocument/2006/relationships/image" Target="../media/image2.jpeg"/><Relationship Id="rId65" Type="http://schemas.openxmlformats.org/officeDocument/2006/relationships/audio" Target="../media/drumroll.wav"/><Relationship Id="rId6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7772400" cy="426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0" y="380880"/>
            <a:ext cx="685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 29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-2743200" y="2819520"/>
            <a:ext cx="678168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7 класс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76520" y="2819520"/>
            <a:ext cx="7467480" cy="25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 о р м и р о в а н и е   л и ч н о с т и   п о д р о с т к 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 р и  е г о   в з а и м о о т н о ш е н и я х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о   с в е р с т н и к а м и.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48520" y="5715000"/>
            <a:ext cx="1847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/З: 6.5,  6.6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333684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. Легко ли ты включаешься в новые для тебя компа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. Легко ли ты осваиваешься в новом коллекти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дпочитаешь ли ты общение с людьми одиночест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гко ли ты проявляешь инициативу для знакомства с новым челове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ы чувствуешь себя уверенно среди малознакомых люд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drumroll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84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2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28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64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емишься ли ты постоянно расширять круг своих знакомст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увствуешь ли ты себя достаточно уверенно и спокойно, когда приходится говорить большой группе люд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увствуешь ли ты себя уверенно при общении с малознакомыми людь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++++++++++++++++++++++++++++++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drumroll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8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64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96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457200"/>
            <a:ext cx="8153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зультат.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600" cy="32529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– 9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1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– 13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– 15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– 20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общ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общен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е средн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общ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общ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общ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 spd="med">
    <p:diamond/>
    <p:sndAc>
      <p:stSnd>
        <p:snd r:embed="rId12" name="drumroll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ализируй конфликтные ситуации, возникающие у тебя при общении со сверст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тарайся разобраться в причи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щи правильное решение для внесения изменений в своё 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520" y="45720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комендации.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amond/>
    <p:sndAc>
      <p:stSnd>
        <p:snd r:embed="rId2" name="drumroll.wav"/>
      </p:stSnd>
    </p:sndAc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84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8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280"/>
                            </p:stCondLst>
                            <p:childTnLst>
                              <p:par>
                                <p:cTn id="17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72" dur="3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928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75" dur="3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2280"/>
                            </p:stCondLst>
                            <p:childTnLst>
                              <p:par>
                                <p:cTn id="177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78" dur="3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Причины конфликтов между подростками и взросл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Пути разрешения конфликтных ситуаций между подростками и взросл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0600" spc="-1" strike="noStrike">
                <a:solidFill>
                  <a:srgbClr val="ff3300"/>
                </a:solidFill>
                <a:latin typeface="Arial"/>
              </a:rPr>
              <a:t>КОНФЛИК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3366ff"/>
                </a:solidFill>
                <a:latin typeface="Arial"/>
              </a:rPr>
              <a:t>(от лат. conflictus — столкновение) столкновение сторон, мнений, си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95480" y="76320"/>
            <a:ext cx="5153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ности к общению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838080"/>
          <a:ext cx="8229600" cy="574056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вопр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(1 бал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(0 балл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 spd="med">
    <p:diamond/>
    <p:sndAc>
      <p:stSnd>
        <p:snd r:embed="rId65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ного ли у тебя друзей, с которыми ты постоянно общаеш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сть ли у тебя стремление к установлению новых знакомств с различными людь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гко ли ты устанавливаешь контакты с людьми, которые значительно старше тебя по возрас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гко ли тебе удается устанавливать контакты с незнакомыми людь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68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84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емишься ли ты при удобном случае познакомиться и побеседовать с новым челове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равится ли тебе находиться среди люд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юбишь ли ты участвовать в коллективных иг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агаешь ли ты, что для тебя не представляет особого труда внести оживление в малознакомую тебе компан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drumroll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92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36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увствуешь ли ты себя непринуждённо, попав в незнакомую тебе компан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йствительно ли у тебя много друз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ли у тебя проходит чувство обиды, причинённое тебе кем – то из знаком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бе больше нравится проводить время с людьми, чем с книгами или другими заняти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2" name="drumroll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6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88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56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09-04-26T05:36:3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