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789-452F-47FB-A078-53D60FD7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A74-9CF0-4C52-B972-79FE90EC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1F4-624D-48C6-994F-02803534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CCE-265C-4F41-AF82-6610A8BA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63D2-C696-42F4-B8E7-8082DFAE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45DB-32DA-462F-B50A-8C75E42C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C0F9-F4B0-4958-B53D-05C1C545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F5D2-BEE9-4D0A-AE07-C35E67EF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8C5A-15A4-4A37-85A7-3667C1A6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0826-40B4-4B59-A1B7-8427201F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A7B1-8BAF-4190-9A0F-EA70B9FA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ADB-00AF-4D10-B878-893AB5C7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2338-C764-4B30-B78E-E5DD3031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763E-4707-409E-B74C-6EA60A92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264C-B864-4E79-9A67-C11114E6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05CA-D946-44BB-B974-61651923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7A38-091D-43E4-B336-0F5173D9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855-FD6A-46A7-BB68-7CEADE69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C4C-5EDC-4009-A75D-30C55150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D02-2AB5-43A2-8B79-EDEDBFAE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288-3B0B-4CE3-86E8-86D7F28B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7881-FE26-4DD1-871A-0D5A93CB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68C-BC9B-46A8-B2B4-22077B61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B0A6-E58E-4043-B5C0-299D6334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0B8C-4156-48DD-9EB0-7073B7B61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7D9A-CFA5-41F0-8D00-514F4A1F6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Аддитивные доказательства теоремы Пифагора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 доказательства основаны на разложении квадратов, построенных на катетах, на фигуры, с которых можно сложить квадрат, построенный на гипотенуз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у выполнила ученица «Заклинской СОШ» Леонова Мар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Доказательство Эйнштейна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0532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казательство Эйнштейна основано на разложении квадрата, построенного на гипотенузе, на 8 треуголь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1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2698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Arial"/>
              </a:rPr>
              <a:t>Доказательство ан-Найризия – средневекового багдадского комментатора </a:t>
            </a: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i="1" lang="ru-RU" sz="3200" spc="-1" strike="noStrike">
                <a:solidFill>
                  <a:srgbClr val="ffcc66"/>
                </a:solidFill>
                <a:latin typeface="Arial"/>
              </a:rPr>
              <a:t>Начал</a:t>
            </a: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”</a:t>
            </a:r>
            <a:r>
              <a:rPr b="0" i="1" lang="ru-RU" sz="3200" spc="-1" strike="noStrike">
                <a:solidFill>
                  <a:srgbClr val="ffcc66"/>
                </a:solidFill>
                <a:latin typeface="Arial"/>
              </a:rPr>
              <a:t> Евклида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40336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этом разбиении квадрат, построенный на гипотенузе, разбит на три треугольника и два четырёхугольника. Здес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C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ямоугольный треугольник с прямым углом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=B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571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i="1" lang="ru-RU" sz="4400" spc="-1" strike="noStrike">
                <a:solidFill>
                  <a:srgbClr val="ffcc66"/>
                </a:solidFill>
                <a:latin typeface="Arial"/>
              </a:rPr>
              <a:t>Колесо с лопастями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174760"/>
            <a:ext cx="4952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дес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C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ямоугольный треугольник с прямым углом 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 – центр квадрата, построенного на большом кате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унктирные прямые, проходящие через точку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пендикулярны или параллельны гипотенузе. Это разложение квадратов интересно тем, что его попарно равные четырёхугольники могут быть отображены друг на друга параллельным перенос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2-3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8684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i="1" lang="ru-RU" sz="3200" spc="-1" strike="noStrike">
                <a:solidFill>
                  <a:srgbClr val="ffcc66"/>
                </a:solidFill>
                <a:latin typeface="Arial"/>
              </a:rPr>
              <a:t>Учиться должно означать – принимать участие, открывать, изобретать.</a:t>
            </a: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3240" y="2614680"/>
            <a:ext cx="520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А этот способ я придумал сам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5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3:43:52Z</dcterms:created>
  <dc:creator>Antonio!</dc:creator>
  <dc:description/>
  <dc:language>en-US</dc:language>
  <cp:lastModifiedBy>User</cp:lastModifiedBy>
  <dcterms:modified xsi:type="dcterms:W3CDTF">2013-03-03T06:34:19Z</dcterms:modified>
  <cp:revision>5</cp:revision>
  <dc:subject/>
  <dc:title>Аддитивные доказательства теоремы Пифагора.</dc:title>
</cp:coreProperties>
</file>