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450A-AB99-4858-A7E0-A6E053AD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92A-AD82-46C5-8A3C-A688E7CB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37BE-3BB6-43D5-94A1-42F7C4E5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2034-3700-46A0-8DE6-D2ECAF16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B226-AC65-4D4C-8E1A-527F5429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1FDD-04B2-4DDC-A52D-87404021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E268-92BB-43F9-9CDE-A8C97257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8722-B1B7-4166-8ABC-4A5F8CA8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DFAD-CD88-40EF-BF49-7954FCC3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1C8A-CC16-41B5-B64E-8549CB11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1762-E7AB-4237-B3A8-B83741DC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EAED-8174-4049-9494-01A3AD6F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1D79-1E4D-40A2-9EB9-6D2611AA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60AA-7A65-4337-B759-CC4693AE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CFD0-E5CE-492D-8117-D19E93B6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1C44-8185-46A0-AEDD-F0FF03DE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2438-B8AA-4AA7-9C7D-ED8118F8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76A2-C167-4FA7-8B55-0F6D63A6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096-10E6-4D4E-9F59-189213E8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D22-1326-4781-BBCF-374D0E92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6E36-0844-489A-B5F2-4E192907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66F-4E3A-44A7-A3CB-9F452B4F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CE1F-4F69-4032-91F9-08D25FB1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E6D9-58E2-4F42-B155-4F249942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89A5-ADC7-46E1-8511-2CFE222C4F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0653-087A-4E0A-8720-2A65E6476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Arial"/>
              </a:rPr>
              <a:t>Аддитивные доказательства теоремы Пифагора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8954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и доказательства основаны на разложении квадратов, построенных на катетах, на фигуры, с которых можно сложить квадрат, построенный на гипотенуз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ту выполнила ученица «Заклинской СОШ» Леонова Мар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Arial"/>
              </a:rPr>
              <a:t>Доказательство Эйнштейна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0532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оказательство Эйнштейна основано на разложении квадрата, построенного на гипотенузе, на 8 треуголь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1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2698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66"/>
                </a:solidFill>
                <a:latin typeface="Arial"/>
              </a:rPr>
              <a:t>Доказательство ан-Найризия – средневекового багдадского комментатора </a:t>
            </a: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0" i="1" lang="ru-RU" sz="3200" spc="-1" strike="noStrike">
                <a:solidFill>
                  <a:srgbClr val="ffcc66"/>
                </a:solidFill>
                <a:latin typeface="Arial"/>
              </a:rPr>
              <a:t>Начал</a:t>
            </a: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”</a:t>
            </a:r>
            <a:r>
              <a:rPr b="0" i="1" lang="ru-RU" sz="3200" spc="-1" strike="noStrike">
                <a:solidFill>
                  <a:srgbClr val="ffcc66"/>
                </a:solidFill>
                <a:latin typeface="Arial"/>
              </a:rPr>
              <a:t> Евклида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40336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этом разбиении квадрат, построенный на гипотенузе, разбит на три треугольника и два четырёхугольника. Здес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C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ямоугольный треугольник с прямым углом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;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=B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2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5718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0" i="1" lang="ru-RU" sz="4400" spc="-1" strike="noStrike">
                <a:solidFill>
                  <a:srgbClr val="ffcc66"/>
                </a:solidFill>
                <a:latin typeface="Arial"/>
              </a:rPr>
              <a:t>Колесо с лопастями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174760"/>
            <a:ext cx="4952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дес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C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ямоугольный треугольник с прямым углом 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О – центр квадрата, построенного на большом катет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унктирные прямые, проходящие через точку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пендикулярны или параллельны гипотенузе. Это разложение квадратов интересно тем, что его попарно равные четырёхугольники могут быть отображены друг на друга параллельным перенос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2-3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28684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0" i="1" lang="ru-RU" sz="3200" spc="-1" strike="noStrike">
                <a:solidFill>
                  <a:srgbClr val="ffcc66"/>
                </a:solidFill>
                <a:latin typeface="Arial"/>
              </a:rPr>
              <a:t>Учиться должно означать – принимать участие, открывать, изобретать.</a:t>
            </a: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63240" y="2614680"/>
            <a:ext cx="520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А этот способ я придумал сам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5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3:43:52Z</dcterms:created>
  <dc:creator>Antonio!</dc:creator>
  <dc:description/>
  <dc:language>en-US</dc:language>
  <cp:lastModifiedBy>User</cp:lastModifiedBy>
  <dcterms:modified xsi:type="dcterms:W3CDTF">2013-03-03T06:34:19Z</dcterms:modified>
  <cp:revision>5</cp:revision>
  <dc:subject/>
  <dc:title>Аддитивные доказательства теоремы Пифагора.</dc:title>
</cp:coreProperties>
</file>