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742-EEAD-45CC-8D2D-2EE620B0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B6D-B85B-4B5D-A71D-A0E9039D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3A8-9826-4AB8-A55B-704410F1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A2C-8E46-4388-9B91-1806C360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63B-5044-4991-A586-3C2CD820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1B47-1E41-413E-B909-BD0333FC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A3CA-C54F-44B2-A21D-A4F73CFC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F502-D1EA-459B-A21F-C98F10E2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9EDE-F5A2-443A-8617-433B94B1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538C-C11B-4ED3-AAF9-26C50244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333-0B26-4D0D-9F68-9866708C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DFA-DB58-4C32-8918-1BB03334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B518-9448-427B-B99C-7D2B997B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00C-B765-4E5D-85F9-74B592F1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44CF-6E9B-447F-A613-12C593BE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CBD1-EFCC-4FE8-823A-5EF28678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9C2F-7713-4410-B2C0-E32B89E3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E4F-3490-4607-A9A1-E57E5FE5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3B8-D03B-442B-877E-44593C5D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B4A-CC0C-499A-A0A7-C19D9747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B6F-B2B9-45E7-A516-BB0D8AFA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F84-1AA7-4F41-A261-F03E9F23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AE6-9E2A-42D4-9258-D134C9C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A9B-4685-487B-90F4-EF7DB177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CE31-E86C-4377-ABBB-7A5BA8E2F6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3C75-E754-4DEB-AED4-182CC15C70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99680"/>
            <a:ext cx="7272360" cy="8571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гадай загад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28400" y="178596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Два конца, два кольца, посередине гвоздик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Четыре братца под одной большой крышей живу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то одёжек и все без застёжек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Расшифруйте и запишите 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142640"/>
            <a:ext cx="769608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коре 7я  40  о5 сядет за  100л, блещущий  чи100тою.  Сес3цы-40и  е2   ухи3лись  пре2рительно приготовить  обед,  отыскать вме100  осе3ны   100лько  ус3ц, что пред100ит  целый пи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404640"/>
            <a:ext cx="8207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девицы под окном пряли поздно вечер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ретий раз закинул он невод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шел невод с одной рыбк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 и четыре- одиннадц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же взобравшись на лестницу, запорожцы прошли первую зал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нятия начинаются в девять час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делите шесть на тр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8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1280" y="16430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ыучить теорию по схеме, составленной в тетрад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пражнение 57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2781000"/>
            <a:ext cx="6400800" cy="2305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Comic Sans MS"/>
              </a:rPr>
              <a:t>Имя числительное как часть речи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499680"/>
            <a:ext cx="7272360" cy="8571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тгадай загад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28400" y="1785960"/>
            <a:ext cx="83581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Два конца, два кольца, посередине гвоздик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Четыре братца под одной большой крышей живу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то одёжек и все без застёжек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2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мя числительно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часть речи, которая обозначает ______, ______ предметов, _______ при сче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Прямая со стрелкой 4"/>
          <p:cNvCxnSpPr/>
          <p:nvPr/>
        </p:nvCxnSpPr>
        <p:spPr>
          <a:xfrm flipH="1">
            <a:off x="1499760" y="2286000"/>
            <a:ext cx="100080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Прямая со стрелкой 6"/>
          <p:cNvCxnSpPr/>
          <p:nvPr/>
        </p:nvCxnSpPr>
        <p:spPr>
          <a:xfrm>
            <a:off x="5928840" y="2214720"/>
            <a:ext cx="107244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160" name=""/>
          <p:cNvGraphicFramePr/>
          <p:nvPr/>
        </p:nvGraphicFramePr>
        <p:xfrm>
          <a:off x="500040" y="2786040"/>
          <a:ext cx="7858080" cy="374976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37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Сколько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меняются по 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ме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предложении могут выступ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Какой? Который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меняются по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примеры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предложении могут выступать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12"/>
          <p:cNvSpPr txBox="1"/>
          <p:nvPr/>
        </p:nvSpPr>
        <p:spPr>
          <a:xfrm>
            <a:off x="4356000" y="620640"/>
            <a:ext cx="324180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5364000" y="2205000"/>
            <a:ext cx="122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313080" cy="31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800"/>
                </a:solidFill>
                <a:latin typeface="Comic Sans MS"/>
              </a:rPr>
              <a:t>Сколько числитель-ных на экран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Из истории числительны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ИНЪ НА ДЕСЯТ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ЪВА НА ДЕСЯТ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Е НА ДЕСЯ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ИН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2040" cy="19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800"/>
                </a:solidFill>
                <a:latin typeface="Comic Sans MS"/>
              </a:rPr>
              <a:t>Синтаксическая роль имен числительн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7696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и пять – восем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делите восемь на дв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мудреца в одном тазу пустились по морю в гроз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684360" y="2708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13200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3132000" y="28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2771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334800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39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471636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521964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755640" y="4653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3708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4140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4211640" y="465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4500720" y="465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Третье лишне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356840"/>
            <a:ext cx="76960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, седьмой, семёр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енадцатый, двенадцатиметровый, двенадц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ёх, трояк, третьего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вятка, девятого, девят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тый, столетний, с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ух, раздваиваться, д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равильный отве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696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ёр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енадцатиметровы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ояк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вя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олет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-42660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дваива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25:25Z</dcterms:created>
  <dc:creator>C</dc:creator>
  <dc:description/>
  <dc:language>en-US</dc:language>
  <cp:lastModifiedBy>МБОУГ№20</cp:lastModifiedBy>
  <dcterms:modified xsi:type="dcterms:W3CDTF">2013-02-27T08:23:37Z</dcterms:modified>
  <cp:revision>48</cp:revision>
  <dc:subject/>
  <dc:title>Слайд 1</dc:title>
</cp:coreProperties>
</file>