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282-D4DE-4092-81A6-887375CC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7D3-8225-4281-BCE2-F74B9058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E56-31CC-42EA-A745-4E06A5EC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389-157E-47E1-A2C1-9BEE4357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128E-4D31-4FB3-86D9-20A0A696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0F13-CD4C-4475-B62E-67EC18EB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F394-42FC-4C41-BC1B-A156DDA6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0BBF-33C2-4317-88DA-9989B8D6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BA97-C1B0-4D0B-A8D0-23110EB8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FE8C-6E8B-402E-A679-291C5633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4F1B-2F37-4F36-BE08-171729F5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B6C-8821-4CEE-9005-9AE27D31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083A-CE01-447D-9612-DCB01895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C9A6-9334-41E6-B167-438ADE1F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28C8-2432-46B3-9E26-7EC3D2FE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7C78-5E0C-4C72-9847-EDDED71A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C292-DD99-4D82-839F-560B9B87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406-862B-49A0-A0E9-7A4C43FE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29C-9B8F-4DE2-B747-B271BA0C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A6C-7FCB-4A83-B18F-178D65C7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4920-0A3F-4194-A30E-C25326EC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EBC-7D4E-482F-8921-EFA6CC65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50A-05CE-4362-9A8F-55DC1409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E847-42B7-4B52-BD28-8770F1DA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4FAD-A1D5-436E-8449-4EDA3B16DA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60CC-48DC-41C0-BC5F-A4A9D06CB3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499680"/>
            <a:ext cx="7272360" cy="8571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тгадай загадк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28400" y="1785960"/>
            <a:ext cx="83581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Два конца, два кольца, посередине гвоздик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Четыре братца под одной большой крышей живу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то одёжек и все без застёжек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Расшифруйте и запишите 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1142640"/>
            <a:ext cx="7696080" cy="41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скоре 7я  40  о5 сядет за  100л, блещущий  чи100тою.  Сес3цы-40и  е2   ухи3лись  пре2рительно приготовить  обед,  отыскать вме100  осе3ны   100лько  ус3ц, что пред100ит  целый пир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404640"/>
            <a:ext cx="82072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и девицы под окном пряли поздно вечер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третий раз закинул он невод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шел невод с одной рыбк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 и четыре- одиннадц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же взобравшись на лестницу, запорожцы прошли первую зал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нятия начинаются в девять час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делите шесть на тр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8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1280" y="16430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ыучить теорию по схеме, составленной в тетради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пражнение 577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3280" y="2781000"/>
            <a:ext cx="6400800" cy="2305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Comic Sans MS"/>
              </a:rPr>
              <a:t>Имя числительное как часть реч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499680"/>
            <a:ext cx="7272360" cy="8571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тгадай загадк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28400" y="1785960"/>
            <a:ext cx="83581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Два конца, два кольца, посередине гвоздик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Четыре братца под одной большой крышей живу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то одёжек и все без застёжек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20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мя числительно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часть речи, которая обозначает ______, ______ предметов, _______ при сче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" name="Прямая со стрелкой 4"/>
          <p:cNvCxnSpPr/>
          <p:nvPr/>
        </p:nvCxnSpPr>
        <p:spPr>
          <a:xfrm flipH="1">
            <a:off x="1499760" y="2286000"/>
            <a:ext cx="100080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Прямая со стрелкой 6"/>
          <p:cNvCxnSpPr/>
          <p:nvPr/>
        </p:nvCxnSpPr>
        <p:spPr>
          <a:xfrm>
            <a:off x="5928840" y="2214720"/>
            <a:ext cx="107244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160" name=""/>
          <p:cNvGraphicFramePr/>
          <p:nvPr/>
        </p:nvGraphicFramePr>
        <p:xfrm>
          <a:off x="500040" y="2786040"/>
          <a:ext cx="7858080" cy="3749760"/>
        </p:xfrm>
        <a:graphic>
          <a:graphicData uri="http://schemas.openxmlformats.org/drawingml/2006/table">
            <a:tbl>
              <a:tblPr/>
              <a:tblGrid>
                <a:gridCol w="3929040"/>
                <a:gridCol w="3929040"/>
              </a:tblGrid>
              <a:tr h="37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Сколько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меняются по 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приме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предложении могут выступ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Какой? Который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меняются по 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примеры)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предложении могут выступать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12"/>
          <p:cNvSpPr txBox="1"/>
          <p:nvPr/>
        </p:nvSpPr>
        <p:spPr>
          <a:xfrm>
            <a:off x="4356000" y="620640"/>
            <a:ext cx="324180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WordArt 13"/>
          <p:cNvSpPr txBox="1"/>
          <p:nvPr/>
        </p:nvSpPr>
        <p:spPr>
          <a:xfrm>
            <a:off x="5364000" y="2205000"/>
            <a:ext cx="122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313080" cy="31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800"/>
                </a:solidFill>
                <a:latin typeface="Comic Sans MS"/>
              </a:rPr>
              <a:t>Сколько числитель-ных на экран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Из истории числительны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ДИНЪ НА ДЕСЯТЕ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ЪВА НА ДЕСЯТЕ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ИЕ НА ДЕСЯТ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ДИН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ЦА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2040" cy="19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800"/>
                </a:solidFill>
                <a:latin typeface="Comic Sans MS"/>
              </a:rPr>
              <a:t>Синтаксическая роль имен числительны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7696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и и пять – восем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делите восемь на дв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и мудреца в одном тазу пустились по морю в гроз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684360" y="2708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132000" y="2708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3132000" y="28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277164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334800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399564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4716360" y="36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521964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755640" y="4653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370836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414036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4211640" y="465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4500720" y="4653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Третье лишне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356840"/>
            <a:ext cx="76960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, седьмой, семёр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енадцатый, двенадцатиметровый, двенадца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ёх, трояк, третьего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вятка, девятого, девято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тый, столетний, ст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ух, раздваиваться, д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равильный отве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6960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ёр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-42660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енадцатиметровы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-42660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ояк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-42660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вят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-42660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олет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-42660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дваивать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1:25:25Z</dcterms:created>
  <dc:creator>C</dc:creator>
  <dc:description/>
  <dc:language>en-US</dc:language>
  <cp:lastModifiedBy>МБОУГ№20</cp:lastModifiedBy>
  <dcterms:modified xsi:type="dcterms:W3CDTF">2013-02-27T08:23:37Z</dcterms:modified>
  <cp:revision>48</cp:revision>
  <dc:subject/>
  <dc:title>Слайд 1</dc:title>
</cp:coreProperties>
</file>