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jpeg" ContentType="image/jpeg"/>
  <Override PartName="/ppt/media/image9.wmf" ContentType="image/x-wmf"/>
  <Override PartName="/ppt/media/image6.png" ContentType="image/pn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98EC-9A7C-43DB-9E47-A8B2792D5C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1AA7-3560-4193-AC22-9322D6A689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CAF3-BE66-43F3-A5FA-0C3B7F6692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C33C-D422-4904-881F-EB8DDA6D1A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5AB4-EDAE-4255-AF48-8D22605E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DC5E-A5C6-4431-9923-E9C2F43B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8896-F455-44EF-85AE-B26C7DFBE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7EDB-5B02-4E9E-84A2-25848C15B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1283-AA25-47FE-A122-4C04AC06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56DA-54C1-48B8-BEFF-AF2F9B55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9BE3-AEB1-4A9D-BBED-2854ACAC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2BC3-1B31-4B85-83F9-D2F416D4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D3F6-5DA0-4342-8A2E-15C2E95D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6733-DDF9-4ED8-95C6-599FCBFB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70D7-1A1A-45A0-B2E3-122DCA73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1D74-68A8-4266-83BF-B877CB21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57A5-5091-46DB-A184-D33DE929FB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92468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Как будут учиться </a:t>
            </a:r>
            <a:br>
              <a:rPr sz="6600"/>
            </a:b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наши дети?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Не так, как учились мы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 Black"/>
              </a:rPr>
              <a:t>В современном мире над этим вопросом задумывается каждый, образованный родитель, которому не безразличен собственный ребено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476280" y="0"/>
            <a:ext cx="841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ие качества Вы хотите видеть у своего ребенка по окончании школы, чтобы в современной жизни он был успешен?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0" y="1828800"/>
            <a:ext cx="31240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Умение ставить цель и добиваться 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Умение общ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Умение адаптиров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к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3581280" y="1523880"/>
            <a:ext cx="1873440" cy="3762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5943600" y="2057400"/>
            <a:ext cx="3200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Умение ориентиров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в ми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Самостоятельно добывать и применять 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2057400" y="54100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Уметь заботиться о других, быть нравственным челове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Сохранить здоровь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14600" y="12952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ать хорошие, прочные знани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52280" y="76320"/>
            <a:ext cx="8991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ним, когда мы учились, главной задачей школы считалось…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0" y="266688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нам после школы приходилось часто слышать: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Забудьте то, чему вас учили в школе!»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       «Школа учит не тому, что нужно в жизни!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твет мы говори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2133720" y="39625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А этого мы не проходили...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PE01832_"/>
          <p:cNvPicPr/>
          <p:nvPr/>
        </p:nvPicPr>
        <p:blipFill>
          <a:blip r:embed="rId1"/>
          <a:stretch/>
        </p:blipFill>
        <p:spPr>
          <a:xfrm>
            <a:off x="228600" y="76212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1"/>
          <p:cNvSpPr/>
          <p:nvPr/>
        </p:nvSpPr>
        <p:spPr>
          <a:xfrm>
            <a:off x="152280" y="5334120"/>
            <a:ext cx="9220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</a:rPr>
              <a:t>В информационном обществе главными стали не знания, а умения ими пользовать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"/>
          <p:cNvPicPr/>
          <p:nvPr/>
        </p:nvPicPr>
        <p:blipFill>
          <a:blip r:embed="rId2"/>
          <a:stretch/>
        </p:blipFill>
        <p:spPr>
          <a:xfrm>
            <a:off x="885960" y="3429000"/>
            <a:ext cx="10951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990360"/>
            <a:ext cx="8001000" cy="15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ировать, давать знания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вивать умени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путь вам больше нрави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4788000" y="2873520"/>
            <a:ext cx="4356000" cy="3868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108000" y="2892600"/>
            <a:ext cx="4537080" cy="38271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152280" y="304920"/>
            <a:ext cx="91440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Два пути современной школы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04920" y="22860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учили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5105520" y="2286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будут учиться наши д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762120" y="54849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 заставляйте ребенка заучивать учебник и искать готовые ответы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152280" y="5610240"/>
            <a:ext cx="530280" cy="485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2"/>
          <a:stretch/>
        </p:blipFill>
        <p:spPr>
          <a:xfrm>
            <a:off x="5181480" y="5600880"/>
            <a:ext cx="530280" cy="495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5791320" y="5484960"/>
            <a:ext cx="3352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екст нужно понять и уметь использовать!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304920" y="1255680"/>
            <a:ext cx="36576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веряет Д/з. </a:t>
            </a:r>
            <a:r>
              <a:rPr b="0" lang="ru-RU" sz="2400" spc="-1" strike="noStrike">
                <a:solidFill>
                  <a:srgbClr val="00cc00"/>
                </a:solidFill>
                <a:latin typeface="Arial"/>
              </a:rPr>
              <a:t>Учени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выучил – пересказал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ъявляет новую 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чит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ясняет новую тему («сиди и слушай!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веряет, как поняли «повтори!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"/>
          <p:cNvPicPr/>
          <p:nvPr/>
        </p:nvPicPr>
        <p:blipFill>
          <a:blip r:embed="rId3"/>
          <a:stretch/>
        </p:blipFill>
        <p:spPr>
          <a:xfrm>
            <a:off x="3657600" y="0"/>
            <a:ext cx="1600200" cy="15238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2"/>
          <p:cNvSpPr/>
          <p:nvPr/>
        </p:nvSpPr>
        <p:spPr>
          <a:xfrm>
            <a:off x="4724280" y="1219320"/>
            <a:ext cx="44197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здает ситуацию. </a:t>
            </a:r>
            <a:r>
              <a:rPr b="0" lang="ru-RU" sz="2400" spc="-1" strike="noStrike">
                <a:solidFill>
                  <a:srgbClr val="00cc00"/>
                </a:solidFill>
                <a:latin typeface="Arial"/>
              </a:rPr>
              <a:t>Ученик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ют тему, вопро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cc00"/>
                </a:solidFill>
                <a:latin typeface="Arial"/>
              </a:rPr>
              <a:t>Учен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ами вспоминают знания, которые пригодя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cc00"/>
                </a:solidFill>
                <a:latin typeface="Arial"/>
              </a:rPr>
              <a:t>Учен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ами открывают новые знания (в диалоге с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чител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учебник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cc00"/>
                </a:solidFill>
                <a:latin typeface="Arial"/>
              </a:rPr>
              <a:t>Учен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елают вывод по те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3"/>
          <p:cNvSpPr/>
          <p:nvPr/>
        </p:nvSpPr>
        <p:spPr>
          <a:xfrm flipV="1">
            <a:off x="3505320" y="1599840"/>
            <a:ext cx="1295280" cy="106668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3505320" y="1600200"/>
            <a:ext cx="1218960" cy="114300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5"/>
          <p:cNvSpPr/>
          <p:nvPr/>
        </p:nvSpPr>
        <p:spPr>
          <a:xfrm>
            <a:off x="3581280" y="3657600"/>
            <a:ext cx="121932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6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685800" y="15228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учили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5105520" y="1206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будут учиться наши д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762120" y="5484960"/>
            <a:ext cx="4419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 требуйте, чтобы ребенок читал и выполнял все, что есть в учебнике!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152280" y="5610240"/>
            <a:ext cx="53028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5181480" y="5600880"/>
            <a:ext cx="530280" cy="495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5791320" y="5484960"/>
            <a:ext cx="3581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ужно учиться выбирать главное и интересное!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52280" y="362916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Успешный ученик тот – кто читает весь учебник и выполняет все задания – «от корки до корк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4343400" y="12351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и тексты в учебнике даны с избытком – для выб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5715000" y="2362320"/>
            <a:ext cx="2133720" cy="1708200"/>
          </a:xfrm>
          <a:prstGeom prst="rect">
            <a:avLst/>
          </a:prstGeom>
          <a:solidFill>
            <a:srgbClr val="8df0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6324480" y="3352680"/>
            <a:ext cx="9144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6248520" y="27432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8"/>
          <p:cNvSpPr/>
          <p:nvPr/>
        </p:nvSpPr>
        <p:spPr>
          <a:xfrm flipV="1">
            <a:off x="6781680" y="2057040"/>
            <a:ext cx="0" cy="685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4267080" y="414648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онтрольных спрашивается только малая часть того, что есть в учебн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0"/>
          <p:cNvSpPr/>
          <p:nvPr/>
        </p:nvSpPr>
        <p:spPr>
          <a:xfrm>
            <a:off x="6781680" y="3809880"/>
            <a:ext cx="0" cy="38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4" descr=""/>
          <p:cNvPicPr/>
          <p:nvPr/>
        </p:nvPicPr>
        <p:blipFill>
          <a:blip r:embed="rId3"/>
          <a:stretch/>
        </p:blipFill>
        <p:spPr>
          <a:xfrm>
            <a:off x="833400" y="1219320"/>
            <a:ext cx="2367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шко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а-это то место, где ученик проводит очень много времени, а значит мы должны задуматься, на сколько продуктивно и интересно для себя он там проводит время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3-29T20:22:35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