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58E-0092-4846-B217-C85D47FB9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118-C1EF-4F83-A7D3-4B1822C77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A81E-CCDB-4CD9-B8D5-EC2265AC6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AF1D-1211-4AE1-A49E-211C83EBE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C5C-EDDC-48D3-A509-48F1B704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B21-0502-4671-AE73-27D5073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F15-7175-4A5D-B3D7-748D8B4D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9FB-334C-41F6-90DF-4F40B91A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739-386B-43C8-9F2E-E2E271B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3FF-D2EA-427E-9EA8-DAE09871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89C-E0A7-42C8-AC2B-6B6587B6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B1F-4E69-49B0-94BF-197F96BA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605-8B5A-40C4-B373-1B7ADCD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4D0-3C5F-431C-82B3-BEFA670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E7E-D223-4978-A12F-ECFD842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76D-D26E-44DE-83E9-303C34E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D64-3446-446C-A09B-A0154E980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В современном мире над этим вопросом задумывается каждый, образованный родитель, которому не безразличен собственный реб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1873440" cy="37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ть, давать знания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ть ум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уть вам больше нрав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88000" y="2873520"/>
            <a:ext cx="4356000" cy="38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000" y="2892600"/>
            <a:ext cx="4537080" cy="382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30492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а пути современной школ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5800" y="1522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105520" y="120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5484960"/>
            <a:ext cx="441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5791320" y="548496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280" y="36291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343400" y="12351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и тексты в учебнике даны с избытком – для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715000" y="2362320"/>
            <a:ext cx="2133720" cy="170820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324480" y="3352680"/>
            <a:ext cx="914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248520" y="2743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6781680" y="2057040"/>
            <a:ext cx="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267080" y="4146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6781680" y="3809880"/>
            <a:ext cx="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3"/>
          <a:stretch/>
        </p:blipFill>
        <p:spPr>
          <a:xfrm>
            <a:off x="833400" y="1219320"/>
            <a:ext cx="2367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шко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-это то место, где ученик проводит очень много времени, а значит мы должны задуматься, на сколько продуктивно и интересно для себя он там проводит врем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9T20:22:3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