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4B9E-2B6F-45AC-833E-FF8AB84AC9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A3F6-C244-496C-B76F-9E2038D239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8A06-18EF-4E80-9AFA-CE13698C3A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BD9F-22A0-468B-BF76-8131F24FE8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C49E-8394-4315-8D7A-EB1B8D6944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E745-42EF-41C7-A59C-A80DEA446F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F799-318E-49F6-9442-93F1BC0FC9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9BB0-E401-4131-9BF5-8D6A34AF13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D575-AD2F-4EA2-94F3-4FAC0C2CB3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EB41-D45B-4EA4-B9A1-ABB0062BA5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4232-1219-4386-999B-AEC0ED4426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7491-DED5-4998-9372-78C726AB64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5F2-2D4B-4E36-88AD-1588CEA2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877-4B7B-48D0-8DCC-0E1C9363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141-8E53-47FF-9F9F-7995088D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DD8-952A-4A41-AC4D-ACEA0A08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327-6026-40DD-8179-C382481E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FC0-5D78-45D7-AD68-4C22E4A6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B8E-774A-48C0-8438-F689A8AE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24A-53CE-4C8D-967C-C0F1062E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D89-49F2-4E00-BAC4-CFB239DF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473-5EE2-4AD6-9B3F-C07A44DB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070-9FBC-49D3-B23A-FE489D9D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5C6-A1E4-457E-9385-411DC064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27A6-3F38-4B2E-8095-F122527414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030a0"/>
                </a:solidFill>
                <a:latin typeface="Calibri"/>
              </a:rPr>
              <a:t>RTEURANSA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-360"/>
            <a:ext cx="8472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дставьте что вы с другом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/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другой пришли на ужин в ресторан. Разыграйте диалог: что вы любите есть? чтобы вы хотели съесть? Расскажите о своих вкусах и пристрастиях в е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c.jpg"/>
          <p:cNvPicPr/>
          <p:nvPr/>
        </p:nvPicPr>
        <p:blipFill>
          <a:blip r:embed="rId1"/>
          <a:stretch/>
        </p:blipFill>
        <p:spPr>
          <a:xfrm>
            <a:off x="1928880" y="250020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7030a0"/>
                </a:solidFill>
                <a:latin typeface="Calibri"/>
              </a:rPr>
              <a:t>What food is healthy</a:t>
            </a:r>
            <a:r>
              <a:rPr b="0" i="1" lang="ru-RU" sz="9600" spc="-1" strike="noStrike">
                <a:solidFill>
                  <a:srgbClr val="7030a0"/>
                </a:solidFill>
                <a:latin typeface="Calibri"/>
              </a:rPr>
              <a:t>?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214200"/>
            <a:ext cx="8472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виноград.jpg"/>
          <p:cNvPicPr/>
          <p:nvPr/>
        </p:nvPicPr>
        <p:blipFill>
          <a:blip r:embed="rId1"/>
          <a:stretch/>
        </p:blipFill>
        <p:spPr>
          <a:xfrm>
            <a:off x="142920" y="549360"/>
            <a:ext cx="2500200" cy="2736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гамбургер.jpg"/>
          <p:cNvPicPr/>
          <p:nvPr/>
        </p:nvPicPr>
        <p:blipFill>
          <a:blip r:embed="rId2"/>
          <a:stretch/>
        </p:blipFill>
        <p:spPr>
          <a:xfrm>
            <a:off x="2786040" y="476280"/>
            <a:ext cx="3000240" cy="25304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каша.jpg"/>
          <p:cNvPicPr/>
          <p:nvPr/>
        </p:nvPicPr>
        <p:blipFill>
          <a:blip r:embed="rId3"/>
          <a:stretch/>
        </p:blipFill>
        <p:spPr>
          <a:xfrm>
            <a:off x="5929200" y="476280"/>
            <a:ext cx="264348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кола.jpg"/>
          <p:cNvPicPr/>
          <p:nvPr/>
        </p:nvPicPr>
        <p:blipFill>
          <a:blip r:embed="rId4"/>
          <a:stretch/>
        </p:blipFill>
        <p:spPr>
          <a:xfrm>
            <a:off x="500040" y="3357720"/>
            <a:ext cx="1590840" cy="2990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салат.jpg"/>
          <p:cNvPicPr/>
          <p:nvPr/>
        </p:nvPicPr>
        <p:blipFill>
          <a:blip r:embed="rId5"/>
          <a:stretch/>
        </p:blipFill>
        <p:spPr>
          <a:xfrm>
            <a:off x="2357280" y="3286080"/>
            <a:ext cx="3510000" cy="26431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фри.jpg"/>
          <p:cNvPicPr/>
          <p:nvPr/>
        </p:nvPicPr>
        <p:blipFill>
          <a:blip r:embed="rId6"/>
          <a:stretch/>
        </p:blipFill>
        <p:spPr>
          <a:xfrm>
            <a:off x="6072120" y="31431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3" descr="яблоко.jpg"/>
          <p:cNvPicPr/>
          <p:nvPr/>
        </p:nvPicPr>
        <p:blipFill>
          <a:blip r:embed="rId1"/>
          <a:stretch/>
        </p:blipFill>
        <p:spPr>
          <a:xfrm>
            <a:off x="142920" y="142920"/>
            <a:ext cx="3149640" cy="23572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пицца.jpg"/>
          <p:cNvPicPr/>
          <p:nvPr/>
        </p:nvPicPr>
        <p:blipFill>
          <a:blip r:embed="rId2"/>
          <a:stretch/>
        </p:blipFill>
        <p:spPr>
          <a:xfrm>
            <a:off x="3643200" y="142920"/>
            <a:ext cx="1857600" cy="2347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торт.jpg"/>
          <p:cNvPicPr/>
          <p:nvPr/>
        </p:nvPicPr>
        <p:blipFill>
          <a:blip r:embed="rId3"/>
          <a:stretch/>
        </p:blipFill>
        <p:spPr>
          <a:xfrm>
            <a:off x="5786280" y="142920"/>
            <a:ext cx="3071880" cy="23828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сок.jpg"/>
          <p:cNvPicPr/>
          <p:nvPr/>
        </p:nvPicPr>
        <p:blipFill>
          <a:blip r:embed="rId4"/>
          <a:stretch/>
        </p:blipFill>
        <p:spPr>
          <a:xfrm>
            <a:off x="214200" y="2500200"/>
            <a:ext cx="1500480" cy="1933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молоко.jpg"/>
          <p:cNvPicPr/>
          <p:nvPr/>
        </p:nvPicPr>
        <p:blipFill>
          <a:blip r:embed="rId5"/>
          <a:stretch/>
        </p:blipFill>
        <p:spPr>
          <a:xfrm>
            <a:off x="142920" y="442908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овощи.jpg"/>
          <p:cNvPicPr/>
          <p:nvPr/>
        </p:nvPicPr>
        <p:blipFill>
          <a:blip r:embed="rId6"/>
          <a:stretch/>
        </p:blipFill>
        <p:spPr>
          <a:xfrm>
            <a:off x="2786040" y="2571840"/>
            <a:ext cx="2428920" cy="19033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1сыр.jpg"/>
          <p:cNvPicPr/>
          <p:nvPr/>
        </p:nvPicPr>
        <p:blipFill>
          <a:blip r:embed="rId7"/>
          <a:stretch/>
        </p:blipFill>
        <p:spPr>
          <a:xfrm>
            <a:off x="2714760" y="4500720"/>
            <a:ext cx="3571920" cy="2160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0" descr="102йогурт.jpg"/>
          <p:cNvPicPr/>
          <p:nvPr/>
        </p:nvPicPr>
        <p:blipFill>
          <a:blip r:embed="rId8"/>
          <a:stretch/>
        </p:blipFill>
        <p:spPr>
          <a:xfrm>
            <a:off x="6126120" y="2714760"/>
            <a:ext cx="3017880" cy="24289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836280"/>
            <a:ext cx="8472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re yo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i="1" lang="en-US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healthy child</a:t>
            </a:r>
            <a:r>
              <a:rPr b="0" i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2968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1. Do you often go to McDonalds</a:t>
            </a: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?</a:t>
            </a:r>
            <a:br>
              <a:rPr sz="4000"/>
            </a:b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a never</a:t>
            </a:r>
            <a:br>
              <a:rPr sz="4000"/>
            </a:b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 b seldom</a:t>
            </a:r>
            <a:br>
              <a:rPr sz="4000"/>
            </a:b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c often</a:t>
            </a:r>
            <a:br>
              <a:rPr sz="36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25795.jpg"/>
          <p:cNvPicPr/>
          <p:nvPr/>
        </p:nvPicPr>
        <p:blipFill>
          <a:blip r:embed="rId1"/>
          <a:stretch/>
        </p:blipFill>
        <p:spPr>
          <a:xfrm>
            <a:off x="1763640" y="2708280"/>
            <a:ext cx="5832720" cy="3816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What would you eat for breakfast</a:t>
            </a:r>
            <a:r>
              <a:rPr b="1" i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porridge               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 hamburger with tea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 pizza with cok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214200"/>
            <a:ext cx="85438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</a:t>
            </a: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at would you eat for dinner</a:t>
            </a: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porridge    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 meat      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 I would go to McDonald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285480"/>
            <a:ext cx="81154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 What would you eat for supper</a:t>
            </a: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r>
              <a:rPr b="1" i="1" lang="en-US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a salad with orange juice                              b cheese                         c hamburg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-360"/>
            <a:ext cx="8329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Do you do morning exercises</a:t>
            </a:r>
            <a:r>
              <a:rPr b="1" i="1" lang="ru-RU" sz="6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r>
              <a:rPr b="1" i="1" lang="en-US" sz="6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every morning            b seldom           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 nev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030a0"/>
                </a:solidFill>
                <a:latin typeface="Calibri"/>
              </a:rPr>
              <a:t>Restaura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2560"/>
            <a:ext cx="83296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You are a healthy child                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You have some problems with your health              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</a:t>
            </a:r>
            <a:r>
              <a:rPr b="1" i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1" i="1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nly a doctor can help you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Let’s Go to the Restaura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20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ГЛАВНАЯ.jpg"/>
          <p:cNvPicPr/>
          <p:nvPr/>
        </p:nvPicPr>
        <p:blipFill>
          <a:blip r:embed="rId1"/>
          <a:stretch/>
        </p:blipFill>
        <p:spPr>
          <a:xfrm>
            <a:off x="357120" y="642960"/>
            <a:ext cx="8572680" cy="5715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-360"/>
            <a:ext cx="85438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rinks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tea,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egetables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tomatoes,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ruits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apples,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ld food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heese,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ot food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ish,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weet food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0" lang="en-US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ie,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-360"/>
            <a:ext cx="85438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at would you lik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</a:t>
            </a:r>
            <a:r>
              <a:rPr b="0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or breakfast </a:t>
            </a:r>
            <a:r>
              <a:rPr b="0" i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for  dinner</a:t>
            </a:r>
            <a:r>
              <a:rPr b="0" i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  for supper</a:t>
            </a:r>
            <a:r>
              <a:rPr b="0" i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4200"/>
            <a:ext cx="8472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7030a0"/>
                </a:solidFill>
                <a:latin typeface="Calibri"/>
              </a:rPr>
              <a:t>Rabbit likes to eat …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7030a0"/>
                </a:solidFill>
                <a:latin typeface="Calibri"/>
              </a:rPr>
              <a:t>We eat soup with …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7030a0"/>
                </a:solidFill>
                <a:latin typeface="Calibri"/>
              </a:rPr>
              <a:t>Little mouse likes …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7030a0"/>
                </a:solidFill>
                <a:latin typeface="Calibri"/>
              </a:rPr>
              <a:t>Tiger would like to eat …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7030a0"/>
                </a:solidFill>
                <a:latin typeface="Calibri"/>
              </a:rPr>
              <a:t>We drink coffee with …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7030a0"/>
                </a:solidFill>
                <a:latin typeface="Calibri"/>
              </a:rPr>
              <a:t>Children drink tea with … and …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30320"/>
            <a:ext cx="8567640" cy="61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ut the words in the correct order</a:t>
            </a:r>
            <a:r>
              <a:rPr b="1" i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</a:t>
            </a:r>
            <a:r>
              <a:rPr b="1" i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at/in the morning/porridge/I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She/milk/with/coffee/drink/does no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hamburgers/they/with/like/chees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We/eat/for breakfast/do not/pizza/salad/fish/o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For supper/would/I/orange/like/juic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are/tea/drinking/they/and/cake/a/nice/eating/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hocola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Does not/Lizzy/mineral/drink/wa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</a:t>
            </a: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I eat porridge in the morn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She does not drink coffee with mi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They like hamburgers with chee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.We do not eat pizza, salad or fish for breakfa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. I would like an orange juice for supp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. They are drinking  tea and eating a 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hocolate cak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. Lizzy does not drink mineral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7:04:08Z</dcterms:created>
  <dc:creator>qq</dc:creator>
  <dc:description/>
  <dc:language>en-US</dc:language>
  <cp:lastModifiedBy>Пользователь</cp:lastModifiedBy>
  <dcterms:modified xsi:type="dcterms:W3CDTF">2013-03-13T01:31:47Z</dcterms:modified>
  <cp:revision>39</cp:revision>
  <dc:subject/>
  <dc:title>I LOVE FOOD</dc:title>
</cp:coreProperties>
</file>