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BFCC-7534-4371-B3B0-B1A13819FE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F9C6-317C-4028-8185-94EA386303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C7C4-0EF7-4FF9-9B86-09D9B3DE2B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58D2-40C0-40D5-887C-D4B03E5F1F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F685-764A-46F8-B98F-90D3C87BFA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5802-C832-4935-87DD-F9BD8FDBC8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8557-C209-4620-A591-34E433FE67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7805-3BFB-4101-9916-64521A530A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5C44-6F21-4A34-A1DC-AF741B3C18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78AE-CB07-4495-B2C5-619EB15BF9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5FE0-24BE-42AE-BC2C-915D677E24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FD6D-B566-4576-88E1-5A97FB7397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719-5F8E-4FF3-B635-C0E6343D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BCAC-CB17-470E-BA06-DEB989E4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EA34-8C36-4F98-8E9E-3B5E44B0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8E28-1C0C-4C05-A2A4-1FF840A0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0891-8C7C-4961-8BEF-5BA2C1A6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68C-AF7A-4AF5-ADFD-C3A0BF4A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2E9-2532-4B3F-A3E7-C083044E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2C08-8376-4BD1-A2A8-2CE3D78A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D83D-D79F-4D0D-B452-C15F0F49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3ED3-8AE9-4DE7-A35A-6FC34D8A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4ECC-D37C-414F-82B0-C967779B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ABB-9382-4126-A9E6-7CB63655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C9D0-8792-48B8-86CE-DB3A28D2D8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7030a0"/>
                </a:solidFill>
                <a:latin typeface="Calibri"/>
              </a:rPr>
              <a:t>RTEURANSA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-360"/>
            <a:ext cx="8472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дставьте что вы с другом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/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другой пришли на ужин в ресторан. Разыграйте диалог: что вы любите есть? чтобы вы хотели съесть? Расскажите о своих вкусах и пристрастиях в е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4" descr="c.jpg"/>
          <p:cNvPicPr/>
          <p:nvPr/>
        </p:nvPicPr>
        <p:blipFill>
          <a:blip r:embed="rId1"/>
          <a:stretch/>
        </p:blipFill>
        <p:spPr>
          <a:xfrm>
            <a:off x="1928880" y="2500200"/>
            <a:ext cx="5429160" cy="4071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7030a0"/>
                </a:solidFill>
                <a:latin typeface="Calibri"/>
              </a:rPr>
              <a:t>What food is healthy</a:t>
            </a:r>
            <a:r>
              <a:rPr b="0" i="1" lang="ru-RU" sz="9600" spc="-1" strike="noStrike">
                <a:solidFill>
                  <a:srgbClr val="7030a0"/>
                </a:solidFill>
                <a:latin typeface="Calibri"/>
              </a:rPr>
              <a:t>?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214200"/>
            <a:ext cx="8472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виноград.jpg"/>
          <p:cNvPicPr/>
          <p:nvPr/>
        </p:nvPicPr>
        <p:blipFill>
          <a:blip r:embed="rId1"/>
          <a:stretch/>
        </p:blipFill>
        <p:spPr>
          <a:xfrm>
            <a:off x="142920" y="549360"/>
            <a:ext cx="2500200" cy="27367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гамбургер.jpg"/>
          <p:cNvPicPr/>
          <p:nvPr/>
        </p:nvPicPr>
        <p:blipFill>
          <a:blip r:embed="rId2"/>
          <a:stretch/>
        </p:blipFill>
        <p:spPr>
          <a:xfrm>
            <a:off x="2786040" y="476280"/>
            <a:ext cx="3000240" cy="25304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каша.jpg"/>
          <p:cNvPicPr/>
          <p:nvPr/>
        </p:nvPicPr>
        <p:blipFill>
          <a:blip r:embed="rId3"/>
          <a:stretch/>
        </p:blipFill>
        <p:spPr>
          <a:xfrm>
            <a:off x="5929200" y="476280"/>
            <a:ext cx="264348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кола.jpg"/>
          <p:cNvPicPr/>
          <p:nvPr/>
        </p:nvPicPr>
        <p:blipFill>
          <a:blip r:embed="rId4"/>
          <a:stretch/>
        </p:blipFill>
        <p:spPr>
          <a:xfrm>
            <a:off x="500040" y="3357720"/>
            <a:ext cx="1590840" cy="29905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салат.jpg"/>
          <p:cNvPicPr/>
          <p:nvPr/>
        </p:nvPicPr>
        <p:blipFill>
          <a:blip r:embed="rId5"/>
          <a:stretch/>
        </p:blipFill>
        <p:spPr>
          <a:xfrm>
            <a:off x="2357280" y="3286080"/>
            <a:ext cx="3510000" cy="26431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8" descr="фри.jpg"/>
          <p:cNvPicPr/>
          <p:nvPr/>
        </p:nvPicPr>
        <p:blipFill>
          <a:blip r:embed="rId6"/>
          <a:stretch/>
        </p:blipFill>
        <p:spPr>
          <a:xfrm>
            <a:off x="6072120" y="314316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3" descr="яблоко.jpg"/>
          <p:cNvPicPr/>
          <p:nvPr/>
        </p:nvPicPr>
        <p:blipFill>
          <a:blip r:embed="rId1"/>
          <a:stretch/>
        </p:blipFill>
        <p:spPr>
          <a:xfrm>
            <a:off x="142920" y="142920"/>
            <a:ext cx="3149640" cy="23572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пицца.jpg"/>
          <p:cNvPicPr/>
          <p:nvPr/>
        </p:nvPicPr>
        <p:blipFill>
          <a:blip r:embed="rId2"/>
          <a:stretch/>
        </p:blipFill>
        <p:spPr>
          <a:xfrm>
            <a:off x="3643200" y="142920"/>
            <a:ext cx="1857600" cy="2347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торт.jpg"/>
          <p:cNvPicPr/>
          <p:nvPr/>
        </p:nvPicPr>
        <p:blipFill>
          <a:blip r:embed="rId3"/>
          <a:stretch/>
        </p:blipFill>
        <p:spPr>
          <a:xfrm>
            <a:off x="5786280" y="142920"/>
            <a:ext cx="3071880" cy="23828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сок.jpg"/>
          <p:cNvPicPr/>
          <p:nvPr/>
        </p:nvPicPr>
        <p:blipFill>
          <a:blip r:embed="rId4"/>
          <a:stretch/>
        </p:blipFill>
        <p:spPr>
          <a:xfrm>
            <a:off x="214200" y="2500200"/>
            <a:ext cx="1500480" cy="19335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молоко.jpg"/>
          <p:cNvPicPr/>
          <p:nvPr/>
        </p:nvPicPr>
        <p:blipFill>
          <a:blip r:embed="rId5"/>
          <a:stretch/>
        </p:blipFill>
        <p:spPr>
          <a:xfrm>
            <a:off x="142920" y="442908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овощи.jpg"/>
          <p:cNvPicPr/>
          <p:nvPr/>
        </p:nvPicPr>
        <p:blipFill>
          <a:blip r:embed="rId6"/>
          <a:stretch/>
        </p:blipFill>
        <p:spPr>
          <a:xfrm>
            <a:off x="2786040" y="2571840"/>
            <a:ext cx="2428920" cy="19033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9" descr="1сыр.jpg"/>
          <p:cNvPicPr/>
          <p:nvPr/>
        </p:nvPicPr>
        <p:blipFill>
          <a:blip r:embed="rId7"/>
          <a:stretch/>
        </p:blipFill>
        <p:spPr>
          <a:xfrm>
            <a:off x="2714760" y="4500720"/>
            <a:ext cx="3571920" cy="2160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0" descr="102йогурт.jpg"/>
          <p:cNvPicPr/>
          <p:nvPr/>
        </p:nvPicPr>
        <p:blipFill>
          <a:blip r:embed="rId8"/>
          <a:stretch/>
        </p:blipFill>
        <p:spPr>
          <a:xfrm>
            <a:off x="6126120" y="2714760"/>
            <a:ext cx="3017880" cy="2428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836280"/>
            <a:ext cx="8472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   </a:t>
            </a:r>
            <a:r>
              <a:rPr b="0" i="1" lang="en-US" sz="8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re yo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i="1" lang="en-US" sz="8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 healthy child</a:t>
            </a:r>
            <a:r>
              <a:rPr b="0" i="1" lang="ru-RU" sz="8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32968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1. Do you often go to McDonalds</a:t>
            </a: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?</a:t>
            </a:r>
            <a:br>
              <a:rPr sz="4000"/>
            </a:b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a never</a:t>
            </a:r>
            <a:br>
              <a:rPr sz="4000"/>
            </a:b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 b seldom</a:t>
            </a:r>
            <a:br>
              <a:rPr sz="4000"/>
            </a:b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c often</a:t>
            </a:r>
            <a:br>
              <a:rPr sz="36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25795.jpg"/>
          <p:cNvPicPr/>
          <p:nvPr/>
        </p:nvPicPr>
        <p:blipFill>
          <a:blip r:embed="rId1"/>
          <a:stretch/>
        </p:blipFill>
        <p:spPr>
          <a:xfrm>
            <a:off x="1763640" y="2708280"/>
            <a:ext cx="5832720" cy="3816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What would you eat for breakfast</a:t>
            </a:r>
            <a:r>
              <a:rPr b="1" i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?</a:t>
            </a:r>
            <a:r>
              <a:rPr b="1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 porridge                 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 hamburger with tea 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 pizza with cok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214200"/>
            <a:ext cx="85438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</a:t>
            </a:r>
            <a:r>
              <a:rPr b="1" i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hat would you eat for dinner</a:t>
            </a:r>
            <a:r>
              <a:rPr b="1" i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?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 porridge    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 meat      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 I would go to McDonald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285480"/>
            <a:ext cx="81154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 What would you eat for supper</a:t>
            </a:r>
            <a:r>
              <a:rPr b="1" i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?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a salad with orange juice                              b cheese                         c hamburg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-360"/>
            <a:ext cx="8329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 Do you do morning exercises</a:t>
            </a:r>
            <a:r>
              <a:rPr b="1" i="1" lang="ru-RU" sz="6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?</a:t>
            </a:r>
            <a:r>
              <a:rPr b="1" i="1" lang="en-US" sz="6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 every morning            b seldom             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 neve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7030a0"/>
                </a:solidFill>
                <a:latin typeface="Calibri"/>
              </a:rPr>
              <a:t>Restauran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42560"/>
            <a:ext cx="832968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</a:t>
            </a:r>
            <a:r>
              <a:rPr b="1" i="1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You are a healthy child                    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</a:t>
            </a:r>
            <a:r>
              <a:rPr b="1" i="1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You have some problems with your health                  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</a:t>
            </a:r>
            <a:r>
              <a:rPr b="1" i="1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nly a doctor can help you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Let’s Go to the Restauran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20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ГЛАВНАЯ.jpg"/>
          <p:cNvPicPr/>
          <p:nvPr/>
        </p:nvPicPr>
        <p:blipFill>
          <a:blip r:embed="rId1"/>
          <a:stretch/>
        </p:blipFill>
        <p:spPr>
          <a:xfrm>
            <a:off x="357120" y="642960"/>
            <a:ext cx="8572680" cy="5715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-360"/>
            <a:ext cx="85438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rinks</a:t>
            </a:r>
            <a:r>
              <a:rPr b="0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r>
              <a:rPr b="0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tea, 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egetables</a:t>
            </a:r>
            <a:r>
              <a:rPr b="0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r>
              <a:rPr b="0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tomatoes, 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ruits</a:t>
            </a:r>
            <a:r>
              <a:rPr b="0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r>
              <a:rPr b="0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apples, 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ld food</a:t>
            </a:r>
            <a:r>
              <a:rPr b="0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</a:t>
            </a:r>
            <a:r>
              <a:rPr b="0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heese, 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ot food</a:t>
            </a:r>
            <a:r>
              <a:rPr b="0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</a:t>
            </a:r>
            <a:r>
              <a:rPr b="0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ish,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weet food</a:t>
            </a:r>
            <a:r>
              <a:rPr b="0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</a:t>
            </a:r>
            <a:r>
              <a:rPr b="0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ie,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-360"/>
            <a:ext cx="85438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hat would you lik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 </a:t>
            </a:r>
            <a:r>
              <a:rPr b="0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or breakfast </a:t>
            </a:r>
            <a:r>
              <a:rPr b="0" i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for  dinner</a:t>
            </a:r>
            <a:r>
              <a:rPr b="0" i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 for supper</a:t>
            </a:r>
            <a:r>
              <a:rPr b="0" i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214200"/>
            <a:ext cx="8472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7030a0"/>
                </a:solidFill>
                <a:latin typeface="Calibri"/>
              </a:rPr>
              <a:t>Rabbit likes to eat …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7030a0"/>
                </a:solidFill>
                <a:latin typeface="Calibri"/>
              </a:rPr>
              <a:t>We eat soup with …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7030a0"/>
                </a:solidFill>
                <a:latin typeface="Calibri"/>
              </a:rPr>
              <a:t>Little mouse likes …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7030a0"/>
                </a:solidFill>
                <a:latin typeface="Calibri"/>
              </a:rPr>
              <a:t>Tiger would like to eat …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7030a0"/>
                </a:solidFill>
                <a:latin typeface="Calibri"/>
              </a:rPr>
              <a:t>We drink coffee with …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7030a0"/>
                </a:solidFill>
                <a:latin typeface="Calibri"/>
              </a:rPr>
              <a:t>Children drink tea with … and …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30320"/>
            <a:ext cx="8567640" cy="61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ut the words in the correct order</a:t>
            </a:r>
            <a:r>
              <a:rPr b="1" i="1" lang="ru-RU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</a:t>
            </a:r>
            <a:r>
              <a:rPr b="1" i="1" lang="en-US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at/in the morning/porridge/I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She/milk/with/coffee/drink/does no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hamburgers/they/with/like/chees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We/eat/for breakfast/do not/pizza/salad/fish/o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For supper/would/I/orange/like/juic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.are/tea/drinking/they/and/cake/a/nice/eating/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hocolat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.Does not/Lizzy/mineral/drink/wate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</a:t>
            </a: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I eat porridge in the morn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She does not drink coffee with mil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They like hamburgers with chee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We do not eat pizza, salad or fish for breakfas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 I would like an orange juice for supp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. They are drinking  tea and eating a 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hocolate cak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. Lizzy does not drink mineral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7:04:08Z</dcterms:created>
  <dc:creator>qq</dc:creator>
  <dc:description/>
  <dc:language>en-US</dc:language>
  <cp:lastModifiedBy>Пользователь</cp:lastModifiedBy>
  <dcterms:modified xsi:type="dcterms:W3CDTF">2013-03-13T01:31:47Z</dcterms:modified>
  <cp:revision>39</cp:revision>
  <dc:subject/>
  <dc:title>I LOVE FOOD</dc:title>
</cp:coreProperties>
</file>