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AF5F8-F19C-428E-A469-8695E517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EA08B-507B-4C5B-ACE8-191C97A3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078E2-303C-4C4F-8368-6BB55881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33EFE-0D77-48E3-9710-E8E61DA8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9756-FB58-430F-8F21-C6A9848A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C258-626F-48B9-A457-E9090076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4C01-81A6-40A5-915C-405780D9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EACC-882C-4080-8618-9E820CC4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B3D2-F2C8-45B6-A451-19986034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B216-E12C-4EE2-8FE0-74968DD3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88EE-30AE-4A1B-944A-96BD6BCE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8CB43-E1C0-437D-B06E-CAEF2AA0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96D0-712B-4021-AD36-B7B187EF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0FEA-1890-4286-9E04-9F13E568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529C-325E-4EA6-9C17-1EBEBFCD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3B0F-91EB-4D3E-823F-FBBF644F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A9C3-DC12-4572-A280-2FCF2EF9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2D1A-43F1-4100-9BC4-FBD62D1C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BA0E-538E-4E60-AFDD-75D58AD4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8994E-DD36-48E9-8DA8-DA002745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CBDC-3796-43BF-89C3-9FB6E42C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74A4-C6DC-45FD-B1A8-1E24147E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B21D-162A-41A9-8077-29B16CA0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0EC5B-647B-43EF-8633-A427B8CA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A8F8-A290-4F21-B096-3033AA0B4A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ACF2-E49A-452F-9847-052ECAF98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5a00"/>
                </a:solidFill>
                <a:latin typeface="Arial"/>
              </a:rPr>
              <a:t>Федеральные государственные требования к структуре основной общеобразовательной программы дошкольного образовани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12d1c"/>
                </a:solidFill>
                <a:latin typeface="Arial"/>
              </a:rPr>
              <a:t>Программа долж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907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тветствовать принципу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развивающег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четать принципы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научной обоснован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практической применим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тветствовать критериям полноты, необходимости и достато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ть единство воспитательных, развивающих и обучающих целей и задач процесса образования детей дошкольн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троиться с учетом принципа интеграции образовательных обла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сновываться на комплексно-тематическом принципе построения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усматривать решение программных образовательных задач в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совместной деятельности взрослого и дет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самостоятельной деятельности дет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 только в рамках непосредственно образовательной деятельности, но и при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проведении режимных мо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полагать построение образовательного  процесса на адекватных возрасту формах работы с детьми.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Основной формой работы с детьм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школьного возраста и ведущим видом деятельности являе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иг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12d1c"/>
                </a:solidFill>
                <a:latin typeface="Arial"/>
              </a:rPr>
              <a:t>Основные принципы построения образовательного процесс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4998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но-средо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лексно-тематиче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928880"/>
            <a:ext cx="9290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ализация комплексно-тематического принципа построения образовательного процесса невозможна вне взаимосвязи с принципом интегр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4000" y="90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нтеграцией содержания дошкольного образова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онимается состояние (или процесс, ведущий к такому состоянию) связанности, взаимопроникновения и взаимодействия отдельных образовательных областей, обеспечивающее целостность образовательного процес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5a00"/>
                </a:solidFill>
                <a:latin typeface="Arial"/>
              </a:rPr>
              <a:t>Программа состоит из двух частей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10920" y="1844280"/>
            <a:ext cx="718812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Обязательной части( объем составляет 80% времени, необходимого для реализации Программы) – 6,5 – 7,5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Части, формируемой участниками образовательного процесса (не более 20% общего объема  Программы) – 2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95280" y="76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, необходимое для реализации Программы, составляет от 65% до 80%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от 7,5 часов до 9,5 часов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ремени пребывания детей в группах с 12-ти часовым пребыванием в зависимости от возраста детей, их индивидуальных особенностей и потребностей, а также вида группы, в которой Программа реализу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5a00"/>
                </a:solidFill>
                <a:latin typeface="Arial"/>
              </a:rPr>
              <a:t>Общий объем обязательной части Программы включает время, отведенное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5280" y="134136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тельную деятельность, осуществляемую в процессе организации различных видов  детской деятельности (игровой, коммуникативной, трудовой, познавательно-исследовательской, продуктивной, музыкально-художественной, чт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тельную деятельность, осуществляемую в ходе режимных мом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остоятельную деятельность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аимодействие с семьями детей по реализации основной общеобразовательной программы дошколь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712d1c"/>
                </a:solidFill>
                <a:latin typeface="Arial"/>
              </a:rPr>
              <a:t>Совместная деятельность взрослого и детей –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1557360"/>
            <a:ext cx="822960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ятельность двух и более участников образовательного процесса (взрослых и воспитанников) по решению образовательных задач на одном пространстве  и в одно и то же время. Отличается наличием партнерской (равноправной ) позиции взрослого и партнерской формой организации (возможность свободного размещения, перемещения и общения детей в процессе образовательной деятельности). Предполагает индивидуальную, подгрупповую и групповую формы организации работы с воспитанник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712d1c"/>
                </a:solidFill>
                <a:latin typeface="Arial"/>
              </a:rPr>
              <a:t>Самостоятельная деятельность дете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9640" y="155736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бодная деятельность воспитанников в условиях созданной педагогами предметно-развивающей образовательной среды, обеспечивающая выбор каждым ребенком деятельности по интересам и позволяющая ему взаимодействовать со сверстниками или действовать индивидуаль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организованная воспитателем деятельность воспитанников, направленная на решение задач, связанных с интересами других людей (эмоциональное благополучие других людей, помощь другим в быту и д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5a00"/>
                </a:solidFill>
                <a:latin typeface="Arial"/>
              </a:rPr>
              <a:t>Планирование образовательной деятельности в </a:t>
            </a:r>
            <a:br>
              <a:rPr sz="1900"/>
            </a:br>
            <a:r>
              <a:rPr b="0" lang="en-US" sz="1900" spc="-1" strike="noStrike">
                <a:solidFill>
                  <a:srgbClr val="665a00"/>
                </a:solidFill>
                <a:latin typeface="Arial"/>
              </a:rPr>
              <a:t>соответствии с ФГ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989000"/>
          <a:ext cx="8229600" cy="4270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Совместная деятельность взрослого и дет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Самостоятельная деятельность дет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7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, осуществляемая в процессе организации различных видов детской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ая деятельность, осуществляемая в ходе режимных момен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5a00"/>
                </a:solidFill>
                <a:latin typeface="Arial"/>
              </a:rPr>
              <a:t>Типовое положение о дошкольном образовательном учреждении  (Утверждено Постановлением </a:t>
            </a:r>
            <a:br>
              <a:rPr sz="2100"/>
            </a:br>
            <a:r>
              <a:rPr b="1" lang="en-US" sz="2100" spc="-1" strike="noStrike">
                <a:solidFill>
                  <a:srgbClr val="665a00"/>
                </a:solidFill>
                <a:latin typeface="Arial"/>
              </a:rPr>
              <a:t>Правительства РФ от 12.09.2008 г. № 66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227664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. 21. Содержание образовательного процесса в дошкольном образовательном учреждении определяется образовательной программой дошкольного образования, разрабатываемой, принимаемой и реализуемой им самостоятельно в соответствии с федеральными государственными требованиями к структуре основной общеобразовательной программы дошкольного образования и условиям ее реализации, установленными федеральным органом  исполнительной власти, осуществляющим функции по выработке  государственной политики  и нормативно-правовому регулированию в сфере образования, и с учетом особенностей психофизического развития и возможностей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5a00"/>
                </a:solidFill>
                <a:latin typeface="Arial"/>
              </a:rPr>
              <a:t>Формы работы для организации конкретного вида детской деятель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9280" y="1052640"/>
          <a:ext cx="8785440" cy="5814720"/>
        </p:xfrm>
        <a:graphic>
          <a:graphicData uri="http://schemas.openxmlformats.org/drawingml/2006/table">
            <a:tbl>
              <a:tblPr/>
              <a:tblGrid>
                <a:gridCol w="2952720"/>
                <a:gridCol w="5832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Детская 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Формы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гатель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ижные дидактич. игры; игровые упражн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ижные игры с правилами; соревн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ов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южетные игры; игры с правил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ив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ская по изготовлению продуктов детского творчества; реализация про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; ситуативный разговор; речевая ситуация; составление и отгадывание загадок; сюжетные игры; игры с правил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ые действия; дежурство; поручение; задание; реализация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вательно-исследова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; экскурсия; решение проблемных ситуаций; экспериментирование; коллекционирование; моделирование; реализация проекта; игры с правил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59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1268280"/>
          <a:ext cx="6786720" cy="3956040"/>
        </p:xfrm>
        <a:graphic>
          <a:graphicData uri="http://schemas.openxmlformats.org/drawingml/2006/table">
            <a:tbl>
              <a:tblPr/>
              <a:tblGrid>
                <a:gridCol w="2264040"/>
                <a:gridCol w="4522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Детская дея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Формы  рабо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о-художественн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ние; исполнение; импровизация; экспериментирование; подвижные игры (с музыкальным сопровождением); музыкально-дидактические иг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 художественной литерату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ение; обсуждение; разучи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5a00"/>
                </a:solidFill>
                <a:latin typeface="Arial"/>
              </a:rPr>
              <a:t>Планирование воспитательно-образовательной работы </a:t>
            </a:r>
            <a:br>
              <a:rPr sz="2100"/>
            </a:br>
            <a:r>
              <a:rPr b="1" lang="ru-RU" sz="2100" spc="-1" strike="noStrike">
                <a:solidFill>
                  <a:srgbClr val="665a00"/>
                </a:solidFill>
                <a:latin typeface="Arial"/>
              </a:rPr>
              <a:t> (рекомендации О. Скоролупово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8560" y="1700280"/>
            <a:ext cx="878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ппа 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а проекта 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 проекта 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вание игрового мероприятия (события, праздника и др.) 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а итогового мероприятия (праздник, конкурс, коллаж, акция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та проведения итогового мероприятия  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.И.О. воспитателя, ответственного за итоговое мероприятие 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59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1557360"/>
          <a:ext cx="8785440" cy="4927680"/>
        </p:xfrm>
        <a:graphic>
          <a:graphicData uri="http://schemas.openxmlformats.org/drawingml/2006/table">
            <a:tbl>
              <a:tblPr/>
              <a:tblGrid>
                <a:gridCol w="1008000"/>
                <a:gridCol w="1368720"/>
                <a:gridCol w="1388880"/>
                <a:gridCol w="1254240"/>
                <a:gridCol w="1255680"/>
                <a:gridCol w="1254240"/>
                <a:gridCol w="1255680"/>
              </a:tblGrid>
              <a:tr h="3385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День недели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Образо-вательные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Совместная деятельность взрослого и детей с учетом интеграции образовательных обла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Органи-зация развивающей среды для самостоя-тельной деятель-ности детей (центры активнос-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d2dfd1"/>
                          </a:solidFill>
                          <a:latin typeface="Arial"/>
                        </a:rPr>
                        <a:t>Взаимо-действие с родителями/социа-льными партнерами (театр, школа, др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образова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-тельная деятель-ность в режим-ных момен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42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ова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руппо-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5a00"/>
                </a:solidFill>
                <a:latin typeface="Arial"/>
              </a:rPr>
              <a:t>Обязательная часть Программы должна содержать следующие разде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557360"/>
            <a:ext cx="8229600" cy="32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80520" indent="-38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яснительная запи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Организация режима пребывания детей в О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Содержание психолого-педагогической работы по освоению детьми образовательных обла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ческая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н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удожественное 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у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12d1c"/>
                </a:solidFill>
                <a:latin typeface="Arial"/>
              </a:rPr>
              <a:t>Реализация каждой области включает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0522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 образовательной области, зада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ы реализ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ель, схему или таблицу  «Связь с другими образовательными областям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ное обеспеч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у реализации образовательных областей в разных формах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ы и приемы работы с дет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i="1" lang="en-US" sz="4600" spc="-1" strike="noStrike">
                <a:solidFill>
                  <a:srgbClr val="712d1c"/>
                </a:solidFill>
                <a:latin typeface="Arial"/>
              </a:rPr>
              <a:t> </a:t>
            </a:r>
            <a:r>
              <a:rPr b="1" i="1" lang="en-US" sz="1700" spc="-1" strike="noStrike">
                <a:solidFill>
                  <a:srgbClr val="712d1c"/>
                </a:solidFill>
                <a:latin typeface="Arial"/>
              </a:rPr>
              <a:t>Образовательная область «Здоровье» интегрируется с содержанием образовательных областей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413000"/>
            <a:ext cx="822960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зическая культура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физических качеств и накопление двигательного опыта как важнейшие условия сохранения и укрепления здоровья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формирование целостной картины мира, расширение кругозора в части представлений о здоровье и здоровом образе жизн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формирование первичных ценностных представлений о здоровье и здоровом  образе жизни человека, соблюдение  элементарных общепринятых норм и правил  поведения в части здорового образ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формирование основ безопасности собственной жизнедеятельности, в том числе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развитие свободного общения со взрослыми и детьми по поводу здоровья и здорового образа жизн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i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712d1c"/>
                </a:solidFill>
                <a:latin typeface="Arial"/>
              </a:rPr>
              <a:t>Образовательная область «Физическая культура» интегрируется с содержанием образовательных областей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557000"/>
            <a:ext cx="82296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оровье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асти решения общей задачи по охране жизни и укреплению физического и психического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ы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развитие музыкально-ритмической деятельности на основе физических качеств и основных движений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 части двигательной активности как способа усвоения ребенком предметных действий, а также как одного из средств овладения операциональным составом различных видов дет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звитие свободного общения со взрослыми и детьми в части необходимости двигательной активности и физического совершенствования ; игровое об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иобщение к ценностям физической культуры; формирование первичных представлений о себе, собственных двигательных возможностях и особенностях; приобщение к элементарным общепринятым нормам и правилам взаимоотношения со сверстниками и взрослыми в совместной двигатель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копление опыта двигатель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i="1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712d1c"/>
                </a:solidFill>
                <a:latin typeface="Arial"/>
              </a:rPr>
              <a:t>Образовательная область «Социализация» интегрируется с содержанием образовательных областей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8360" y="162828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кация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вободного общения со взрослыми и детьми в части формирования первичных ценностных представлений, представлений о себе, обществе, государстве, мире, а также соблюдения элементарных общепринятых норм и правил по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целостной картины мира и расширение кругозора в части представлений о себе, гендерной принадлежности, социуме, государстве,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у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представлений о труде, профессиях, людях труда, желания трудиться, устанавливать взаимоотношения со взрослыми и сверстниками в процессе трудо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формирование основ безопасности собственной жизнедеятельности в семье и обществе, а также безопасности окружающего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ческая куль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развитие игровой деятельности в части подвижных игр с прави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12d1c"/>
                </a:solidFill>
                <a:latin typeface="Arial"/>
              </a:rPr>
              <a:t>Образовательная область «Безопасность» интегрируется с содержанием образовательных областей: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1268280"/>
            <a:ext cx="8229600" cy="32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кация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вободного общения со взрослыми и сверстниками в процессе освоения способов безопасного поведения, способов оказания помощи самому себе, помощи другому, правил поведения в стандартных опасных ситуациях, в части формирования основ экологического 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у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представлений и освоение способов безопасного поведения, основ экологического сознания в процессе трудо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целостной картины мира и расширение кругозора в части представлений о возможных опасностях, способах их избегания, способах сохранения здоровья и жизни, безопасности окружающе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формирование первичных представлений о себе, гендерных особенностях, семье, социуме и государстве, освоение общепринятых норм и правил взаимоотношений со взрослыми и сверстниками в контексте безопасного поведения и основ экологического 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формирование первичных ценностных представлений о здоровье и здоровом образе жизн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5a00"/>
                </a:solidFill>
                <a:latin typeface="Arial"/>
              </a:rPr>
              <a:t>Приказ Министерства образования и науки РФ от 23.11.2009 г. № 655 «Об утверждении и введении в действие федеральных государственных требований к структуре основной общеобразовательной программы дошкольного образования»</a:t>
            </a:r>
            <a:br>
              <a:rPr sz="2300"/>
            </a:br>
            <a:r>
              <a:rPr b="1" lang="en-US" sz="2300" spc="-1" strike="noStrike">
                <a:solidFill>
                  <a:srgbClr val="665a00"/>
                </a:solidFill>
                <a:latin typeface="Arial"/>
              </a:rPr>
              <a:t>Зарегистрировано в Минюсте РФ 8 февраля 2010 г. № 16299</a:t>
            </a:r>
            <a:br>
              <a:rPr sz="20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12d1c"/>
                </a:solidFill>
                <a:latin typeface="Arial"/>
              </a:rPr>
              <a:t>Образовательная область «Труд» интегрируется с содержанием образовательных областей: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1341000"/>
            <a:ext cx="82296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кация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вободного общения со взрослыми и детьми в процессе трудовой деятельности, знакомства с трудом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целостной картины мира и расширение кругозора в части развития представлений о труде взрослых,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формирование основ безопасности собственной жизнедеятельности в процессе трудо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зац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формирование первичных представлений о себе, гендерных особенностях, семье, социуме и государстве, освоение общепринятых норм и правил взаимоотношений со взрослыми сверстниками в контексте развития детского труда и представлений о труде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ческая куль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развитие физических качеств ребенка в процессе освоения разных видов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12d1c"/>
                </a:solidFill>
                <a:latin typeface="Arial"/>
              </a:rPr>
              <a:t>Образовательная область «Познание» интегрируется с содержанием образовательных областей: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1280" y="126828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развитие познавательно-исследовательской и продуктивной деятельности в процессе свободного общения со сверстниками и взросл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решение специфическими средствами идентичной основной задачи психолого-педагогической работы – формирование целостной картины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расширение кругозора детей в части представлений о здоровом образе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формирование первичных представлений о себе, семье, обществе, государстве,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у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целостной картины мира и расширение кругозора в части представлений о труде взрослых и собственной трудо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формирование целостной картины мира и расширение кругозора в части представлений о безопасности собственной жизнедеятельности и безопасности окружающего мира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зы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удожественное творче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расширение кругозора в части музыкального и изобразительного искус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6836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ецифика модели интеграции образовательной област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состоит в том, что решение основных  психолого-педагогических задач указанной области осуществляется во всех образовательных област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12d1c"/>
                </a:solidFill>
                <a:latin typeface="Arial"/>
              </a:rPr>
              <a:t>Образовательная область «Чтение художественной литературы» интегрируется с содержанием образовательных областей: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9640" y="1628640"/>
            <a:ext cx="8229600" cy="31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кация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вободного общения со взрослыми и сверстниками по поводу прочитанного, практическое овладение нормами русской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целостной картины мира, расширение кругозора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зац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первичных представлений о себе, своих чувствах и эмоциях, окружающем мире людей, природы, а также первичных ценностных предста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удожественное творче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развитие детского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12d1c"/>
                </a:solidFill>
                <a:latin typeface="Arial"/>
              </a:rPr>
              <a:t>Образовательная область «Музыка» интегрируется с содержанием образовательных областей: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91628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Физическая культура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витие физических качеств для музыкально-ритмическ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оммуникац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развитие свободного общения со взрослыми и сверстниками по поводу музы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расширение кругозора детей в части элементарных представлений о музыке как виде искус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формирование первичных представлений о себе, своих чувствах и эмоциях, а также окружающем мире в части культуры и музыкального искус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12d1c"/>
                </a:solidFill>
                <a:latin typeface="Arial"/>
              </a:rPr>
              <a:t>Образовательная область «Художественное творчество» интегрируется с содержанием образовательных областей: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628640"/>
            <a:ext cx="8229600" cy="30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кац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развитие свободного общения со взрослыми и детьми по поводу процесса и результатов проду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формирование целостной картины мира, расширение кругозора в части изобразительного искусства, твор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формирование основ безопасности собственной жизнедеятельности в различных видах проду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формирование трудовых умений и навыков, адекватных возрасту воспитанников, трудолюбия в различных видах проду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зыка, Чтение художественной литературы, Физическая культу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развитие детского творчества, приобщение к различным видам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782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907920"/>
            <a:ext cx="8229600" cy="32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Содержание коррекционной работы (для детей с ограниченными возможностями здоровь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Планируемые результаты освоения детьми основной общеобразовательной программы дошкольного 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Система мониторинга достижения детьми планируемых результатов освоения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782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55640" y="1125360"/>
            <a:ext cx="749952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итоговые результаты освоения детьми основной общеобразовательной программы дошкольного образования подразделяются на итоговые и промежут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5a00"/>
                </a:solidFill>
                <a:latin typeface="Arial"/>
              </a:rPr>
              <a:t>Интегративные качества ребенка, которые он может приобрести в результате освоения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95280" y="14842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чески развитый, овладевший основными культурно-гигиеническими навы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 Любознательный, актив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Эмоционально отзывчив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Овладевший средствами общения и способами взаимодействия со взрослыми и сверст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Способный управлять своим поведением и планировать свои действия на основе первичных ценностных представлений, соблюдающий элементарные общепринятые нормы и правила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Способный решать интеллектуальные и личностные задачи (проблемы), адекватные возра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Имеющий представления о себе, семье, обществе, государстве, мире и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Овладевший универсальными предпосылками к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  Овладевший необходимыми умениями и навы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5a00"/>
                </a:solidFill>
                <a:latin typeface="Arial"/>
              </a:rPr>
              <a:t>Мониторинг достижения детьми планируемых результатов освоения Програм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360" y="1844280"/>
            <a:ext cx="822960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ения за ребен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ные оцен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иально-ориентированные методики нетестового тип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арильно-ориентированное тест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рининг-тес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5280" y="6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lvl="1" marL="207360" indent="-207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оящие  федеральные государственные требования устанавливаю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рмы и положения, обязательные при реализации основной общеобразовательной программы дошкольного образования образовательными учреждениями, имеющими государственную аккредитац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далее - образовательные учреждения), в части определения структуры основной общеобразовательной программы дошкольного образования, в том числе соотношения ее частей, их объема, а также соотношения обязательной части основной общеобразовательной программы и части, формируемой участниками образовательного процесса. 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12d1c"/>
                </a:solidFill>
                <a:latin typeface="Arial"/>
              </a:rPr>
              <a:t>Сравнительный анализ Временных требований и ФГ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1280" y="907920"/>
          <a:ext cx="8229600" cy="5058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ые (примерные) треб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Г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4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ъявлялись к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держани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етода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ошкольно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ют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труктуру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общеобразовательной программы  дошкольного образования, т.е. объем и соотношение  «содержательных» частей программ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2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дошкольного образования включало 12 направлений деятельности ДО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 Вз, 2 – Фр, 3 – Р, 4-8 – И, Из, Т, М, К, 9-10 – Ма, Е, 11-12 – Э, 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дошкольного образования включает в себя 4 направления развития детей – физическое, социально-личностное, познавательно-речевое, художественно-эстетическое. Наполняют направления образовательные области. Их 10: «Физическая культура», «Здоровье», Социализация», «Труд», «Безопасность», «Чтение худ. литературы», «Коммуникация», «Познание», «Музыка», «Художественное творчеств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95280" y="692280"/>
          <a:ext cx="8229600" cy="6842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ный подход, т.е. в  первую очередь учитывались детские вид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лючение из деятельностного подхода являются почти половина направлений: здоровье, Ма, Е, Э, Ч, 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лючением из деятельностного подхода являются области «Здоровье», т.к. проводится профилактическая и оздоровительная работа, и «Безопасность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основе остальных образовательных областей находятся следующие виды детский деятель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гательная деятельность – «Физическая культура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овая – «Социализация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вая – «Труд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риятие худ. литературы – «Чтение худ. литературы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тивная – «Коммуникация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навательно-исследовательская, продуктивная, конструктивная – «Познание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льно-художественная – «Музыка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ивная – «Художественное творчество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836640"/>
          <a:ext cx="8229600" cy="548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формулирован результат, не имеют количественно измеримых парамет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ют планируемые результаты освоения Программы – итоговые и промежуточные. Итоговый результат представляет сосбой совокупность интегративных качеств, или «социальный» портрет ребенка 7 лет, освоивших основную общеобразовательную программу дошко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ный принц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 интеграции, комплексно-тематический принц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ыли дифференцированы на обязательную для всех ДОУ часть содержания дошкольного образования и часть, отражающую видовое разнообразие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ют как обязательную для всех ДОУ часть Программы, так и часть, формируемую участниками образовательного процесса, а также варианты  соотношения указанных частей Программы в соответствии с направленностью групп детей дошколь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3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24000" y="620640"/>
          <a:ext cx="8229600" cy="5580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пределяли объем образовательной нагруз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яют как время, необходимое для реализации всей Программы, так и время необходимое для реализации ее основных частей – обязательной части и части, формируемой участниками образовательного процес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тражали специфику осуществления образовательного процесса в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жают специфику образования детей дошколь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ывали только традиционный режим пребывания детей – 12-час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ывают возможность реализации Программы в группах детей дошкольного возраста с различным режимом пребы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читывали специфику деятельности специализированных групп и учрежд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ывают специфику образовательной работы с детьми с ограниченными возможностями здоров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1 октября 2010 r 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№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3 - 248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 разработке основной общеобразовательной программы дошкольного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ИНИСТЕРСТВО ОБРАЗОВАНИЯ И НАУКИ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665a00"/>
                </a:solidFill>
                <a:latin typeface="Arial"/>
              </a:rPr>
              <a:t>На основе федеральных требований</a:t>
            </a:r>
            <a:br>
              <a:rPr sz="2700"/>
            </a:br>
            <a:r>
              <a:rPr b="1" lang="en-US" sz="2700" spc="-1" strike="noStrike">
                <a:solidFill>
                  <a:srgbClr val="665a00"/>
                </a:solidFill>
                <a:latin typeface="Arial"/>
              </a:rPr>
              <a:t>   разрабатываются: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412640"/>
            <a:ext cx="822960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ная основная общеобразовательная программа дошкольного образования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ная основная общеобразовательная программа дошкольного образования для детей с ограниченными возможностями здор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6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8920" y="1341000"/>
            <a:ext cx="8642520" cy="35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На основе федеральных требований осуществляется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экспертиза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основных общеобразовательных программ дошкольного образования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при лицензировании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бразовательной деятельности и государственной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аккредитаци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образовательных учреждени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2d1c"/>
                </a:solidFill>
                <a:latin typeface="Arial"/>
              </a:rPr>
              <a:t>Требования к структуре основной общеобразовательной программы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84464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96000" indent="-39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Основная общеобразовательная программа 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разрабатывается, утверждаетс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реализуется в ОУ на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основе примерны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х общеобразовательных программ дошкольного образования,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разработка которых обеспечивается уполномоченным федеральным государственным органом на основе федеральных требо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78200"/>
            <a:ext cx="82296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4000" y="475920"/>
            <a:ext cx="82296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ограмма определяет содержание и организацию образовательного процесса для детей дошкольного возраста и направлена на формирование общей культуры, развитие физических, интеллектуальных и личностных качеств, формирование предпосылок учебной деятельности, обеспечивающих социальную успешность, сохранение и укрепление здоровья детей дошкольного возраста, коррекцию недостатков в физическом и (или) психическом развитии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836280"/>
            <a:ext cx="8229600" cy="33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Содержание Программы включает совокупность образовательных областей, которые обеспечивает разностороннее развитие детей с учетом их возрастных и индивидуальных особенностей по  основным направлениям –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физическому, социально-личностному, познавательно-речевом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художественно-эстетическ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5:32:47Z</dcterms:created>
  <dc:creator>Пользователь</dc:creator>
  <dc:description/>
  <dc:language>en-US</dc:language>
  <cp:lastModifiedBy>XXX</cp:lastModifiedBy>
  <dcterms:modified xsi:type="dcterms:W3CDTF">2012-11-08T07:42:00Z</dcterms:modified>
  <cp:revision>79</cp:revision>
  <dc:subject/>
  <dc:title>Федеральные государственные требования к структуре основной общеобразовательной программы дошкольного образования</dc:title>
</cp:coreProperties>
</file>