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4D52-D0B2-4F12-BB81-FFCD6E5A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D541-38F2-4CF6-9652-2E042354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995D-64CD-42AB-923E-14435242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C512-2B87-4FC9-B7EA-18678E97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D5CE-8BED-4C23-BB30-55733464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7437-4A4A-4503-8B24-A95827E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D506-976B-4E9D-9414-AAB0E70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FAA4-F702-4C10-94EC-01327D2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874A-8996-4ADF-9616-65E68D5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C012-98AF-41A4-9C40-B278F8E2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A9DA-83C1-4667-961B-8A415D77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738E-D606-4E60-AC04-8CCE9555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925E-41F9-4FD3-B9FE-1FFE61EA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0C80-742B-48D4-9F7E-BF7BB47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B816-7D9A-4ECA-8F5E-D411D82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722F-B394-47DD-A064-9B85578C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7EEC-D8B3-4231-9C97-630FEA27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47AD-03D8-487A-9454-2A33A330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EA21-9714-4051-A2B9-84085D1D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49E9-5DF2-4C25-A534-64339249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B726-2C64-47FB-AF21-C29E29F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DD5F-59ED-44D2-832F-E5702E36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9E52-CEEC-4A74-81D4-F12548D3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8AF4-4C84-4311-BD34-CAEBE68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ABAF-E786-4BE8-82BE-477BEE05B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742-9D2B-4EE5-AFAF-87D1F7489B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5a00"/>
                </a:solidFill>
                <a:latin typeface="Arial"/>
              </a:rPr>
              <a:t>Федеральные государственные требования к структуре основной общеобразовательной программы дошкольного образова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12d1c"/>
                </a:solidFill>
                <a:latin typeface="Arial"/>
              </a:rPr>
              <a:t>Программа долж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907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тветствовать принципу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развивающ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етать принципы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научной обоснован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практической примен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тветствовать критериям полноты, необходимости и достато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ть единство воспитательных, развивающих и обучающих целей и задач процесса образования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троиться с учетом принципа интеграции образовательных обла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ываться на комплексно-тематическом принципе построен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сматривать решение программных образовательных задач в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совместной деятельности взрослого и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самостоятельной деятельности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только в рамках непосредственно образовательной деятельности, но и при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проведении режимных мо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полагать построение образовательного  процесса на адекватных возрасту формах работы с детьми.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Основной формой работы с деть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школьного возраста и ведущим видом деятельности являе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12d1c"/>
                </a:solidFill>
                <a:latin typeface="Arial"/>
              </a:rPr>
              <a:t>Основные принципы построения образовательного процесс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499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но-средо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но-темат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928880"/>
            <a:ext cx="9290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комплексно-тематического принципа построения образовательного процесса невозможна вне взаимосвязи с принципом интег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нтеграцией содержания дошкольного образ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нимается состояние (или процесс, ведущий к такому состоянию) связанности, взаимопроникновения и взаимодействия отдельных образовательных областей, обеспечивающее целостность образовательного процес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5a00"/>
                </a:solidFill>
                <a:latin typeface="Arial"/>
              </a:rPr>
              <a:t>Программа состоит из двух часте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0920" y="1844280"/>
            <a:ext cx="71881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бязательной части( объем составляет 80% времени, необходимого для реализации Программы) – 6,5 – 7,5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асти, формируемой участниками образовательного процесса (не более 20% общего объема  Программы) – 2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9528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, необходимое для реализации Программы, составляет от 65% до 80%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от 7,5 часов до 9,5 часов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ремени пребывания детей в группах с 12-ти часовым пребыванием в зависимости от возраста детей, их индивидуальных особенностей и потребностей, а также вида группы, в которой Программа реализу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5a00"/>
                </a:solidFill>
                <a:latin typeface="Arial"/>
              </a:rPr>
              <a:t>Общий объем обязательной части Программы включает время, отведенно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13413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ую деятельность, осуществляемую в процессе организации различных видов  детской деятельности (игровой, коммуникативной, трудовой, познавательно-исследовательской, продуктивной, музыкально-художественной, чт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ую деятельность, осуществляемую в ходе режимных мо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стоятельную деятельность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аимодействие с семьями детей по реализации основной общеобразовательной программы до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712d1c"/>
                </a:solidFill>
                <a:latin typeface="Arial"/>
              </a:rPr>
              <a:t>Совместная деятельность взрослого и детей 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ятельность двух и более участников образовательного процесса (взрослых и воспитанников) по решению образовательных задач на одном пространстве  и в одно и то же время. Отличается наличием партнерской (равноправной ) позиции взрослого и партнерской формой организации (возможность свободного размещения, перемещения и общения детей в процессе образовательной деятельности). Предполагает индивидуальную, подгрупповую и групповую формы организации работы с воспитанни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712d1c"/>
                </a:solidFill>
                <a:latin typeface="Arial"/>
              </a:rPr>
              <a:t>Самостоятельная деятельность дете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640" y="15573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ная деятельность воспитанников в условиях созданной педагогами предметно-развивающей образовательной среды, обеспечивающая выбор каждым ребенком деятельности по интересам и позволяющая ему взаимодействовать со сверстниками или действовать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организованная воспитателем деятельность воспитанников, направленная на решение задач, связанных с интересами других людей (эмоциональное благополучие других людей, помощь другим в быту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5a00"/>
                </a:solidFill>
                <a:latin typeface="Arial"/>
              </a:rPr>
              <a:t>Планирование образовательной деятельности в </a:t>
            </a:r>
            <a:br>
              <a:rPr sz="1900"/>
            </a:br>
            <a:r>
              <a:rPr b="0" lang="en-US" sz="1900" spc="-1" strike="noStrike">
                <a:solidFill>
                  <a:srgbClr val="665a00"/>
                </a:solidFill>
                <a:latin typeface="Arial"/>
              </a:rPr>
              <a:t>соответствии с ФГ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989000"/>
          <a:ext cx="8229600" cy="4270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Совместная деятельность взрослого и дет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, осуществляемая в процессе организации различных видов детской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, осуществляемая в ходе режимных момен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5a00"/>
                </a:solidFill>
                <a:latin typeface="Arial"/>
              </a:rPr>
              <a:t>Типовое положение о дошкольном образовательном учреждении  (Утверждено Постановлением </a:t>
            </a:r>
            <a:br>
              <a:rPr sz="2100"/>
            </a:br>
            <a:r>
              <a:rPr b="1" lang="en-US" sz="2100" spc="-1" strike="noStrike">
                <a:solidFill>
                  <a:srgbClr val="665a00"/>
                </a:solidFill>
                <a:latin typeface="Arial"/>
              </a:rPr>
              <a:t>Правительства РФ от 12.09.2008 г. № 66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276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. 21. Содержание образовательного процесса в дошкольном образовательном учреждении определяется образовательной программой дошкольного образования, разрабатываемой, принимаемой и реализуемой им самостоятельно в соответствии с федеральными государственными требованиями к структуре основной общеобразовательной программы дошкольного образования и условиям ее реализации, установленными федеральным органом  исполнительной власти, осуществляющим функции по выработке  государственной политики  и нормативно-правовому регулированию в сфере образования, и с учетом особенностей психофизического развития и возможносте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5a00"/>
                </a:solidFill>
                <a:latin typeface="Arial"/>
              </a:rPr>
              <a:t>Формы работы для организации конкретного вида детской деятель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1052640"/>
          <a:ext cx="8785440" cy="5814720"/>
        </p:xfrm>
        <a:graphic>
          <a:graphicData uri="http://schemas.openxmlformats.org/drawingml/2006/table">
            <a:tbl>
              <a:tblPr/>
              <a:tblGrid>
                <a:gridCol w="2952720"/>
                <a:gridCol w="583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етская 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дидактич. игры; игровые упражн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игры с правилами; сорев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ые игры; 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ив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ская по изготовлению продуктов детского творчества; реализация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; ситуативный разговор; речевая ситуация; составление и отгадывание загадок; сюжетные игры; 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ые действия; дежурство; поручение; задание; реализация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о-исследова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; экскурсия; решение проблемных ситуаций; экспериментирование; коллекционирование; моделирование; реализация проекта; 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5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1268280"/>
          <a:ext cx="6786720" cy="3956040"/>
        </p:xfrm>
        <a:graphic>
          <a:graphicData uri="http://schemas.openxmlformats.org/drawingml/2006/table">
            <a:tbl>
              <a:tblPr/>
              <a:tblGrid>
                <a:gridCol w="2264040"/>
                <a:gridCol w="4522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Формы  рабо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-художествен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ние; исполнение; импровизация; экспериментирование; подвижные игры (с музыкальным сопровождением); музыкально-дидактические иг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художественной литерату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; обсуждение; разучи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5a00"/>
                </a:solidFill>
                <a:latin typeface="Arial"/>
              </a:rPr>
              <a:t>Планирование воспитательно-образовательной работы </a:t>
            </a:r>
            <a:br>
              <a:rPr sz="2100"/>
            </a:br>
            <a:r>
              <a:rPr b="1" lang="ru-RU" sz="2100" spc="-1" strike="noStrike">
                <a:solidFill>
                  <a:srgbClr val="665a00"/>
                </a:solidFill>
                <a:latin typeface="Arial"/>
              </a:rPr>
              <a:t> (рекомендации О. Скоролупово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8560" y="170028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ппа 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 проекта 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проекта 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вание игрового мероприятия (события, праздника и др.)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итогового мероприятия (праздник, конкурс, коллаж, акция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а проведения итогового мероприятия 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.И.О. воспитателя, ответственного за итоговое мероприятие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5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1557360"/>
          <a:ext cx="8785440" cy="4927680"/>
        </p:xfrm>
        <a:graphic>
          <a:graphicData uri="http://schemas.openxmlformats.org/drawingml/2006/table">
            <a:tbl>
              <a:tblPr/>
              <a:tblGrid>
                <a:gridCol w="1008000"/>
                <a:gridCol w="1368720"/>
                <a:gridCol w="1388880"/>
                <a:gridCol w="1254240"/>
                <a:gridCol w="1255680"/>
                <a:gridCol w="1254240"/>
                <a:gridCol w="1255680"/>
              </a:tblGrid>
              <a:tr h="3385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ень недели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Образо-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Совместная деятельность взрослого и детей с учетом интеграции образовательных обла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Органи-зация развивающей среды для самостоя-тельной деятель-ности детей (центры активнос-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Взаимо-действие с родителями/социа-льными партнерами (театр, школа, др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-тельная деятель-ность в режим-ных момен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2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ова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руппо-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5a00"/>
                </a:solidFill>
                <a:latin typeface="Arial"/>
              </a:rPr>
              <a:t>Обязательная часть Программы должна содержать следующие разде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557360"/>
            <a:ext cx="82296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-38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снительная зап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Организация режима пребывания детей в 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Содержание психолого-педагогической работы по освоению детьми образовательных обла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12d1c"/>
                </a:solidFill>
                <a:latin typeface="Arial"/>
              </a:rPr>
              <a:t>Реализация каждой области включает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0522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образовательной области,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ы реал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, схему или таблицу  «Связь с другими образовательными областям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ое обеспе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у реализации образовательных областей в разных формах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 и приемы работы с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i="1" lang="en-US" sz="4600" spc="-1" strike="noStrike">
                <a:solidFill>
                  <a:srgbClr val="712d1c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Здоровье» интегрируется с содержанием образовательных областе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41300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ческая культура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физических качеств и накопление двигательного опыта как важнейшие условия сохранения и укрепления здоровь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, расширение кругозора в части представлений о здоровье и здоровом образе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рмирование первичных ценностных представлений о здоровье и здоровом  образе жизни человека, соблюдение  элементарных общепринятых норм и правил  поведения в части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, в том числе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азвитие свободного общения со взрослыми и детьми по поводу здоровья и здорового образа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i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Физическая культура» интегрируется с содержанием образовательных областе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557000"/>
            <a:ext cx="82296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ье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и решения общей задачи по охране жизни и укреплению физического и психического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азвитие музыкально-ритмической деятельности на основе физических качеств и основных движени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части двигательной активности как способа усвоения ребенком предметных действий, а также как одного из средств овладения операциональным составом различных видов дет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звитие свободного общения со взрослыми и детьми в части необходимости двигательной активности и физического совершенствования ; игровое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иобщение к ценностям физической культуры; формирование первичных представлений о себе, собственных двигательных возможностях и особенностях; приобщение к элементарным общепринятым нормам и правилам взаимоотношения со сверстниками и взрослыми в совместной двигатель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копление опыта двигатель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Социализация» интегрируется с содержанием образовательных областе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628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детьми в части формирования первичных ценностных представлений, представлений о себе, обществе, государстве, мире, а также соблюдения элементарных общепринятых норм и правил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представлений о себе, гендерной принадлежности, социуме, государстве,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представлений о труде, профессиях, людях труда, желания трудиться, устанавливать взаимоотношения со взрослыми и сверстниками в процессе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 в семье и обществе, а также безопасности окружающе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игровой деятельности в части подвижных игр с прав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Безопасность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268280"/>
            <a:ext cx="8229600" cy="32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сверстниками в процессе освоения способов безопасного поведения, способов оказания помощи самому себе, помощи другому, правил поведения в стандартных опасных ситуациях, в части формирования основ экологического 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представлений и освоение способов безопасного поведения, основ экологического сознания в процессе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представлений о возможных опасностях, способах их избегания, способах сохранения здоровья и жизни, безопасности окружающе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первичных представлений о себе, гендерных особенностях, семье, социуме и государстве, освоение общепринятых норм и правил взаимоотношений со взрослыми и сверстниками в контексте безопасного поведения и основ экологического 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первичных ценностных представлений о здоровье и здоровом образе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5a00"/>
                </a:solidFill>
                <a:latin typeface="Arial"/>
              </a:rPr>
              <a:t>Приказ Министерства образования и науки РФ от 23.11.2009 г. № 655 «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»</a:t>
            </a:r>
            <a:br>
              <a:rPr sz="2300"/>
            </a:br>
            <a:r>
              <a:rPr b="1" lang="en-US" sz="2300" spc="-1" strike="noStrike">
                <a:solidFill>
                  <a:srgbClr val="665a00"/>
                </a:solidFill>
                <a:latin typeface="Arial"/>
              </a:rPr>
              <a:t>Зарегистрировано в Минюсте РФ 8 февраля 2010 г. № 16299</a:t>
            </a:r>
            <a:br>
              <a:rPr sz="20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Труд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341000"/>
            <a:ext cx="82296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детьми в процессе трудовой деятельности, знакомства с трудом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развития представлений о труде взрослых,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 в процессе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ормирование первичных представлений о себе, гендерных особенностях, семье, социуме и государстве, освоение общепринятых норм и правил взаимоотношений со взрослыми сверстниками в контексте развития детского труда и представлений о труде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физических качеств ребенка в процессе освоения разных видов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Познание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26828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познавательно-исследовательской и продуктивной деятельности в процессе свободного общения со сверстниками и взрос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ешение специфическими средствами идентичной основной задачи психолого-педагогической работы – формирование целостной картины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сширение кругозора детей в части представлений о здоровом образе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формирование первичных представлений о себе, семье, обществе, государстве,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представлений о труде взрослых и собственной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целостной картины мира и расширение кругозора в части представлений о безопасности собственной жизнедеятельности и безопасности окружающего мира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сширение кругозора в части музыкального и изобразитель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фика модели интеграции образовательной облас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состоит в том, что решение основных  психолого-педагогических задач указанной области осуществляется во всех образовательных обла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12d1c"/>
                </a:solidFill>
                <a:latin typeface="Arial"/>
              </a:rPr>
              <a:t>Образовательная область «Чтение художественной литературы» интегрируется с содержанием образовательных областей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1628640"/>
            <a:ext cx="8229600" cy="31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сверстниками по поводу прочитанного, практическое овладение нормами русско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, расширение кругозор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первичных представлений о себе, своих чувствах и эмоциях, окружающем мире людей, природы, а также первичных ценностных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детского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Музыка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9162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изическая культур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тие физических качеств для музыкально-ритми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ммуникац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развитие свободного общения со взрослыми и сверстниками по поводу музы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расширение кругозора детей в части элементарных представлений о музыке как виде искус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формирование первичных представлений о себе, своих чувствах и эмоциях, а также окружающем мире в части культуры и музыкального искус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Художественное творчество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628640"/>
            <a:ext cx="8229600" cy="30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развитие свободного общения со взрослыми и детьми по поводу процесса и результатов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, расширение кругозора в части изобразительного искусства,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 в различных видах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трудовых умений и навыков, адекватных возрасту воспитанников, трудолюбия в различных видах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, Чтение художественной литературы, Физическая куль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развитие детского творчества, приобщение к различным видам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82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907920"/>
            <a:ext cx="82296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Содержание коррекционной работы (для детей с ограниченными возможностями здоровь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ланируемые результаты освоения детьми основной общеобразовательной программы дошкольно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Система мониторинга достижения детьми планируемых результатов осво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782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640" y="1125360"/>
            <a:ext cx="749952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итоговые результаты освоения детьми основной общеобразовательной программы дошкольного образования подразделяются на итоговые и промежу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5a00"/>
                </a:solidFill>
                <a:latin typeface="Arial"/>
              </a:rPr>
              <a:t>Интегративные качества ребенка, которые он может приобрести в результате освоения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4842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ески развитый, овладевший основными культурно-гигиеническими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Любознательный, актив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Эмоционально отзывч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владевший средствами общения и способами взаимодействия со взрослыми и сверс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Способный управлять своим поведением и планировать свои действия на основе первичных ценностных представлений, соблюдающий элементарные общепринятые нормы и правила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Способный решать интеллектуальные и личностные задачи (проблемы), адекватные возра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Имеющий представления о себе, семье, обществе, государстве, мире и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Овладевший универсальными предпосылками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 Овладевший необходимыми умениями и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5a00"/>
                </a:solidFill>
                <a:latin typeface="Arial"/>
              </a:rPr>
              <a:t>Мониторинг достижения детьми планируемых результатов освоения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8442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я за ребен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ые оце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ально-ориентированные методики нетестового тип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арильно-ориентированное тес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ининг-тес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5280" y="6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1" marL="20736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ящие  федеральные государственные требования устанавлив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рмы и положения, обязательные при реализации основной общеобразовательной программы дошкольного образования образовательными учреждениями, имеющими государственную аккредитац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алее - образовательные учреждения), в части определения структуры основной общеобразовательной программы дошкольного образования, в том числе соотношения ее частей, их объема, а также соотношения обязательной части основной общеобразовательной программы и части, формируемой участниками образовательного процесса.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12d1c"/>
                </a:solidFill>
                <a:latin typeface="Arial"/>
              </a:rPr>
              <a:t>Сравнительный анализ Временных требований и ФГ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907920"/>
          <a:ext cx="8229600" cy="505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(примерные) треб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лялись к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держани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тода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шко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труктуру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общеобразовательной программы  дошкольного образования, т.е. объем и соотношение  «содержательных» частей программ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2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дошкольного образования включало 12 направлений деятельности ДО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Вз, 2 – Фр, 3 – Р, 4-8 – И, Из, Т, М, К, 9-10 – Ма, Е, 11-12 – Э, 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дошкольного образования включает в себя 4 направления развития детей – физическое, социально-личностное, познавательно-речевое, художественно-эстетическое. Наполняют направления образовательные области. Их 10: «Физическая культура», «Здоровье», Социализация», «Труд», «Безопасность», «Чтение худ. литературы», «Коммуникация», «Познание», «Музыка», «Художественное творчест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692280"/>
          <a:ext cx="8229600" cy="6842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ный подход, т.е. в  первую очередь учитывались детские 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е из деятельностного подхода являются почти половина направлений: здоровье, Ма, Е, Э, Ч, 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ем из деятельностного подхода являются области «Здоровье», т.к. проводится профилактическая и оздоровительная работа, и «Безопасность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снове остальных образовательных областей находятся следующие виды детский деятель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ная деятельность – «Физическая культура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– «Социализация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я – «Труд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риятие худ. литературы – «Чтение худ. литературы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– «Коммуникация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о-исследовательская, продуктивная, конструктивная – «Познание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-художественная – «Музыка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ивная – «Художественное творчество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836640"/>
          <a:ext cx="8229600" cy="548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формулирован результат, не имеют количественно измеримых пара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планируемые результаты освоения Программы – итоговые и промежуточные. Итоговый результат представляет сосбой совокупность интегративных качеств, или «социальный» портрет ребенка 7 лет, освоивших основную общеобразовательную программу дошко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ый принц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 интеграции, комплексно-тематический принц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ыли дифференцированы на обязательную для всех ДОУ часть содержания дошкольного образования и часть, отражающую видовое разнообразие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как обязательную для всех ДОУ часть Программы, так и часть, формируемую участниками образовательного процесса, а также варианты  соотношения указанных частей Программы в соответствии с направленностью групп детей дошколь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3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620640"/>
          <a:ext cx="8229600" cy="55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ределяли объем образовательной на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как время, необходимое для реализации всей Программы, так и время необходимое для реализации ее основных частей – обязательной части и части, формируемой участниками образовательного проце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тражали специфику осуществления образовательного процесса в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ют специфику образования детей дошколь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ывали только традиционный режим пребывания детей – 12-час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ывают возможность реализации Программы в группах детей дошкольного возраста с различным режимом пребы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читывали специфику деятельности специализированных групп и учрежд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ывают специфику образовательной работы с детьми с ограниченными возможностями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1 октября 2010 r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3 - 248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 разработке основной общеобразовательной программы дошкольно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665a00"/>
                </a:solidFill>
                <a:latin typeface="Arial"/>
              </a:rPr>
              <a:t>На основе федеральных требований</a:t>
            </a:r>
            <a:br>
              <a:rPr sz="2700"/>
            </a:br>
            <a:r>
              <a:rPr b="1" lang="en-US" sz="2700" spc="-1" strike="noStrike">
                <a:solidFill>
                  <a:srgbClr val="665a00"/>
                </a:solidFill>
                <a:latin typeface="Arial"/>
              </a:rPr>
              <a:t>   разрабатываются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412640"/>
            <a:ext cx="822960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ная основная общеобразовательная программа дошкольного образования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ная основная общеобразовательная программа дошкольного образования для детей с ограниченными возможностями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6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8920" y="1341000"/>
            <a:ext cx="864252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а основе федеральных требований осуществляется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экспертиз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основных общеобразовательных программ дошкольного образования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при лицензировании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бразовательной деятельности и государственной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аккредитаци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образовательных учрежд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2d1c"/>
                </a:solidFill>
                <a:latin typeface="Arial"/>
              </a:rPr>
              <a:t>Требования к структуре основной общеобразовательной программы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84464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96000" indent="-39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сновная общеобразовательная программа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разрабатывается, утверждае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реализуется в ОУ на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основе примерн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х общеобразовательных программ дошкольного образования,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разработка которых обеспечивается уполномоченным федеральным государственным органом на основе федеральных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82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47592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грамма определяет содержание и организацию образовательного процесса для детей дошкольного возраста и направлена на формирование общей культуры, развитие физических, интеллектуальных и личностных качеств, формирование предпосылок учебной деятельности, обеспечивающих социальную успешность, сохранение и укрепление здоровья детей дошкольного возраста, коррекцию недостатков в физическом и (или) психическом развитии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836280"/>
            <a:ext cx="822960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Содержание Программы включает совокупность образовательных областей, которые обеспечивает разностороннее развитие детей с учетом их возрастных и индивидуальных особенностей по  основным направлениям –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физическому, социально-личностному, познавательно-речевом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художественно-эстетичес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5:32:47Z</dcterms:created>
  <dc:creator>Пользователь</dc:creator>
  <dc:description/>
  <dc:language>en-US</dc:language>
  <cp:lastModifiedBy>XXX</cp:lastModifiedBy>
  <dcterms:modified xsi:type="dcterms:W3CDTF">2012-11-08T07:42:00Z</dcterms:modified>
  <cp:revision>79</cp:revision>
  <dc:subject/>
  <dc:title>Федеральные государственные требования к структуре основной общеобразовательной программы дошкольного образования</dc:title>
</cp:coreProperties>
</file>