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010-8959-474E-B12E-8F0A8782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853-9DA8-4D88-8EF7-8A837374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65F-3363-4681-B210-E378ADC0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074-CFA4-4B94-B681-1A571E61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034-896D-4482-8245-15286656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229-CED0-4D9A-A4DC-68DA149C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7A2-48E9-4F43-99CF-ACFD406B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908-0625-40BF-B3DD-5897E944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393-B4A3-45C8-B266-0FCBF696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AF3-0645-4F2C-AFF3-E0D49E7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151-7A4A-49F0-B045-58FE5C2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017-A24E-46E2-B731-44B9BB5A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BF2F-A803-4130-B008-2AAFD654FC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" TargetMode="External"/><Relationship Id="rId3" Type="http://schemas.openxmlformats.org/officeDocument/2006/relationships/hyperlink" Target="http://www.nachalka.com/" TargetMode="External"/><Relationship Id="rId4" Type="http://schemas.openxmlformats.org/officeDocument/2006/relationships/hyperlink" Target="http://www.nachalka.com/" TargetMode="External"/><Relationship Id="rId5" Type="http://schemas.openxmlformats.org/officeDocument/2006/relationships/hyperlink" Target="http://www.center.fio.ru/" TargetMode="External"/><Relationship Id="rId6" Type="http://schemas.openxmlformats.org/officeDocument/2006/relationships/hyperlink" Target="http://www.school2100.ru/regions/regionsmain.html" TargetMode="External"/><Relationship Id="rId7" Type="http://schemas.openxmlformats.org/officeDocument/2006/relationships/hyperlink" Target="http://www.school2100.ru/regions/regionsmain.html" TargetMode="External"/><Relationship Id="rId8" Type="http://schemas.openxmlformats.org/officeDocument/2006/relationships/hyperlink" Target="http://geoman.ru/" TargetMode="External"/><Relationship Id="rId9" Type="http://schemas.openxmlformats.org/officeDocument/2006/relationships/hyperlink" Target="http://geoman.ru/" TargetMode="External"/><Relationship Id="rId10" Type="http://schemas.openxmlformats.org/officeDocument/2006/relationships/hyperlink" Target="http://animal.geoman.ru/" TargetMode="External"/><Relationship Id="rId11" Type="http://schemas.openxmlformats.org/officeDocument/2006/relationships/hyperlink" Target="http://animal.geoman.ru/" TargetMode="External"/><Relationship Id="rId12" Type="http://schemas.openxmlformats.org/officeDocument/2006/relationships/hyperlink" Target="http://plant.geoman.ru/" TargetMode="External"/><Relationship Id="rId13" Type="http://schemas.openxmlformats.org/officeDocument/2006/relationships/hyperlink" Target="http://plant.geoman.ru/" TargetMode="Externa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dsovet.su/load/138" TargetMode="External"/><Relationship Id="rId3" Type="http://schemas.openxmlformats.org/officeDocument/2006/relationships/hyperlink" Target="http://pedsovet.su/load/138" TargetMode="External"/><Relationship Id="rId4" Type="http://schemas.openxmlformats.org/officeDocument/2006/relationships/hyperlink" Target="http://pedsovet.su/load/230" TargetMode="External"/><Relationship Id="rId5" Type="http://schemas.openxmlformats.org/officeDocument/2006/relationships/hyperlink" Target="http://pedsovet.su/load/238" TargetMode="External"/><Relationship Id="rId6" Type="http://schemas.openxmlformats.org/officeDocument/2006/relationships/hyperlink" Target="http://pedsovet.su/load/239" TargetMode="External"/><Relationship Id="rId7" Type="http://schemas.openxmlformats.org/officeDocument/2006/relationships/hyperlink" Target="http://pedsovet.su/load/240" TargetMode="External"/><Relationship Id="rId8" Type="http://schemas.openxmlformats.org/officeDocument/2006/relationships/hyperlink" Target="http://pedsovet.su/load/273" TargetMode="External"/><Relationship Id="rId9" Type="http://schemas.openxmlformats.org/officeDocument/2006/relationships/hyperlink" Target="http://pedsovet.su/load/241" TargetMode="External"/><Relationship Id="rId10" Type="http://schemas.openxmlformats.org/officeDocument/2006/relationships/hyperlink" Target="http://pedsovet.su/load/242" TargetMode="External"/><Relationship Id="rId11" Type="http://schemas.openxmlformats.org/officeDocument/2006/relationships/hyperlink" Target="http://pedsovet.su/load/243" TargetMode="Externa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ование информационно-коммуникационных технологий в начальной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86080" y="3928680"/>
            <a:ext cx="42148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лякова Елена Николаевна                         учитель начальных классов       МКОУ СОШ №3 г. Урж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Готовые обучающи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кадемия младшего школьника: 1-4 класс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(Программно-методический комплекс для компьютерной поддержки учебного процесса в 1-4 классах начальной школы по основным предметам: Обучение грамоте; Русский язык; Математика; Окружающий ми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Маша и медведь. Подготовка к школ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Математика и изме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й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achalka.com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center.fio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://www.school2100.ru/regions/regionsmain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Географическая энциклопед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://animal.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Живот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plant.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Раст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  Шко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edsovet.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pedsovet.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 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Докумен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79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Олимпиадные зад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38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усский язы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98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Литературное чт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377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атемат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35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Обучение грамот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90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Окружающий ми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11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Технология и ИЗ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277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Внеклассная рабо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728]Физкультминутки [48]Книги [4]К уроку [368]Оценка знаний учащихся [102]Планирование [255]Презентации разные [650]Факультативы, элективы, кружки [93]Другое [356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070600" cy="49006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7" descr=""/>
          <p:cNvPicPr/>
          <p:nvPr/>
        </p:nvPicPr>
        <p:blipFill>
          <a:blip r:embed="rId3"/>
          <a:stretch/>
        </p:blipFill>
        <p:spPr>
          <a:xfrm>
            <a:off x="695160" y="493560"/>
            <a:ext cx="7955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КТ – это информационно-коммуникационные технологии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новная цель применения ИКТ: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ышение качества обуч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силение интенсивности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ышение мотивации уча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 их достиж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Ум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технические - умения, необходимые для работы на компьютере в качестве пользования стандартного программного обеспе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методические - умения, необходимые для грамотного обучения младших шк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технологические - умения, необходимые для грамотного использования информационных средств обучения на разных уроках, проводимых в начальной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00320" y="-33120"/>
            <a:ext cx="18572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"/>
          <p:cNvPicPr/>
          <p:nvPr/>
        </p:nvPicPr>
        <p:blipFill>
          <a:blip r:embed="rId2"/>
          <a:stretch/>
        </p:blipFill>
        <p:spPr>
          <a:xfrm>
            <a:off x="853920" y="390600"/>
            <a:ext cx="765684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.Д.Ушинский: «Если вы входите в класс, от которого трудно добиться слова, начните показывать картинки, и класс заговорит, а главное, заговорит свободно…»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Личный с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щение с колле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мен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вязь с учениками и родителями                     ( интерактивный читательский днев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ттес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окумен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бочие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лан воспита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окументация кабинета и оформ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общение опыта, аттес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оставление характеристик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ексты контрольных работ по предме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естовы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Задания для проверки уровня обучаемости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Задания для работы над ошибками и корре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ренажеры (таблица умножения, орфографическая раб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идактический матери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х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рточки для индивидуа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ловар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Цифры и т.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6:26:13Z</dcterms:created>
  <dc:creator>Лика</dc:creator>
  <dc:description/>
  <dc:language>en-US</dc:language>
  <cp:lastModifiedBy>Лика</cp:lastModifiedBy>
  <dcterms:modified xsi:type="dcterms:W3CDTF">2002-01-01T10:05:45Z</dcterms:modified>
  <cp:revision>103</cp:revision>
  <dc:subject/>
  <dc:title>Использование информационно-коммуникационных технологий в начальной школе</dc:title>
</cp:coreProperties>
</file>