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F07-50D6-473F-8BDF-2D0A1B74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0B1-67DD-4F0A-AADF-1DBB9C04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F160-7196-4978-9D9D-E84E3A2F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33A-D505-4AED-BD1D-950EDA09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7511-094F-4F57-A2B7-4960BEDA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16C-922E-4DC9-A09E-03F9A5D0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084E-A946-4CA7-AA47-0BA52915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6192-1269-4C14-9E43-1B97210A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6923-9C78-439A-B5C3-DF8FA28D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C3A-63B3-45FC-8BB0-6B313547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B05-D3C6-43E0-8015-C448ABC6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80A1-4B96-4AE5-B5FC-10D653C2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2E2A-FE28-4F98-A03E-522A1A2381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achalka.com/" TargetMode="External"/><Relationship Id="rId3" Type="http://schemas.openxmlformats.org/officeDocument/2006/relationships/hyperlink" Target="http://www.nachalka.com/" TargetMode="External"/><Relationship Id="rId4" Type="http://schemas.openxmlformats.org/officeDocument/2006/relationships/hyperlink" Target="http://www.nachalka.com/" TargetMode="External"/><Relationship Id="rId5" Type="http://schemas.openxmlformats.org/officeDocument/2006/relationships/hyperlink" Target="http://www.center.fio.ru/" TargetMode="External"/><Relationship Id="rId6" Type="http://schemas.openxmlformats.org/officeDocument/2006/relationships/hyperlink" Target="http://www.school2100.ru/regions/regionsmain.html" TargetMode="External"/><Relationship Id="rId7" Type="http://schemas.openxmlformats.org/officeDocument/2006/relationships/hyperlink" Target="http://www.school2100.ru/regions/regionsmain.html" TargetMode="External"/><Relationship Id="rId8" Type="http://schemas.openxmlformats.org/officeDocument/2006/relationships/hyperlink" Target="http://geoman.ru/" TargetMode="External"/><Relationship Id="rId9" Type="http://schemas.openxmlformats.org/officeDocument/2006/relationships/hyperlink" Target="http://geoman.ru/" TargetMode="External"/><Relationship Id="rId10" Type="http://schemas.openxmlformats.org/officeDocument/2006/relationships/hyperlink" Target="http://animal.geoman.ru/" TargetMode="External"/><Relationship Id="rId11" Type="http://schemas.openxmlformats.org/officeDocument/2006/relationships/hyperlink" Target="http://animal.geoman.ru/" TargetMode="External"/><Relationship Id="rId12" Type="http://schemas.openxmlformats.org/officeDocument/2006/relationships/hyperlink" Target="http://plant.geoman.ru/" TargetMode="External"/><Relationship Id="rId13" Type="http://schemas.openxmlformats.org/officeDocument/2006/relationships/hyperlink" Target="http://plant.geoman.ru/" TargetMode="Externa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edsovet.su/load/138" TargetMode="External"/><Relationship Id="rId3" Type="http://schemas.openxmlformats.org/officeDocument/2006/relationships/hyperlink" Target="http://pedsovet.su/load/138" TargetMode="External"/><Relationship Id="rId4" Type="http://schemas.openxmlformats.org/officeDocument/2006/relationships/hyperlink" Target="http://pedsovet.su/load/230" TargetMode="External"/><Relationship Id="rId5" Type="http://schemas.openxmlformats.org/officeDocument/2006/relationships/hyperlink" Target="http://pedsovet.su/load/238" TargetMode="External"/><Relationship Id="rId6" Type="http://schemas.openxmlformats.org/officeDocument/2006/relationships/hyperlink" Target="http://pedsovet.su/load/239" TargetMode="External"/><Relationship Id="rId7" Type="http://schemas.openxmlformats.org/officeDocument/2006/relationships/hyperlink" Target="http://pedsovet.su/load/240" TargetMode="External"/><Relationship Id="rId8" Type="http://schemas.openxmlformats.org/officeDocument/2006/relationships/hyperlink" Target="http://pedsovet.su/load/273" TargetMode="External"/><Relationship Id="rId9" Type="http://schemas.openxmlformats.org/officeDocument/2006/relationships/hyperlink" Target="http://pedsovet.su/load/241" TargetMode="External"/><Relationship Id="rId10" Type="http://schemas.openxmlformats.org/officeDocument/2006/relationships/hyperlink" Target="http://pedsovet.su/load/242" TargetMode="External"/><Relationship Id="rId11" Type="http://schemas.openxmlformats.org/officeDocument/2006/relationships/hyperlink" Target="http://pedsovet.su/load/243" TargetMode="External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28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пользование информационно-коммуникационных технологий в начальной шк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86080" y="3928680"/>
            <a:ext cx="421488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Полякова Елена Николаевна                         учитель начальных классов       МКОУ СОШ №3 г. Уржу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Готовые обучающие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Академия младшего школьника: 1-4 класс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(Программно-методический комплекс для компьютерной поддержки учебного процесса в 1-4 классах начальной школы по основным предметам: Обучение грамоте; Русский язык; Математика; Окружающий мир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Маша и медведь. Подготовка к школ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Математика и измер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Интерн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айты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nachalka.com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center.fio.r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://www.school2100.ru/regions/regionsmain.htm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://GeoMan.r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Географическая энциклопед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://animal.geoman.r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Животн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plant.geoman.r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Раст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  Школ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pedsovet.s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tp://pedsovet.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  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Докумен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79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Олимпиадные зад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38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усский язы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598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Литературное чт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377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Математи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535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Обучение грамот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90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Окружающий ми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511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Технология и ИЗ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277]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Внеклассная рабо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[728]Физкультминутки [48]Книги [4]К уроку [368]Оценка знаний учащихся [102]Планирование [255]Презентации разные [650]Факультативы, элективы, кружки [93]Другое [356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1857240" y="1357200"/>
            <a:ext cx="5070600" cy="490068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7" descr=""/>
          <p:cNvPicPr/>
          <p:nvPr/>
        </p:nvPicPr>
        <p:blipFill>
          <a:blip r:embed="rId3"/>
          <a:stretch/>
        </p:blipFill>
        <p:spPr>
          <a:xfrm>
            <a:off x="695160" y="493560"/>
            <a:ext cx="7955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КТ – это информационно-коммуникационные технологии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сновная цель применения ИКТ: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вышение качества обуч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силение интенсивности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вышение мотивации учащих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ниторинг их достиже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Ум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технические - умения, необходимые для работы на компьютере в качестве пользования стандартного программного обеспе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методические - умения, необходимые для грамотного обучения младших школьни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технологические - умения, необходимые для грамотного использования информационных средств обучения на разных уроках, проводимых в начальной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00320" y="-33120"/>
            <a:ext cx="185724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4" descr=""/>
          <p:cNvPicPr/>
          <p:nvPr/>
        </p:nvPicPr>
        <p:blipFill>
          <a:blip r:embed="rId2"/>
          <a:stretch/>
        </p:blipFill>
        <p:spPr>
          <a:xfrm>
            <a:off x="853920" y="390600"/>
            <a:ext cx="765684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резент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.Д.Ушинский: «Если вы входите в класс, от которого трудно добиться слова, начните показывать картинки, и класс заговорит, а главное, заговорит свободно…»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Личный сай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щение с коллег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мен опы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вязь с учениками и родителями                     ( интерактивный читательский дневни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Аттест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Документ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Рабочие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План воспитатель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Документация кабинета и оформл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общение опыта, аттест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оставление характеристик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Контро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Тексты контрольных работ по предме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Тестовы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Задания для проверки уровня обучаемости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Задания для работы над ошибками и коррек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Тренажеры (таблица умножения, орфографическая рабо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Дидактический матери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х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Табл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рточки для индивидуаль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ловарные сл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Цифры и т.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6:26:13Z</dcterms:created>
  <dc:creator>Лика</dc:creator>
  <dc:description/>
  <dc:language>en-US</dc:language>
  <cp:lastModifiedBy>Лика</cp:lastModifiedBy>
  <dcterms:modified xsi:type="dcterms:W3CDTF">2002-01-01T10:05:45Z</dcterms:modified>
  <cp:revision>103</cp:revision>
  <dc:subject/>
  <dc:title>Использование информационно-коммуникационных технологий в начальной школе</dc:title>
</cp:coreProperties>
</file>