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E9B-C364-4649-8AA7-4A108F21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89C-7EAB-4D0C-A314-842E2C20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355-9F69-4BCA-9D4E-F3788BCF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10C-306C-47AF-AD0B-604EAB90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F05-8919-4F28-9A25-175F0888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15E-8773-4402-A3BB-3E27F6A9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10C-87FA-4A3A-B8B1-76997D40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CF80-75EF-4DB4-A7DE-3CBA0098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BFB-0724-43C1-BC28-C618B17F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050-0DE3-4C9E-AC56-79C44F0C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D37-DA65-4383-9B06-0B7FA8CA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D7D-8F6F-471F-8AA7-D512EAFE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E5CF-5A40-4DE2-826F-22CF0830E2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achalka.com/" TargetMode="External"/><Relationship Id="rId3" Type="http://schemas.openxmlformats.org/officeDocument/2006/relationships/hyperlink" Target="http://www.nachalka.com/" TargetMode="External"/><Relationship Id="rId4" Type="http://schemas.openxmlformats.org/officeDocument/2006/relationships/hyperlink" Target="http://www.nachalka.com/" TargetMode="External"/><Relationship Id="rId5" Type="http://schemas.openxmlformats.org/officeDocument/2006/relationships/hyperlink" Target="http://www.center.fio.ru/" TargetMode="External"/><Relationship Id="rId6" Type="http://schemas.openxmlformats.org/officeDocument/2006/relationships/hyperlink" Target="http://www.school2100.ru/regions/regionsmain.html" TargetMode="External"/><Relationship Id="rId7" Type="http://schemas.openxmlformats.org/officeDocument/2006/relationships/hyperlink" Target="http://www.school2100.ru/regions/regionsmain.html" TargetMode="External"/><Relationship Id="rId8" Type="http://schemas.openxmlformats.org/officeDocument/2006/relationships/hyperlink" Target="http://geoman.ru/" TargetMode="External"/><Relationship Id="rId9" Type="http://schemas.openxmlformats.org/officeDocument/2006/relationships/hyperlink" Target="http://geoman.ru/" TargetMode="External"/><Relationship Id="rId10" Type="http://schemas.openxmlformats.org/officeDocument/2006/relationships/hyperlink" Target="http://animal.geoman.ru/" TargetMode="External"/><Relationship Id="rId11" Type="http://schemas.openxmlformats.org/officeDocument/2006/relationships/hyperlink" Target="http://animal.geoman.ru/" TargetMode="External"/><Relationship Id="rId12" Type="http://schemas.openxmlformats.org/officeDocument/2006/relationships/hyperlink" Target="http://plant.geoman.ru/" TargetMode="External"/><Relationship Id="rId13" Type="http://schemas.openxmlformats.org/officeDocument/2006/relationships/hyperlink" Target="http://plant.geoman.ru/" TargetMode="Externa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edsovet.su/load/138" TargetMode="External"/><Relationship Id="rId3" Type="http://schemas.openxmlformats.org/officeDocument/2006/relationships/hyperlink" Target="http://pedsovet.su/load/138" TargetMode="External"/><Relationship Id="rId4" Type="http://schemas.openxmlformats.org/officeDocument/2006/relationships/hyperlink" Target="http://pedsovet.su/load/230" TargetMode="External"/><Relationship Id="rId5" Type="http://schemas.openxmlformats.org/officeDocument/2006/relationships/hyperlink" Target="http://pedsovet.su/load/238" TargetMode="External"/><Relationship Id="rId6" Type="http://schemas.openxmlformats.org/officeDocument/2006/relationships/hyperlink" Target="http://pedsovet.su/load/239" TargetMode="External"/><Relationship Id="rId7" Type="http://schemas.openxmlformats.org/officeDocument/2006/relationships/hyperlink" Target="http://pedsovet.su/load/240" TargetMode="External"/><Relationship Id="rId8" Type="http://schemas.openxmlformats.org/officeDocument/2006/relationships/hyperlink" Target="http://pedsovet.su/load/273" TargetMode="External"/><Relationship Id="rId9" Type="http://schemas.openxmlformats.org/officeDocument/2006/relationships/hyperlink" Target="http://pedsovet.su/load/241" TargetMode="External"/><Relationship Id="rId10" Type="http://schemas.openxmlformats.org/officeDocument/2006/relationships/hyperlink" Target="http://pedsovet.su/load/242" TargetMode="External"/><Relationship Id="rId11" Type="http://schemas.openxmlformats.org/officeDocument/2006/relationships/hyperlink" Target="http://pedsovet.su/load/243" TargetMode="External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8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пользование информационно-коммуникационных технологий в начальной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86080" y="3928680"/>
            <a:ext cx="42148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Полякова Елена Николаевна                         учитель начальных классов       МКОУ СОШ №3 г. Урж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Готовые обучающие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Академия младшего школьника: 1-4 класс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(Программно-методический комплекс для компьютерной поддержки учебного процесса в 1-4 классах начальной школы по основным предметам: Обучение грамоте; Русский язык; Математика; Окружающий ми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Маша и медведь. Подготовка к школ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Математика и измер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айты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nachalka.com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center.fio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://www.school2100.ru/regions/regionsmain.htm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GeoMan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Географическая энциклопед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://animal.geoman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Живот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plant.geoman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Раст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  Школ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pedsovet.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tp://pedsovet.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  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Докумен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79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Олимпиадные зад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38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усский язы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598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Литературное чт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377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Математ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535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Обучение грамот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90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Окружающий ми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511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Технология и ИЗ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277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Внеклассная рабо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728]Физкультминутки [48]Книги [4]К уроку [368]Оценка знаний учащихся [102]Планирование [255]Презентации разные [650]Факультативы, элективы, кружки [93]Другое [356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857240" y="1357200"/>
            <a:ext cx="5070600" cy="49006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7" descr=""/>
          <p:cNvPicPr/>
          <p:nvPr/>
        </p:nvPicPr>
        <p:blipFill>
          <a:blip r:embed="rId3"/>
          <a:stretch/>
        </p:blipFill>
        <p:spPr>
          <a:xfrm>
            <a:off x="695160" y="493560"/>
            <a:ext cx="7955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КТ – это информационно-коммуникационные технологии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сновная цель применения ИКТ: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вышение качества обуч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силение интенсивности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вышение мотивации уча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 их достиже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Ум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технические - умения, необходимые для работы на компьютере в качестве пользования стандартного программного обеспе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методические - умения, необходимые для грамотного обучения младших школь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технологические - умения, необходимые для грамотного использования информационных средств обучения на разных уроках, проводимых в начальной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00320" y="-33120"/>
            <a:ext cx="18572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4" descr=""/>
          <p:cNvPicPr/>
          <p:nvPr/>
        </p:nvPicPr>
        <p:blipFill>
          <a:blip r:embed="rId2"/>
          <a:stretch/>
        </p:blipFill>
        <p:spPr>
          <a:xfrm>
            <a:off x="853920" y="390600"/>
            <a:ext cx="765684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рез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.Д.Ушинский: «Если вы входите в класс, от которого трудно добиться слова, начните показывать картинки, и класс заговорит, а главное, заговорит свободно…»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Личный сай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щение с колле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мен опы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вязь с учениками и родителями                     ( интерактивный читательский дневн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Аттес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Документ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Рабочие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лан воспитате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Документация кабинета и оформл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общение опыта, аттес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оставление характеристик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ексты контрольных работ по предме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естовы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Задания для проверки уровня обучаемости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Задания для работы над ошибками и корре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ренажеры (таблица умножения, орфографическая рабо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Дидактический матери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х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абл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рточки для индивидуа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ловарные сл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Цифры и т.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6:26:13Z</dcterms:created>
  <dc:creator>Лика</dc:creator>
  <dc:description/>
  <dc:language>en-US</dc:language>
  <cp:lastModifiedBy>Лика</cp:lastModifiedBy>
  <dcterms:modified xsi:type="dcterms:W3CDTF">2002-01-01T10:05:45Z</dcterms:modified>
  <cp:revision>103</cp:revision>
  <dc:subject/>
  <dc:title>Использование информационно-коммуникационных технологий в начальной школе</dc:title>
</cp:coreProperties>
</file>