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46.jpeg" ContentType="image/jpeg"/>
  <Override PartName="/ppt/media/image55.png" ContentType="image/png"/>
  <Override PartName="/ppt/media/image35.jpeg" ContentType="image/jpeg"/>
  <Override PartName="/ppt/media/image47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32.png" ContentType="image/png"/>
  <Override PartName="/ppt/media/image25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24.png" ContentType="image/png"/>
  <Override PartName="/ppt/media/image65.png" ContentType="image/png"/>
  <Override PartName="/ppt/media/image15.jpeg" ContentType="image/jpeg"/>
  <Override PartName="/ppt/media/image64.png" ContentType="image/png"/>
  <Override PartName="/ppt/media/image63.jpeg" ContentType="image/jpeg"/>
  <Override PartName="/ppt/media/image60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16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29.jpeg" ContentType="image/jpe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33.png" ContentType="image/png"/>
  <Override PartName="/ppt/media/image56.jpeg" ContentType="image/jpeg"/>
  <Override PartName="/ppt/media/image34.png" ContentType="image/png"/>
  <Override PartName="/ppt/media/image38.jpeg" ContentType="image/jpeg"/>
  <Override PartName="/ppt/media/image41.jpeg" ContentType="image/jpeg"/>
  <Override PartName="/ppt/media/image54.png" ContentType="image/png"/>
  <Override PartName="/ppt/media/image42.png" ContentType="image/png"/>
  <Override PartName="/ppt/media/image44.png" ContentType="image/pn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0ECD-F186-4CAB-B889-9EEBDCAE5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642-A9FC-4BD2-8F06-F9E163547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E00-7E02-4471-887E-04C10845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FB1-67B0-4A5F-9434-0987A30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81D-31C3-4B97-8E84-FC7FE3E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069-378D-4B30-BE59-2D3BD9A5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65D8-49F4-4B8A-8F4F-4983228C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29AE-80B0-4890-9F6C-22DC01E5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181B-2BC2-43B0-BF48-9B2A344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7C0E-B1DF-4893-985C-9389490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FD1E-B7A4-48C8-B9EC-82AE4023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DD8-A80D-4F16-B7AF-32F62A5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0037-042A-42B7-B15D-7A388A8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B39-100E-4A90-9871-58DBEF27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2C04-6148-4AC1-A6C0-2470DAA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43D5-919C-43CE-AD76-BF2442D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33F0-D111-43B2-933E-CCA4789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FD0E-E73E-44AB-BBFD-2D748192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70E7-6AA0-48B5-B7F7-8107F2CB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F9B70-15C9-4623-8CF5-DA7660AA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184A6-E78A-45BF-8807-FC7263C5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57AA-0421-430E-A17A-9632F425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0AE15-5204-4E4A-97BD-167BAF63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661B3-4C90-4FEC-BAAD-35D829A4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0AB-9627-4710-96EE-744DD67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F0D2A-B52C-44BC-BEFC-1851A6A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DCABE-D2D9-4015-AEE5-F27DF06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6AAC9-0A4E-45FF-8DB4-772E3AED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3F237-BD46-4106-AABF-412A075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01804-08B4-46EC-868A-6DCEFBA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AC766-C487-453C-9806-DC7E815B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10DE8-D73C-4C8F-A478-72B3B434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DBFB-1961-41D8-A984-05E0CB81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84130-C58C-4716-8F82-8E31EF15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6991-30CF-427C-BBC2-2CCB9A2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FAB-AA0A-4119-8D77-6D9DE87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8167-EE36-47AF-9E1E-A66D201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BB9D-AF14-4285-80E5-492A557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56693-3DCC-499F-A4B1-A3D5DC1A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D3A0-8955-47B3-998E-ABA14B5A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2F83-A534-402B-AC1C-D6EF0F37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51F7C-ABD4-43CE-9E1B-49AD622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FCCE-94AC-4F00-B4A8-73236B2A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C8CD-CFD3-4FCD-AF90-96367F2F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4B5A-5455-4869-A748-535556DD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E90F7-3EB1-48ED-B2B2-4F85601E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C1D-75D5-4EB9-A041-248296D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C9A57-4E3B-4D93-82C1-7C30DA0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614A4-C16C-4AD2-AF3B-7FA2CC75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1AA60-E580-4B26-A481-30409F42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7BE8C-4AE6-4FE3-AFD5-651A94C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14C09-4CD6-4BE1-B11E-F1EB1386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352EA-7B6E-4BD2-843D-EF0C557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B2E74-BD43-4513-8274-0797780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CC9E0E-68AD-4667-A829-1019BB8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34469-1B19-468B-8132-5B8D268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75605-0ABD-4316-B0C8-8F315AE0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246-4736-436E-80DB-723AEB8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FB318-7FB9-496F-B7A8-5A848911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4920A-6BFD-4F63-AA94-BF964891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F8B98-61EA-4799-9307-0E1E357E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1A33F-8835-462D-872D-C954121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D6613F-2A8C-43F2-91DB-41B0B70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53BCF-6627-4777-B48C-CA7A0FA6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E52AD9-4529-419D-ACBD-F104D9F4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DC146-FA79-44F2-9A11-F03122C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A98D6-4168-4141-89C6-371E68D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4E48E-7A26-4833-9522-0AFD311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82A-CD66-4C57-B85B-44959C3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1C710-B5E3-4615-A587-F348300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8C14F-43B4-4950-80D6-C17D4575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44B2D-BB61-4F12-BCA3-A8948DC6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C4B40-EEF1-4CBD-ACD4-5CAC9C42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8C113-1724-43AC-90B2-23C0D8CD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59854-12FA-4F4F-8C2C-B1B41CA2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5988C-2F10-4B6A-B169-F18B772A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38ACA-1264-4F15-803A-7B3F6BB1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E5B15-6350-4A67-8BEA-017A3441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B5837-70E2-4369-A33D-37974903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4EB-84DB-4594-9576-AFC0D8E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07B18-2C5E-4782-B83E-222A6CA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00EE9-0A64-43F4-B0B8-2E42AC0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D599F-05BD-43C7-A04B-E1C1EDD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0AB4EC-517C-4BA9-BF2C-AD416274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6CC5C-9D17-4E90-8933-3296A948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E28-079F-435D-B324-6F4C9E8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70C5-F9C6-49DC-B0B9-B944D83841E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D76-EEA5-4320-9FD8-D880FEEA551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22DF-B3C5-4739-B286-83859FB7F2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87C-8ED6-4EFC-AF6A-FE444029B4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9FFD-989D-4F84-A59B-4026F558A63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2F1C-8B9C-4AAB-8016-55C62E038A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e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7062-DFCB-4A15-8058-6BC74871DB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2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561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«Парц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убово – Полян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еспублики Мордов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Прямоугольник 3" descr=""/>
          <p:cNvPicPr/>
          <p:nvPr/>
        </p:nvPicPr>
        <p:blipFill>
          <a:blip r:embed="rId1"/>
          <a:stretch/>
        </p:blipFill>
        <p:spPr>
          <a:xfrm>
            <a:off x="2262240" y="1238400"/>
            <a:ext cx="5376960" cy="13096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4" descr=""/>
          <p:cNvPicPr/>
          <p:nvPr/>
        </p:nvPicPr>
        <p:blipFill>
          <a:blip r:embed="rId2"/>
          <a:stretch/>
        </p:blipFill>
        <p:spPr>
          <a:xfrm>
            <a:off x="1292400" y="2852640"/>
            <a:ext cx="7424640" cy="1030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3276720" y="4005360"/>
            <a:ext cx="359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еница 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ашевская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бин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льга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5" descr="Лебина.jpg"/>
          <p:cNvPicPr/>
          <p:nvPr/>
        </p:nvPicPr>
        <p:blipFill>
          <a:blip r:embed="rId3"/>
          <a:stretch/>
        </p:blipFill>
        <p:spPr>
          <a:xfrm>
            <a:off x="2340000" y="5157720"/>
            <a:ext cx="1224000" cy="11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528040" cy="1303200"/>
          </a:xfrm>
          <a:prstGeom prst="rect">
            <a:avLst/>
          </a:prstGeom>
          <a:ln w="0">
            <a:noFill/>
          </a:ln>
        </p:spPr>
      </p:pic>
      <p:grpSp>
        <p:nvGrpSpPr>
          <p:cNvPr id="426" name="TextBox 4"/>
          <p:cNvGrpSpPr/>
          <p:nvPr/>
        </p:nvGrpSpPr>
        <p:grpSpPr>
          <a:xfrm>
            <a:off x="96840" y="4138560"/>
            <a:ext cx="8798040" cy="2481480"/>
            <a:chOff x="96840" y="4138560"/>
            <a:chExt cx="8798040" cy="2481480"/>
          </a:xfrm>
        </p:grpSpPr>
        <p:pic>
          <p:nvPicPr>
            <p:cNvPr id="427" name="TextBox 4" descr=""/>
            <p:cNvPicPr/>
            <p:nvPr/>
          </p:nvPicPr>
          <p:blipFill>
            <a:blip r:embed="rId2"/>
            <a:stretch/>
          </p:blipFill>
          <p:spPr>
            <a:xfrm>
              <a:off x="96840" y="4138560"/>
              <a:ext cx="879804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50920" y="4221000"/>
              <a:ext cx="8424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Берём 2 фильтра от сигарет. Один чистый, другой – окурок. Бросаем фильтры в пробирки с содовой водой, подкрашенной лакмусом, от чего вода – фиолетовая. После опускания окурка окраска исчезает, а появляется бурая, т.к. кислоты, находящиеся в фильтре действуют на индикатор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1243080"/>
            <a:ext cx="4091040" cy="757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http://www.klinlab.ru/KATALOG/himiko_posyda/ris_posyda/probirka130.jpg"/>
          <p:cNvPicPr/>
          <p:nvPr/>
        </p:nvPicPr>
        <p:blipFill>
          <a:blip r:embed="rId4"/>
          <a:stretch/>
        </p:blipFill>
        <p:spPr>
          <a:xfrm>
            <a:off x="250920" y="2349360"/>
            <a:ext cx="1584360" cy="1524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http://www.albia.biz/gallery/glass_of_water.jpg"/>
          <p:cNvPicPr/>
          <p:nvPr/>
        </p:nvPicPr>
        <p:blipFill>
          <a:blip r:embed="rId5"/>
          <a:stretch/>
        </p:blipFill>
        <p:spPr>
          <a:xfrm>
            <a:off x="2268360" y="2205000"/>
            <a:ext cx="1440000" cy="1663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http://mrhow.ru/uploads/posts/2012-02/1328878511_kak-izbavitsya-ot-izzhogi-2.jpg"/>
          <p:cNvPicPr/>
          <p:nvPr/>
        </p:nvPicPr>
        <p:blipFill>
          <a:blip r:embed="rId6"/>
          <a:stretch/>
        </p:blipFill>
        <p:spPr>
          <a:xfrm>
            <a:off x="4067280" y="1844640"/>
            <a:ext cx="1439640" cy="2022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9" descr="C:\Users\Ольга\AppData\Local\Microsoft\Windows\Temporary Internet Files\Content.Word\ольга 017.jpg"/>
          <p:cNvPicPr/>
          <p:nvPr/>
        </p:nvPicPr>
        <p:blipFill>
          <a:blip r:embed="rId7"/>
          <a:stretch/>
        </p:blipFill>
        <p:spPr>
          <a:xfrm>
            <a:off x="5867280" y="2133720"/>
            <a:ext cx="129708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ольга 019"/>
          <p:cNvPicPr/>
          <p:nvPr/>
        </p:nvPicPr>
        <p:blipFill>
          <a:blip r:embed="rId1"/>
          <a:stretch/>
        </p:blipFill>
        <p:spPr>
          <a:xfrm>
            <a:off x="324000" y="260280"/>
            <a:ext cx="5184720" cy="62359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C:\Users\Ольга\AppData\Local\Microsoft\Windows\Temporary Internet Files\Content.Word\ольга 018.jpg"/>
          <p:cNvPicPr/>
          <p:nvPr/>
        </p:nvPicPr>
        <p:blipFill>
          <a:blip r:embed="rId2"/>
          <a:stretch/>
        </p:blipFill>
        <p:spPr>
          <a:xfrm>
            <a:off x="5651640" y="260280"/>
            <a:ext cx="2808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TextBox 4"/>
          <p:cNvGrpSpPr/>
          <p:nvPr/>
        </p:nvGrpSpPr>
        <p:grpSpPr>
          <a:xfrm>
            <a:off x="-152280" y="176040"/>
            <a:ext cx="9362880" cy="2007000"/>
            <a:chOff x="-152280" y="176040"/>
            <a:chExt cx="9362880" cy="2007000"/>
          </a:xfrm>
        </p:grpSpPr>
        <p:pic>
          <p:nvPicPr>
            <p:cNvPr id="437" name="TextBox 4" descr=""/>
            <p:cNvPicPr/>
            <p:nvPr/>
          </p:nvPicPr>
          <p:blipFill>
            <a:blip r:embed="rId1"/>
            <a:stretch/>
          </p:blipFill>
          <p:spPr>
            <a:xfrm>
              <a:off x="-152280" y="176040"/>
              <a:ext cx="9362880" cy="17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0" y="260280"/>
              <a:ext cx="914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Берем окурки исследуемых марок сигарет и на несколько  часов помещаем в содовую воду. Выясняем, какое количество никотина содержится в разных марках сигаре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Данные заносим в таблицу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48" descr="ольга 058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Прямоугольник 3" descr=""/>
          <p:cNvPicPr/>
          <p:nvPr/>
        </p:nvPicPr>
        <p:blipFill>
          <a:blip r:embed="rId1"/>
          <a:stretch/>
        </p:blipFill>
        <p:spPr>
          <a:xfrm>
            <a:off x="171360" y="115920"/>
            <a:ext cx="858204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0" y="1197000"/>
          <a:ext cx="9144000" cy="5486400"/>
        </p:xfrm>
        <a:graphic>
          <a:graphicData uri="http://schemas.openxmlformats.org/drawingml/2006/table">
            <a:tbl>
              <a:tblPr/>
              <a:tblGrid>
                <a:gridCol w="3265560"/>
                <a:gridCol w="4300560"/>
                <a:gridCol w="1577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краска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o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асыщенно 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lam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Достаточно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очти прозра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0" y="189000"/>
          <a:ext cx="9144000" cy="5486400"/>
        </p:xfrm>
        <a:graphic>
          <a:graphicData uri="http://schemas.openxmlformats.org/drawingml/2006/table">
            <a:tbl>
              <a:tblPr/>
              <a:tblGrid>
                <a:gridCol w="3265560"/>
                <a:gridCol w="4300560"/>
                <a:gridCol w="157788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краска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Bo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Насыщенно 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Темно –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Glamou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Достаточно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Winst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Светло - бур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K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Почти прозра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  <p:pic>
        <p:nvPicPr>
          <p:cNvPr id="443" name="Picture 1" descr="ольга 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244440" y="92160"/>
            <a:ext cx="8363160" cy="1859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ольга 065"/>
          <p:cNvPicPr/>
          <p:nvPr/>
        </p:nvPicPr>
        <p:blipFill>
          <a:blip r:embed="rId2"/>
          <a:stretch/>
        </p:blipFill>
        <p:spPr>
          <a:xfrm>
            <a:off x="1187280" y="1989000"/>
            <a:ext cx="2643480" cy="3681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ольга 066"/>
          <p:cNvPicPr/>
          <p:nvPr/>
        </p:nvPicPr>
        <p:blipFill>
          <a:blip r:embed="rId3"/>
          <a:stretch/>
        </p:blipFill>
        <p:spPr>
          <a:xfrm>
            <a:off x="4356000" y="1916280"/>
            <a:ext cx="2880000" cy="378756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9"/>
          <p:cNvGrpSpPr/>
          <p:nvPr/>
        </p:nvGrpSpPr>
        <p:grpSpPr>
          <a:xfrm>
            <a:off x="-152280" y="5724360"/>
            <a:ext cx="9362880" cy="1005120"/>
            <a:chOff x="-152280" y="5724360"/>
            <a:chExt cx="9362880" cy="1005120"/>
          </a:xfrm>
        </p:grpSpPr>
        <p:pic>
          <p:nvPicPr>
            <p:cNvPr id="448" name="TextBox 9" descr=""/>
            <p:cNvPicPr/>
            <p:nvPr/>
          </p:nvPicPr>
          <p:blipFill>
            <a:blip r:embed="rId4"/>
            <a:stretch/>
          </p:blipFill>
          <p:spPr>
            <a:xfrm>
              <a:off x="-152280" y="5724360"/>
              <a:ext cx="9362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5805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екоторые компоненты дыма растворяются в воде. Забор сигаретного дыма повторяли несколько раз.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92160"/>
            <a:ext cx="8790120" cy="749160"/>
          </a:xfrm>
          <a:prstGeom prst="rect">
            <a:avLst/>
          </a:prstGeom>
          <a:ln w="0">
            <a:noFill/>
          </a:ln>
        </p:spPr>
      </p:pic>
      <p:grpSp>
        <p:nvGrpSpPr>
          <p:cNvPr id="451" name="TextBox 4"/>
          <p:cNvGrpSpPr/>
          <p:nvPr/>
        </p:nvGrpSpPr>
        <p:grpSpPr>
          <a:xfrm>
            <a:off x="-152280" y="755640"/>
            <a:ext cx="9362880" cy="3252240"/>
            <a:chOff x="-152280" y="755640"/>
            <a:chExt cx="9362880" cy="3252240"/>
          </a:xfrm>
        </p:grpSpPr>
        <p:pic>
          <p:nvPicPr>
            <p:cNvPr id="452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755640"/>
              <a:ext cx="936288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0" y="836640"/>
              <a:ext cx="9144000" cy="31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Реакция с FeCl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В пробирку наливали раствор табачного дыма и добавляем 2-3 капли 5%-ного раствора FeCl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. Жидкость окрашивалась в коричнево-зеленый цвет из-за образования смеси комплексных соединений фенолов разного строен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Каждый фенол дает с FeCl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свою окраску, например фенол — фиолетовую, пирокатехин — зеленую, а гидрохинон - зеленую, переходящую в желтую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" descr="ольга 076"/>
          <p:cNvPicPr/>
          <p:nvPr/>
        </p:nvPicPr>
        <p:blipFill>
          <a:blip r:embed="rId3"/>
          <a:stretch/>
        </p:blipFill>
        <p:spPr>
          <a:xfrm>
            <a:off x="5148360" y="3500280"/>
            <a:ext cx="32781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ольга 068"/>
          <p:cNvPicPr/>
          <p:nvPr/>
        </p:nvPicPr>
        <p:blipFill>
          <a:blip r:embed="rId1"/>
          <a:stretch/>
        </p:blipFill>
        <p:spPr>
          <a:xfrm>
            <a:off x="0" y="0"/>
            <a:ext cx="684036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ольга 076"/>
          <p:cNvPicPr/>
          <p:nvPr/>
        </p:nvPicPr>
        <p:blipFill>
          <a:blip r:embed="rId2"/>
          <a:stretch/>
        </p:blipFill>
        <p:spPr>
          <a:xfrm>
            <a:off x="4932360" y="549360"/>
            <a:ext cx="4290840" cy="4174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http://static.livescience.ru/tabak/feno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92160"/>
            <a:ext cx="8247240" cy="1859040"/>
          </a:xfrm>
          <a:prstGeom prst="rect">
            <a:avLst/>
          </a:prstGeom>
          <a:ln w="0">
            <a:noFill/>
          </a:ln>
        </p:spPr>
      </p:pic>
      <p:grpSp>
        <p:nvGrpSpPr>
          <p:cNvPr id="459" name="TextBox 4"/>
          <p:cNvGrpSpPr/>
          <p:nvPr/>
        </p:nvGrpSpPr>
        <p:grpSpPr>
          <a:xfrm>
            <a:off x="-152280" y="2193840"/>
            <a:ext cx="9424800" cy="2888280"/>
            <a:chOff x="-152280" y="2193840"/>
            <a:chExt cx="9424800" cy="2888280"/>
          </a:xfrm>
        </p:grpSpPr>
        <p:pic>
          <p:nvPicPr>
            <p:cNvPr id="460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2193840"/>
              <a:ext cx="942480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2276640"/>
              <a:ext cx="9144000" cy="28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Реакция с KMnO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В табачном дыме содержатся восстановители, обладающие высокой токсичностью и раздражающим действием, например бензальдегид, формальдегид, Мы их обнаруживали следующим образом: в раствор табачного дыма добавляли несколько капель 5%-ного раствора KMnO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. Раствор при этом обесцвечивается и выпадает бурый осадок MnO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ольга 071"/>
          <p:cNvPicPr/>
          <p:nvPr/>
        </p:nvPicPr>
        <p:blipFill>
          <a:blip r:embed="rId1"/>
          <a:stretch/>
        </p:blipFill>
        <p:spPr>
          <a:xfrm>
            <a:off x="179280" y="0"/>
            <a:ext cx="59500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ольга 061"/>
          <p:cNvPicPr/>
          <p:nvPr/>
        </p:nvPicPr>
        <p:blipFill>
          <a:blip r:embed="rId2"/>
          <a:stretch/>
        </p:blipFill>
        <p:spPr>
          <a:xfrm>
            <a:off x="6118200" y="0"/>
            <a:ext cx="3025800" cy="4896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ольга 063"/>
          <p:cNvPicPr/>
          <p:nvPr/>
        </p:nvPicPr>
        <p:blipFill>
          <a:blip r:embed="rId3"/>
          <a:stretch/>
        </p:blipFill>
        <p:spPr>
          <a:xfrm>
            <a:off x="385128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://fotoramky.narod.ru/images/ramka380.jpg"/>
          <p:cNvPicPr/>
          <p:nvPr/>
        </p:nvPicPr>
        <p:blipFill>
          <a:blip r:embed="rId1"/>
          <a:stretch/>
        </p:blipFill>
        <p:spPr>
          <a:xfrm>
            <a:off x="291960" y="176040"/>
            <a:ext cx="8383680" cy="662472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6" descr=""/>
          <p:cNvPicPr/>
          <p:nvPr/>
        </p:nvPicPr>
        <p:blipFill>
          <a:blip r:embed="rId2"/>
          <a:stretch/>
        </p:blipFill>
        <p:spPr>
          <a:xfrm>
            <a:off x="2408400" y="407880"/>
            <a:ext cx="5278320" cy="976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prichesin.com/image/rabota/1928.jpg"/>
          <p:cNvPicPr/>
          <p:nvPr/>
        </p:nvPicPr>
        <p:blipFill>
          <a:blip r:embed="rId3"/>
          <a:stretch/>
        </p:blipFill>
        <p:spPr>
          <a:xfrm>
            <a:off x="6875640" y="4437000"/>
            <a:ext cx="1552320" cy="22179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4"/>
          <p:cNvSpPr/>
          <p:nvPr/>
        </p:nvSpPr>
        <p:spPr>
          <a:xfrm rot="183000">
            <a:off x="862920" y="1499760"/>
            <a:ext cx="7056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ями давно доказано, в чем вред кур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ыме табака содержится более 30 ядовитых веществ: никотин, углекислый газ, окись углерода, синильная кислота, аммиак, смолистые вещества, органические кислоты и друг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знают о вреде табакокурения, о его последствиях, но число курильщиков не уменьшается! Ежедневно в мире выкуривается около 15 миллиардов сигарет. Россия ж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нимает 1 место в мире по потреблен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а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Прямоугольник 3" descr=""/>
          <p:cNvPicPr/>
          <p:nvPr/>
        </p:nvPicPr>
        <p:blipFill>
          <a:blip r:embed="rId1"/>
          <a:stretch/>
        </p:blipFill>
        <p:spPr>
          <a:xfrm>
            <a:off x="858960" y="92160"/>
            <a:ext cx="7145280" cy="1859040"/>
          </a:xfrm>
          <a:prstGeom prst="rect">
            <a:avLst/>
          </a:prstGeom>
          <a:ln w="0">
            <a:noFill/>
          </a:ln>
        </p:spPr>
      </p:pic>
      <p:grpSp>
        <p:nvGrpSpPr>
          <p:cNvPr id="466" name="TextBox 4"/>
          <p:cNvGrpSpPr/>
          <p:nvPr/>
        </p:nvGrpSpPr>
        <p:grpSpPr>
          <a:xfrm>
            <a:off x="-152280" y="2193840"/>
            <a:ext cx="9478800" cy="1639800"/>
            <a:chOff x="-152280" y="2193840"/>
            <a:chExt cx="9478800" cy="1639800"/>
          </a:xfrm>
        </p:grpSpPr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-152280" y="2193840"/>
              <a:ext cx="94788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227664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 раствор табачного дыма и добавляем по 1-2 капли йодной воды (несколько капель аптечной настойки йода растворяют в 10 мл воды). Наблюдаем обесцвечивание раств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ольга 072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ольга 073"/>
          <p:cNvPicPr/>
          <p:nvPr/>
        </p:nvPicPr>
        <p:blipFill>
          <a:blip r:embed="rId2"/>
          <a:stretch/>
        </p:blipFill>
        <p:spPr>
          <a:xfrm>
            <a:off x="5076720" y="0"/>
            <a:ext cx="3846600" cy="5229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ольга 074"/>
          <p:cNvPicPr/>
          <p:nvPr/>
        </p:nvPicPr>
        <p:blipFill>
          <a:blip r:embed="rId3"/>
          <a:stretch/>
        </p:blipFill>
        <p:spPr>
          <a:xfrm>
            <a:off x="2411280" y="2063880"/>
            <a:ext cx="4032360" cy="4794120"/>
          </a:xfrm>
          <a:prstGeom prst="rect">
            <a:avLst/>
          </a:prstGeom>
          <a:ln w="0">
            <a:noFill/>
          </a:ln>
        </p:spPr>
      </p:pic>
      <p:grpSp>
        <p:nvGrpSpPr>
          <p:cNvPr id="472" name="TextBox 4"/>
          <p:cNvGrpSpPr/>
          <p:nvPr/>
        </p:nvGrpSpPr>
        <p:grpSpPr>
          <a:xfrm>
            <a:off x="-152280" y="5005440"/>
            <a:ext cx="9448560" cy="1743120"/>
            <a:chOff x="-152280" y="5005440"/>
            <a:chExt cx="9448560" cy="1743120"/>
          </a:xfrm>
        </p:grpSpPr>
        <p:pic>
          <p:nvPicPr>
            <p:cNvPr id="473" name="TextBox 4" descr=""/>
            <p:cNvPicPr/>
            <p:nvPr/>
          </p:nvPicPr>
          <p:blipFill>
            <a:blip r:embed="rId4"/>
            <a:stretch/>
          </p:blipFill>
          <p:spPr>
            <a:xfrm>
              <a:off x="-152280" y="5005440"/>
              <a:ext cx="94485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0" y="508464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На основании проведенных опытов наиболее вредными являются марки сигарет: 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Kent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Bond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«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Schoolbook"/>
                </a:rPr>
                <a:t>Winston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»,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самой «легкой» маркой оказалась </a:t>
              </a:r>
              <a:r>
                <a:rPr b="0" lang="en-US" sz="2400" spc="-1" strike="noStrike">
                  <a:solidFill>
                    <a:srgbClr val="000000"/>
                  </a:solidFill>
                  <a:latin typeface="Century Schoolbook"/>
                </a:rPr>
                <a:t>Glamour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, но можно с полной уверенностью сказать: «Безопасного табака НЕТ!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http://fotobg.ru/upload/img1353839758.jpg"/>
          <p:cNvPicPr/>
          <p:nvPr/>
        </p:nvPicPr>
        <p:blipFill>
          <a:blip r:embed="rId1"/>
          <a:stretch/>
        </p:blipFill>
        <p:spPr>
          <a:xfrm rot="21101400">
            <a:off x="393840" y="541440"/>
            <a:ext cx="4297320" cy="576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http://fotobg.ru/upload/img1353839758.jpg"/>
          <p:cNvPicPr/>
          <p:nvPr/>
        </p:nvPicPr>
        <p:blipFill>
          <a:blip r:embed="rId2"/>
          <a:stretch/>
        </p:blipFill>
        <p:spPr>
          <a:xfrm>
            <a:off x="4500720" y="189000"/>
            <a:ext cx="4297320" cy="57639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3"/>
          <p:cNvSpPr/>
          <p:nvPr/>
        </p:nvSpPr>
        <p:spPr>
          <a:xfrm>
            <a:off x="468360" y="907920"/>
            <a:ext cx="7920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исследовательской работы в кабинет биологии часто заходили мои одноклассники, мальчишки из старших классов, учителя, да и просто идущие ми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огли убиться воочию в наличии вредных веществ в сигар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юсь, что увиденное остановит от желания заку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" descr="ольга 075"/>
          <p:cNvPicPr/>
          <p:nvPr/>
        </p:nvPicPr>
        <p:blipFill>
          <a:blip r:embed="rId1"/>
          <a:stretch/>
        </p:blipFill>
        <p:spPr>
          <a:xfrm>
            <a:off x="0" y="333360"/>
            <a:ext cx="9128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http://fotoramky.narod.ru/images/ramka380.jpg"/>
          <p:cNvPicPr/>
          <p:nvPr/>
        </p:nvPicPr>
        <p:blipFill>
          <a:blip r:embed="rId1"/>
          <a:stretch/>
        </p:blipFill>
        <p:spPr>
          <a:xfrm>
            <a:off x="291960" y="176040"/>
            <a:ext cx="8383680" cy="662472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4" descr=""/>
          <p:cNvPicPr/>
          <p:nvPr/>
        </p:nvPicPr>
        <p:blipFill>
          <a:blip r:embed="rId2"/>
          <a:stretch/>
        </p:blipFill>
        <p:spPr>
          <a:xfrm>
            <a:off x="2408400" y="407880"/>
            <a:ext cx="5278320" cy="9763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3"/>
          <p:cNvSpPr/>
          <p:nvPr/>
        </p:nvSpPr>
        <p:spPr>
          <a:xfrm>
            <a:off x="1258920" y="177336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наличие вредных веществ (никотин, смолы, угарный газ, фенол, формальдегид) в различных марках сига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марки сигарет с наибольшим содержанием вре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408720" cy="478764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250920" y="18900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ю исследовательскую работу я начала с того, что нашла «доброволь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им я узнала какие марки сигарет курят ребята нашей школы, они же обеспечили меня объектами изучения. Они же помогали мне в проведении опы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60480"/>
            <a:ext cx="7650000" cy="90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0" y="981000"/>
          <a:ext cx="9144000" cy="5607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1944720"/>
                <a:gridCol w="1295280"/>
                <a:gridCol w="1332000"/>
              </a:tblGrid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нс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нст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г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оло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о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тм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лам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" descr="http://a-u-e.ru/d/59763/d/winstonlight.jpeg"/>
          <p:cNvPicPr/>
          <p:nvPr/>
        </p:nvPicPr>
        <p:blipFill>
          <a:blip r:embed="rId2"/>
          <a:stretch/>
        </p:blipFill>
        <p:spPr>
          <a:xfrm>
            <a:off x="539640" y="1119240"/>
            <a:ext cx="1152720" cy="173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http://rustabak.ru/pictab/winston_xs-2009_.jpg"/>
          <p:cNvPicPr/>
          <p:nvPr/>
        </p:nvPicPr>
        <p:blipFill>
          <a:blip r:embed="rId3"/>
          <a:stretch/>
        </p:blipFill>
        <p:spPr>
          <a:xfrm>
            <a:off x="2411280" y="1071720"/>
            <a:ext cx="2016360" cy="1879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http://www.utkonos.ru/images/it/1022/1022179P.jpg"/>
          <p:cNvPicPr/>
          <p:nvPr/>
        </p:nvPicPr>
        <p:blipFill>
          <a:blip r:embed="rId4"/>
          <a:stretch/>
        </p:blipFill>
        <p:spPr>
          <a:xfrm>
            <a:off x="5003640" y="1197000"/>
            <a:ext cx="1079640" cy="1730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http://www.zakazcenter.ru/userfiles/picbig/img201010240751314.jpg"/>
          <p:cNvPicPr/>
          <p:nvPr/>
        </p:nvPicPr>
        <p:blipFill>
          <a:blip r:embed="rId5"/>
          <a:stretch/>
        </p:blipFill>
        <p:spPr>
          <a:xfrm>
            <a:off x="7308720" y="1197000"/>
            <a:ext cx="986040" cy="170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http://www.utkonos.ru/images/it/1027/1027920P.jpg"/>
          <p:cNvPicPr/>
          <p:nvPr/>
        </p:nvPicPr>
        <p:blipFill>
          <a:blip r:embed="rId6"/>
          <a:stretch/>
        </p:blipFill>
        <p:spPr>
          <a:xfrm>
            <a:off x="539640" y="3860640"/>
            <a:ext cx="1152720" cy="1806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http://www.utt66.ru/user_files/eshopimage/cat/huge/00000000614.jpg"/>
          <p:cNvPicPr/>
          <p:nvPr/>
        </p:nvPicPr>
        <p:blipFill>
          <a:blip r:embed="rId7"/>
          <a:stretch/>
        </p:blipFill>
        <p:spPr>
          <a:xfrm>
            <a:off x="2987640" y="3860640"/>
            <a:ext cx="944640" cy="1729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7" descr="http://bristolnn.ru/catalog/images.php?IMG=/dir_images/88b440f0-cdff-11de-8da9-001cc057f1cb.jpeg"/>
          <p:cNvPicPr/>
          <p:nvPr/>
        </p:nvPicPr>
        <p:blipFill>
          <a:blip r:embed="rId8"/>
          <a:stretch/>
        </p:blipFill>
        <p:spPr>
          <a:xfrm>
            <a:off x="5076720" y="3835440"/>
            <a:ext cx="1008000" cy="1825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9" descr="http://techirk.ru/uploads/goods/675/new_q.jpg"/>
          <p:cNvPicPr/>
          <p:nvPr/>
        </p:nvPicPr>
        <p:blipFill>
          <a:blip r:embed="rId9"/>
          <a:stretch/>
        </p:blipFill>
        <p:spPr>
          <a:xfrm>
            <a:off x="6300720" y="3933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1" descr="http://techirk.ru/uploads/goods/660/new_q.jpg"/>
          <p:cNvPicPr/>
          <p:nvPr/>
        </p:nvPicPr>
        <p:blipFill>
          <a:blip r:embed="rId10"/>
          <a:stretch/>
        </p:blipFill>
        <p:spPr>
          <a:xfrm>
            <a:off x="7912080" y="3860640"/>
            <a:ext cx="123192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0" y="1700280"/>
          <a:ext cx="9144000" cy="5048280"/>
        </p:xfrm>
        <a:graphic>
          <a:graphicData uri="http://schemas.openxmlformats.org/drawingml/2006/table">
            <a:tbl>
              <a:tblPr/>
              <a:tblGrid>
                <a:gridCol w="2473200"/>
                <a:gridCol w="1757520"/>
                <a:gridCol w="1757160"/>
                <a:gridCol w="1757520"/>
                <a:gridCol w="1398600"/>
              </a:tblGrid>
              <a:tr h="84132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мола 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кот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 мг/с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8413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am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  <p:pic>
        <p:nvPicPr>
          <p:cNvPr id="408" name="Прямоугольник 5" descr=""/>
          <p:cNvPicPr/>
          <p:nvPr/>
        </p:nvPicPr>
        <p:blipFill>
          <a:blip r:embed="rId1"/>
          <a:stretch/>
        </p:blipFill>
        <p:spPr>
          <a:xfrm>
            <a:off x="171360" y="189000"/>
            <a:ext cx="8582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73080"/>
            <a:ext cx="8766000" cy="8287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4" descr=""/>
          <p:cNvPicPr/>
          <p:nvPr/>
        </p:nvPicPr>
        <p:blipFill>
          <a:blip r:embed="rId2"/>
          <a:stretch/>
        </p:blipFill>
        <p:spPr>
          <a:xfrm>
            <a:off x="115920" y="811080"/>
            <a:ext cx="4091040" cy="75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www.klinlab.ru/KATALOG/himiko_posyda/ris_posyda/probirka130.jpg"/>
          <p:cNvPicPr/>
          <p:nvPr/>
        </p:nvPicPr>
        <p:blipFill>
          <a:blip r:embed="rId3"/>
          <a:stretch/>
        </p:blipFill>
        <p:spPr>
          <a:xfrm>
            <a:off x="179280" y="1773360"/>
            <a:ext cx="1584360" cy="1523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http://www.medshoppnz.ru/image/cache/data/laboratornay%20posuda/spirtovka3_big-500x500.jpg"/>
          <p:cNvPicPr/>
          <p:nvPr/>
        </p:nvPicPr>
        <p:blipFill>
          <a:blip r:embed="rId4"/>
          <a:stretch/>
        </p:blipFill>
        <p:spPr>
          <a:xfrm>
            <a:off x="1835280" y="1773360"/>
            <a:ext cx="1368360" cy="1679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www.ukrdidac.com.ua/objects/foto424.jpg"/>
          <p:cNvPicPr/>
          <p:nvPr/>
        </p:nvPicPr>
        <p:blipFill>
          <a:blip r:embed="rId5"/>
          <a:stretch/>
        </p:blipFill>
        <p:spPr>
          <a:xfrm>
            <a:off x="3348000" y="1773360"/>
            <a:ext cx="3311640" cy="863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://h4.img.mediacache.rugion.ru/_i/forum/files/89/18/74/891874_284374_1285839301.jpg"/>
          <p:cNvPicPr/>
          <p:nvPr/>
        </p:nvPicPr>
        <p:blipFill>
          <a:blip r:embed="rId6"/>
          <a:stretch/>
        </p:blipFill>
        <p:spPr>
          <a:xfrm>
            <a:off x="6804000" y="1773360"/>
            <a:ext cx="189864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15" name="TextBox 9"/>
          <p:cNvGrpSpPr/>
          <p:nvPr/>
        </p:nvGrpSpPr>
        <p:grpSpPr>
          <a:xfrm>
            <a:off x="96840" y="3633840"/>
            <a:ext cx="8778960" cy="2005200"/>
            <a:chOff x="96840" y="3633840"/>
            <a:chExt cx="8778960" cy="2005200"/>
          </a:xfrm>
        </p:grpSpPr>
        <p:pic>
          <p:nvPicPr>
            <p:cNvPr id="416" name="TextBox 9" descr=""/>
            <p:cNvPicPr/>
            <p:nvPr/>
          </p:nvPicPr>
          <p:blipFill>
            <a:blip r:embed="rId7"/>
            <a:stretch/>
          </p:blipFill>
          <p:spPr>
            <a:xfrm>
              <a:off x="96840" y="3633840"/>
              <a:ext cx="87789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50920" y="3716280"/>
              <a:ext cx="8424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зять пробирку, положить туда 1 см сигареты, заткнуть пробирку ватой, нагреть на спиртовке, посмотреть, как коричневая смола оседает на стенках пробирки, как выделяется угарный газ. Понюхать, как пахнет ват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Рисунок 1" descr=""/>
          <p:cNvPicPr/>
          <p:nvPr/>
        </p:nvPicPr>
        <p:blipFill>
          <a:blip r:embed="rId1"/>
          <a:stretch/>
        </p:blipFill>
        <p:spPr>
          <a:xfrm>
            <a:off x="179280" y="-47520"/>
            <a:ext cx="4176720" cy="685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9" name="Picture 5" descr="ольга 010"/>
          <p:cNvPicPr/>
          <p:nvPr/>
        </p:nvPicPr>
        <p:blipFill>
          <a:blip r:embed="rId2"/>
          <a:stretch/>
        </p:blipFill>
        <p:spPr>
          <a:xfrm>
            <a:off x="468360" y="189000"/>
            <a:ext cx="8437680" cy="51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6" descr="ольга 006"/>
          <p:cNvPicPr/>
          <p:nvPr/>
        </p:nvPicPr>
        <p:blipFill>
          <a:blip r:embed="rId3"/>
          <a:stretch/>
        </p:blipFill>
        <p:spPr>
          <a:xfrm>
            <a:off x="3851280" y="2349360"/>
            <a:ext cx="5133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ольга 014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ольга 015"/>
          <p:cNvPicPr/>
          <p:nvPr/>
        </p:nvPicPr>
        <p:blipFill>
          <a:blip r:embed="rId2"/>
          <a:stretch/>
        </p:blipFill>
        <p:spPr>
          <a:xfrm>
            <a:off x="3708360" y="189000"/>
            <a:ext cx="3683160" cy="20793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4356000" y="1773360"/>
            <a:ext cx="1800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n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2421000"/>
          <a:ext cx="9144000" cy="4213080"/>
        </p:xfrm>
        <a:graphic>
          <a:graphicData uri="http://schemas.openxmlformats.org/drawingml/2006/table">
            <a:tbl>
              <a:tblPr/>
              <a:tblGrid>
                <a:gridCol w="3855960"/>
                <a:gridCol w="1174680"/>
                <a:gridCol w="1175040"/>
                <a:gridCol w="2938320"/>
              </a:tblGrid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рка сигар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м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арный г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55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ва золотая оригиналь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tm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lam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г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n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20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e7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8:56:22Z</dcterms:created>
  <dc:creator>Ольга</dc:creator>
  <dc:description/>
  <dc:language>en-US</dc:language>
  <cp:lastModifiedBy>Ольга</cp:lastModifiedBy>
  <dcterms:modified xsi:type="dcterms:W3CDTF">2013-03-30T14:50:36Z</dcterms:modified>
  <cp:revision>63</cp:revision>
  <dc:subject/>
  <dc:title>Слайд 1</dc:title>
</cp:coreProperties>
</file>