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png" ContentType="image/png"/>
  <Override PartName="/ppt/media/image66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46.jpeg" ContentType="image/jpeg"/>
  <Override PartName="/ppt/media/image55.png" ContentType="image/png"/>
  <Override PartName="/ppt/media/image35.jpeg" ContentType="image/jpeg"/>
  <Override PartName="/ppt/media/image47.png" ContentType="image/png"/>
  <Override PartName="/ppt/media/image27.jpeg" ContentType="image/jpeg"/>
  <Override PartName="/ppt/media/image50.jpeg" ContentType="image/jpeg"/>
  <Override PartName="/ppt/media/image10.png" ContentType="image/png"/>
  <Override PartName="/ppt/media/image3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32.png" ContentType="image/png"/>
  <Override PartName="/ppt/media/image25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24.png" ContentType="image/png"/>
  <Override PartName="/ppt/media/image65.png" ContentType="image/png"/>
  <Override PartName="/ppt/media/image15.jpeg" ContentType="image/jpeg"/>
  <Override PartName="/ppt/media/image64.png" ContentType="image/png"/>
  <Override PartName="/ppt/media/image63.jpeg" ContentType="image/jpeg"/>
  <Override PartName="/ppt/media/image60.png" ContentType="image/png"/>
  <Override PartName="/ppt/media/image2.png" ContentType="image/png"/>
  <Override PartName="/ppt/media/image14.png" ContentType="image/png"/>
  <Override PartName="/ppt/media/image49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51.jpeg" ContentType="image/jpeg"/>
  <Override PartName="/ppt/media/image28.jpeg" ContentType="image/jpeg"/>
  <Override PartName="/ppt/media/image16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22.jpeg" ContentType="image/jpeg"/>
  <Override PartName="/ppt/media/image9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29.jpeg" ContentType="image/jpeg"/>
  <Override PartName="/ppt/media/image43.jpeg" ContentType="image/jpeg"/>
  <Override PartName="/ppt/media/image26.png" ContentType="image/png"/>
  <Override PartName="/ppt/media/image8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.png" ContentType="image/png"/>
  <Override PartName="/ppt/media/image13.png" ContentType="image/png"/>
  <Override PartName="/ppt/media/image30.jpeg" ContentType="image/jpeg"/>
  <Override PartName="/ppt/media/image31.jpeg" ContentType="image/jpeg"/>
  <Override PartName="/ppt/media/image33.png" ContentType="image/png"/>
  <Override PartName="/ppt/media/image56.jpeg" ContentType="image/jpeg"/>
  <Override PartName="/ppt/media/image34.png" ContentType="image/png"/>
  <Override PartName="/ppt/media/image38.jpeg" ContentType="image/jpeg"/>
  <Override PartName="/ppt/media/image41.jpeg" ContentType="image/jpeg"/>
  <Override PartName="/ppt/media/image54.png" ContentType="image/png"/>
  <Override PartName="/ppt/media/image42.png" ContentType="image/png"/>
  <Override PartName="/ppt/media/image44.png" ContentType="image/png"/>
  <Override PartName="/ppt/media/image48.png" ContentType="image/png"/>
  <Override PartName="/ppt/media/image4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9145-127E-46ED-A672-8FEFD200FD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E772-68E2-4DA4-809E-316B426AEC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4C7-82CB-4C52-B361-3F0FF1F0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3AB-A0A3-4E46-B5AA-5C78ECB0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919-9E87-4ED8-B9B2-5239CB55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6CA-1C6C-4F09-88B7-AFE7A7F9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F4DA-7AE1-44D6-A35A-523A94CE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75FF-D614-4F0E-AF13-C3003348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3E56-07F9-4D0E-B315-00926B54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2390-5DAB-48D1-8FB0-DF6934B2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1283-BCB5-4F68-822F-34DD612A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57D3-44DE-41A1-AF96-EA22EAF5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40EB-14DF-4B0D-9AF3-CFC49B29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A5E-2F4B-4DF9-9210-4152180A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C979-32B0-470C-A9DF-AC591029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AF12-654A-43E1-A05A-5D326993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B7B0-E816-400B-9A5C-0894DCC5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52F4-C323-4032-816E-E66AB359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FB5C-F2D8-4773-AE5A-7620F3DB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4DB5A-B6A0-49F6-86B3-C0DFA94E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90EDC-855D-4DC3-AAEE-5A81606E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A80D0-874D-4260-8C20-CEC4F1B2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4F7E2-82A5-4DA0-86F3-FBDFEC77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1BBBB-3EEB-416D-B58F-4E44E597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5EA-970E-4186-8E2C-FA0A2243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9FFB9-87BB-4A75-9CCC-8D822F98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32CCE-78BF-453F-8D1F-FCA0E97A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88C9B-E4E0-46DA-A9E3-CFDC7830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F968D-9E9D-4A28-A380-77AB7FBC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3B83B-8A9E-488B-9A37-484692E6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1CC6E-2C92-4F35-8E5C-93915D23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C5493-2E25-4E77-BE1E-C8C49893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221C2-4345-4393-B109-C129C9A8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38F43-023C-49C9-B425-A56E6553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FB3FD-F65F-426E-80C4-645EB353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508-3D31-4F29-90CF-98F722D8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DDF1E-939A-4C63-92EB-A678D68A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E5D8D-5523-4C06-9B3D-0310B438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425F3-D45F-40CC-9A28-EDC01C34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88210-0761-4DA8-B524-B6FCD114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6099A-23D8-4035-BEFD-909D19D8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21BB3-8998-4CB1-85AA-6280F52D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EFCEF-4969-478D-A56F-145EA57A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7D6DB-D7C2-4B11-B967-D3CF1B1E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F174A-E284-4ACB-BECF-598E94A3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DE7E2-9FD7-465F-85CF-47828E41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4BD-D598-4B87-8D17-CDEED5D2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B7211-3D76-4920-B146-0A285D32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9C127D-D5C4-4A78-A4F9-F69B8BFA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AC7D0-AF93-473B-8A05-487EDE23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60CEF-D31F-4443-9E10-E0C6D119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DBB78-DEB4-4D1F-B8EC-24AEE74D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EDCE3-54E3-468B-9D35-402371AA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F0399-A786-44B5-91FD-45D0BA96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C2C72-7EF2-4C74-AE41-654520F5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A95E9-24AB-4834-B924-D45F9B2F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7AF17-67DA-44ED-B5A1-85C72E84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C8F-669E-41FD-A58A-B589F4CA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4909A-D9ED-46F1-9C49-2C79875E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E2FD46-2024-4E0B-BCF3-0954E0C1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6F0A3-A346-48C2-875D-2169A01D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24DA3-0532-48F7-A196-B8D2D8FC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B9F4F3-AD8D-4951-9C84-723A18F4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29F98-8C0A-40D6-9131-714489CF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B2CB8-3879-40AF-9634-672927D8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5B2C0-8E33-499D-8D4D-FFA5704D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33A979-4EE4-4D76-9F9E-D1EF9376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AEBE30-F8B8-4E72-BC15-E534EB39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3ED-65C9-406E-8722-410D89B9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5157AB-576F-472E-9BF8-7DD071E4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6300A-99E5-45DD-9EFD-8C0175FF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9C5DB-62FC-4FA7-8A61-5472B39B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F2C258-7D60-498B-9306-3B154B32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4DEF95-386C-4BB8-B049-14C7C383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DD1F3-67BA-409B-AC0A-4FB4A0CF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FC5A3A-DCAF-438C-B16B-9926D0D0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3E1FD-3847-4C32-A324-958BBFF2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EB132-AE72-4EE4-A6F4-7805FC5C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3BF6D5-C586-49D7-974B-FDE37E0E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180-70BA-4540-B20B-39ADDC8B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60D4E3-826B-41A5-A9C5-808E337A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530485-B38E-46EC-9135-21634F76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63AA7-9751-46D1-82C3-824AC7D4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FF73A9-235E-404B-9D05-1C70FEA1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4ED52-29AD-4B35-A27D-E11D4BCD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B90-F3B3-49C5-9371-041F46E0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e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1819-C77D-4D8A-8837-5E8817A466D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e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F067-2057-410D-98EF-A47C96D97AC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e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3E73-DC04-4378-9F71-9F161AB980E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e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B9EB-28B9-4072-ABDC-16461CC3C7C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e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570E-47AA-4DAC-B0CC-2CA29AAB073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e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7168-E355-4476-9C24-08062F235DE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e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E92D-F0A3-45BF-8044-5D73A34892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22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87280" y="189000"/>
            <a:ext cx="7561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БОУ «Парцин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Зубово – Полянского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еспублики Мордов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Прямоугольник 3" descr=""/>
          <p:cNvPicPr/>
          <p:nvPr/>
        </p:nvPicPr>
        <p:blipFill>
          <a:blip r:embed="rId1"/>
          <a:stretch/>
        </p:blipFill>
        <p:spPr>
          <a:xfrm>
            <a:off x="2262240" y="1238400"/>
            <a:ext cx="5376960" cy="130968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4" descr=""/>
          <p:cNvPicPr/>
          <p:nvPr/>
        </p:nvPicPr>
        <p:blipFill>
          <a:blip r:embed="rId2"/>
          <a:stretch/>
        </p:blipFill>
        <p:spPr>
          <a:xfrm>
            <a:off x="1292400" y="2852640"/>
            <a:ext cx="7424640" cy="10303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5"/>
          <p:cNvSpPr/>
          <p:nvPr/>
        </p:nvSpPr>
        <p:spPr>
          <a:xfrm>
            <a:off x="3276720" y="4005360"/>
            <a:ext cx="3598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еница  7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ташевская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т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бина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льга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Рисунок 5" descr="Лебина.jpg"/>
          <p:cNvPicPr/>
          <p:nvPr/>
        </p:nvPicPr>
        <p:blipFill>
          <a:blip r:embed="rId3"/>
          <a:stretch/>
        </p:blipFill>
        <p:spPr>
          <a:xfrm>
            <a:off x="2340000" y="5157720"/>
            <a:ext cx="1224000" cy="11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Прямоугольник 3" descr=""/>
          <p:cNvPicPr/>
          <p:nvPr/>
        </p:nvPicPr>
        <p:blipFill>
          <a:blip r:embed="rId1"/>
          <a:stretch/>
        </p:blipFill>
        <p:spPr>
          <a:xfrm>
            <a:off x="171360" y="92160"/>
            <a:ext cx="8528040" cy="1303200"/>
          </a:xfrm>
          <a:prstGeom prst="rect">
            <a:avLst/>
          </a:prstGeom>
          <a:ln w="0">
            <a:noFill/>
          </a:ln>
        </p:spPr>
      </p:pic>
      <p:grpSp>
        <p:nvGrpSpPr>
          <p:cNvPr id="426" name="TextBox 4"/>
          <p:cNvGrpSpPr/>
          <p:nvPr/>
        </p:nvGrpSpPr>
        <p:grpSpPr>
          <a:xfrm>
            <a:off x="96840" y="4138560"/>
            <a:ext cx="8798040" cy="2481480"/>
            <a:chOff x="96840" y="4138560"/>
            <a:chExt cx="8798040" cy="2481480"/>
          </a:xfrm>
        </p:grpSpPr>
        <p:pic>
          <p:nvPicPr>
            <p:cNvPr id="427" name="TextBox 4" descr=""/>
            <p:cNvPicPr/>
            <p:nvPr/>
          </p:nvPicPr>
          <p:blipFill>
            <a:blip r:embed="rId2"/>
            <a:stretch/>
          </p:blipFill>
          <p:spPr>
            <a:xfrm>
              <a:off x="96840" y="4138560"/>
              <a:ext cx="879804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50920" y="4221000"/>
              <a:ext cx="8424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Берём 2 фильтра от сигарет. Один чистый, другой – окурок. Бросаем фильтры в пробирки с содовой водой, подкрашенной лакмусом, от чего вода – фиолетовая. После опускания окурка окраска исчезает, а появляется бурая, т.к. кислоты, находящиеся в фильтре действуют на индикатор.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Прямоугольник 5" descr=""/>
          <p:cNvPicPr/>
          <p:nvPr/>
        </p:nvPicPr>
        <p:blipFill>
          <a:blip r:embed="rId3"/>
          <a:stretch/>
        </p:blipFill>
        <p:spPr>
          <a:xfrm>
            <a:off x="115920" y="1243080"/>
            <a:ext cx="4091040" cy="757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http://www.klinlab.ru/KATALOG/himiko_posyda/ris_posyda/probirka130.jpg"/>
          <p:cNvPicPr/>
          <p:nvPr/>
        </p:nvPicPr>
        <p:blipFill>
          <a:blip r:embed="rId4"/>
          <a:stretch/>
        </p:blipFill>
        <p:spPr>
          <a:xfrm>
            <a:off x="250920" y="2349360"/>
            <a:ext cx="1584360" cy="15242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http://www.albia.biz/gallery/glass_of_water.jpg"/>
          <p:cNvPicPr/>
          <p:nvPr/>
        </p:nvPicPr>
        <p:blipFill>
          <a:blip r:embed="rId5"/>
          <a:stretch/>
        </p:blipFill>
        <p:spPr>
          <a:xfrm>
            <a:off x="2268360" y="2205000"/>
            <a:ext cx="1440000" cy="1663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8" descr="http://mrhow.ru/uploads/posts/2012-02/1328878511_kak-izbavitsya-ot-izzhogi-2.jpg"/>
          <p:cNvPicPr/>
          <p:nvPr/>
        </p:nvPicPr>
        <p:blipFill>
          <a:blip r:embed="rId6"/>
          <a:stretch/>
        </p:blipFill>
        <p:spPr>
          <a:xfrm>
            <a:off x="4067280" y="1844640"/>
            <a:ext cx="1439640" cy="20224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9" descr="C:\Users\Ольга\AppData\Local\Microsoft\Windows\Temporary Internet Files\Content.Word\ольга 017.jpg"/>
          <p:cNvPicPr/>
          <p:nvPr/>
        </p:nvPicPr>
        <p:blipFill>
          <a:blip r:embed="rId7"/>
          <a:stretch/>
        </p:blipFill>
        <p:spPr>
          <a:xfrm>
            <a:off x="5867280" y="2133720"/>
            <a:ext cx="129708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ольга 019"/>
          <p:cNvPicPr/>
          <p:nvPr/>
        </p:nvPicPr>
        <p:blipFill>
          <a:blip r:embed="rId1"/>
          <a:stretch/>
        </p:blipFill>
        <p:spPr>
          <a:xfrm>
            <a:off x="324000" y="260280"/>
            <a:ext cx="5184720" cy="623592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4" descr="C:\Users\Ольга\AppData\Local\Microsoft\Windows\Temporary Internet Files\Content.Word\ольга 018.jpg"/>
          <p:cNvPicPr/>
          <p:nvPr/>
        </p:nvPicPr>
        <p:blipFill>
          <a:blip r:embed="rId2"/>
          <a:stretch/>
        </p:blipFill>
        <p:spPr>
          <a:xfrm>
            <a:off x="5651640" y="260280"/>
            <a:ext cx="2808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TextBox 4"/>
          <p:cNvGrpSpPr/>
          <p:nvPr/>
        </p:nvGrpSpPr>
        <p:grpSpPr>
          <a:xfrm>
            <a:off x="-152280" y="176040"/>
            <a:ext cx="9362880" cy="2007000"/>
            <a:chOff x="-152280" y="176040"/>
            <a:chExt cx="9362880" cy="2007000"/>
          </a:xfrm>
        </p:grpSpPr>
        <p:pic>
          <p:nvPicPr>
            <p:cNvPr id="437" name="TextBox 4" descr=""/>
            <p:cNvPicPr/>
            <p:nvPr/>
          </p:nvPicPr>
          <p:blipFill>
            <a:blip r:embed="rId1"/>
            <a:stretch/>
          </p:blipFill>
          <p:spPr>
            <a:xfrm>
              <a:off x="-152280" y="176040"/>
              <a:ext cx="9362880" cy="17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0" y="260280"/>
              <a:ext cx="914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Берем окурки исследуемых марок сигарет и на несколько  часов помещаем в содовую воду. Выясняем, какое количество никотина содержится в разных марках сигаре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Данные заносим в таблицу.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9" name="Picture 48" descr="ольга 058"/>
          <p:cNvPicPr/>
          <p:nvPr/>
        </p:nvPicPr>
        <p:blipFill>
          <a:blip r:embed="rId2"/>
          <a:stretch/>
        </p:blipFill>
        <p:spPr>
          <a:xfrm>
            <a:off x="0" y="2421000"/>
            <a:ext cx="914400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Прямоугольник 3" descr=""/>
          <p:cNvPicPr/>
          <p:nvPr/>
        </p:nvPicPr>
        <p:blipFill>
          <a:blip r:embed="rId1"/>
          <a:stretch/>
        </p:blipFill>
        <p:spPr>
          <a:xfrm>
            <a:off x="171360" y="115920"/>
            <a:ext cx="8582040" cy="103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0" y="1197000"/>
          <a:ext cx="9144000" cy="5486400"/>
        </p:xfrm>
        <a:graphic>
          <a:graphicData uri="http://schemas.openxmlformats.org/drawingml/2006/table">
            <a:tbl>
              <a:tblPr/>
              <a:tblGrid>
                <a:gridCol w="3265560"/>
                <a:gridCol w="4300560"/>
                <a:gridCol w="15778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Марка сигар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краска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ал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Bo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Насыщенно темно –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Ява золотая оригина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Темно –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Rotm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Темно –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Glamou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Достаточно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ta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Winsto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лег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ветло -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Winst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ветло -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K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Почти прозрач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0" y="189000"/>
          <a:ext cx="9144000" cy="5486400"/>
        </p:xfrm>
        <a:graphic>
          <a:graphicData uri="http://schemas.openxmlformats.org/drawingml/2006/table">
            <a:tbl>
              <a:tblPr/>
              <a:tblGrid>
                <a:gridCol w="3265560"/>
                <a:gridCol w="4300560"/>
                <a:gridCol w="15778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Марка сигар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краска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ал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Bo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Насыщенно темно –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Ява золотая оригина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Темно –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Rotm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Темно –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Glamou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Достаточно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ta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Winsto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лег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ветло -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Winst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ветло -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K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Почти прозрач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</a:tbl>
          </a:graphicData>
        </a:graphic>
      </p:graphicFrame>
      <p:pic>
        <p:nvPicPr>
          <p:cNvPr id="443" name="Picture 1" descr="ольга 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Прямоугольник 6" descr=""/>
          <p:cNvPicPr/>
          <p:nvPr/>
        </p:nvPicPr>
        <p:blipFill>
          <a:blip r:embed="rId1"/>
          <a:stretch/>
        </p:blipFill>
        <p:spPr>
          <a:xfrm>
            <a:off x="244440" y="92160"/>
            <a:ext cx="8363160" cy="18590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ольга 065"/>
          <p:cNvPicPr/>
          <p:nvPr/>
        </p:nvPicPr>
        <p:blipFill>
          <a:blip r:embed="rId2"/>
          <a:stretch/>
        </p:blipFill>
        <p:spPr>
          <a:xfrm>
            <a:off x="1187280" y="1989000"/>
            <a:ext cx="2643480" cy="3681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ольга 066"/>
          <p:cNvPicPr/>
          <p:nvPr/>
        </p:nvPicPr>
        <p:blipFill>
          <a:blip r:embed="rId3"/>
          <a:stretch/>
        </p:blipFill>
        <p:spPr>
          <a:xfrm>
            <a:off x="4356000" y="1916280"/>
            <a:ext cx="2880000" cy="3787560"/>
          </a:xfrm>
          <a:prstGeom prst="rect">
            <a:avLst/>
          </a:prstGeom>
          <a:ln w="0">
            <a:noFill/>
          </a:ln>
        </p:spPr>
      </p:pic>
      <p:grpSp>
        <p:nvGrpSpPr>
          <p:cNvPr id="447" name="TextBox 9"/>
          <p:cNvGrpSpPr/>
          <p:nvPr/>
        </p:nvGrpSpPr>
        <p:grpSpPr>
          <a:xfrm>
            <a:off x="-152280" y="5724360"/>
            <a:ext cx="9362880" cy="1005120"/>
            <a:chOff x="-152280" y="5724360"/>
            <a:chExt cx="9362880" cy="1005120"/>
          </a:xfrm>
        </p:grpSpPr>
        <p:pic>
          <p:nvPicPr>
            <p:cNvPr id="448" name="TextBox 9" descr=""/>
            <p:cNvPicPr/>
            <p:nvPr/>
          </p:nvPicPr>
          <p:blipFill>
            <a:blip r:embed="rId4"/>
            <a:stretch/>
          </p:blipFill>
          <p:spPr>
            <a:xfrm>
              <a:off x="-152280" y="5724360"/>
              <a:ext cx="93628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580536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Некоторые компоненты дыма растворяются в воде. Забор сигаретного дыма повторяли несколько раз.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Прямоугольник 3" descr=""/>
          <p:cNvPicPr/>
          <p:nvPr/>
        </p:nvPicPr>
        <p:blipFill>
          <a:blip r:embed="rId1"/>
          <a:stretch/>
        </p:blipFill>
        <p:spPr>
          <a:xfrm>
            <a:off x="36360" y="92160"/>
            <a:ext cx="8790120" cy="749160"/>
          </a:xfrm>
          <a:prstGeom prst="rect">
            <a:avLst/>
          </a:prstGeom>
          <a:ln w="0">
            <a:noFill/>
          </a:ln>
        </p:spPr>
      </p:pic>
      <p:grpSp>
        <p:nvGrpSpPr>
          <p:cNvPr id="451" name="TextBox 4"/>
          <p:cNvGrpSpPr/>
          <p:nvPr/>
        </p:nvGrpSpPr>
        <p:grpSpPr>
          <a:xfrm>
            <a:off x="-152280" y="755640"/>
            <a:ext cx="9362880" cy="3252240"/>
            <a:chOff x="-152280" y="755640"/>
            <a:chExt cx="9362880" cy="3252240"/>
          </a:xfrm>
        </p:grpSpPr>
        <p:pic>
          <p:nvPicPr>
            <p:cNvPr id="452" name="TextBox 4" descr=""/>
            <p:cNvPicPr/>
            <p:nvPr/>
          </p:nvPicPr>
          <p:blipFill>
            <a:blip r:embed="rId2"/>
            <a:stretch/>
          </p:blipFill>
          <p:spPr>
            <a:xfrm>
              <a:off x="-152280" y="755640"/>
              <a:ext cx="936288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0" y="836640"/>
              <a:ext cx="9144000" cy="31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Реакция с FeCl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Century Schoolbook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 В пробирку наливали раствор табачного дыма и добавляем 2-3 капли 5%-ного раствора FeCl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Century Schoolbook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. Жидкость окрашивалась в коричнево-зеленый цвет из-за образования смеси комплексных соединений фенолов разного строения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Каждый фенол дает с FeCl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Century Schoolbook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 свою окраску, например фенол — фиолетовую, пирокатехин — зеленую, а гидрохинон - зеленую, переходящую в желтую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Picture 2" descr="ольга 076"/>
          <p:cNvPicPr/>
          <p:nvPr/>
        </p:nvPicPr>
        <p:blipFill>
          <a:blip r:embed="rId3"/>
          <a:stretch/>
        </p:blipFill>
        <p:spPr>
          <a:xfrm>
            <a:off x="5148360" y="3500280"/>
            <a:ext cx="32781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ольга 068"/>
          <p:cNvPicPr/>
          <p:nvPr/>
        </p:nvPicPr>
        <p:blipFill>
          <a:blip r:embed="rId1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ольга 076"/>
          <p:cNvPicPr/>
          <p:nvPr/>
        </p:nvPicPr>
        <p:blipFill>
          <a:blip r:embed="rId2"/>
          <a:stretch/>
        </p:blipFill>
        <p:spPr>
          <a:xfrm>
            <a:off x="4932360" y="549360"/>
            <a:ext cx="4290840" cy="41749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8" descr="http://static.livescience.ru/tabak/fenol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Прямоугольник 3" descr=""/>
          <p:cNvPicPr/>
          <p:nvPr/>
        </p:nvPicPr>
        <p:blipFill>
          <a:blip r:embed="rId1"/>
          <a:stretch/>
        </p:blipFill>
        <p:spPr>
          <a:xfrm>
            <a:off x="311040" y="92160"/>
            <a:ext cx="8247240" cy="1859040"/>
          </a:xfrm>
          <a:prstGeom prst="rect">
            <a:avLst/>
          </a:prstGeom>
          <a:ln w="0">
            <a:noFill/>
          </a:ln>
        </p:spPr>
      </p:pic>
      <p:grpSp>
        <p:nvGrpSpPr>
          <p:cNvPr id="459" name="TextBox 4"/>
          <p:cNvGrpSpPr/>
          <p:nvPr/>
        </p:nvGrpSpPr>
        <p:grpSpPr>
          <a:xfrm>
            <a:off x="-152280" y="2193840"/>
            <a:ext cx="9424800" cy="2888280"/>
            <a:chOff x="-152280" y="2193840"/>
            <a:chExt cx="9424800" cy="2888280"/>
          </a:xfrm>
        </p:grpSpPr>
        <p:pic>
          <p:nvPicPr>
            <p:cNvPr id="460" name="TextBox 4" descr=""/>
            <p:cNvPicPr/>
            <p:nvPr/>
          </p:nvPicPr>
          <p:blipFill>
            <a:blip r:embed="rId2"/>
            <a:stretch/>
          </p:blipFill>
          <p:spPr>
            <a:xfrm>
              <a:off x="-152280" y="2193840"/>
              <a:ext cx="9424800" cy="28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0" y="2276640"/>
              <a:ext cx="9144000" cy="28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Реакция с KMnO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Century Schoolbook"/>
                </a:rPr>
                <a:t>4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 В табачном дыме содержатся восстановители, обладающие высокой токсичностью и раздражающим действием, например бензальдегид, формальдегид, Мы их обнаруживали следующим образом: в раствор табачного дыма добавляли несколько капель 5%-ного раствора KMnO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Century Schoolbook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. Раствор при этом обесцвечивается и выпадает бурый осадок MnO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Century Schoolbook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ольга 071"/>
          <p:cNvPicPr/>
          <p:nvPr/>
        </p:nvPicPr>
        <p:blipFill>
          <a:blip r:embed="rId1"/>
          <a:stretch/>
        </p:blipFill>
        <p:spPr>
          <a:xfrm>
            <a:off x="179280" y="0"/>
            <a:ext cx="595008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ольга 061"/>
          <p:cNvPicPr/>
          <p:nvPr/>
        </p:nvPicPr>
        <p:blipFill>
          <a:blip r:embed="rId2"/>
          <a:stretch/>
        </p:blipFill>
        <p:spPr>
          <a:xfrm>
            <a:off x="6118200" y="0"/>
            <a:ext cx="3025800" cy="4896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ольга 063"/>
          <p:cNvPicPr/>
          <p:nvPr/>
        </p:nvPicPr>
        <p:blipFill>
          <a:blip r:embed="rId3"/>
          <a:stretch/>
        </p:blipFill>
        <p:spPr>
          <a:xfrm>
            <a:off x="3851280" y="0"/>
            <a:ext cx="311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http://fotoramky.narod.ru/images/ramka380.jpg"/>
          <p:cNvPicPr/>
          <p:nvPr/>
        </p:nvPicPr>
        <p:blipFill>
          <a:blip r:embed="rId1"/>
          <a:stretch/>
        </p:blipFill>
        <p:spPr>
          <a:xfrm>
            <a:off x="291960" y="176040"/>
            <a:ext cx="8383680" cy="662472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6" descr=""/>
          <p:cNvPicPr/>
          <p:nvPr/>
        </p:nvPicPr>
        <p:blipFill>
          <a:blip r:embed="rId2"/>
          <a:stretch/>
        </p:blipFill>
        <p:spPr>
          <a:xfrm>
            <a:off x="2408400" y="407880"/>
            <a:ext cx="5278320" cy="976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http://prichesin.com/image/rabota/1928.jpg"/>
          <p:cNvPicPr/>
          <p:nvPr/>
        </p:nvPicPr>
        <p:blipFill>
          <a:blip r:embed="rId3"/>
          <a:stretch/>
        </p:blipFill>
        <p:spPr>
          <a:xfrm>
            <a:off x="6875640" y="4437000"/>
            <a:ext cx="1552320" cy="22179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4"/>
          <p:cNvSpPr/>
          <p:nvPr/>
        </p:nvSpPr>
        <p:spPr>
          <a:xfrm rot="183000">
            <a:off x="862920" y="1499760"/>
            <a:ext cx="7056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следованиями давно доказано, в чем вред кур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дыме табака содержится более 30 ядовитых веществ: никотин, углекислый газ, окись углерода, синильная кислота, аммиак, смолистые вещества, органические кислоты и друг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знают о вреде табакокурения, о его последствиях, но число курильщиков не уменьшается! Ежедневно в мире выкуривается около 15 миллиардов сигарет. Россия ж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нимает 1 место в мире по потреблени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а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Прямоугольник 3" descr=""/>
          <p:cNvPicPr/>
          <p:nvPr/>
        </p:nvPicPr>
        <p:blipFill>
          <a:blip r:embed="rId1"/>
          <a:stretch/>
        </p:blipFill>
        <p:spPr>
          <a:xfrm>
            <a:off x="858960" y="92160"/>
            <a:ext cx="7145280" cy="1859040"/>
          </a:xfrm>
          <a:prstGeom prst="rect">
            <a:avLst/>
          </a:prstGeom>
          <a:ln w="0">
            <a:noFill/>
          </a:ln>
        </p:spPr>
      </p:pic>
      <p:grpSp>
        <p:nvGrpSpPr>
          <p:cNvPr id="466" name="TextBox 4"/>
          <p:cNvGrpSpPr/>
          <p:nvPr/>
        </p:nvGrpSpPr>
        <p:grpSpPr>
          <a:xfrm>
            <a:off x="-152280" y="2193840"/>
            <a:ext cx="9478800" cy="1639800"/>
            <a:chOff x="-152280" y="2193840"/>
            <a:chExt cx="9478800" cy="1639800"/>
          </a:xfrm>
        </p:grpSpPr>
        <p:pic>
          <p:nvPicPr>
            <p:cNvPr id="467" name="TextBox 4" descr=""/>
            <p:cNvPicPr/>
            <p:nvPr/>
          </p:nvPicPr>
          <p:blipFill>
            <a:blip r:embed="rId2"/>
            <a:stretch/>
          </p:blipFill>
          <p:spPr>
            <a:xfrm>
              <a:off x="-152280" y="2193840"/>
              <a:ext cx="94788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0" y="2276640"/>
              <a:ext cx="914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В раствор табачного дыма и добавляем по 1-2 капли йодной воды (несколько капель аптечной настойки йода растворяют в 10 мл воды). Наблюдаем обесцвечивание раство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ольга 072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ольга 073"/>
          <p:cNvPicPr/>
          <p:nvPr/>
        </p:nvPicPr>
        <p:blipFill>
          <a:blip r:embed="rId2"/>
          <a:stretch/>
        </p:blipFill>
        <p:spPr>
          <a:xfrm>
            <a:off x="5076720" y="0"/>
            <a:ext cx="3846600" cy="5229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ольга 074"/>
          <p:cNvPicPr/>
          <p:nvPr/>
        </p:nvPicPr>
        <p:blipFill>
          <a:blip r:embed="rId3"/>
          <a:stretch/>
        </p:blipFill>
        <p:spPr>
          <a:xfrm>
            <a:off x="2411280" y="2063880"/>
            <a:ext cx="4032360" cy="4794120"/>
          </a:xfrm>
          <a:prstGeom prst="rect">
            <a:avLst/>
          </a:prstGeom>
          <a:ln w="0">
            <a:noFill/>
          </a:ln>
        </p:spPr>
      </p:pic>
      <p:grpSp>
        <p:nvGrpSpPr>
          <p:cNvPr id="472" name="TextBox 4"/>
          <p:cNvGrpSpPr/>
          <p:nvPr/>
        </p:nvGrpSpPr>
        <p:grpSpPr>
          <a:xfrm>
            <a:off x="-152280" y="5005440"/>
            <a:ext cx="9448560" cy="1743120"/>
            <a:chOff x="-152280" y="5005440"/>
            <a:chExt cx="9448560" cy="1743120"/>
          </a:xfrm>
        </p:grpSpPr>
        <p:pic>
          <p:nvPicPr>
            <p:cNvPr id="473" name="TextBox 4" descr=""/>
            <p:cNvPicPr/>
            <p:nvPr/>
          </p:nvPicPr>
          <p:blipFill>
            <a:blip r:embed="rId4"/>
            <a:stretch/>
          </p:blipFill>
          <p:spPr>
            <a:xfrm>
              <a:off x="-152280" y="5005440"/>
              <a:ext cx="94485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0" y="5084640"/>
              <a:ext cx="914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На основании проведенных опытов наиболее вредными являются марки сигарет: «</a:t>
              </a:r>
              <a:r>
                <a:rPr b="1" lang="en-US" sz="2400" spc="-1" strike="noStrike">
                  <a:solidFill>
                    <a:srgbClr val="000000"/>
                  </a:solidFill>
                  <a:latin typeface="Century Schoolbook"/>
                </a:rPr>
                <a:t>Kent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»,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«</a:t>
              </a:r>
              <a:r>
                <a:rPr b="1" lang="en-US" sz="2400" spc="-1" strike="noStrike">
                  <a:solidFill>
                    <a:srgbClr val="000000"/>
                  </a:solidFill>
                  <a:latin typeface="Century Schoolbook"/>
                </a:rPr>
                <a:t>Bond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»,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«</a:t>
              </a:r>
              <a:r>
                <a:rPr b="1" lang="en-US" sz="2400" spc="-1" strike="noStrike">
                  <a:solidFill>
                    <a:srgbClr val="000000"/>
                  </a:solidFill>
                  <a:latin typeface="Century Schoolbook"/>
                </a:rPr>
                <a:t>Winston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»,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самой «легкой» маркой оказалась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</a:rPr>
                <a:t>Glamour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, но можно с полной уверенностью сказать: «Безопасного табака НЕТ!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http://fotobg.ru/upload/img1353839758.jpg"/>
          <p:cNvPicPr/>
          <p:nvPr/>
        </p:nvPicPr>
        <p:blipFill>
          <a:blip r:embed="rId1"/>
          <a:stretch/>
        </p:blipFill>
        <p:spPr>
          <a:xfrm rot="21101400">
            <a:off x="393840" y="541440"/>
            <a:ext cx="4297320" cy="5763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" descr="http://fotobg.ru/upload/img1353839758.jpg"/>
          <p:cNvPicPr/>
          <p:nvPr/>
        </p:nvPicPr>
        <p:blipFill>
          <a:blip r:embed="rId2"/>
          <a:stretch/>
        </p:blipFill>
        <p:spPr>
          <a:xfrm>
            <a:off x="4500720" y="189000"/>
            <a:ext cx="4297320" cy="5763960"/>
          </a:xfrm>
          <a:prstGeom prst="rect">
            <a:avLst/>
          </a:prstGeom>
          <a:ln w="0">
            <a:noFill/>
          </a:ln>
        </p:spPr>
      </p:pic>
      <p:sp>
        <p:nvSpPr>
          <p:cNvPr id="477" name="TextBox 3"/>
          <p:cNvSpPr/>
          <p:nvPr/>
        </p:nvSpPr>
        <p:spPr>
          <a:xfrm>
            <a:off x="468360" y="907920"/>
            <a:ext cx="7920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исследовательской работы в кабинет биологии часто заходили мои одноклассники, мальчишки из старших классов, учителя, да и просто идущие мим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огли убиться воочию в наличии вредных веществ в сигаре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юсь, что увиденное остановит от желания закур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" descr="ольга 075"/>
          <p:cNvPicPr/>
          <p:nvPr/>
        </p:nvPicPr>
        <p:blipFill>
          <a:blip r:embed="rId1"/>
          <a:stretch/>
        </p:blipFill>
        <p:spPr>
          <a:xfrm>
            <a:off x="0" y="333360"/>
            <a:ext cx="9128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http://fotoramky.narod.ru/images/ramka380.jpg"/>
          <p:cNvPicPr/>
          <p:nvPr/>
        </p:nvPicPr>
        <p:blipFill>
          <a:blip r:embed="rId1"/>
          <a:stretch/>
        </p:blipFill>
        <p:spPr>
          <a:xfrm>
            <a:off x="291960" y="176040"/>
            <a:ext cx="8383680" cy="662472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4" descr=""/>
          <p:cNvPicPr/>
          <p:nvPr/>
        </p:nvPicPr>
        <p:blipFill>
          <a:blip r:embed="rId2"/>
          <a:stretch/>
        </p:blipFill>
        <p:spPr>
          <a:xfrm>
            <a:off x="2408400" y="407880"/>
            <a:ext cx="5278320" cy="9763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3"/>
          <p:cNvSpPr/>
          <p:nvPr/>
        </p:nvSpPr>
        <p:spPr>
          <a:xfrm>
            <a:off x="1258920" y="177336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наличие вредных веществ (никотин, смолы, угарный газ, фенол, формальдегид) в различных марках сига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марки сигарет с наибольшим содержанием вре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408720" cy="478764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250920" y="18900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ю исследовательскую работу я начала с того, что нашла «добровольц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им я узнала какие марки сигарет курят ребята нашей школы, они же обеспечили меня объектами изучения. Они же помогали мне в проведении опы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60480"/>
            <a:ext cx="7650000" cy="90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"/>
          <p:cNvGraphicFramePr/>
          <p:nvPr/>
        </p:nvGraphicFramePr>
        <p:xfrm>
          <a:off x="0" y="981000"/>
          <a:ext cx="9144000" cy="5607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1944720"/>
                <a:gridCol w="1295280"/>
                <a:gridCol w="1332000"/>
              </a:tblGrid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нст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нст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г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олот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тман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т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лам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</a:tbl>
          </a:graphicData>
        </a:graphic>
      </p:graphicFrame>
      <p:pic>
        <p:nvPicPr>
          <p:cNvPr id="398" name="Picture 2" descr="http://a-u-e.ru/d/59763/d/winstonlight.jpeg"/>
          <p:cNvPicPr/>
          <p:nvPr/>
        </p:nvPicPr>
        <p:blipFill>
          <a:blip r:embed="rId2"/>
          <a:stretch/>
        </p:blipFill>
        <p:spPr>
          <a:xfrm>
            <a:off x="539640" y="1119240"/>
            <a:ext cx="1152720" cy="1733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http://rustabak.ru/pictab/winston_xs-2009_.jpg"/>
          <p:cNvPicPr/>
          <p:nvPr/>
        </p:nvPicPr>
        <p:blipFill>
          <a:blip r:embed="rId3"/>
          <a:stretch/>
        </p:blipFill>
        <p:spPr>
          <a:xfrm>
            <a:off x="2411280" y="1071720"/>
            <a:ext cx="2016360" cy="1879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http://www.utkonos.ru/images/it/1022/1022179P.jpg"/>
          <p:cNvPicPr/>
          <p:nvPr/>
        </p:nvPicPr>
        <p:blipFill>
          <a:blip r:embed="rId4"/>
          <a:stretch/>
        </p:blipFill>
        <p:spPr>
          <a:xfrm>
            <a:off x="5003640" y="1197000"/>
            <a:ext cx="1079640" cy="17305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http://www.zakazcenter.ru/userfiles/picbig/img201010240751314.jpg"/>
          <p:cNvPicPr/>
          <p:nvPr/>
        </p:nvPicPr>
        <p:blipFill>
          <a:blip r:embed="rId5"/>
          <a:stretch/>
        </p:blipFill>
        <p:spPr>
          <a:xfrm>
            <a:off x="7308720" y="1197000"/>
            <a:ext cx="986040" cy="1700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0" descr="http://www.utkonos.ru/images/it/1027/1027920P.jpg"/>
          <p:cNvPicPr/>
          <p:nvPr/>
        </p:nvPicPr>
        <p:blipFill>
          <a:blip r:embed="rId6"/>
          <a:stretch/>
        </p:blipFill>
        <p:spPr>
          <a:xfrm>
            <a:off x="539640" y="3860640"/>
            <a:ext cx="1152720" cy="1806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http://www.utt66.ru/user_files/eshopimage/cat/huge/00000000614.jpg"/>
          <p:cNvPicPr/>
          <p:nvPr/>
        </p:nvPicPr>
        <p:blipFill>
          <a:blip r:embed="rId7"/>
          <a:stretch/>
        </p:blipFill>
        <p:spPr>
          <a:xfrm>
            <a:off x="2987640" y="3860640"/>
            <a:ext cx="944640" cy="1729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7" descr="http://bristolnn.ru/catalog/images.php?IMG=/dir_images/88b440f0-cdff-11de-8da9-001cc057f1cb.jpeg"/>
          <p:cNvPicPr/>
          <p:nvPr/>
        </p:nvPicPr>
        <p:blipFill>
          <a:blip r:embed="rId8"/>
          <a:stretch/>
        </p:blipFill>
        <p:spPr>
          <a:xfrm>
            <a:off x="5076720" y="3835440"/>
            <a:ext cx="1008000" cy="1825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9" descr="http://techirk.ru/uploads/goods/675/new_q.jpg"/>
          <p:cNvPicPr/>
          <p:nvPr/>
        </p:nvPicPr>
        <p:blipFill>
          <a:blip r:embed="rId9"/>
          <a:stretch/>
        </p:blipFill>
        <p:spPr>
          <a:xfrm>
            <a:off x="6300720" y="393372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1" descr="http://techirk.ru/uploads/goods/660/new_q.jpg"/>
          <p:cNvPicPr/>
          <p:nvPr/>
        </p:nvPicPr>
        <p:blipFill>
          <a:blip r:embed="rId10"/>
          <a:stretch/>
        </p:blipFill>
        <p:spPr>
          <a:xfrm>
            <a:off x="7912080" y="3860640"/>
            <a:ext cx="1231920" cy="18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0" y="1700280"/>
          <a:ext cx="9144000" cy="5048280"/>
        </p:xfrm>
        <a:graphic>
          <a:graphicData uri="http://schemas.openxmlformats.org/drawingml/2006/table">
            <a:tbl>
              <a:tblPr/>
              <a:tblGrid>
                <a:gridCol w="2473200"/>
                <a:gridCol w="1757520"/>
                <a:gridCol w="1757160"/>
                <a:gridCol w="1757520"/>
                <a:gridCol w="1398600"/>
              </a:tblGrid>
              <a:tr h="841320"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рка сигар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мола мг/си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икот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г/си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 мг/си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8413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ва золотая оригина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tm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lam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nsto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ег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n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pic>
        <p:nvPicPr>
          <p:cNvPr id="408" name="Прямоугольник 5" descr=""/>
          <p:cNvPicPr/>
          <p:nvPr/>
        </p:nvPicPr>
        <p:blipFill>
          <a:blip r:embed="rId1"/>
          <a:stretch/>
        </p:blipFill>
        <p:spPr>
          <a:xfrm>
            <a:off x="171360" y="189000"/>
            <a:ext cx="85820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Прямоугольник 3" descr=""/>
          <p:cNvPicPr/>
          <p:nvPr/>
        </p:nvPicPr>
        <p:blipFill>
          <a:blip r:embed="rId1"/>
          <a:stretch/>
        </p:blipFill>
        <p:spPr>
          <a:xfrm>
            <a:off x="49320" y="73080"/>
            <a:ext cx="8766000" cy="82872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оугольник 4" descr=""/>
          <p:cNvPicPr/>
          <p:nvPr/>
        </p:nvPicPr>
        <p:blipFill>
          <a:blip r:embed="rId2"/>
          <a:stretch/>
        </p:blipFill>
        <p:spPr>
          <a:xfrm>
            <a:off x="115920" y="811080"/>
            <a:ext cx="4091040" cy="755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http://www.klinlab.ru/KATALOG/himiko_posyda/ris_posyda/probirka130.jpg"/>
          <p:cNvPicPr/>
          <p:nvPr/>
        </p:nvPicPr>
        <p:blipFill>
          <a:blip r:embed="rId3"/>
          <a:stretch/>
        </p:blipFill>
        <p:spPr>
          <a:xfrm>
            <a:off x="179280" y="1773360"/>
            <a:ext cx="1584360" cy="1523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http://www.medshoppnz.ru/image/cache/data/laboratornay%20posuda/spirtovka3_big-500x500.jpg"/>
          <p:cNvPicPr/>
          <p:nvPr/>
        </p:nvPicPr>
        <p:blipFill>
          <a:blip r:embed="rId4"/>
          <a:stretch/>
        </p:blipFill>
        <p:spPr>
          <a:xfrm>
            <a:off x="1835280" y="1773360"/>
            <a:ext cx="1368360" cy="1679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http://www.ukrdidac.com.ua/objects/foto424.jpg"/>
          <p:cNvPicPr/>
          <p:nvPr/>
        </p:nvPicPr>
        <p:blipFill>
          <a:blip r:embed="rId5"/>
          <a:stretch/>
        </p:blipFill>
        <p:spPr>
          <a:xfrm>
            <a:off x="3348000" y="1773360"/>
            <a:ext cx="3311640" cy="863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http://h4.img.mediacache.rugion.ru/_i/forum/files/89/18/74/891874_284374_1285839301.jpg"/>
          <p:cNvPicPr/>
          <p:nvPr/>
        </p:nvPicPr>
        <p:blipFill>
          <a:blip r:embed="rId6"/>
          <a:stretch/>
        </p:blipFill>
        <p:spPr>
          <a:xfrm>
            <a:off x="6804000" y="1773360"/>
            <a:ext cx="189864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15" name="TextBox 9"/>
          <p:cNvGrpSpPr/>
          <p:nvPr/>
        </p:nvGrpSpPr>
        <p:grpSpPr>
          <a:xfrm>
            <a:off x="96840" y="3633840"/>
            <a:ext cx="8778960" cy="2005200"/>
            <a:chOff x="96840" y="3633840"/>
            <a:chExt cx="8778960" cy="2005200"/>
          </a:xfrm>
        </p:grpSpPr>
        <p:pic>
          <p:nvPicPr>
            <p:cNvPr id="416" name="TextBox 9" descr=""/>
            <p:cNvPicPr/>
            <p:nvPr/>
          </p:nvPicPr>
          <p:blipFill>
            <a:blip r:embed="rId7"/>
            <a:stretch/>
          </p:blipFill>
          <p:spPr>
            <a:xfrm>
              <a:off x="96840" y="3633840"/>
              <a:ext cx="87789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50920" y="3716280"/>
              <a:ext cx="8424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Взять пробирку, положить туда 1 см сигареты, заткнуть пробирку ватой, нагреть на спиртовке, посмотреть, как коричневая смола оседает на стенках пробирки, как выделяется угарный газ. Понюхать, как пахнет вата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Рисунок 1" descr=""/>
          <p:cNvPicPr/>
          <p:nvPr/>
        </p:nvPicPr>
        <p:blipFill>
          <a:blip r:embed="rId1"/>
          <a:stretch/>
        </p:blipFill>
        <p:spPr>
          <a:xfrm>
            <a:off x="179280" y="-47520"/>
            <a:ext cx="4176720" cy="685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9" name="Picture 5" descr="ольга 010"/>
          <p:cNvPicPr/>
          <p:nvPr/>
        </p:nvPicPr>
        <p:blipFill>
          <a:blip r:embed="rId2"/>
          <a:stretch/>
        </p:blipFill>
        <p:spPr>
          <a:xfrm>
            <a:off x="468360" y="189000"/>
            <a:ext cx="8437680" cy="51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0" name="Picture 6" descr="ольга 006"/>
          <p:cNvPicPr/>
          <p:nvPr/>
        </p:nvPicPr>
        <p:blipFill>
          <a:blip r:embed="rId3"/>
          <a:stretch/>
        </p:blipFill>
        <p:spPr>
          <a:xfrm>
            <a:off x="3851280" y="2349360"/>
            <a:ext cx="51339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ольга 014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2100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ольга 015"/>
          <p:cNvPicPr/>
          <p:nvPr/>
        </p:nvPicPr>
        <p:blipFill>
          <a:blip r:embed="rId2"/>
          <a:stretch/>
        </p:blipFill>
        <p:spPr>
          <a:xfrm>
            <a:off x="3708360" y="189000"/>
            <a:ext cx="3683160" cy="20793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6"/>
          <p:cNvSpPr/>
          <p:nvPr/>
        </p:nvSpPr>
        <p:spPr>
          <a:xfrm>
            <a:off x="4356000" y="1773360"/>
            <a:ext cx="1800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in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0" y="2421000"/>
          <a:ext cx="9144000" cy="4213080"/>
        </p:xfrm>
        <a:graphic>
          <a:graphicData uri="http://schemas.openxmlformats.org/drawingml/2006/table">
            <a:tbl>
              <a:tblPr/>
              <a:tblGrid>
                <a:gridCol w="3855960"/>
                <a:gridCol w="1174680"/>
                <a:gridCol w="1175040"/>
                <a:gridCol w="2938320"/>
              </a:tblGrid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рка сигар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м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ж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гарный г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55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ва золотая оригина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tm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lam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nsto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ег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n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8:56:22Z</dcterms:created>
  <dc:creator>Ольга</dc:creator>
  <dc:description/>
  <dc:language>en-US</dc:language>
  <cp:lastModifiedBy>Ольга</cp:lastModifiedBy>
  <dcterms:modified xsi:type="dcterms:W3CDTF">2013-03-30T14:50:36Z</dcterms:modified>
  <cp:revision>63</cp:revision>
  <dc:subject/>
  <dc:title>Слайд 1</dc:title>
</cp:coreProperties>
</file>