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05E-6A74-45CA-8E0E-F2BE18B4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33C-2892-4BA7-9873-E5EF2E35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A8E-D9FF-492A-832A-A6A227D0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473-D420-47F6-A027-220765BD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D13-0E3A-437A-BA0E-904F94F4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409-78B7-4A8F-8C29-378420D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87E-F068-469E-A634-B4B39D8E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9E1-2B48-4EDC-84BD-B621B581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EB-2DC3-4E63-AFBF-2BD56BEE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C5F-1742-4643-9622-81FC728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F07-2596-4910-994D-2A2E55E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3E0-928C-41D9-814A-988727C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524-7478-4391-BB1F-929AABC0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11160"/>
            <a:ext cx="96775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20:49Z</dcterms:created>
  <dc:creator>Татьяна Ивановна</dc:creator>
  <dc:description/>
  <dc:language>en-US</dc:language>
  <cp:lastModifiedBy>Татьяна Ивановна</cp:lastModifiedBy>
  <dcterms:modified xsi:type="dcterms:W3CDTF">2012-09-18T14:31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