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C8187-29AF-481B-A630-D446F8CFB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13854-357E-4A0F-8E9D-9729018FB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599B5-1C80-4850-BF56-BCD968514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9C967-330D-4234-B436-AB9C1F4F4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539EB-B1C6-4557-9096-A699E0740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EEB33-BE23-43EE-9A83-198AE1ECD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77B3B-3D1D-4061-94C2-0BFF66CEC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668E8-6E5F-4EE5-AA45-17ACE945B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D8032-3B13-4AA9-8D7D-B371479B1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A3F05-D0AE-4D1A-A793-36E74BCE0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4ADF7-B10D-41BF-87DC-577B3C864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04609-0837-4085-8671-4299F4067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D1B6F-97FE-4C3F-A818-9C8C89E7DA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304920" y="11160"/>
            <a:ext cx="9677520" cy="684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677520" cy="684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6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68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72600" cy="692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8T14:20:49Z</dcterms:created>
  <dc:creator>Татьяна Ивановна</dc:creator>
  <dc:description/>
  <dc:language>en-US</dc:language>
  <cp:lastModifiedBy>Татьяна Ивановна</cp:lastModifiedBy>
  <dcterms:modified xsi:type="dcterms:W3CDTF">2012-09-18T14:31:16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