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9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8.png" ContentType="image/png"/>
  <Override PartName="/ppt/media/image10.wmf" ContentType="image/x-wmf"/>
  <Override PartName="/ppt/media/image2.png" ContentType="image/pn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150F-2960-4A2E-8CF6-D151B1B13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5657-4B21-412D-9351-95E54D31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5460-9BB9-412E-AABF-A2A4B5C1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74F6-4C25-4D69-9B10-43761F95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921B-F13F-4B62-97E3-4239917B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D13A-6589-47B8-89D0-0DC3592A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F5F2-6DDF-4153-B461-7152D350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5C9E-33B0-4C4B-929C-88E012AF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8D63-2C85-4E65-81C2-8F1B000D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7698-B561-4234-9A70-4BB007FC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D3FF-A4D6-4D30-88D8-5EF19907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4A18-3AD2-43A1-BE62-2AC6C8B7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8D04-F233-4284-A08D-C1268A63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1B8F-A389-48AE-84A2-A342439F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B6EB-0011-49DE-9944-B982DCD6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934C-70F1-4A18-8C72-E1E6374F8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3DCD-0CB7-46AE-986F-9477B705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04B7-91BD-4FCD-A9CF-2DA39691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E259-5F26-4317-9165-F8AE1D38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B54D-B235-4743-9936-931D0CDD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05A6-3682-401D-9DB7-449B6FA6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80A4-5D85-4414-9D2A-FC35B750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59BF-DBA1-4B7E-9459-B9C3887F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F0CB-A464-495A-81C4-AC5BC14C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533B-5689-408F-8518-12ACDD9EDE0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7163-C2D7-4350-B84F-CF66F667CF3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atomi.ru/imgs/Energia_atoma_Gladkov_1968-89.png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elftrans.narod.ru/v6_1/e/e05/fig4.gif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bse.sci-lib.com/pictures/12/03/233802869.jpg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bigpi.biysk.ru/encicl/articles/03/1000335/0759_002.gif" TargetMode="Externa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sciteclibrary.ru/ris-stat/st1361/image11656.gif" TargetMode="Externa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tarina.info/foto/b/9461A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nauka.relis.ru/13/0111/berlin13.jpg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www.svali.ru/show_picture.php?cntr=29&amp;type=2&amp;id=16&amp;cd=1" TargetMode="Externa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upload.wikimedia.org/wikipedia/commons/d/d3/Albert_Einstein_Head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hnet.ru/files/03(302)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hyperlink" Target="http://ru.wikipedia.org/wiki/&#1069;&#1083;&#1077;&#1082;&#1090;&#1088;&#1080;&#1095;&#1077;&#1089;&#1082;&#1086;&#1077;_&#1087;&#1086;&#1083;&#1077;" TargetMode="External"/><Relationship Id="rId5" Type="http://schemas.openxmlformats.org/officeDocument/2006/relationships/hyperlink" Target="http://ru.wikipedia.org/wiki/&#1052;&#1072;&#1075;&#1085;&#1080;&#1090;&#1085;&#1086;&#1077;_&#1087;&#1086;&#1083;&#1077;" TargetMode="External"/><Relationship Id="rId6" Type="http://schemas.openxmlformats.org/officeDocument/2006/relationships/hyperlink" Target="http://ru.wikipedia.org/wiki/&#1055;&#1086;&#1083;&#1077;_(&#1092;&#1080;&#1079;&#1080;&#1082;&#1072;)" TargetMode="External"/><Relationship Id="rId7" Type="http://schemas.openxmlformats.org/officeDocument/2006/relationships/hyperlink" Target="http://www.photoforum.ru/f/photo/000/299/299463_87.jpg" TargetMode="External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ru.wikipedia.org/wiki/&#1055;&#1072;&#1088;&#1072;&#1076;&#1086;&#1082;&#1089;" TargetMode="External"/><Relationship Id="rId3" Type="http://schemas.openxmlformats.org/officeDocument/2006/relationships/hyperlink" Target="http://teor1.narod.ru/images/Grafik-5.jp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9;&#1083;&#1077;&#1082;&#1090;&#1088;&#1086;&#1085;" TargetMode="External"/><Relationship Id="rId2" Type="http://schemas.openxmlformats.org/officeDocument/2006/relationships/hyperlink" Target="http://ru.wikipedia.org/wiki/&#1069;&#1083;&#1077;&#1082;&#1090;&#1088;&#1086;&#1084;&#1072;&#1075;&#1085;&#1080;&#1090;&#1085;&#1086;&#1077;_&#1080;&#1079;&#1083;&#1091;&#1095;&#1077;&#1085;&#1080;&#1077;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3366"/>
                </a:solidFill>
                <a:uFillTx/>
                <a:latin typeface="Arial"/>
              </a:rPr>
              <a:t>КВАНТОВАЯ </a:t>
            </a:r>
            <a:br>
              <a:rPr sz="6000"/>
            </a:br>
            <a:r>
              <a:rPr b="1" lang="en-US" sz="6000" spc="-1" strike="noStrike" u="sng">
                <a:solidFill>
                  <a:srgbClr val="003366"/>
                </a:solidFill>
                <a:uFillTx/>
                <a:latin typeface="Arial"/>
              </a:rPr>
              <a:t>ФИЗИКА</a:t>
            </a: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64000" y="3213000"/>
            <a:ext cx="270540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ОСНОВОПОЛАГАЮЩИЕ ИДЕИ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АТОМЫ ИЗЛУЧАЮТ НЕ НЕПРЕРЫВНО, А ОТДЕЛЬНЫМИ ПОРЦИЯМИ – КВАНТАМ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Планк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ЭЛЕКТРОМАГНИТНОЕ ИЗЛУЧЕНИЕ НЕ ТОЛЬКО ИЗЛУЧАЕТСЯ КВАНТАМИ, НО И РАСПРОСТРАНЯЕТСЯ И ПОГЛОЩАЕТСЯ В ВИДЕ КВАНТОВ (Эйнштейн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972360" y="97992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ФАКТЫ, ПОДТВЕРДИВШИЕ СУЩЕСТВОВАНИЕ ФОТОНА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195640" y="5661000"/>
          <a:ext cx="5689080" cy="844560"/>
        </p:xfrm>
        <a:graphic>
          <a:graphicData uri="http://schemas.openxmlformats.org/drawingml/2006/table">
            <a:tbl>
              <a:tblPr/>
              <a:tblGrid>
                <a:gridCol w="568908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2340000" y="2349360"/>
          <a:ext cx="5327280" cy="3167280"/>
        </p:xfrm>
        <a:graphic>
          <a:graphicData uri="http://schemas.openxmlformats.org/drawingml/2006/table">
            <a:tbl>
              <a:tblPr/>
              <a:tblGrid>
                <a:gridCol w="5327280"/>
              </a:tblGrid>
              <a:tr h="316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692000" y="5734080"/>
            <a:ext cx="633564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ДАВЛЕНИЕ СВЕТА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" descr="Картинка 3 из 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71640" y="3068640"/>
            <a:ext cx="39243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ФАКТЫ, ПОДТВЕРДИВШИЕ СУЩЕСТВОВАНИЕ ФОТОНА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971640" y="2421000"/>
          <a:ext cx="3636360" cy="3665520"/>
        </p:xfrm>
        <a:graphic>
          <a:graphicData uri="http://schemas.openxmlformats.org/drawingml/2006/table">
            <a:tbl>
              <a:tblPr/>
              <a:tblGrid>
                <a:gridCol w="3636360"/>
              </a:tblGrid>
              <a:tr h="366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ЭФФЕКТ КОМПТОНА -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явление изменени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длины волны электромагнитного излучения вследствие рассеивания его электронам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" descr="Картинка 2 из 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2708280"/>
            <a:ext cx="4044960" cy="319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4761000" y="2421000"/>
          <a:ext cx="3770280" cy="3665520"/>
        </p:xfrm>
        <a:graphic>
          <a:graphicData uri="http://schemas.openxmlformats.org/drawingml/2006/table">
            <a:tbl>
              <a:tblPr/>
              <a:tblGrid>
                <a:gridCol w="3770280"/>
              </a:tblGrid>
              <a:tr h="366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ФАКТЫ, ПОДТВЕРДИВШИЕ СУЩЕСТВОВАНИЕ ФОТОНА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838080" y="2781360"/>
          <a:ext cx="3770280" cy="2160360"/>
        </p:xfrm>
        <a:graphic>
          <a:graphicData uri="http://schemas.openxmlformats.org/drawingml/2006/table">
            <a:tbl>
              <a:tblPr/>
              <a:tblGrid>
                <a:gridCol w="3770280"/>
              </a:tblGrid>
              <a:tr h="21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ЛЮМИНИСЦЕНЦИЯ 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вечение вещества, происходящее после поглощения им энергии возбуждения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6" name="" descr="Картинка 1 из 1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51640" y="2708280"/>
            <a:ext cx="3200400" cy="225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5508720" y="2492280"/>
          <a:ext cx="3384360" cy="3089520"/>
        </p:xfrm>
        <a:graphic>
          <a:graphicData uri="http://schemas.openxmlformats.org/drawingml/2006/table">
            <a:tbl>
              <a:tblPr/>
              <a:tblGrid>
                <a:gridCol w="3384360"/>
              </a:tblGrid>
              <a:tr h="308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ФАКТЫ, ПОДТВЕРДИВШИЕ СУЩЕСТВОВАНИЕ ФОТОНА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476360" y="5373720"/>
          <a:ext cx="7054920" cy="712800"/>
        </p:xfrm>
        <a:graphic>
          <a:graphicData uri="http://schemas.openxmlformats.org/drawingml/2006/table">
            <a:tbl>
              <a:tblPr/>
              <a:tblGrid>
                <a:gridCol w="705492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ХИМИЧЕСКОЕ ДЕЙСТВИЕ СВЕТА 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0" name="" descr="Картинка 1 из 5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03640" y="2492280"/>
            <a:ext cx="3456000" cy="281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3203640" y="2492280"/>
          <a:ext cx="3456000" cy="2737080"/>
        </p:xfrm>
        <a:graphic>
          <a:graphicData uri="http://schemas.openxmlformats.org/drawingml/2006/table">
            <a:tbl>
              <a:tblPr/>
              <a:tblGrid>
                <a:gridCol w="3456000"/>
              </a:tblGrid>
              <a:tr h="273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СВОЙСТВА ФОТОНА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ЯВЛЯЕТСЯ НОСИТЕЛЕМ ЭЛЕКТРОМАГНИТНОГО ИЗЛУЧ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НЕ ИМЕЕТ МАССЫ ПОКО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ДВИЖЕТСЯ СО СКОРОСТЬЮ СВЕ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СВОЙСТВА ФОТОНА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" descr="Картинка 15 из 20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6000" y="2421000"/>
            <a:ext cx="498132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"/>
          <p:cNvGraphicFramePr/>
          <p:nvPr/>
        </p:nvGraphicFramePr>
        <p:xfrm>
          <a:off x="1258920" y="5877000"/>
          <a:ext cx="7692480" cy="641160"/>
        </p:xfrm>
        <a:graphic>
          <a:graphicData uri="http://schemas.openxmlformats.org/drawingml/2006/table">
            <a:tbl>
              <a:tblPr/>
              <a:tblGrid>
                <a:gridCol w="7692480"/>
              </a:tblGrid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СТРАНСТВЕННАЯ СТРУКТУРА ФОТОНА 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2268360" y="2421000"/>
          <a:ext cx="5543640" cy="3313080"/>
        </p:xfrm>
        <a:graphic>
          <a:graphicData uri="http://schemas.openxmlformats.org/drawingml/2006/table">
            <a:tbl>
              <a:tblPr/>
              <a:tblGrid>
                <a:gridCol w="5543640"/>
              </a:tblGrid>
              <a:tr h="33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ХАРАКТЕРИСТИКИ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302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3366"/>
                </a:solidFill>
                <a:uFillTx/>
                <a:latin typeface="Arial"/>
              </a:rPr>
              <a:t>ЭНЕРГИ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716360" y="2362320"/>
          <a:ext cx="4032360" cy="430992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89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 = h </a:t>
                      </a:r>
                      <a:r>
                        <a:rPr b="1" lang="en-US" sz="4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· </a:t>
                      </a:r>
                      <a:r>
                        <a:rPr b="1" lang="en-US" sz="4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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3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т.к</a:t>
                      </a:r>
                      <a:r>
                        <a:rPr b="1" lang="ru-RU" sz="4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. </a:t>
                      </a:r>
                      <a:r>
                        <a:rPr b="1" lang="ru-RU" sz="4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US" sz="4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 = c/ </a:t>
                      </a:r>
                      <a:r>
                        <a:rPr b="1" lang="en-US" sz="4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 = h </a:t>
                      </a:r>
                      <a:r>
                        <a:rPr b="1" lang="en-US" sz="4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· c/ </a:t>
                      </a:r>
                      <a:r>
                        <a:rPr b="1" lang="en-US" sz="4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3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                          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4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 = m </a:t>
                      </a:r>
                      <a:r>
                        <a:rPr b="1" lang="en-US" sz="5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1" lang="ru-RU" sz="5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5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ХАРАКТЕРИСТИКИ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ПОСТОЯННАЯ ПЛАНКА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34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3366"/>
                </a:solidFill>
                <a:uFillTx/>
                <a:latin typeface="Arial"/>
              </a:rPr>
              <a:t>h = 6</a:t>
            </a:r>
            <a:r>
              <a:rPr b="1" lang="ru-RU" sz="4800" spc="-1" strike="noStrike" u="sng">
                <a:solidFill>
                  <a:srgbClr val="003366"/>
                </a:solidFill>
                <a:uFillTx/>
                <a:latin typeface="Arial"/>
              </a:rPr>
              <a:t>,</a:t>
            </a:r>
            <a:r>
              <a:rPr b="1" lang="en-US" sz="4800" spc="-1" strike="noStrike" u="sng">
                <a:solidFill>
                  <a:srgbClr val="003366"/>
                </a:solidFill>
                <a:uFillTx/>
                <a:latin typeface="Arial"/>
              </a:rPr>
              <a:t>63</a:t>
            </a:r>
            <a:r>
              <a:rPr b="1" lang="ru-RU" sz="4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lang="en-US" sz="4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·</a:t>
            </a:r>
            <a:r>
              <a:rPr b="1" lang="en-US" sz="4800" spc="-1" strike="noStrike" u="sng">
                <a:solidFill>
                  <a:srgbClr val="003366"/>
                </a:solidFill>
                <a:uFillTx/>
                <a:latin typeface="Arial"/>
              </a:rPr>
              <a:t> 10 </a:t>
            </a:r>
            <a:r>
              <a:rPr b="1" lang="ru-RU" sz="4800" spc="-1" strike="noStrike" u="sng">
                <a:solidFill>
                  <a:srgbClr val="003366"/>
                </a:solidFill>
                <a:uFillTx/>
                <a:latin typeface="Arial"/>
              </a:rPr>
              <a:t>  Дж</a:t>
            </a:r>
            <a:r>
              <a:rPr b="1" lang="en-US" sz="4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·</a:t>
            </a:r>
            <a:r>
              <a:rPr b="1" lang="ru-RU" sz="4800" spc="-1" strike="noStrike" u="sng">
                <a:solidFill>
                  <a:srgbClr val="003366"/>
                </a:solidFill>
                <a:uFillTx/>
                <a:latin typeface="Arial"/>
              </a:rPr>
              <a:t>с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ХАРАКТЕРИСТИКИ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</a:rPr>
              <a:t>МАССА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00720" y="2421000"/>
          <a:ext cx="3671640" cy="2663640"/>
        </p:xfrm>
        <a:graphic>
          <a:graphicData uri="http://schemas.openxmlformats.org/drawingml/2006/table">
            <a:tbl>
              <a:tblPr/>
              <a:tblGrid>
                <a:gridCol w="3671640"/>
              </a:tblGrid>
              <a:tr h="18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                                  </a:t>
                      </a: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4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 = E / </a:t>
                      </a:r>
                      <a:r>
                        <a:rPr b="1" lang="en-US" sz="5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1" lang="ru-RU" sz="5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5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2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                             </a:t>
                      </a: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4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 = h </a:t>
                      </a:r>
                      <a:r>
                        <a:rPr b="1" lang="en-US" sz="4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· </a:t>
                      </a:r>
                      <a:r>
                        <a:rPr b="1" lang="en-US" sz="4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US" sz="4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en-US" sz="5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1" lang="en-US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ПЕРИОД ФОРМИРОВАНИЯ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НАЧАЛО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XX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ВЕКА  - 40-е ГОДЫ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XX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ВЕК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Картинка 3 из 152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3500280"/>
            <a:ext cx="3635280" cy="2298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Картинка 11 из 16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32360" y="3500280"/>
            <a:ext cx="3533760" cy="2232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Ботанический сад, Копенгаген, Дания.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059280" y="4172040"/>
            <a:ext cx="335592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ХАРАКТЕРИСТИКИ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</a:rPr>
              <a:t>ИМПУЛЬС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761000" y="2362320"/>
          <a:ext cx="2332080" cy="3992400"/>
        </p:xfrm>
        <a:graphic>
          <a:graphicData uri="http://schemas.openxmlformats.org/drawingml/2006/table">
            <a:tbl>
              <a:tblPr/>
              <a:tblGrid>
                <a:gridCol w="233208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 </a:t>
                      </a: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=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 </a:t>
                      </a: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1" lang="ru-RU" sz="4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 = E/c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 =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 </a:t>
                      </a: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/C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 =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 </a:t>
                      </a: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/ </a:t>
                      </a: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КВАНТОВО-ВОЛНОВОЙ ДУАЛИЗМ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38080" y="2362320"/>
            <a:ext cx="7692480" cy="3723120"/>
            <a:chOff x="838080" y="2362320"/>
            <a:chExt cx="7692480" cy="3723120"/>
          </a:xfrm>
        </p:grpSpPr>
        <p:cxnSp>
          <p:nvCxnSpPr>
            <p:cNvPr id="172" name="_s52235"/>
            <p:cNvCxnSpPr>
              <a:stCxn id="173" idx="0"/>
              <a:endCxn id="174" idx="2"/>
            </p:cNvCxnSpPr>
            <p:nvPr/>
          </p:nvCxnSpPr>
          <p:spPr>
            <a:xfrm flipV="1" rot="16200000">
              <a:off x="5347080" y="3187800"/>
              <a:ext cx="745200" cy="2071800"/>
            </a:xfrm>
            <a:prstGeom prst="bentConnector3">
              <a:avLst>
                <a:gd name="adj1" fmla="val 15273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75" name="_s52234"/>
            <p:cNvCxnSpPr>
              <a:stCxn id="176" idx="0"/>
              <a:endCxn id="174" idx="2"/>
            </p:cNvCxnSpPr>
            <p:nvPr/>
          </p:nvCxnSpPr>
          <p:spPr>
            <a:xfrm flipH="1" flipV="1" rot="5400000">
              <a:off x="3275640" y="3188160"/>
              <a:ext cx="745200" cy="2071080"/>
            </a:xfrm>
            <a:prstGeom prst="bentConnector3">
              <a:avLst>
                <a:gd name="adj1" fmla="val 15273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174" name="_s52230"/>
            <p:cNvSpPr/>
            <p:nvPr/>
          </p:nvSpPr>
          <p:spPr>
            <a:xfrm>
              <a:off x="2908440" y="2362320"/>
              <a:ext cx="3550320" cy="14893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003366"/>
                  </a:solidFill>
                  <a:latin typeface="Arial"/>
                </a:rPr>
                <a:t>СВЕТ </a:t>
              </a:r>
              <a:endParaRPr b="0" lang="en-US" sz="39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_s52231"/>
            <p:cNvSpPr/>
            <p:nvPr/>
          </p:nvSpPr>
          <p:spPr>
            <a:xfrm>
              <a:off x="838080" y="4596120"/>
              <a:ext cx="3550320" cy="14893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3366"/>
                  </a:solidFill>
                  <a:latin typeface="Arial"/>
                </a:rPr>
                <a:t>ПРИ РАСПРОСТРАНЕНИИ – </a:t>
              </a:r>
              <a:endParaRPr b="0" lang="en-US" sz="19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3366"/>
                  </a:solidFill>
                  <a:latin typeface="Arial"/>
                </a:rPr>
                <a:t>ВОЛНА</a:t>
              </a:r>
              <a:endParaRPr b="0" lang="en-US" sz="19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_s52232"/>
            <p:cNvSpPr/>
            <p:nvPr/>
          </p:nvSpPr>
          <p:spPr>
            <a:xfrm>
              <a:off x="4980240" y="4596120"/>
              <a:ext cx="3550320" cy="14893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ПРИ ИЗЛУЧЕНИИ И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ПОГЛОЩЕНИИ –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ПОТОК КВАНТОВ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ФИЛОСОФСКОЕ ЗНАЧЕНИЕ ТЕОРИИ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ЗАКОН ЕДИНСТВА И БОРЬБЫ ПРОТИВОПОЛОЖНОСТЕЙ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ЕДИНСТВО ПРЕРЫВНОСТИ И НЕПРЕРЫВНОСТИ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ПРАКТИЧЕСКОЕ ЗНАЧЕНИЕ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СОЛНЕЧНЫЕ БАТАРЕИ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ФОТОЭЛЕМЕНТЫ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ФОТОГРАФИ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ЛАЗЕР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ЛАМПЫ ДНЕВНЕГО СВЕТ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ЛЮМИНОФОРЫ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 оправе кружевной Вселенной жемчуга,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знанья в ней затейливы узлами.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Творцы идей, как млечная дуга,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Алмазной россыпью довлеют над умами .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х Млечный путь к рассветному лучу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ерцает в грёзах лунного сиянья,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Я в думах их, их крыльями лечу,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 мечтой Икара, в тайны Мироздань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877080" y="333360"/>
            <a:ext cx="169848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СТОЧНИ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http://teor1.narod.ru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ИКИПЕД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student.km.ru/ref_show_frame.asp?id=8ECDD94C9664477781C4D385B6559413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ОСНОВОПОЛОЖНИКИ КВАНТОВОЙ ТЕОРИИ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37720" y="2361960"/>
            <a:ext cx="3775320" cy="3724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Томсон Джозеф Джон"/>
          <p:cNvPicPr/>
          <p:nvPr/>
        </p:nvPicPr>
        <p:blipFill>
          <a:blip r:embed="rId2"/>
          <a:stretch/>
        </p:blipFill>
        <p:spPr>
          <a:xfrm>
            <a:off x="1403280" y="2421000"/>
            <a:ext cx="289404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5076720" y="3357720"/>
          <a:ext cx="2984760" cy="1736640"/>
        </p:xfrm>
        <a:graphic>
          <a:graphicData uri="http://schemas.openxmlformats.org/drawingml/2006/table">
            <a:tbl>
              <a:tblPr/>
              <a:tblGrid>
                <a:gridCol w="298476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АКС ПЛАНК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1858 - 1947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ОСНОВОПОЛОЖНИКИ КВАНТОВОЙ ТЕОРИИ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7720" y="2361960"/>
            <a:ext cx="3775320" cy="3724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Картинка 4 из 9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32000" y="2421000"/>
            <a:ext cx="292392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859280" y="3716280"/>
          <a:ext cx="3774960" cy="1542960"/>
        </p:xfrm>
        <a:graphic>
          <a:graphicData uri="http://schemas.openxmlformats.org/drawingml/2006/table">
            <a:tbl>
              <a:tblPr/>
              <a:tblGrid>
                <a:gridCol w="377496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ЛЬБЕРТ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ЭЙНШТЕЙН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1879 – 1955)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ОСНОВОПОЛОЖНИКИ КВАНТОВОЙ ТЕОРИИ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37720" y="2361960"/>
            <a:ext cx="3775320" cy="3724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Картинка 3 из 28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03280" y="2637000"/>
            <a:ext cx="2638440" cy="352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4859280" y="3500280"/>
          <a:ext cx="3774960" cy="1016280"/>
        </p:xfrm>
        <a:graphic>
          <a:graphicData uri="http://schemas.openxmlformats.org/drawingml/2006/table">
            <a:tbl>
              <a:tblPr/>
              <a:tblGrid>
                <a:gridCol w="3774960"/>
              </a:tblGrid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ИЛЬС БОР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1885 – 1962</a:t>
                      </a: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ПРЕДМЕТ КВАНТОВОЙ ФИЗИКИ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867280" y="3457440"/>
          <a:ext cx="2662200" cy="262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3457440"/>
                    <a:ext cx="266220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258920" y="3357720"/>
          <a:ext cx="3770280" cy="2719080"/>
        </p:xfrm>
        <a:graphic>
          <a:graphicData uri="http://schemas.openxmlformats.org/drawingml/2006/table">
            <a:tbl>
              <a:tblPr/>
              <a:tblGrid>
                <a:gridCol w="3770280"/>
              </a:tblGrid>
              <a:tr h="27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ЭЛЕКТРОМАГНИТНОЕ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ЗЛУЧЕНИЕ  — распространяющееся в пространстве возмущение </a:t>
                      </a:r>
                      <a:r>
                        <a:rPr b="0" lang="ru-RU" sz="24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hlinkClick r:id="rId4"/>
                        </a:rPr>
                        <a:t>электрических</a:t>
                      </a: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и </a:t>
                      </a:r>
                      <a:r>
                        <a:rPr b="0" lang="ru-RU" sz="24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hlinkClick r:id="rId5"/>
                        </a:rPr>
                        <a:t>магнитных</a:t>
                      </a: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hlinkClick r:id="rId6"/>
                        </a:rPr>
                        <a:t>полей</a:t>
                      </a: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" descr="Картинка 4 из 24359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96000" y="2492280"/>
            <a:ext cx="26766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ОСНОВНОЕ ПОНЯТИЕ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КОРПУСКУЛА (Ньютон)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КВАНТ (Планк)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ФОТОН (Льюис)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356000" y="4653000"/>
            <a:ext cx="115272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ПРЕДПОСЫЛКИ РАЗВИТИЯ ТЕОРИИ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«УЛЬТРАФИОЛЕТОВАЯ» КАТАСТРОФА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–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парадокс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 классической физики, состоящий в том, что полная мощность теплового излучения любого нагретого тела должна быть бесконечно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" descr="Картинка 21 из 5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80000" y="3068640"/>
            <a:ext cx="2952720" cy="235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"/>
          <p:cNvGraphicFramePr/>
          <p:nvPr/>
        </p:nvGraphicFramePr>
        <p:xfrm>
          <a:off x="971640" y="2421000"/>
          <a:ext cx="3887280" cy="3456000"/>
        </p:xfrm>
        <a:graphic>
          <a:graphicData uri="http://schemas.openxmlformats.org/drawingml/2006/table">
            <a:tbl>
              <a:tblPr/>
              <a:tblGrid>
                <a:gridCol w="3887280"/>
              </a:tblGrid>
              <a:tr h="34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ПРЕДПОСЫЛКИ РАЗВИТИЯ ТЕОРИИ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ФОТОЭФФЕКТ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это испускание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электронов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 веществом под действием любого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электромагнитного излуч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724360" y="2708280"/>
            <a:ext cx="2490840" cy="302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1042920" y="2349360"/>
          <a:ext cx="3770280" cy="3665520"/>
        </p:xfrm>
        <a:graphic>
          <a:graphicData uri="http://schemas.openxmlformats.org/drawingml/2006/table">
            <a:tbl>
              <a:tblPr/>
              <a:tblGrid>
                <a:gridCol w="3770280"/>
              </a:tblGrid>
              <a:tr h="366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5435640" y="2708280"/>
          <a:ext cx="2855880" cy="3241800"/>
        </p:xfrm>
        <a:graphic>
          <a:graphicData uri="http://schemas.openxmlformats.org/drawingml/2006/table">
            <a:tbl>
              <a:tblPr/>
              <a:tblGrid>
                <a:gridCol w="2855880"/>
              </a:tblGrid>
              <a:tr h="32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4:03:37Z</dcterms:created>
  <dc:creator>Home</dc:creator>
  <dc:description/>
  <dc:language>en-US</dc:language>
  <cp:lastModifiedBy>К1</cp:lastModifiedBy>
  <dcterms:modified xsi:type="dcterms:W3CDTF">2010-04-01T02:00:48Z</dcterms:modified>
  <cp:revision>20</cp:revision>
  <dc:subject/>
  <dc:title>Слайд 1</dc:title>
</cp:coreProperties>
</file>