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F72-D12C-4EA1-A5E3-94300121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FE6-FB31-46A6-945C-8E62F1D8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7BB-BFD3-45BE-9833-0235B859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36E-AB90-43A4-A908-64071ED0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AF0F-C9D8-4971-95E2-F8ADA14C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D66-BAA4-4CD3-B39A-BBFF44D0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1666-EA9E-4B31-82A3-677125E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E71B-33C4-4092-86EB-36CFA3A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4AAB-D40C-4ACE-BAED-4625D71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B7CA-F3E3-449E-9241-3D1837BD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13CF-DA1B-46DE-8B24-F87D7EB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59F-899C-4ECD-AEAD-144A5224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4AC-AB55-4062-9FFA-2755BE2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E624-E254-413E-B502-9938E82D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1247-F1CF-4628-8DD6-F2D2EC6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5356-BFE5-47E8-9AB4-31CA4A7A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5AF3-F792-4C86-8F21-69852E83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776-4584-4F74-8510-4F1BBDD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534-C3CB-4940-ADE6-7BA4568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444-C6E3-4A0D-B82F-53B5B804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F1C9-62C6-4657-8911-A34F1C25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548-9DEA-4EF9-80AD-9F34B1C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44E-BEF2-4833-AA29-CC744906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ACF-55D9-4D20-8713-6D10535C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9C2C-541E-40E0-A5CB-EBDE01B7A7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165-D16D-42B6-A9A2-C85ED4565A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tomi.ru/imgs/Energia_atoma_Gladkov_1968-89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elftrans.narod.ru/v6_1/e/e05/fig4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se.sci-lib.com/pictures/12/03/233802869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igpi.biysk.ru/encicl/articles/03/1000335/0759_002.gif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iteclibrary.ru/ris-stat/st1361/image11656.gif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arina.info/foto/b/9461A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nauka.relis.ru/13/0111/berlin13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svali.ru/show_picture.php?cntr=29&amp;type=2&amp;id=16&amp;cd=1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commons/d/d3/Albert_Einstein_Head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hnet.ru/files/03(302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hyperlink" Target="http://ru.wikipedia.org/wiki/&#1069;&#1083;&#1077;&#1082;&#1090;&#1088;&#1080;&#1095;&#1077;&#1089;&#1082;&#1086;&#1077;_&#1087;&#1086;&#1083;&#1077;" TargetMode="External"/><Relationship Id="rId5" Type="http://schemas.openxmlformats.org/officeDocument/2006/relationships/hyperlink" Target="http://ru.wikipedia.org/wiki/&#1052;&#1072;&#1075;&#1085;&#1080;&#1090;&#1085;&#1086;&#1077;_&#1087;&#1086;&#1083;&#1077;" TargetMode="External"/><Relationship Id="rId6" Type="http://schemas.openxmlformats.org/officeDocument/2006/relationships/hyperlink" Target="http://ru.wikipedia.org/wiki/&#1055;&#1086;&#1083;&#1077;_(&#1092;&#1080;&#1079;&#1080;&#1082;&#1072;)" TargetMode="External"/><Relationship Id="rId7" Type="http://schemas.openxmlformats.org/officeDocument/2006/relationships/hyperlink" Target="http://www.photoforum.ru/f/photo/000/299/299463_87.jpg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5;&#1072;&#1088;&#1072;&#1076;&#1086;&#1082;&#1089;" TargetMode="External"/><Relationship Id="rId3" Type="http://schemas.openxmlformats.org/officeDocument/2006/relationships/hyperlink" Target="http://teor1.narod.ru/images/Grafik-5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6;&#1085;" TargetMode="External"/><Relationship Id="rId2" Type="http://schemas.openxmlformats.org/officeDocument/2006/relationships/hyperlink" Target="http://ru.wikipedia.org/wiki/&#1069;&#1083;&#1077;&#1082;&#1090;&#1088;&#1086;&#1084;&#1072;&#1075;&#1085;&#1080;&#1090;&#1085;&#1086;&#1077;_&#1080;&#1079;&#1083;&#1091;&#1095;&#1077;&#1085;&#1080;&#1077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3366"/>
                </a:solidFill>
                <a:uFillTx/>
                <a:latin typeface="Arial"/>
              </a:rPr>
              <a:t>КВАНТОВАЯ </a:t>
            </a:r>
            <a:br>
              <a:rPr sz="6000"/>
            </a:br>
            <a:r>
              <a:rPr b="1" lang="en-US" sz="6000" spc="-1" strike="noStrike" u="sng">
                <a:solidFill>
                  <a:srgbClr val="003366"/>
                </a:solidFill>
                <a:uFillTx/>
                <a:latin typeface="Arial"/>
              </a:rPr>
              <a:t>ФИЗИКА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705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АГАЮЩИЕ ИДЕ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ТОМЫ ИЗЛУЧАЮТ НЕ НЕПРЕРЫВНО, А ОТДЕЛЬНЫМИ ПОРЦИЯМИ – КВАНТ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Планк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ЭЛЕКТРОМАГНИТНОЕ ИЗЛУЧЕНИЕ НЕ ТОЛЬКО ИЗЛУЧАЕТСЯ КВАНТАМИ, НО И РАСПРОСТРАНЯЕТСЯ И ПОГЛОЩАЕТСЯ В ВИДЕ КВАНТОВ (Эйнштей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2360" y="979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95640" y="5661000"/>
          <a:ext cx="5689080" cy="844560"/>
        </p:xfrm>
        <a:graphic>
          <a:graphicData uri="http://schemas.openxmlformats.org/drawingml/2006/table">
            <a:tbl>
              <a:tblPr/>
              <a:tblGrid>
                <a:gridCol w="568908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340000" y="2349360"/>
          <a:ext cx="5327280" cy="3167280"/>
        </p:xfrm>
        <a:graphic>
          <a:graphicData uri="http://schemas.openxmlformats.org/drawingml/2006/table">
            <a:tbl>
              <a:tblPr/>
              <a:tblGrid>
                <a:gridCol w="5327280"/>
              </a:tblGrid>
              <a:tr h="31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92000" y="5734080"/>
            <a:ext cx="63356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ДАВЛЕНИЕ СВ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Картинка 3 из 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068640"/>
            <a:ext cx="39243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71640" y="2421000"/>
          <a:ext cx="3636360" cy="3665520"/>
        </p:xfrm>
        <a:graphic>
          <a:graphicData uri="http://schemas.openxmlformats.org/drawingml/2006/table">
            <a:tbl>
              <a:tblPr/>
              <a:tblGrid>
                <a:gridCol w="363636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ЭФФЕКТ КОМПТОНА -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явление измен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ины волны электромагнитного излучения вследствие рассеивания его электронам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Картинка 2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708280"/>
            <a:ext cx="4044960" cy="31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761000" y="2421000"/>
          <a:ext cx="3770280" cy="366552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38080" y="2781360"/>
          <a:ext cx="3770280" cy="216036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ЮМИНИСЦЕНЦИЯ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ечение вещества, происходящее после поглощения им энергии возбуждения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Картинка 1 из 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2708280"/>
            <a:ext cx="3200400" cy="22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08720" y="2492280"/>
          <a:ext cx="3384360" cy="30895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30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5373720"/>
          <a:ext cx="7054920" cy="712800"/>
        </p:xfrm>
        <a:graphic>
          <a:graphicData uri="http://schemas.openxmlformats.org/drawingml/2006/table">
            <a:tbl>
              <a:tblPr/>
              <a:tblGrid>
                <a:gridCol w="70549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ИМИЧЕСКОЕ ДЕЙСТВИЕ СВЕТА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" descr="Картинка 1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492280"/>
            <a:ext cx="3456000" cy="281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203640" y="2492280"/>
          <a:ext cx="3456000" cy="273708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7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ВОЙСТВА ФОТОН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ЯВЛЯЕТСЯ НОСИТЕЛЕМ ЭЛЕКТРОМАГНИТНОГО ИЗЛ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 ИМЕЕТ МАССЫ ПОКО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ВИЖЕТСЯ СО СКОРОСТЬЮ С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ВОЙСТВА ФОТОН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Картинка 15 из 2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421000"/>
            <a:ext cx="49813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58920" y="5877000"/>
          <a:ext cx="7692480" cy="641160"/>
        </p:xfrm>
        <a:graphic>
          <a:graphicData uri="http://schemas.openxmlformats.org/drawingml/2006/table">
            <a:tbl>
              <a:tblPr/>
              <a:tblGrid>
                <a:gridCol w="76924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СТРАНСТВЕННАЯ СТРУКТУРА ФОТОНА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268360" y="2421000"/>
          <a:ext cx="5543640" cy="331308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02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ЭНЕРГ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716360" y="2362320"/>
          <a:ext cx="4032360" cy="4309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т.к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=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m 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СТОЯННАЯ ПЛАН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h = 6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,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63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 10 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 Дж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МАСС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00720" y="2421000"/>
          <a:ext cx="3671640" cy="266364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                      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 = E / 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ЕРИОД ФОРМИРОВАНИ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ЧАЛО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  - 40-е ГО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Картинка 3 из 1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500280"/>
            <a:ext cx="3635280" cy="229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1 из 1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500280"/>
            <a:ext cx="353376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Ботанический сад, Копенгаген, Дания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4172040"/>
            <a:ext cx="3355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ИМПУЛЬ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761000" y="2362320"/>
          <a:ext cx="2332080" cy="3992400"/>
        </p:xfrm>
        <a:graphic>
          <a:graphicData uri="http://schemas.openxmlformats.org/drawingml/2006/table">
            <a:tbl>
              <a:tblPr/>
              <a:tblGrid>
                <a:gridCol w="2332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= E/c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=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/C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=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/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КВАНТОВО-ВОЛНОВОЙ ДУАЛИЗМ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172" name="_s52235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347080" y="3187800"/>
              <a:ext cx="745200" cy="207180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75" name="_s52234"/>
            <p:cNvCxnSpPr>
              <a:stCxn id="176" idx="0"/>
              <a:endCxn id="174" idx="2"/>
            </p:cNvCxnSpPr>
            <p:nvPr/>
          </p:nvCxnSpPr>
          <p:spPr>
            <a:xfrm flipH="1" flipV="1" rot="5400000">
              <a:off x="3275640" y="3188160"/>
              <a:ext cx="745200" cy="2071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74" name="_s52230"/>
            <p:cNvSpPr/>
            <p:nvPr/>
          </p:nvSpPr>
          <p:spPr>
            <a:xfrm>
              <a:off x="2908440" y="23623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3366"/>
                  </a:solidFill>
                  <a:latin typeface="Arial"/>
                </a:rPr>
                <a:t>СВЕТ </a:t>
              </a:r>
              <a:endParaRPr b="0" lang="en-US" sz="3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_s52231"/>
            <p:cNvSpPr/>
            <p:nvPr/>
          </p:nvSpPr>
          <p:spPr>
            <a:xfrm>
              <a:off x="83808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ПРИ РАСПРОСТРАНЕНИИ – 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ВОЛНА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_s52232"/>
            <p:cNvSpPr/>
            <p:nvPr/>
          </p:nvSpPr>
          <p:spPr>
            <a:xfrm>
              <a:off x="498024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РИ ИЗЛУЧЕНИИ И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ГЛОЩЕНИИ –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ТОК КВАНТОВ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ФИЛОСОФСКОЕ ЗНАЧЕНИЕ ТЕОР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КОН ЕДИНСТВА И БОРЬБЫ ПРОТИВОПОЛОЖНОСТЕ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ЕДИНСТВО ПРЕРЫВНОСТИ И НЕПРЕРЫВ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АКТИЧЕСКОЕ ЗНАЧЕНИ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ЛНЕЧНЫЕ БАТАРЕ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ФОТОЭЛЕМЕНТ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ФОТОГРАФ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АЗЕ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АМПЫ ДНЕВНЕГО СВЕ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ЮМИНОФОР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оправе кружевной Вселенной жемч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нья в ней затейливы узлами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орцы идей, как млечная д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лмазной россыпью довлеют над умами 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х Млечный путь к рассветному лучу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рцает в грёзах лунного сиянья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 в думах их, их крыльями лечу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мечтой Икара, в тайны Мироздань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6984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Ч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teor1.narod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ИКИПЕД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tudent.km.ru/ref_show_frame.asp?id=8ECDD94C9664477781C4D385B655941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ОЖНИКИ КВАНТОВОЙ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омсон Джозеф Джон"/>
          <p:cNvPicPr/>
          <p:nvPr/>
        </p:nvPicPr>
        <p:blipFill>
          <a:blip r:embed="rId2"/>
          <a:stretch/>
        </p:blipFill>
        <p:spPr>
          <a:xfrm>
            <a:off x="1403280" y="2421000"/>
            <a:ext cx="28940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076720" y="3357720"/>
          <a:ext cx="2984760" cy="1736640"/>
        </p:xfrm>
        <a:graphic>
          <a:graphicData uri="http://schemas.openxmlformats.org/drawingml/2006/table">
            <a:tbl>
              <a:tblPr/>
              <a:tblGrid>
                <a:gridCol w="298476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 ПЛАН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58 - 1947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ОЖНИКИ КВАНТОВОЙ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4 из 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421000"/>
            <a:ext cx="29239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859280" y="3716280"/>
          <a:ext cx="3774960" cy="154296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ЬБЕР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ЙНШТЕЙН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79 – 1955)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ОЖНИКИ КВАНТОВОЙ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3 из 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637000"/>
            <a:ext cx="263844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59280" y="3500280"/>
          <a:ext cx="3774960" cy="101628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ИЛЬС БОР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85 – 1962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ЕДМЕТ КВАНТОВОЙ ФИЗ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3457440"/>
          <a:ext cx="2662200" cy="26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457440"/>
                    <a:ext cx="2662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58920" y="3357720"/>
          <a:ext cx="3770280" cy="27190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ЛЕКТРОМАГНИТНО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ЛУЧЕНИЕ  — распространяющееся в пространстве возмущение </a:t>
                      </a:r>
                      <a:r>
                        <a:rPr b="0" lang="ru-RU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электрических</a:t>
                      </a: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и </a:t>
                      </a:r>
                      <a:r>
                        <a:rPr b="0" lang="ru-RU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5"/>
                        </a:rPr>
                        <a:t>магнитных</a:t>
                      </a: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6"/>
                        </a:rPr>
                        <a:t>полей</a:t>
                      </a: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Картинка 4 из 2435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6000" y="2492280"/>
            <a:ext cx="2676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НОЕ ПОНЯТИ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КОРПУСКУЛА (Ньютон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КВАНТ (Планк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ФОТОН (Льюис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4653000"/>
            <a:ext cx="11527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ЕДПОСЫЛКИ РАЗВИТИЯ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«УЛЬТРАФИОЛЕТОВАЯ» КАТАСТРОФ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парадокс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классической физики, состоящий в том, что полная мощность теплового излучения любого нагретого тела должна быть бесконечн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Картинка 21 из 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068640"/>
            <a:ext cx="2952720" cy="23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971640" y="2421000"/>
          <a:ext cx="3887280" cy="3456000"/>
        </p:xfrm>
        <a:graphic>
          <a:graphicData uri="http://schemas.openxmlformats.org/drawingml/2006/table">
            <a:tbl>
              <a:tblPr/>
              <a:tblGrid>
                <a:gridCol w="388728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ЕДПОСЫЛКИ РАЗВИТИЯ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ОТОЭФФЕКТ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это испускание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электронов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веществом под действием любого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электромагнитного изл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249084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042920" y="2349360"/>
          <a:ext cx="3770280" cy="366552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435640" y="2708280"/>
          <a:ext cx="2855880" cy="3241800"/>
        </p:xfrm>
        <a:graphic>
          <a:graphicData uri="http://schemas.openxmlformats.org/drawingml/2006/table">
            <a:tbl>
              <a:tblPr/>
              <a:tblGrid>
                <a:gridCol w="2855880"/>
              </a:tblGrid>
              <a:tr h="32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03:37Z</dcterms:created>
  <dc:creator>Home</dc:creator>
  <dc:description/>
  <dc:language>en-US</dc:language>
  <cp:lastModifiedBy>К1</cp:lastModifiedBy>
  <dcterms:modified xsi:type="dcterms:W3CDTF">2010-04-01T02:00:48Z</dcterms:modified>
  <cp:revision>20</cp:revision>
  <dc:subject/>
  <dc:title>Слайд 1</dc:title>
</cp:coreProperties>
</file>