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6B1-84F6-4CBF-AB8A-B257B78F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45A-1D65-4FB6-B941-C2B3D18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F6E-1B8D-4035-9AAC-B5D88E34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C97-EB4E-4071-AB6F-1EA0A783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AF4-91B2-4F4A-BC1D-1F8625A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B2B-7577-437C-AF10-9FC16768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9E5-F9D7-4ED7-B84A-EA864361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49D-3964-4386-AB8A-EFB8445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2E0-3DC6-4FA2-A3D0-87ADBC24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5F9-416D-4A8D-8592-BB94C2BF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229-4A50-4D3D-80A9-19E0379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506-D585-42AA-A38B-CFD47FB8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0AA9-9106-4B4A-A9D2-DB13CBBDDB75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9;&#1086;&#1073;&#1080;&#1088;&#1072;&#1102;&#1097;&#1072;&#1103;%20&#1083;&#1080;&#1085;&#1079;&#1072;.avi" TargetMode="External"/><Relationship Id="rId2" Type="http://schemas.openxmlformats.org/officeDocument/2006/relationships/hyperlink" Target="file:///&#1089;&#1086;&#1073;&#1080;&#1088;&#1072;&#1102;&#1097;&#1072;&#1103;%20&#1083;&#1080;&#1085;&#1079;&#1072;.avi" TargetMode="External"/><Relationship Id="rId3" Type="http://schemas.openxmlformats.org/officeDocument/2006/relationships/hyperlink" Target="file:///&#1088;&#1072;&#1089;&#1089;&#1077;&#1080;&#1074;&#1072;&#1102;&#1097;%20&#1083;&#1080;&#1085;&#1079;&#1072;.avi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204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резентация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урока 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о  теме: </a:t>
            </a:r>
            <a:br>
              <a:rPr sz="4800"/>
            </a:br>
            <a:r>
              <a:rPr b="1" lang="ru-RU" sz="6000" spc="-1" strike="noStrike">
                <a:solidFill>
                  <a:srgbClr val="0099cc"/>
                </a:solidFill>
                <a:latin typeface="Arial"/>
              </a:rPr>
              <a:t>«ЛИНЗЫ»</a:t>
            </a:r>
            <a:br>
              <a:rPr sz="4000"/>
            </a:br>
            <a:br>
              <a:rPr sz="40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читель МАОУСОШ №2 Успенского района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мышанская Е.В.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omic Sans MS"/>
              </a:rPr>
              <a:t>Рассеивающие линз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4343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учи выходят из линзы расходящимся пучком. Если такой пучок лучей попадет в глаза, то наблюдателю будет казаться, что они вышли из точк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а точка называется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нимым фокусом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0" r="0" b="29103"/>
          <a:stretch/>
        </p:blipFill>
        <p:spPr>
          <a:xfrm>
            <a:off x="0" y="1916280"/>
            <a:ext cx="489744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Comic Sans MS"/>
              </a:rPr>
              <a:t>Характеристики линз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Оптическая сила линзы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– это величина обратная ее фокусному расстоян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19280" y="3213000"/>
                <a:ext cx="2879640" cy="24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292720" y="3284640"/>
            <a:ext cx="352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диница оптической си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ряется в </a:t>
            </a:r>
            <a:r>
              <a:rPr b="0" i="1" lang="ru-RU" sz="2800" spc="-1" strike="noStrike" u="sng">
                <a:solidFill>
                  <a:srgbClr val="3333ff"/>
                </a:solidFill>
                <a:uFillTx/>
                <a:latin typeface="Arial"/>
              </a:rPr>
              <a:t>диоптриях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дптр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9631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ЛИНЗ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93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Линза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это оптически прозрачное тело, ограниченное двумя сферическими поверхностя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5613" t="0" r="0" b="0"/>
          <a:stretch/>
        </p:blipFill>
        <p:spPr>
          <a:xfrm>
            <a:off x="0" y="1268280"/>
            <a:ext cx="41832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283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Виды Линз: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Выпуклые (С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1"/>
              </a:rPr>
              <a:t>обирающие)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в середине толще, чем у крае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Вогнутые (Р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  <a:hlinkClick r:id="rId3"/>
              </a:rPr>
              <a:t>ассеивающие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)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- рассеивающая линза в средней части тоньше, чем у краев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Если толщина самой линзы мала по сравнению с радиусами кривизны сферических поверхностей, то линзу называют </a:t>
            </a:r>
            <a:r>
              <a:rPr b="0" i="1" lang="en-US" sz="3200" spc="-1" strike="noStrike">
                <a:solidFill>
                  <a:srgbClr val="006600"/>
                </a:solidFill>
                <a:latin typeface="Arial"/>
              </a:rPr>
              <a:t>тонкой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"/>
              </a:rPr>
              <a:t>Виды линз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000" y="1916280"/>
            <a:ext cx="24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собирающ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560" y="4292640"/>
            <a:ext cx="27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рассеивающ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линз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59214"/>
          <a:stretch/>
        </p:blipFill>
        <p:spPr>
          <a:xfrm>
            <a:off x="3851280" y="1773360"/>
            <a:ext cx="48960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52816" r="0" b="0"/>
          <a:stretch/>
        </p:blipFill>
        <p:spPr>
          <a:xfrm>
            <a:off x="3851280" y="4076640"/>
            <a:ext cx="4897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omic Sans MS"/>
              </a:rPr>
              <a:t>Фокус линзы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06064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Фокусом линзы называется точка, в которой собираются после преломления лучи (или их продолжения), падавшие на линзу параллельным пучком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Comic Sans MS"/>
              </a:rPr>
              <a:t>Собирающие линз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9280" y="1628280"/>
            <a:ext cx="40384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пукла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линза собирает лучи, идущие от источника, поэтому её называют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обирающе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7293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Comic Sans MS"/>
              </a:rPr>
              <a:t>Собирающие линз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364500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Линзы с более выпуклыми поверхностями преломляют лучи сильнее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4360" y="1628640"/>
            <a:ext cx="3095280" cy="1800000"/>
            <a:chOff x="684360" y="1628640"/>
            <a:chExt cx="3095280" cy="1800000"/>
          </a:xfrm>
        </p:grpSpPr>
        <p:sp>
          <p:nvSpPr>
            <p:cNvPr id="62" name=""/>
            <p:cNvSpPr/>
            <p:nvPr/>
          </p:nvSpPr>
          <p:spPr>
            <a:xfrm>
              <a:off x="2277000" y="1628640"/>
              <a:ext cx="748080" cy="1800000"/>
            </a:xfrm>
            <a:custGeom>
              <a:avLst/>
              <a:gdLst/>
              <a:ahLst/>
              <a:rect l="l" t="t" r="r" b="b"/>
              <a:pathLst>
                <a:path w="480" h="1440">
                  <a:moveTo>
                    <a:pt x="240" y="0"/>
                  </a:moveTo>
                  <a:cubicBezTo>
                    <a:pt x="160" y="0"/>
                    <a:pt x="0" y="480"/>
                    <a:pt x="0" y="720"/>
                  </a:cubicBezTo>
                  <a:cubicBezTo>
                    <a:pt x="0" y="960"/>
                    <a:pt x="160" y="1440"/>
                    <a:pt x="240" y="1440"/>
                  </a:cubicBezTo>
                  <a:cubicBezTo>
                    <a:pt x="320" y="1440"/>
                    <a:pt x="480" y="960"/>
                    <a:pt x="480" y="720"/>
                  </a:cubicBezTo>
                  <a:cubicBezTo>
                    <a:pt x="480" y="480"/>
                    <a:pt x="320" y="0"/>
                    <a:pt x="240" y="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7600" y="1853280"/>
              <a:ext cx="2702880" cy="675720"/>
            </a:xfrm>
            <a:custGeom>
              <a:avLst/>
              <a:gdLst/>
              <a:ahLst/>
              <a:rect l="l" t="t" r="r" b="b"/>
              <a:pathLst>
                <a:path w="2040" h="540">
                  <a:moveTo>
                    <a:pt x="0" y="0"/>
                  </a:moveTo>
                  <a:lnTo>
                    <a:pt x="1320" y="0"/>
                  </a:lnTo>
                  <a:lnTo>
                    <a:pt x="1680" y="180"/>
                  </a:lnTo>
                  <a:lnTo>
                    <a:pt x="2040" y="5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7600" y="2529360"/>
              <a:ext cx="270288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84360" y="2540520"/>
              <a:ext cx="2701080" cy="499680"/>
            </a:xfrm>
            <a:custGeom>
              <a:avLst/>
              <a:gdLst/>
              <a:ahLst/>
              <a:rect l="l" t="t" r="r" b="b"/>
              <a:pathLst>
                <a:path w="2040" h="540">
                  <a:moveTo>
                    <a:pt x="0" y="0"/>
                  </a:moveTo>
                  <a:lnTo>
                    <a:pt x="1320" y="0"/>
                  </a:lnTo>
                  <a:lnTo>
                    <a:pt x="1680" y="180"/>
                  </a:lnTo>
                  <a:lnTo>
                    <a:pt x="2040" y="5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00320" y="1969920"/>
              <a:ext cx="528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402720" y="2184840"/>
              <a:ext cx="376920" cy="3556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02720" y="2540880"/>
              <a:ext cx="360000" cy="342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2720" y="2540880"/>
              <a:ext cx="376920" cy="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643280" y="1628640"/>
            <a:ext cx="2881080" cy="1729080"/>
            <a:chOff x="4643280" y="1628640"/>
            <a:chExt cx="2881080" cy="1729080"/>
          </a:xfrm>
        </p:grpSpPr>
        <p:sp>
          <p:nvSpPr>
            <p:cNvPr id="71" name=""/>
            <p:cNvSpPr/>
            <p:nvPr/>
          </p:nvSpPr>
          <p:spPr>
            <a:xfrm>
              <a:off x="5934960" y="1628640"/>
              <a:ext cx="346680" cy="1729080"/>
            </a:xfrm>
            <a:custGeom>
              <a:avLst/>
              <a:gdLst/>
              <a:ahLst/>
              <a:rect l="l" t="t" r="r" b="b"/>
              <a:pathLst>
                <a:path w="351" h="1368">
                  <a:moveTo>
                    <a:pt x="171" y="0"/>
                  </a:moveTo>
                  <a:cubicBezTo>
                    <a:pt x="114" y="0"/>
                    <a:pt x="0" y="456"/>
                    <a:pt x="0" y="684"/>
                  </a:cubicBezTo>
                  <a:cubicBezTo>
                    <a:pt x="0" y="912"/>
                    <a:pt x="114" y="1368"/>
                    <a:pt x="171" y="1368"/>
                  </a:cubicBezTo>
                  <a:cubicBezTo>
                    <a:pt x="228" y="1368"/>
                    <a:pt x="333" y="902"/>
                    <a:pt x="342" y="684"/>
                  </a:cubicBezTo>
                  <a:cubicBezTo>
                    <a:pt x="351" y="466"/>
                    <a:pt x="228" y="0"/>
                    <a:pt x="171" y="0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3280" y="1843920"/>
              <a:ext cx="2781720" cy="864360"/>
            </a:xfrm>
            <a:custGeom>
              <a:avLst/>
              <a:gdLst/>
              <a:ahLst/>
              <a:rect l="l" t="t" r="r" b="b"/>
              <a:pathLst>
                <a:path w="3192" h="912">
                  <a:moveTo>
                    <a:pt x="0" y="0"/>
                  </a:moveTo>
                  <a:lnTo>
                    <a:pt x="1539" y="0"/>
                  </a:lnTo>
                  <a:lnTo>
                    <a:pt x="1767" y="57"/>
                  </a:lnTo>
                  <a:lnTo>
                    <a:pt x="2736" y="627"/>
                  </a:lnTo>
                  <a:lnTo>
                    <a:pt x="3192" y="91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692240" y="2493000"/>
              <a:ext cx="2683440" cy="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42640" y="2276280"/>
              <a:ext cx="2632680" cy="864720"/>
            </a:xfrm>
            <a:custGeom>
              <a:avLst/>
              <a:gdLst/>
              <a:ahLst/>
              <a:rect l="l" t="t" r="r" b="b"/>
              <a:pathLst>
                <a:path w="3021" h="912">
                  <a:moveTo>
                    <a:pt x="0" y="912"/>
                  </a:moveTo>
                  <a:lnTo>
                    <a:pt x="1425" y="912"/>
                  </a:lnTo>
                  <a:lnTo>
                    <a:pt x="1653" y="855"/>
                  </a:lnTo>
                  <a:lnTo>
                    <a:pt x="302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375680" y="2168280"/>
              <a:ext cx="148680" cy="106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75680" y="2493000"/>
              <a:ext cx="9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25640" y="2654640"/>
              <a:ext cx="148320" cy="107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73480" y="1951920"/>
              <a:ext cx="441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4291" b="0"/>
          <a:stretch/>
        </p:blipFill>
        <p:spPr>
          <a:xfrm>
            <a:off x="4356000" y="1197000"/>
            <a:ext cx="4572000" cy="3456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Comic Sans MS"/>
              </a:rPr>
              <a:t>Использование собирающих линз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924000" cy="3662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3378240" cy="33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6920" y="29973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356000" y="2060640"/>
            <a:ext cx="3961080" cy="3359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rcRect l="5442" t="0" r="3647" b="0"/>
          <a:stretch/>
        </p:blipFill>
        <p:spPr>
          <a:xfrm>
            <a:off x="4356000" y="2997360"/>
            <a:ext cx="38894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08:56:55Z</dcterms:created>
  <dc:creator/>
  <dc:description/>
  <dc:language>en-US</dc:language>
  <cp:lastModifiedBy>Рыбасова</cp:lastModifiedBy>
  <dcterms:modified xsi:type="dcterms:W3CDTF">2013-03-29T07:39:25Z</dcterms:modified>
  <cp:revision>58</cp:revision>
  <dc:subject/>
  <dc:title>Слайд 1</dc:title>
</cp:coreProperties>
</file>