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95C-B09E-4EDB-B2A7-94906E8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D59D-6F7D-4621-AEE4-5844576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B72-CCB7-4A63-B09A-2FDE5727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57E-C2A1-4A9A-AD73-3CF28652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DC3-672E-4A95-9AFF-013C6AFD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D6EC-5CF5-44C5-B8C4-57E95B3D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7A4-6F58-4344-B5A7-48F858D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C6E9-2EB2-439D-9ED2-00576C10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088-2948-41AA-A0AA-F49B2C9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3AE8-D235-4EC7-9680-8BDB18AD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54D-6FC7-47D3-B62E-1C71E70E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6FA-94AB-4DE0-89C5-51972D5A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692D-A4EB-4092-A7E6-686F29D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2758-1A93-45A8-8391-138C22C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A75-4505-4DD7-9446-4753EB0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5E8C-406D-47BA-A81F-897E0B50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C77A-D50E-4CD2-ABD0-22CD65B7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91B8-8B3C-4743-9116-994BBE0F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C503-24B9-4C3A-A037-AD91442C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12A3-68AC-4C36-A67A-F861B58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C486-7489-4A11-8830-3F0C4444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D3F3-15E8-48A7-A43C-B373D16E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07D-A4EB-4C3A-B078-4045CD9C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E3B3-21C0-4928-88B6-2F721DB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E149-2FB6-4E32-9C4E-7387660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906F3-7EC4-4517-A8F1-48ADE89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9F5F-4465-4D13-9B28-55EAC91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53B6-C717-46A2-B92E-C5AD3F0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9447-68DE-4788-B3BC-A965F759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79A2-2DC4-4068-9A2F-4F2026AB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D59-8855-4C5C-8119-D745B176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9EA-F5A2-435A-8C3F-4EDFA2D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6DD-9BEA-4EAA-B7E7-4FA9B666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5FB-8BEC-44A5-88CE-493A810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F68-3390-4290-87B9-1D6E1ED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64E-0709-40CB-BD44-A6580A32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89D9-27E8-4329-906D-10DCB6B157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FEC-1735-4D28-94E3-A1D36B08866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B718-32E4-49C2-9EED-9D02FB29995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620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Логарифмы и их свойства</a:t>
            </a:r>
            <a:br>
              <a:rPr sz="6100"/>
            </a:br>
            <a:br>
              <a:rPr sz="6100"/>
            </a:br>
            <a:br>
              <a:rPr sz="61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высшей категор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БУ СОШ с.Абзаново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айдуллина Файруза Аюповна</a:t>
            </a:r>
            <a:br>
              <a:rPr sz="6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692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Verdana"/>
              </a:rPr>
              <a:t>Определение логарифма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844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Логарифмом числа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 по основанию </a:t>
            </a:r>
            <a:r>
              <a:rPr b="0" i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показатель степени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, в которую нужно возвести основание </a:t>
            </a:r>
            <a:r>
              <a:rPr b="0" i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, чтобы получить число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1280" y="3429000"/>
            <a:ext cx="3456000" cy="1440000"/>
            <a:chOff x="611280" y="3429000"/>
            <a:chExt cx="3456000" cy="1440000"/>
          </a:xfrm>
        </p:grpSpPr>
        <p:grpSp>
          <p:nvGrpSpPr>
            <p:cNvPr id="168" name=""/>
            <p:cNvGrpSpPr/>
            <p:nvPr/>
          </p:nvGrpSpPr>
          <p:grpSpPr>
            <a:xfrm>
              <a:off x="1123560" y="3573360"/>
              <a:ext cx="2501640" cy="984240"/>
              <a:chOff x="1123560" y="3573360"/>
              <a:chExt cx="2501640" cy="984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430360" y="364500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Verdan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123560" y="3573360"/>
                <a:ext cx="2169360" cy="984240"/>
                <a:chOff x="1123560" y="3573360"/>
                <a:chExt cx="2169360" cy="9842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32800" y="3573360"/>
                  <a:ext cx="799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</a:rPr>
                    <a:t>Lo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52080" y="386064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09520" y="38606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6666"/>
                      </a:solidFill>
                      <a:latin typeface="Verdana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123560" y="403704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226680" y="4005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11280" y="3429000"/>
              <a:ext cx="0" cy="144000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280" y="4869000"/>
              <a:ext cx="34560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067280" y="3429000"/>
              <a:ext cx="0" cy="144000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280" y="3429000"/>
              <a:ext cx="34560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586040" y="3357720"/>
            <a:ext cx="34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Осно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логарифм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т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6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Основные свойства логарифмов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11280" y="1636560"/>
            <a:ext cx="72723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любом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&gt;0(a≠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юбых положительных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ы равен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a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*y=logₐ x + logₐ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/y= logₐ x - logₐ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ᵖ=p*logₐ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юбого действительног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040" y="72540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1341360"/>
            <a:ext cx="2289600" cy="3387960"/>
            <a:chOff x="611280" y="1341360"/>
            <a:chExt cx="2289600" cy="3387960"/>
          </a:xfrm>
        </p:grpSpPr>
        <p:sp>
          <p:nvSpPr>
            <p:cNvPr id="185" name=""/>
            <p:cNvSpPr/>
            <p:nvPr/>
          </p:nvSpPr>
          <p:spPr>
            <a:xfrm>
              <a:off x="672480" y="1341360"/>
              <a:ext cx="1669680" cy="33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/1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g0,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611280" y="3500280"/>
                  <a:ext cx="158436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629280" y="4149720"/>
              <a:ext cx="227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8+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940360" y="3851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7800" y="13413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11618" y="3837"/>
                </a:moveTo>
                <a:lnTo>
                  <a:pt x="14194" y="6448"/>
                </a:ln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lnTo>
                  <a:pt x="18581" y="10800"/>
                </a:lnTo>
                <a:lnTo>
                  <a:pt x="16927" y="10800"/>
                </a:lnTo>
                <a:lnTo>
                  <a:pt x="16927" y="17989"/>
                </a:lnTo>
                <a:lnTo>
                  <a:pt x="6308" y="17989"/>
                </a:lnTo>
                <a:lnTo>
                  <a:pt x="6308" y="10800"/>
                </a:lnTo>
                <a:lnTo>
                  <a:pt x="4655" y="10800"/>
                </a:lnTo>
                <a:close/>
              </a:path>
              <a:path fill="darkenLess" w="23235" h="21600">
                <a:moveTo>
                  <a:pt x="14194" y="6448"/>
                </a:move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close/>
              </a:path>
              <a:path fill="darkenLess" w="23235" h="21600">
                <a:moveTo>
                  <a:pt x="10695" y="14299"/>
                </a:moveTo>
                <a:lnTo>
                  <a:pt x="12540" y="14299"/>
                </a:lnTo>
                <a:lnTo>
                  <a:pt x="12540" y="17989"/>
                </a:lnTo>
                <a:lnTo>
                  <a:pt x="16927" y="17989"/>
                </a:lnTo>
                <a:lnTo>
                  <a:pt x="16927" y="10800"/>
                </a:lnTo>
                <a:lnTo>
                  <a:pt x="6308" y="10800"/>
                </a:lnTo>
                <a:lnTo>
                  <a:pt x="6308" y="17989"/>
                </a:lnTo>
                <a:lnTo>
                  <a:pt x="1069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Задание 1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2349360"/>
          <a:ext cx="4895640" cy="4054680"/>
        </p:xfrm>
        <a:graphic>
          <a:graphicData uri="http://schemas.openxmlformats.org/drawingml/2006/table">
            <a:tbl>
              <a:tblPr/>
              <a:tblGrid>
                <a:gridCol w="2189520"/>
                <a:gridCol w="2490480"/>
                <a:gridCol w="21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16 б)4 в)8 г)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=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25 б)5 в)-5 г)1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1/1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1/81 в)1/9 г)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"/>
          <p:cNvSpPr/>
          <p:nvPr/>
        </p:nvSpPr>
        <p:spPr>
          <a:xfrm>
            <a:off x="395280" y="14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из данных чисел является корнем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12000" y="2351160"/>
          <a:ext cx="2376360" cy="359856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ый 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Задание 2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349360"/>
          <a:ext cx="4038480" cy="1828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+1) = 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4) = 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4"/>
          <p:cNvSpPr/>
          <p:nvPr/>
        </p:nvSpPr>
        <p:spPr>
          <a:xfrm>
            <a:off x="468360" y="184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ить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00720" y="2349360"/>
          <a:ext cx="4038480" cy="1828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0:16:38Z</dcterms:created>
  <dc:creator>User</dc:creator>
  <dc:description/>
  <dc:language>en-US</dc:language>
  <cp:lastModifiedBy>Admin</cp:lastModifiedBy>
  <dcterms:modified xsi:type="dcterms:W3CDTF">2013-03-09T04:52:02Z</dcterms:modified>
  <cp:revision>26</cp:revision>
  <dc:subject/>
  <dc:title>Логарифмы и их свойства</dc:title>
</cp:coreProperties>
</file>