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2F5-B73D-4E3B-B99B-FBC82398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CBD-EE92-4DCC-9A8B-87451A70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422-7230-40F9-A1E6-730B5E87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B93-1FB9-4A4B-84CD-F93E2B3D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BA86-1CF0-4E32-AC53-4B7382A4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C336-4471-4FC8-98C2-9703B156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7342-2DC9-49BB-8D03-01359EEC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E75-AADD-4567-9FFB-CE639157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57FD-9A88-4FB2-A10C-49BAA068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4D5-065D-4F60-9DF4-2F55C1E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66FC-D1D0-493B-B1E1-F3D0964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1ED-EECD-4CCB-9E9F-7594377A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AF8C-480F-456E-91AC-A61701C4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B26D-C7AB-40A4-B279-84C0E4F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5370-88FA-4DA9-A312-ED96AFE3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3F89-BDBB-4C7D-B0BF-C617EB11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B0F2-A4E3-4AF7-9B40-5BC226DD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7CA8-B4C2-4A0D-8CA4-6CB3F1E5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E741-4B96-47E7-A325-596552E6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05AA-DC2C-4233-A759-423BBD6F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26815-399E-47FA-A1F5-9660E6FA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08D4-4567-4B37-8622-873B0221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4F2-C785-4D29-B183-935A13C4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0C82-CB6C-4EC4-8D0C-EC4E1193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7C6ED-F810-44FD-A0D2-D7674CA6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90F4-BDEF-4181-A977-B6AE667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EFDC-FF79-4EB3-8C9D-8BFF83A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26F2-DE1E-48BE-BA9A-DCB30568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F2F4-F477-4C33-9F2B-9125ADD2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504B-EDDC-44DD-ADFA-8D252ACE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FA1-EAA2-430A-816B-0D9B59E3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01A-B2F3-4486-B8F6-EAD80F76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271-FB3B-4279-B2BF-C3EC1FA6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22B-EA06-4C93-861C-838FFAC7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4AC-E712-4DF4-AEF3-5C5FE29B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FD6-7561-4A5C-A37E-54C4737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A03E-A62B-4352-80DB-7EC9036BF5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8F91-306F-4D14-A301-D00F727AE67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0807-9422-4E47-BC11-6A1F06D48A4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620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Логарифмы и их свойства</a:t>
            </a:r>
            <a:br>
              <a:rPr sz="6100"/>
            </a:br>
            <a:br>
              <a:rPr sz="6100"/>
            </a:br>
            <a:br>
              <a:rPr sz="61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высшей категор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БУ СОШ с.Абзаново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байдуллина Файруза Аюповна</a:t>
            </a:r>
            <a:br>
              <a:rPr sz="6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692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Verdana"/>
              </a:rPr>
              <a:t>Определение логарифма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844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Логарифмом числа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 по основанию </a:t>
            </a:r>
            <a:r>
              <a:rPr b="0" i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Verdana"/>
              </a:rPr>
              <a:t>показатель степени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, в которую нужно возвести основание </a:t>
            </a:r>
            <a:r>
              <a:rPr b="0" i="1" lang="ru-RU" sz="2400" spc="-1" strike="noStrike">
                <a:solidFill>
                  <a:srgbClr val="ff3300"/>
                </a:solidFill>
                <a:latin typeface="Verdana"/>
              </a:rPr>
              <a:t>а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, чтобы получить число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i="1" lang="ru-RU" sz="2400" spc="-1" strike="noStrike">
                <a:solidFill>
                  <a:srgbClr val="3366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11280" y="3429000"/>
            <a:ext cx="3456000" cy="1440000"/>
            <a:chOff x="611280" y="3429000"/>
            <a:chExt cx="3456000" cy="1440000"/>
          </a:xfrm>
        </p:grpSpPr>
        <p:grpSp>
          <p:nvGrpSpPr>
            <p:cNvPr id="168" name=""/>
            <p:cNvGrpSpPr/>
            <p:nvPr/>
          </p:nvGrpSpPr>
          <p:grpSpPr>
            <a:xfrm>
              <a:off x="1123560" y="3573360"/>
              <a:ext cx="2501640" cy="984240"/>
              <a:chOff x="1123560" y="3573360"/>
              <a:chExt cx="2501640" cy="984240"/>
            </a:xfrm>
          </p:grpSpPr>
          <p:sp>
            <p:nvSpPr>
              <p:cNvPr id="169" name=""/>
              <p:cNvSpPr/>
              <p:nvPr/>
            </p:nvSpPr>
            <p:spPr>
              <a:xfrm>
                <a:off x="2430360" y="3645000"/>
                <a:ext cx="40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Verdan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1123560" y="3573360"/>
                <a:ext cx="2169360" cy="984240"/>
                <a:chOff x="1123560" y="3573360"/>
                <a:chExt cx="2169360" cy="9842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32800" y="3573360"/>
                  <a:ext cx="799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</a:rPr>
                    <a:t>Log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52080" y="3860640"/>
                  <a:ext cx="380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09520" y="38606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6666"/>
                      </a:solidFill>
                      <a:latin typeface="Verdana"/>
                    </a:rPr>
                    <a:t>=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123560" y="4037040"/>
                  <a:ext cx="380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3300"/>
                      </a:solidFill>
                      <a:latin typeface="Verdana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3226680" y="40053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Verdana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611280" y="3429000"/>
              <a:ext cx="0" cy="144000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1280" y="4869000"/>
              <a:ext cx="3456000" cy="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067280" y="3429000"/>
              <a:ext cx="0" cy="144000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280" y="3429000"/>
              <a:ext cx="3456000" cy="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586040" y="3357720"/>
            <a:ext cx="343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Осно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логарифм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тожд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36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302"/>
                </a:solidFill>
                <a:latin typeface="Arial"/>
              </a:rPr>
              <a:t>Основные свойства логарифмов</a:t>
            </a: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11280" y="1636560"/>
            <a:ext cx="72723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любом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&gt;0(a≠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юбых положительных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ы равен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1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a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x*y=logₐ x + logₐ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x/y= logₐ x - logₐ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gₐ xᵖ=p*logₐ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любого действительного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62040" y="725400"/>
            <a:ext cx="22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числ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1280" y="1341360"/>
            <a:ext cx="2289600" cy="3387960"/>
            <a:chOff x="611280" y="1341360"/>
            <a:chExt cx="2289600" cy="3387960"/>
          </a:xfrm>
        </p:grpSpPr>
        <p:sp>
          <p:nvSpPr>
            <p:cNvPr id="185" name=""/>
            <p:cNvSpPr/>
            <p:nvPr/>
          </p:nvSpPr>
          <p:spPr>
            <a:xfrm>
              <a:off x="672480" y="1341360"/>
              <a:ext cx="1669680" cy="33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6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/1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g0,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611280" y="3500280"/>
                  <a:ext cx="1584360" cy="70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629280" y="4149720"/>
              <a:ext cx="227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18+Log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940360" y="3851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17800" y="134136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11618" y="3837"/>
                </a:moveTo>
                <a:lnTo>
                  <a:pt x="14194" y="6448"/>
                </a:lnTo>
                <a:lnTo>
                  <a:pt x="14194" y="4707"/>
                </a:lnTo>
                <a:lnTo>
                  <a:pt x="15969" y="4707"/>
                </a:lnTo>
                <a:lnTo>
                  <a:pt x="15969" y="8224"/>
                </a:lnTo>
                <a:lnTo>
                  <a:pt x="18581" y="10800"/>
                </a:lnTo>
                <a:lnTo>
                  <a:pt x="16927" y="10800"/>
                </a:lnTo>
                <a:lnTo>
                  <a:pt x="16927" y="17989"/>
                </a:lnTo>
                <a:lnTo>
                  <a:pt x="6308" y="17989"/>
                </a:lnTo>
                <a:lnTo>
                  <a:pt x="6308" y="10800"/>
                </a:lnTo>
                <a:lnTo>
                  <a:pt x="4655" y="10800"/>
                </a:lnTo>
                <a:close/>
              </a:path>
              <a:path fill="darkenLess" w="23235" h="21600">
                <a:moveTo>
                  <a:pt x="14194" y="6448"/>
                </a:moveTo>
                <a:lnTo>
                  <a:pt x="14194" y="4707"/>
                </a:lnTo>
                <a:lnTo>
                  <a:pt x="15969" y="4707"/>
                </a:lnTo>
                <a:lnTo>
                  <a:pt x="15969" y="8224"/>
                </a:lnTo>
                <a:close/>
              </a:path>
              <a:path fill="darkenLess" w="23235" h="21600">
                <a:moveTo>
                  <a:pt x="10695" y="14299"/>
                </a:moveTo>
                <a:lnTo>
                  <a:pt x="12540" y="14299"/>
                </a:lnTo>
                <a:lnTo>
                  <a:pt x="12540" y="17989"/>
                </a:lnTo>
                <a:lnTo>
                  <a:pt x="16927" y="17989"/>
                </a:lnTo>
                <a:lnTo>
                  <a:pt x="16927" y="10800"/>
                </a:lnTo>
                <a:lnTo>
                  <a:pt x="6308" y="10800"/>
                </a:lnTo>
                <a:lnTo>
                  <a:pt x="6308" y="17989"/>
                </a:lnTo>
                <a:lnTo>
                  <a:pt x="10695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302"/>
                </a:solidFill>
                <a:latin typeface="Arial"/>
              </a:rPr>
              <a:t>Задание 1</a:t>
            </a: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2349360"/>
          <a:ext cx="4895640" cy="4054680"/>
        </p:xfrm>
        <a:graphic>
          <a:graphicData uri="http://schemas.openxmlformats.org/drawingml/2006/table">
            <a:tbl>
              <a:tblPr/>
              <a:tblGrid>
                <a:gridCol w="2189520"/>
                <a:gridCol w="2490480"/>
                <a:gridCol w="21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 отве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1" i="1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 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16 б)4 в)8 г)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r>
                        <a:rPr b="1" i="1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1" i="1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=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25 б)5 в)-5 г)1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1" i="1" lang="en-US" sz="2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 =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1/16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1/81 в)1/9 г)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4"/>
          <p:cNvSpPr/>
          <p:nvPr/>
        </p:nvSpPr>
        <p:spPr>
          <a:xfrm>
            <a:off x="395280" y="141300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из данных чисел является корнем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12000" y="2351160"/>
          <a:ext cx="2376360" cy="359856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ый от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302"/>
                </a:solidFill>
                <a:latin typeface="Arial"/>
              </a:rPr>
              <a:t>Задание 2</a:t>
            </a: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349360"/>
          <a:ext cx="4038480" cy="1828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+1) = 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-4) = log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4"/>
          <p:cNvSpPr/>
          <p:nvPr/>
        </p:nvSpPr>
        <p:spPr>
          <a:xfrm>
            <a:off x="468360" y="1844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ить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00720" y="2349360"/>
          <a:ext cx="4038480" cy="1828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0:16:38Z</dcterms:created>
  <dc:creator>User</dc:creator>
  <dc:description/>
  <dc:language>en-US</dc:language>
  <cp:lastModifiedBy>Admin</cp:lastModifiedBy>
  <dcterms:modified xsi:type="dcterms:W3CDTF">2013-03-09T04:52:02Z</dcterms:modified>
  <cp:revision>26</cp:revision>
  <dc:subject/>
  <dc:title>Логарифмы и их свойства</dc:title>
</cp:coreProperties>
</file>