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5.gif" ContentType="image/gif"/>
  <Override PartName="/ppt/media/image23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8C20-2BE6-4B9D-99FF-B4365F93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977C-0168-47D0-839A-2CC6E0E9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6E5F-D413-4CD3-8F9A-75B5969B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EEC6-AE11-47A9-8420-A5B7BB2C8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1FD2-5EC4-4224-AB6E-164BCD69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91BC-D682-48E7-85A1-C35BD158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7513-4ED9-4B5F-AE1F-BD129909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0B50-95E2-4D14-8902-8676130F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260B-3DD3-4941-BE70-EF7D7482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B332-68AE-4B4F-954C-DFB2077D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315C-400C-4C6A-BE90-5CA68F41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AFD0-0AD4-47AC-A52D-D4BAE055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9672-8FF9-4874-943C-64E3A1D90E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1341360"/>
            <a:ext cx="7056720" cy="719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Наша Родина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 прошлом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0256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Какая угроза возникает над страной, в которой нет сильного единого правител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ведите прим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оземные завоевате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III-X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е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15624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13144" t="7021" r="14381" b="13079"/>
          <a:stretch/>
        </p:blipFill>
        <p:spPr>
          <a:xfrm>
            <a:off x="6156360" y="2265480"/>
            <a:ext cx="2552760" cy="3960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419640" y="1773360"/>
            <a:ext cx="18716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Смутой воспользовались </a:t>
            </a:r>
            <a:r>
              <a:rPr b="0" lang="en-US" sz="4000" spc="-1" strike="noStrike" u="sng">
                <a:solidFill>
                  <a:srgbClr val="800000"/>
                </a:solidFill>
                <a:uFillTx/>
                <a:latin typeface="Arial"/>
              </a:rPr>
              <a:t>польский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 и </a:t>
            </a:r>
            <a:r>
              <a:rPr b="0" lang="en-US" sz="4000" spc="-1" strike="noStrike" u="sng">
                <a:solidFill>
                  <a:srgbClr val="800000"/>
                </a:solidFill>
                <a:uFillTx/>
                <a:latin typeface="Arial"/>
              </a:rPr>
              <a:t>шведский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 коро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755640" y="2852640"/>
            <a:ext cx="7704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Их войска </a:t>
            </a: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вторглись в Россию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Вскоре поляки </a:t>
            </a: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заняли Москву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Страна оказалась в опас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Как вы понимаете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 эти пословиц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За общее дело стой см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Один в поле - не во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Один – за всех, а все – за од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25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775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25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Спас страну Нижний Новгоро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л организован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сбор средст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для создания большого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войска-ополч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призывом к нижегородцам обратился выбранный староста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Кузьма Мини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148360" y="1557360"/>
            <a:ext cx="31924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Откройте учебники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на странице 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Прочитайте текст  «Призыв Кузьмы Минина» про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Рассмотрите иллюстр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Ответьте на вопрос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Как происходил сбор средст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Чем жертвовали люд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Как вы относитесь к поступку Кузьмы Мин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100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Текст на страницах 90-91 </a:t>
            </a:r>
            <a:r>
              <a:rPr b="0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читаем по цепочке, по предложению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, и готовимся отвечать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С чем сравнивают авторы учебника наше государство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На что пошли собранные по призыву К. Минина средст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Из кого состояло ополчение? Кто его возглави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5153040" y="1773360"/>
            <a:ext cx="3205080" cy="3960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859280" y="5805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Дмитрий Михайлович Пожа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Сколько времени заняло продвижение ополчения до Москвы?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Почему польским войскам не удалось прорваться в Москв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Как вам кажется, почему народному ополчению удалось освободить Москв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Подвиг Ивана Сусан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1492200" cy="21592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4292640"/>
            <a:ext cx="1293840" cy="17287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4643280" y="1413000"/>
            <a:ext cx="1614600" cy="19447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643280" y="4221000"/>
            <a:ext cx="1211400" cy="18003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6443640" y="2924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Михаил Ром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0920" y="2565360"/>
            <a:ext cx="22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Иван Сусанин (роль в спектакле «Жизнь за царя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537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Памятник И.Сусанину  в Костро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515772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Михаил Глинка, автор оперы «Жизнь за цар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Икона Казанской Божьей Мате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762360" cy="431964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76360" y="692280"/>
            <a:ext cx="6191280" cy="4921200"/>
          </a:xfrm>
          <a:prstGeom prst="rect">
            <a:avLst/>
          </a:prstGeom>
          <a:ln w="28440">
            <a:solidFill>
              <a:srgbClr val="333333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1332000" y="602136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Казанский собор на Красной площ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403280" y="907920"/>
            <a:ext cx="6337440" cy="4681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Тема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Минин и Пожар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и их славные де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Избрание на царство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Михаила Фёдоровича Роман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1673280" cy="201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16000" y="4365720"/>
            <a:ext cx="2735280" cy="1944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219640" y="4365720"/>
            <a:ext cx="2808360" cy="1944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>
            <a:lum contrast="36000"/>
          </a:blip>
          <a:stretch/>
        </p:blipFill>
        <p:spPr>
          <a:xfrm>
            <a:off x="5364000" y="1700280"/>
            <a:ext cx="2664000" cy="1992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76360" y="37069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Михаил Ром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64000" y="38512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Ипатьевский монасты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4000" y="645336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алаты бояр Романо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63817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Стены монастыря, Зелёная баш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400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Памятник К.Минину и Д.Пожарскому в Моск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987640" y="1557360"/>
            <a:ext cx="3024360" cy="4176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692360" y="5734080"/>
            <a:ext cx="576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Impact"/>
              </a:rPr>
              <a:t>Гражданину Минину и князю Пожарск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Impact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Impact"/>
              </a:rPr>
              <a:t>благодарная Ро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5280" y="292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BernhardFashion BT"/>
              </a:rPr>
              <a:t>ДЕНЬ НАРОДНОГО ЕДИНСТВ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4000" y="260280"/>
            <a:ext cx="540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ноября 1612 г. воины народного ополчения под предводительством Кузьмы Минина и Дмитрия Пожарского штурмом взяли Китай-город, освободив Москву от польских интервентов и продемонстрировав образец героизма и сплоченности всего народа вне зависимости от происхождения, вероисповедания и положения в общест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867280" y="2205000"/>
            <a:ext cx="30099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500"/>
                            </p:stCondLst>
                            <p:childTnLst>
                              <p:par>
                                <p:cTn id="5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9640" y="981000"/>
            <a:ext cx="7921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этому 4 ноября 1612 г. можно считать Днем народного единства, концом Смутного времени, окончанием междоусобиц и гражданского конфликта, началом восстановления независимой российской государственности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600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2440" y="2349000"/>
            <a:ext cx="6553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 2005 года 4 ноября в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осударственный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выходной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7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Что нас ждёт на этом уро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помним о монголо-татарском и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помним о славных правителях Ру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умаем: что такое смутные време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наем об опасности, нависшей над Россией в начал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наем о славных делах Минина и Пожар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наем: какой праздник мы отмечаем                     4 ноябр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ведём итоги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308720" y="1557360"/>
            <a:ext cx="1613160" cy="5105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4120" y="259920"/>
            <a:ext cx="8291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Century Gothic"/>
              </a:rPr>
              <a:t>Почему монголо-татарам удалось завоевать русские земл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9840" y="2319480"/>
            <a:ext cx="2630520" cy="4565160"/>
            <a:chOff x="69840" y="2319480"/>
            <a:chExt cx="2630520" cy="456516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69840" y="2319480"/>
              <a:ext cx="1371600" cy="348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681120" y="2968560"/>
              <a:ext cx="1371600" cy="348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1328760" y="3400200"/>
              <a:ext cx="1371600" cy="348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Чем знамениты эти люд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2332080" cy="3392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6084720" y="1484280"/>
            <a:ext cx="2387880" cy="3166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32000" y="5013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ван Кал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494172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митрий Дон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Московский Кремль времен Дмитрия Дон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16000" y="1552680"/>
            <a:ext cx="6840720" cy="4665600"/>
          </a:xfrm>
          <a:prstGeom prst="rect">
            <a:avLst/>
          </a:prstGeom>
          <a:ln w="5724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Что вам известно о временах правления этого челове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2663640" cy="3743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435640" y="2492280"/>
            <a:ext cx="2533680" cy="2687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87280" y="602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87480" y="5938920"/>
            <a:ext cx="293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63640" y="55897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а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52293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апка Монома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Что такое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«смутные времена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Обсудите этот вопрос в группа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сначала в па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тем в четвёрка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1000" autoRev="1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1000" autoRev="1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1000" autoRev="1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Смутные времена наступили, потому ч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кратился царский 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 короткий срок сменилось много прав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ана разорена долгими вой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и года были неурожа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чался страшный гол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род начал восста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07:32:42Z</dcterms:created>
  <dc:creator>rib</dc:creator>
  <dc:description/>
  <dc:language>en-US</dc:language>
  <cp:lastModifiedBy>Владимир</cp:lastModifiedBy>
  <dcterms:modified xsi:type="dcterms:W3CDTF">2012-09-19T16:31:38Z</dcterms:modified>
  <cp:revision>20</cp:revision>
  <dc:subject/>
  <dc:title>Слайд 1</dc:title>
</cp:coreProperties>
</file>