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2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C2F-6EF0-417D-9541-017E43F4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89B-1D0C-406C-A3D9-2158ACC9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CEC-2EB9-46F2-BFEF-1ADBA306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334-BBCD-4792-80F4-C465492C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17B-E308-4A09-80B6-979942AA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0AB-3E56-487F-9CD0-EC4FD106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ED2-7631-49B4-A7AA-DBCF7527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CBE-6215-4132-A572-471FC769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894-52D4-49A2-B729-2BBD74E9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30A-EE8A-4D2A-85CA-178828D7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62F-1396-44EB-A147-93EF433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FE8-74BF-4F99-8A95-43835F03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83FC-C7A1-4E33-A47D-B0D5F3136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341360"/>
            <a:ext cx="7056720" cy="719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аша Родин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рошлом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0256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Какая угроза возникает над страной, в которой нет сильного единого прав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ведите 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земные завоевате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II-X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5624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13144" t="7021" r="14381" b="13079"/>
          <a:stretch/>
        </p:blipFill>
        <p:spPr>
          <a:xfrm>
            <a:off x="6156360" y="2265480"/>
            <a:ext cx="2552760" cy="396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419640" y="1773360"/>
            <a:ext cx="1871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Смутой воспользовались </a:t>
            </a:r>
            <a:r>
              <a:rPr b="0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польский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0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шведский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коро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Их войска 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вторглись в Россию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скоре поляки 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заняли Москву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Страна оказалась в 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Как вы понимаете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эти послови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 общее дело стой см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дин в поле - не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дин – за всех, а все – з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25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75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25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Спас страну Нижний Новгор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организован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сбор средст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ля создания большого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ойска-опол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призывом к нижегородцам обратился выбранный староста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узьма Мин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192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Откройте учебники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на странице 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рочитайте текст  «Призыв Кузьмы Минина» про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Рассмотрите иллюстр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тветьте на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Как происходил сбор средст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Чем жертвовали люд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Как вы относитесь к поступку Кузьмы Мин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10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Текст на страницах 90-91 </a:t>
            </a:r>
            <a:r>
              <a:rPr b="0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читаем по цепочке, по предложению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, и готовимся отвеча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С чем сравнивают авторы учебника наше государство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что пошли собранные по призыву К. Минина сред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Из кого состояло ополчение? Кто его возглав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5153040" y="1773360"/>
            <a:ext cx="3205080" cy="396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859280" y="5805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Дмитрий Михайлович Пожа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колько времени заняло продвижение ополчения до Москвы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чему польским войскам не удалось прорваться 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Как вам кажется, почему народному ополчению удалось освободить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Подвиг Ивана Суса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492200" cy="21592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1293840" cy="1728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643280" y="1413000"/>
            <a:ext cx="1614600" cy="1944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643280" y="4221000"/>
            <a:ext cx="1211400" cy="1800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443640" y="292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ихаил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2565360"/>
            <a:ext cx="22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ван Сусанин (роль в спектакле «Жизнь за цар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37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Памятник И.Сусанину  в Костр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5157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Михаил Глинка, автор оперы «Жизнь за ца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Икона Казанской Божьей Мат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62360" cy="43196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6191280" cy="492120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332000" y="6021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азанский собор на Красной площ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907920"/>
            <a:ext cx="6337440" cy="468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инин и Пожар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 их славные де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Избрание на царство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Михаила Фёдоровича Ром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1673280" cy="20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436572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5364000" y="1700280"/>
            <a:ext cx="2664000" cy="1992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76360" y="37069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ихаил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3851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патьев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645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алаты бояр Роман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381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тены монастыря, Зелёная ба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Памятник К.Минину и Д.Пожарскому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024360" cy="417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92360" y="5734080"/>
            <a:ext cx="576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Impact"/>
              </a:rPr>
              <a:t>Гражданину Минину и князю Пожар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Impact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Impact"/>
              </a:rPr>
              <a:t>благодарная 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ernhardFashion BT"/>
              </a:rPr>
              <a:t>ДЕНЬ НАРОДНОГО ЕДИН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260280"/>
            <a:ext cx="540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ноября 1612 г. воины народного ополчения под предводительством Кузьмы Минина и Дмитрия Пожарского штурмом взяли Китай-город, освободив Москву от польских интервентов и продемонстрировав образец героизма и сплоченности всего народа вне зависимости от происхождения, вероисповедания и положения в обще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867280" y="2205000"/>
            <a:ext cx="30099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981000"/>
            <a:ext cx="792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этому 4 ноября 1612 г. можно считать Днем народного единства, концом Смутного времени, окончанием междоусобиц и гражданского конфликта, началом восстановления независимой российской государственности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60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2440" y="2349000"/>
            <a:ext cx="65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 2005 года 4 ноябр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сударственный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ыходной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Что нас ждёт на этом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м о монголо-татарском и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м о славных правителях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маем: что такое смутные вре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ем об опасности, нависшей над Россией в начал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ем о славных делах Минина и Пожар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ем: какой праздник мы отмечаем                     4 ноябр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дём итог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08720" y="1557360"/>
            <a:ext cx="16131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25992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Century Gothic"/>
              </a:rPr>
              <a:t>Почему монголо-татарам удалось завоевать русские зем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9840" y="2319480"/>
            <a:ext cx="2630520" cy="4565160"/>
            <a:chOff x="69840" y="2319480"/>
            <a:chExt cx="2630520" cy="456516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9840" y="2319480"/>
              <a:ext cx="1371600" cy="34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681120" y="2968560"/>
              <a:ext cx="1371600" cy="34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1328760" y="3400200"/>
              <a:ext cx="1371600" cy="348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Чем знамениты эти лю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2332080" cy="3392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084720" y="1484280"/>
            <a:ext cx="2387880" cy="316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501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 Ка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941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митрий Дон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Московский Кремль времен Дмитрия Дон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552680"/>
            <a:ext cx="6840720" cy="4665600"/>
          </a:xfrm>
          <a:prstGeom prst="rect">
            <a:avLst/>
          </a:prstGeom>
          <a:ln w="5724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Что вам известно о временах правления этого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2663640" cy="3743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2533680" cy="2687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480" y="5938920"/>
            <a:ext cx="29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5589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229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пка Моном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Что такое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«смутные времена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бсудите этот вопрос в групп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сначала в па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тем в четвёрка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100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1000" autoRev="1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1000" autoRev="1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Смутные времена наступили, потому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кратился царский 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короткий срок сменилось много прав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на разорена долгими вой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года были неурож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ся страшный го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од начал восст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7:32:42Z</dcterms:created>
  <dc:creator>rib</dc:creator>
  <dc:description/>
  <dc:language>en-US</dc:language>
  <cp:lastModifiedBy>Владимир</cp:lastModifiedBy>
  <dcterms:modified xsi:type="dcterms:W3CDTF">2012-09-19T16:31:38Z</dcterms:modified>
  <cp:revision>20</cp:revision>
  <dc:subject/>
  <dc:title>Слайд 1</dc:title>
</cp:coreProperties>
</file>