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037FA-97B7-4DC7-9AD8-1BDF561BE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5253C-6C85-4986-A5DE-34E15FA40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6CB3D-8E0B-45B8-9F5C-1E7D973A2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BF4A9-B7F1-4975-B320-DCE10DB7F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61A12-D468-41AD-90EB-A55F3CDC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63647-B902-43AE-B75A-16033002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8A8E9-FAB2-48F7-BBFF-5A9B3529F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5723-CA4D-4B9D-BB23-6387F1BB6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2EE0C-FE71-45FF-B31B-4B8F53510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0A9F9-0D77-4C2B-A591-F7F09476A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6DF65-8336-4A1E-A875-DAF5F6351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248B-1A21-45FB-9683-3C8890BD7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90A3-E9BF-4C28-BDCA-ADFAA6262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484280"/>
            <a:ext cx="896472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Das deutsche Kino</a:t>
            </a:r>
            <a:endParaRPr b="0" lang="en-US" sz="4800" spc="-1" strike="noStrike">
              <a:solidFill>
                <a:srgbClr val="000000"/>
              </a:solidFill>
              <a:latin typeface="Arial"/>
            </a:endParaRPr>
          </a:p>
        </p:txBody>
      </p:sp>
      <p:sp>
        <p:nvSpPr>
          <p:cNvPr id="42" name=""/>
          <p:cNvSpPr/>
          <p:nvPr/>
        </p:nvSpPr>
        <p:spPr>
          <a:xfrm>
            <a:off x="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benschikova Sasha</a:t>
            </a:r>
            <a:r>
              <a:rPr b="0" lang="ru-RU" sz="1800" spc="-1" strike="noStrike">
                <a:solidFill>
                  <a:srgbClr val="ffffff"/>
                </a:solidFill>
                <a:latin typeface="Arial"/>
              </a:rPr>
              <a:t>, </a:t>
            </a:r>
            <a:r>
              <a:rPr b="0" lang="en-US" sz="1800" spc="-1" strike="noStrike">
                <a:solidFill>
                  <a:srgbClr val="ffffff"/>
                </a:solidFill>
                <a:latin typeface="Arial"/>
              </a:rPr>
              <a:t>Markova Nastya</a:t>
            </a:r>
            <a:endParaRPr b="0" lang="en-US" sz="1800" spc="-1" strike="noStrike">
              <a:solidFill>
                <a:srgbClr val="000000"/>
              </a:solidFill>
              <a:latin typeface="Arial"/>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619280" y="2852640"/>
            <a:ext cx="6299280" cy="4195800"/>
          </a:xfrm>
          <a:prstGeom prst="rect">
            <a:avLst/>
          </a:prstGeom>
          <a:ln w="0">
            <a:noFill/>
          </a:ln>
        </p:spPr>
      </p:pic>
      <p:sp>
        <p:nvSpPr>
          <p:cNvPr id="71" name=""/>
          <p:cNvSpPr/>
          <p:nvPr/>
        </p:nvSpPr>
        <p:spPr>
          <a:xfrm>
            <a:off x="0" y="0"/>
            <a:ext cx="9144000" cy="380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de-DE" sz="1200" spc="-1" strike="noStrike">
                <a:solidFill>
                  <a:srgbClr val="ffffff"/>
                </a:solidFill>
                <a:latin typeface="Arial"/>
              </a:rPr>
              <a:t>Das Bild Krissa Kraussa wird gebaut, wie die vollkommen banale Entgegensetzung der Schönheit und der Missgestalt. Der Lehrer des Spieles auf dem Klavier, 90 jahres des Werkes Kruger, arbeitet im Gefängnis. Geschlossen zeigt sich Mörder Dschenni vom sehr beschenkten Teenager mit der musikalischen Vergangenheit nicht nur. Aber der Regisseur entscheidet, dass es in seinem Film nichts einfach sein wird als auch schafft das geniale Bild. (Die Preise "der Beste Film Schanghai 2006", "der Beste Film Reykjavik 2006", den Preis «Goldener Biber» und den Preis der Zuschauersympathien Biberach 2006, die Preise der Bayerischen Filmakademie 2006 (das beste Debüt – Channa Cherzschprung, die beste Schauspielerin – Monica Bljajbtroj, das beste Drehbuch, VGF Producers' Prize), den Preis  für den besten Film Sofia 2007, der Deutsche Filmpreis 2007 (der Beste Film, die beste Schauspielerin Monica Bljajbtroj)).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    </a:t>
            </a:r>
            <a:r>
              <a:rPr b="0" lang="de-DE" sz="1200" spc="-1" strike="noStrike">
                <a:solidFill>
                  <a:srgbClr val="ffffff"/>
                </a:solidFill>
                <a:latin typeface="Arial"/>
              </a:rPr>
              <a:t>Der Autor stürzt ganz der Voraussage unerwartet und gleichzeitig in der netten Weise ein. Füllt den Film weiblich, in allen Erscheinungsformen, der Liebe, und die Hauptsache - die Musik aus. Von der klassischen Lieblingsmusik, verboten neger-, der Musik des Krieges und der Charaktere der Häftlin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    </a:t>
            </a:r>
            <a:r>
              <a:rPr b="0" lang="de-DE" sz="1200" spc="-1" strike="noStrike">
                <a:solidFill>
                  <a:srgbClr val="ffffff"/>
                </a:solidFill>
                <a:latin typeface="Arial"/>
              </a:rPr>
              <a:t>Unschöner Dschenni schmiert den ganzen Film der Hand von der speziellen Salbe, damit, müde von ihr ins Blut, die Hände zugeheilt sind. Zeichnet auf dem schwarzen Tisch die weiße Tastatur, und zu irgendwelchem Moment zieht das Partykleid für die Aktion sogar an. Das alles so ist ihr jetzt entgegengesetzt, aber sie stimmt aus unbekannten Gründen zu. Um рабой zu sein? Oder sich nicht "durchzubieg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    </a:t>
            </a:r>
            <a:r>
              <a:rPr b="0" lang="de-DE" sz="1200" spc="-1" strike="noStrike">
                <a:solidFill>
                  <a:srgbClr val="ffffff"/>
                </a:solidFill>
                <a:latin typeface="Arial"/>
              </a:rPr>
              <a:t>Im Film ist die deutsche Zurückhaltung und die Aggression, die Teenagerverschrobenheit und greisenhaft gesetzmäßig verteilt. Aber gerade so, wie auch aller im Film, so rechtfertigt ist, dass es sogar manchmal unwahrscheinlich ist. Aber ob es wichtig is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    </a:t>
            </a:r>
            <a:r>
              <a:rPr b="0" lang="de-DE" sz="1200" spc="-1" strike="noStrike">
                <a:solidFill>
                  <a:srgbClr val="ffffff"/>
                </a:solidFill>
                <a:latin typeface="Arial"/>
              </a:rPr>
              <a:t>Es ist wichtig, zu sehen, wie der Wein in den Händen des nicht trinkenden Pädagogen in vier das Minuten verlorengeht auch als das nicht ergebene Talent kniksen in die Letzten vier Sekunden mac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rhaltung</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um Himmel zu klopf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Barfuß nach dem Pflas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schöne Jung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Vier Minu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26560" y="189000"/>
            <a:ext cx="735516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um Himmel zu klopfen</a:t>
            </a:r>
            <a:endParaRPr b="0" lang="en-US" sz="4400" spc="-1" strike="noStrike">
              <a:solidFill>
                <a:srgbClr val="000000"/>
              </a:solidFill>
              <a:latin typeface="Arial"/>
            </a:endParaRPr>
          </a:p>
        </p:txBody>
      </p:sp>
      <p:pic>
        <p:nvPicPr>
          <p:cNvPr id="47" name="" descr=""/>
          <p:cNvPicPr/>
          <p:nvPr/>
        </p:nvPicPr>
        <p:blipFill>
          <a:blip r:embed="rId1"/>
          <a:stretch/>
        </p:blipFill>
        <p:spPr>
          <a:xfrm>
            <a:off x="5035680" y="1052640"/>
            <a:ext cx="4108320" cy="5805360"/>
          </a:xfrm>
          <a:prstGeom prst="rect">
            <a:avLst/>
          </a:prstGeom>
          <a:ln w="0">
            <a:noFill/>
          </a:ln>
        </p:spPr>
      </p:pic>
      <p:sp>
        <p:nvSpPr>
          <p:cNvPr id="48" name=""/>
          <p:cNvSpPr/>
          <p:nvPr/>
        </p:nvSpPr>
        <p:spPr>
          <a:xfrm>
            <a:off x="179280" y="1341360"/>
            <a:ext cx="4753080" cy="572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Regisseur: Thomas J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Schauspieler: Til Schwajger, Jan Joseph Lifers, Rutger Chauer, Moriz Blajbtro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Belohnung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das Moskauer Filmfestival, 199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der Sieger: die beste Männerrolle — Silbern "Heilig Georgij" (Til Schwaj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er Nomination: der Preis für den besten Film — Goldener "Heilige Georgi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ie Höchste deutsche Belohnung, Deutscher Filmpreis, 199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die Belohnung Ernst Ljubitscha, 199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lden Screen, 199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809880" y="0"/>
            <a:ext cx="5334120" cy="3573360"/>
          </a:xfrm>
          <a:prstGeom prst="rect">
            <a:avLst/>
          </a:prstGeom>
          <a:ln w="0">
            <a:noFill/>
          </a:ln>
        </p:spPr>
      </p:pic>
      <p:sp>
        <p:nvSpPr>
          <p:cNvPr id="50" name=""/>
          <p:cNvSpPr/>
          <p:nvPr/>
        </p:nvSpPr>
        <p:spPr>
          <a:xfrm>
            <a:off x="0" y="247320"/>
            <a:ext cx="4284720" cy="371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ellen Sie vor - Ihnen blieb es übrig, die Woche zu leben. Was Sie gemacht hätten? Auf den Verstand kommt viel aller, aber der Martin und Rudi, die Hauptfiguren des Filmes, entscheiden sich, sich auf das Meer, doch "auf dem Himmel die Gespräche nur über das Meer zu begeben». Das Auto die Helden gestohlen verdächtigen nicht, dass sich das Schicksal zum Schluss entschieden hat, ihn das Geschenk und die Art Million Dollar zu machen, die im Gepäckraum des Wagens liegt. Nach dem Weg zum Meer, die Freunde legen die Listen der Wünsche, allen an, dass sie in diesem Leben machen wollten, aber die Zeit so ist wenig es, er wird auf die Erfüllung nur zwei Wünsche, nach einem auf jeden ausreiche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 name="" descr=""/>
          <p:cNvPicPr/>
          <p:nvPr/>
        </p:nvPicPr>
        <p:blipFill>
          <a:blip r:embed="rId2"/>
          <a:stretch/>
        </p:blipFill>
        <p:spPr>
          <a:xfrm>
            <a:off x="0" y="3948120"/>
            <a:ext cx="4427640" cy="2909880"/>
          </a:xfrm>
          <a:prstGeom prst="rect">
            <a:avLst/>
          </a:prstGeom>
          <a:ln w="0">
            <a:noFill/>
          </a:ln>
        </p:spPr>
      </p:pic>
      <p:sp>
        <p:nvSpPr>
          <p:cNvPr id="52" name=""/>
          <p:cNvSpPr/>
          <p:nvPr/>
        </p:nvSpPr>
        <p:spPr>
          <a:xfrm>
            <a:off x="4572000" y="3933720"/>
            <a:ext cx="457200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erstehe, auf dem Himmel nur und sagen, dass über das Meer. Wie es … Über den Untergang unendlich schön ist, der sie … Darüber wie die Sonne sahen, in die Wellen eintauchend, wurde scharlachrot wie das Blut. Eben haben gefühlt, dass das Meer die Energie des Himmelskörpers in sich eingesogen hat, sowohl die Sonne war gezähmt, als auch das Feuer brannte in der Tiefe schon nieder. Und dich?... Was du von ihm sagen wirst? Doch warst du Mal auf dem Meer. Dort oben werden dich vom Trottel taufen.» (c) Martin Br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1388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Barfuß nach dem Pflaster</a:t>
            </a:r>
            <a:endParaRPr b="0" lang="en-US" sz="4000" spc="-1" strike="noStrike">
              <a:solidFill>
                <a:srgbClr val="000000"/>
              </a:solidFill>
              <a:latin typeface="Arial"/>
            </a:endParaRPr>
          </a:p>
        </p:txBody>
      </p:sp>
      <p:sp>
        <p:nvSpPr>
          <p:cNvPr id="54" name="PlaceHolder 2"/>
          <p:cNvSpPr>
            <a:spLocks noGrp="1"/>
          </p:cNvSpPr>
          <p:nvPr>
            <p:ph/>
          </p:nvPr>
        </p:nvSpPr>
        <p:spPr>
          <a:xfrm>
            <a:off x="-360" y="1125000"/>
            <a:ext cx="4535640" cy="4967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Regisseur: Til Schwajger</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Schauspieler: Til Schwajger, </a:t>
            </a: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channa Wokalek, Steffen Wink,</a:t>
            </a: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dja Tiller</a:t>
            </a: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Belohnungen: </a:t>
            </a: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mbi Awards</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Undine Awards, Österreich</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German Camera Award — die Nomination</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erman Film Awards — die Nomination</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Golden Camera, Deutschland — die Nomination</a:t>
            </a:r>
            <a:endParaRPr b="0" lang="en-US" sz="1800" spc="-1" strike="noStrike">
              <a:solidFill>
                <a:srgbClr val="000000"/>
              </a:solidFill>
              <a:latin typeface="Arial"/>
            </a:endParaRPr>
          </a:p>
        </p:txBody>
      </p:sp>
      <p:pic>
        <p:nvPicPr>
          <p:cNvPr id="55" name="" descr=""/>
          <p:cNvPicPr/>
          <p:nvPr/>
        </p:nvPicPr>
        <p:blipFill>
          <a:blip r:embed="rId1"/>
          <a:stretch/>
        </p:blipFill>
        <p:spPr>
          <a:xfrm>
            <a:off x="4788000" y="981000"/>
            <a:ext cx="4155840" cy="587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6720" y="0"/>
            <a:ext cx="5040000" cy="3860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de-DE" sz="1800" spc="-1" strike="noStrike">
                <a:solidFill>
                  <a:srgbClr val="ffffff"/>
                </a:solidFill>
                <a:latin typeface="Arial"/>
              </a:rPr>
              <a:t>Pechvogel Nik, für den einzigen Tag der Arbeit rettet im Irrenhaus vom Raumpfleger, Patientin Lajlu vom Selbstmord und, selbst ungewollt, trägt zu ihrer Flucht bei. Kindlich verfolgt naiver Lajla, die barfuß lebenslang geht, Nika ständig, und er, отвязаться, ihre Baskenmütze in die Reise mit der Hochzeit des verwandten Bruders verzweifelt. Allmählich werden die Helden tatsächlich die Verwandten einander. Aber schließlich entscheidet sich Nik, das Finanzleben einzurichten und, sich von Lajloj zu trennen. Ob er ohne sie in der zynischen Welt strecken kann?.</a:t>
            </a:r>
            <a:endParaRPr b="0" lang="en-US" sz="1800" spc="-1" strike="noStrike">
              <a:solidFill>
                <a:srgbClr val="000000"/>
              </a:solidFill>
              <a:latin typeface="Arial"/>
            </a:endParaRPr>
          </a:p>
        </p:txBody>
      </p:sp>
      <p:pic>
        <p:nvPicPr>
          <p:cNvPr id="57" name="" descr=""/>
          <p:cNvPicPr/>
          <p:nvPr/>
        </p:nvPicPr>
        <p:blipFill>
          <a:blip r:embed="rId1"/>
          <a:stretch/>
        </p:blipFill>
        <p:spPr>
          <a:xfrm>
            <a:off x="0" y="3836880"/>
            <a:ext cx="4572000" cy="3021120"/>
          </a:xfrm>
          <a:prstGeom prst="rect">
            <a:avLst/>
          </a:prstGeom>
          <a:ln w="0">
            <a:noFill/>
          </a:ln>
        </p:spPr>
      </p:pic>
      <p:pic>
        <p:nvPicPr>
          <p:cNvPr id="58" name="" descr=""/>
          <p:cNvPicPr/>
          <p:nvPr/>
        </p:nvPicPr>
        <p:blipFill>
          <a:blip r:embed="rId2"/>
          <a:stretch/>
        </p:blipFill>
        <p:spPr>
          <a:xfrm>
            <a:off x="4643280" y="189000"/>
            <a:ext cx="4500720" cy="3168720"/>
          </a:xfrm>
          <a:prstGeom prst="rect">
            <a:avLst/>
          </a:prstGeom>
          <a:ln w="0">
            <a:noFill/>
          </a:ln>
        </p:spPr>
      </p:pic>
      <p:pic>
        <p:nvPicPr>
          <p:cNvPr id="59" name="" descr=""/>
          <p:cNvPicPr/>
          <p:nvPr/>
        </p:nvPicPr>
        <p:blipFill>
          <a:blip r:embed="rId3"/>
          <a:stretch/>
        </p:blipFill>
        <p:spPr>
          <a:xfrm>
            <a:off x="4643280" y="3573360"/>
            <a:ext cx="450072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8147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r </a:t>
            </a:r>
            <a:r>
              <a:rPr b="1" lang="ru-RU" sz="4400" spc="-1" strike="noStrike">
                <a:solidFill>
                  <a:srgbClr val="ffffff"/>
                </a:solidFill>
                <a:latin typeface="Arial"/>
              </a:rPr>
              <a:t>schöne Junge</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250920" y="1196640"/>
            <a:ext cx="4176720" cy="54450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s Genre: die Komödie</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Regisseur: Til Schwajg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Producer: Tom Zikler,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l Schwajg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Autor des Drehbuches: Anika Dekker,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l Schwajg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en Hauptrollen: Til Schwajger,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e Höhle Tschirn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Operator: Kristof Wal</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 Komponist: Stefan Chansen,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rk Rajchardt,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rko Schaffer</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e Filmgesellschaft: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enboard Berlin-Brandenburg,</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 Pictures, Barefoot films, </a:t>
            </a: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rner Bros. Pictures</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s Budget: 4,2 Mio.</a:t>
            </a:r>
            <a:endParaRPr b="0" lang="en-US" sz="1800" spc="-1" strike="noStrike">
              <a:solidFill>
                <a:srgbClr val="000000"/>
              </a:solidFill>
              <a:latin typeface="Arial"/>
            </a:endParaRPr>
          </a:p>
        </p:txBody>
      </p:sp>
      <p:pic>
        <p:nvPicPr>
          <p:cNvPr id="62" name="" descr=""/>
          <p:cNvPicPr/>
          <p:nvPr/>
        </p:nvPicPr>
        <p:blipFill>
          <a:blip r:embed="rId1"/>
          <a:stretch/>
        </p:blipFill>
        <p:spPr>
          <a:xfrm>
            <a:off x="4716360" y="981000"/>
            <a:ext cx="4183200" cy="587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0" y="0"/>
            <a:ext cx="464328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de-DE" sz="1600" spc="-1" strike="noStrike">
                <a:solidFill>
                  <a:srgbClr val="ffffff"/>
                </a:solidFill>
                <a:latin typeface="Arial"/>
              </a:rPr>
              <a:t>Ludo arbeitet als der Journalist und es liefert das Material an "die gelbe" Presse. Auch bei ihm "das Hobby" — die Mädchen nach rechts und nach links zu verfüh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Nach dem misslungenen Versuch, die Verlobung Klitschkos aufzunehmen (wollte die Aufnahmen machen, aber ist durch die Glasdecke gefallen und ist auf die Torte umgefallen) war zu 8 Monaten des Gefängnisses bedingt verurteilt. Die Bedingung — 300 Arbeitsstunden im Kindergart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Als die Erzieherin des Kindergartens hat sich das Mädchen erwiesen, den Ludo in der Schule verhöhnte. Jene erinnert sich daran sehr gut und wünscht, seiner eine Lektion zu erteilen.</a:t>
            </a:r>
            <a:endParaRPr b="0" lang="en-US" sz="1600" spc="-1" strike="noStrike">
              <a:solidFill>
                <a:srgbClr val="000000"/>
              </a:solidFill>
              <a:latin typeface="Arial"/>
            </a:endParaRPr>
          </a:p>
        </p:txBody>
      </p:sp>
      <p:pic>
        <p:nvPicPr>
          <p:cNvPr id="64" name="" descr=""/>
          <p:cNvPicPr/>
          <p:nvPr/>
        </p:nvPicPr>
        <p:blipFill>
          <a:blip r:embed="rId1"/>
          <a:stretch/>
        </p:blipFill>
        <p:spPr>
          <a:xfrm>
            <a:off x="4572000" y="0"/>
            <a:ext cx="4572000" cy="3048120"/>
          </a:xfrm>
          <a:prstGeom prst="rect">
            <a:avLst/>
          </a:prstGeom>
          <a:ln w="0">
            <a:noFill/>
          </a:ln>
        </p:spPr>
      </p:pic>
      <p:pic>
        <p:nvPicPr>
          <p:cNvPr id="65" name="" descr=""/>
          <p:cNvPicPr/>
          <p:nvPr/>
        </p:nvPicPr>
        <p:blipFill>
          <a:blip r:embed="rId2"/>
          <a:stretch/>
        </p:blipFill>
        <p:spPr>
          <a:xfrm>
            <a:off x="0" y="3838680"/>
            <a:ext cx="4527720" cy="3019320"/>
          </a:xfrm>
          <a:prstGeom prst="rect">
            <a:avLst/>
          </a:prstGeom>
          <a:ln w="0">
            <a:noFill/>
          </a:ln>
        </p:spPr>
      </p:pic>
      <p:pic>
        <p:nvPicPr>
          <p:cNvPr id="66" name="" descr=""/>
          <p:cNvPicPr/>
          <p:nvPr/>
        </p:nvPicPr>
        <p:blipFill>
          <a:blip r:embed="rId3"/>
          <a:stretch/>
        </p:blipFill>
        <p:spPr>
          <a:xfrm>
            <a:off x="4572000" y="3284640"/>
            <a:ext cx="457200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r Minuten</a:t>
            </a:r>
            <a:endParaRPr b="0" lang="en-US" sz="4400" spc="-1" strike="noStrike">
              <a:solidFill>
                <a:srgbClr val="000000"/>
              </a:solidFill>
              <a:latin typeface="Arial"/>
            </a:endParaRPr>
          </a:p>
        </p:txBody>
      </p:sp>
      <p:sp>
        <p:nvSpPr>
          <p:cNvPr id="68" name="PlaceHolder 2"/>
          <p:cNvSpPr>
            <a:spLocks noGrp="1"/>
          </p:cNvSpPr>
          <p:nvPr>
            <p:ph/>
          </p:nvPr>
        </p:nvSpPr>
        <p:spPr>
          <a:xfrm>
            <a:off x="-360" y="1557360"/>
            <a:ext cx="4211640" cy="4967280"/>
          </a:xfrm>
          <a:prstGeom prst="rect">
            <a:avLst/>
          </a:prstGeom>
          <a:noFill/>
          <a:ln w="0">
            <a:noFill/>
          </a:ln>
        </p:spPr>
        <p:txBody>
          <a:bodyPr lIns="90000" rIns="90000" tIns="46800" bIns="46800" anchor="t">
            <a:normAutofit fontScale="96000"/>
          </a:bodyPr>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s Genre: das Drama</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 Regisseur: Kris Kraus (es.)</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 Producer: Alexandra Kordes, </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nterhemd Kordes</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ehbuch : Kris Kraus</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den Hauptrollen: Monica Bljajbtroj, </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na Cherzschprung, Swen Pippig,</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itschi Mjuller, Schasmin Tabatabaj, </a:t>
            </a: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dja Ul</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 Operator: Dschudit Kaufman (es.)</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 Komponist: Annet Foks (es.)</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e Filmgesellschaft: Bayerischer Rundfunk (BR) / Journal Filmproduktion / Kordes und Kordes Film GmbH / Sudwestrundfunk (SWR)</a:t>
            </a:r>
            <a:endParaRPr b="0" lang="en-US" sz="1400" spc="-1" strike="noStrike">
              <a:solidFill>
                <a:srgbClr val="000000"/>
              </a:solidFill>
              <a:latin typeface="Arial"/>
            </a:endParaRPr>
          </a:p>
          <a:p>
            <a:pPr marL="329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s Budget: $1 400 000</a:t>
            </a:r>
            <a:endParaRPr b="0" lang="en-US" sz="14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 name="" descr=""/>
          <p:cNvPicPr/>
          <p:nvPr/>
        </p:nvPicPr>
        <p:blipFill>
          <a:blip r:embed="rId1"/>
          <a:stretch/>
        </p:blipFill>
        <p:spPr>
          <a:xfrm>
            <a:off x="4140360" y="1413000"/>
            <a:ext cx="4824360" cy="32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7:08:23Z</dcterms:created>
  <dc:creator>Serega</dc:creator>
  <dc:description/>
  <dc:language>en-US</dc:language>
  <cp:lastModifiedBy>Гребенщиков</cp:lastModifiedBy>
  <dcterms:modified xsi:type="dcterms:W3CDTF">2010-05-10T19:33:24Z</dcterms:modified>
  <cp:revision>5</cp:revision>
  <dc:subject/>
  <dc:title>НЕМЕЦКОЕ КИНО</dc:title>
</cp:coreProperties>
</file>