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A4BD-7153-497A-8942-21F1B2A59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7B39-BF5C-4C04-A9A4-D6AF33DF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765F-A7FE-4697-B801-3ED76914B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9513-8388-4967-8D7E-A162C0816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1B90-221A-4259-AB16-EF37A3BC2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5E02-9CAD-464F-B3C2-BB459B48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BCB1-C70E-49C6-AAB6-139441987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6BAC1-70A9-42D4-B879-49B2AF9E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D049-B38D-4621-A748-173FFF81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263B3-8A2C-4322-AFB2-32E17529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4A92-D679-4C54-97CC-F2542031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47B5-F0F9-43D1-9CFC-D274268B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9DC05-F1DB-43AF-806B-0EE80176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7736-FD06-4505-A1B5-A5AFB87E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A797-1BDE-4239-B15B-5C86782E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E885-F322-4E50-BA3A-B71C7C02A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08413-5587-482A-8189-A17E39FFE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F036-15AE-4849-8B08-EAF6A20B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463C-F96A-4F1D-A638-726D8D78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B4FD-7E5D-4C22-8824-4D3BEB9F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E27A-7AF4-48E4-BF0D-35033D9B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14EE-02BD-4656-A874-7512538F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366D-4941-4553-AD38-2E4BB1FD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BBDF-E412-4AF3-B3D7-350EBD00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3EC0-CEBB-4026-B957-B852C0B25E0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EA29-CAB0-4CC3-AD67-443F08FDC99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1052280"/>
            <a:ext cx="84358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Оценка достижений метапредметных результатов на уроках окружающего мира с применением здоровьесберегающих технологий</a:t>
            </a:r>
            <a:br>
              <a:rPr sz="3800"/>
            </a:b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700360" y="4437000"/>
            <a:ext cx="3992400" cy="2146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1419120" cy="145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Таблица наблюдений роста  ученика (для учителя)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Дости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Уч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В работе по проекту мне нравилос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В работе по проекту вызвало затруд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В работе по проекту ученик научил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Ученик понимает важность своего здоров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Вывод</a:t>
            </a: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Внесение новых условий дает учителю возможность реализации проверки уровня сформированности оценки метапредметных достиж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Творческие задания дают возможность для самореализации, личностного роста уче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415280" y="4292640"/>
            <a:ext cx="172872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2080" y="368280"/>
            <a:ext cx="795492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Аннотация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34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В данном проекте представлен опыт работы с учениками начальной школы по программе «Школа России» на уроках окружающего мира с применением элементов здоровьесберегающих технолог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266400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Актуальность проекта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691920"/>
            <a:ext cx="8229600" cy="59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Актуальность данного проекта обусловлена потребностью человека, общества и государства в здоровьесберегающем образовании, в совершенствовании и широком распространении новых здоровьесберегающих технологий в учебно-воспитательном процессе школы при переходе на обучение по стандартам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I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поколения. Каждый учитель хочет видеть своего воспитанника благополучным, счастливым и успешным, но не для кого не секрет, что основной компонент данных качеств- здоровь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Проблема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39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На уроках ученики получают знания по здоровьесбережению, но зачастую не применяют их, эти знания не гарантируют формирование мотивов и стремлений к здоровому образу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11" descr="290c5b97d8c8.jpg"/>
          <p:cNvPicPr/>
          <p:nvPr/>
        </p:nvPicPr>
        <p:blipFill>
          <a:blip r:embed="rId1"/>
          <a:stretch/>
        </p:blipFill>
        <p:spPr>
          <a:xfrm>
            <a:off x="3203640" y="4292640"/>
            <a:ext cx="2808360" cy="178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70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Гипотеза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229600" cy="54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Если в систему оценивания учитель вносит творческие компоненты (проект, творческие работы), то уроки контроля станут уроками личностных достижений. Можно предположить, что у обучающихся будет наблюдаться индивидуальный прогресс личностного роста достижений, повысится уровень применения знаний, полученных на уроке окружающего мира, каждый каждый обучающийся сможет проявить себя в том виде деятельности, где он наиболее успешен. Таким образом ценностный ориентир- здоровье будет переведен с уровня знаний на уровень понимания и приме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Цели и задачи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Изучить и обобщить опыт по пробл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•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Выяснить какие формы и методы, направленные на оценку и отметку дают возможность проверить уровень сформированности мотивов и стремлений к здоровому образу жизни, как одного из ценностных ориентиров и личностных достиж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Смоделировать учебную ситуацию, направленную на оценку метапредметных достиж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Инструментарии 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•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Стандарты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II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 покол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•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Программы по О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  •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Методические рекомендации по  организации учебной деятельности с применением здоровьесберегающих технологи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236000" y="260280"/>
            <a:ext cx="1908000" cy="18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0" y="0"/>
          <a:ext cx="4498920" cy="6880320"/>
        </p:xfrm>
        <a:graphic>
          <a:graphicData uri="http://schemas.openxmlformats.org/drawingml/2006/table">
            <a:tbl>
              <a:tblPr/>
              <a:tblGrid>
                <a:gridCol w="4498920"/>
              </a:tblGrid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Традиционные задания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Выполнить задание в рабочей тетрад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Составить рассказ по рисунку учебника. Выучить памятку из учебни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Выучить памятку из учебни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Ответить на вопросы учебник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Раскрасить съедобные грибы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Нарисовать иллюстрацию.</a:t>
                      </a:r>
                      <a:r>
                        <a:rPr b="0" lang="en-US" sz="15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Придумать загадку о зубе, об овощах.</a:t>
                      </a:r>
                      <a:r>
                        <a:rPr b="0" lang="en-US" sz="15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Найти пословицу о здоровье.</a:t>
                      </a:r>
                      <a:r>
                        <a:rPr b="0" lang="en-US" sz="15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572000" y="0"/>
          <a:ext cx="4572000" cy="685764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99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Творческие задания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Выполнить проекты по темам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Идеальная детская стоматологическая поликли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Реклама «Все для красивой улыбк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Исследование эффективности разных зубных паст на молочные зуб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Придумать сказ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Проинсцениров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Придумать рекла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Придумать кулинарные рецепты для встречи любимых сказочных геро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Составить памятку режима дня дошкольников и их бабуш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Придумать законы жизни г.Здоровейс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Научить любимую игрушку правильно чистить зуб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Придумать игру «Хорошо и плох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Таблица достижений ученика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600200"/>
          <a:ext cx="8229600" cy="4095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Достижени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Самооценк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В работе по проекту мне нравилос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В работе по проекту вызвало затруднени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В работе по проекту я научилс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Я понимаю  важность своего  здоровь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С уважением отношусь к здоровью люде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19:19:22Z</dcterms:created>
  <dc:creator>Алексахина Л.И</dc:creator>
  <dc:description/>
  <dc:language>en-US</dc:language>
  <cp:lastModifiedBy>User</cp:lastModifiedBy>
  <dcterms:modified xsi:type="dcterms:W3CDTF">2011-03-28T15:16:35Z</dcterms:modified>
  <cp:revision>3</cp:revision>
  <dc:subject/>
  <dc:title>Слайд 1</dc:title>
</cp:coreProperties>
</file>