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542-CA1C-4251-B6EC-C126E11E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478-2F30-4300-AAC8-2ECD2DD5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2C6-0F50-4CE7-8FDE-7633BB72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B75-B287-47E0-92C3-64A6644F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225F-11E4-456D-B3DE-A919CFB1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51BB-B7E4-4A44-95FE-05321A09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3314-AB67-4980-8156-992BDA1A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26A4-CC5E-489F-8A2A-90B6FF84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544B-5094-4584-8166-F428C9C4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B30F-DC95-4B0B-9555-9C907BCD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40DF-9F83-49AA-97EB-35F40E0F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9CC-D62C-48BB-87CB-C4F74B47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1A53-CB1C-4964-B7B9-0A2E0464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3727-7A6F-48C5-8515-C9089DD4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BAE7-8581-4A4D-A212-26C96FCD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9E94-E7E9-4BF7-8197-D951FDC2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7E1B-BFAD-47C8-BEE3-B075BB99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8ED-66D9-43D9-9093-C5E54207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1A3-CE88-45EE-91A8-7B12E299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C1A-4056-4FFC-BB63-902C6ADF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ADB-46B8-4410-9181-4FEF64D6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881-30C2-4664-9F33-4776427D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992-AC22-4EF3-AE63-62B715B3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F6E-C3FE-4975-87A1-644353C4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1423-632F-4F7C-ADFC-1EF9145B20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52B2-263C-47A6-9090-9B1C2E8D78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4358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Оценка достижений метапредметных результатов на уроках окружающего мира с применением здоровьесберегающих технологий</a:t>
            </a:r>
            <a:br>
              <a:rPr sz="38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00360" y="4437000"/>
            <a:ext cx="3992400" cy="214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419120" cy="14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Таблица наблюдений роста  ученика (для учителя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сти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В работе по проекту мне нравило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В работе по проекту вызвало затруд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В работе по проекту ученик научил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Ученик понимает важность своего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Вывод</a:t>
            </a: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несение новых условий дает учителю возможность реализации проверки уровня сформированности оценки метапредметных дост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Творческие задания дают возможность для самореализации, личностного роста уче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15280" y="4292640"/>
            <a:ext cx="1728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2080" y="368280"/>
            <a:ext cx="7954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Аннотац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В данном проекте представлен опыт работы с учениками начальной школы по программе «Школа России» на уроках окружающего мира с применением элементов здоровьесберегающих технолог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6640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Актуальность проект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Актуальность данного проекта обусловлена потребностью человека, общества и государства в здоровьесберегающем образовании, в совершенствовании и широком распространении новых здоровьесберегающих технологий в учебно-воспитательном процессе школы при переходе на обучение по стандартам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I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околения. Каждый учитель хочет видеть своего воспитанника благополучным, счастливым и успешным, но не для кого не секрет, что основной компонент данных качеств- здоров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Проблем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На уроках ученики получают знания по здоровьесбережению, но зачастую не применяют их, эти знания не гарантируют формирование мотивов и стремлений к здоровому образу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1" descr="290c5b97d8c8.jpg"/>
          <p:cNvPicPr/>
          <p:nvPr/>
        </p:nvPicPr>
        <p:blipFill>
          <a:blip r:embed="rId1"/>
          <a:stretch/>
        </p:blipFill>
        <p:spPr>
          <a:xfrm>
            <a:off x="3203640" y="4292640"/>
            <a:ext cx="2808360" cy="17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7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Гипотеза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Если в систему оценивания учитель вносит творческие компоненты (проект, творческие работы), то уроки контроля станут уроками личностных достижений. Можно предположить, что у обучающихся будет наблюдаться индивидуальный прогресс личностного роста достижений, повысится уровень применения знаний, полученных на уроке окружающего мира, каждый каждый обучающийся сможет проявить себя в том виде деятельности, где он наиболее успешен. Таким образом ценностный ориентир- здоровье будет переведен с уровня знаний на уровень понимания и при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Цели и задачи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Изучить и обобщить опыт по пробл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•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Выяснить какие формы и методы, направленные на оценку и отметку дают возможность проверить уровень сформированности мотивов и стремлений к здоровому образу жизни, как одного из ценностных ориентиров и личностных дост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Смоделировать учебную ситуацию, направленную на оценку метапредметных дости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Инструментарии 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•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тандарты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Программы по О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 •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ические рекомендации по  организации учебной деятельности с применением здоровьесберегающих технолог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90800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4498920" cy="6880320"/>
        </p:xfrm>
        <a:graphic>
          <a:graphicData uri="http://schemas.openxmlformats.org/drawingml/2006/table">
            <a:tbl>
              <a:tblPr/>
              <a:tblGrid>
                <a:gridCol w="44989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Традиционные задания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ыполнить задание в рабочей тетрад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оставить рассказ по рисунку учебника. Выучить памятку из учебн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ыучить памятку из учеб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Ответить на вопросы учебни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аскрасить съедобные гриб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арисовать иллюстрацию.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загадку о зубе, об овощах.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айти пословицу о здоровье.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572000" y="0"/>
          <a:ext cx="4572000" cy="68576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Творческие задания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ыполнить проекты по тема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Идеальная детская стоматологическая поликли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еклама «Все для красивой улыб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Исследование эффективности разных зубных паст на молочные зу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сказ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оинсцен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рекла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кулинарные рецепты для встречи любимых сказочных гер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оставить памятку режима дня дошкольников и их бабуш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законы жизни г.Здоровей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аучить любимую игрушку правильно чистить зу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игру «Хорошо и плох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Таблица достижений ученик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095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стиж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В работе по проекту мне нравило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В работе по проекту вызвало затрудн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В работе по проекту я научил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Я понимаю  важность своего  здоровь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С уважением отношусь к здоровью люд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9:19:22Z</dcterms:created>
  <dc:creator>Алексахина Л.И</dc:creator>
  <dc:description/>
  <dc:language>en-US</dc:language>
  <cp:lastModifiedBy>User</cp:lastModifiedBy>
  <dcterms:modified xsi:type="dcterms:W3CDTF">2011-03-28T15:16:35Z</dcterms:modified>
  <cp:revision>3</cp:revision>
  <dc:subject/>
  <dc:title>Слайд 1</dc:title>
</cp:coreProperties>
</file>