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891-418F-40DC-ADC1-7165BC2F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D12-A356-400E-93DA-123A78A6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4E5-2F8F-4B74-8322-A311DBA3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393-F7B4-4956-A0E7-0E5C923A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DDE-2447-45BD-8DD2-663CE945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489-86E1-497D-80A8-05F73F79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723-B59A-472A-A0BA-3349E58E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B5C-CB1F-498B-BDE3-ABEA641A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0B0-A32C-44AA-997E-275FB9BC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938-9603-414C-827B-C981999C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8E5-1585-4DA2-8157-3FC5FEB8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2B4-A74E-4952-B339-CB8DB79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1708-EAF2-41BD-A8D8-59E294F23C4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«Проблема религиозной толерантности. Право выбора.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ист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абаян Р.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.-к. Кисловодск, 2013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лобальной проблемой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проблема отношений между людьми, исповедывающими разные религ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акие нравственные ценности лежат в основании религиозных учен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сет ли истинная религия вражду и ненави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-4356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Этические принципы крупней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ировых 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ациональных  рели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уддиз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елай другим того, что сам считаешь з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ндуиз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елай другим того, что причинило бы боль т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удаиз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енавистно тебе, не делай того друг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аосиз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читай прибыль ближнего своей прибылью, его потерю – своей пот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слам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льзя назвать верующим того, кто не желает сестре или брату своему того же, чего желает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10392408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Христианство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упай с другим так,  как хочешь, чтобы поступали с т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14200"/>
            <a:ext cx="822960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юбая религия, будь то мировая или национальная, учит нравственной чистоте, порядочности, совествлив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елигия, как наука, как и искусство, является неотъемлемой частью национальной культур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м необходимо научиться быть толерантны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Обращение к главам мировых государст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Обращение к главам религиозных объедин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«Толерантнос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00" y="1447560"/>
            <a:ext cx="87868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ерва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тема синквейна, заключает в себе одно слово (обычно существительное), которое обозначает объект или предмет, о котором пойдет ре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тора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два слова (чаще всего прилагательные), они дают описание признаков и свойств выбранного в синквейне предмета или объ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еть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образована тремя глаголами, описывающими характерные действия объ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етверта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фраза из четырёх слов, выражающая личное отношение автора синквейна к описываемому предмету или объект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ятая строка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— одно слово-резюме, характеризующее суть предмета или объ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11280" y="54900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Что на ваш взгляд сможет сплотить жителей нашего город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  <a:ea typeface="Arial"/>
              </a:rPr>
              <a:t>К чему призывает нас тема сегодняшнего урока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узнал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поня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удивл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2920" y="285480"/>
            <a:ext cx="88581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олотое правило нравственно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« Относитесь к людям так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 вы хотите, чтобы относились к вам 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« И любить людей над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 за что-то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 просто так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тому что они есть 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пользователь\Desktop\фору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 чем данный видеосюж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ые ли проблемы поднимает данный видеосюж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ли нам решать эту проблему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9680" y="285840"/>
            <a:ext cx="818676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Написать эссе на тему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«Религиозная толерантность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Толерантность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(от лат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lerant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– терпение) – терпимость, уважение, снисходительность к кому-, чему-либо – записано на дос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е удивительно ли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что люди так часто воюю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 религию 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так редко живут по ее предписани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Лихтенберг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Россия</a:t>
            </a:r>
            <a:r>
              <a:rPr b="0" lang="ru-RU" sz="6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ногонациональное, многоконфессиональное государство, поэтому тема толерантности важная. Характерная особенность толерантности – уважение к культуре, религии и традициям каждого народа. Такой настрой позволил выстроить уникальную систему межнациональных и межрелигиозных связей. Образовался монолит российской государствен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елигия……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акое короткое и вместе с тем такое емкое, многогранное слово…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32940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ак вы понимаете слово религи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51228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кие национальные и мировые религи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ы знает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0" y="1072800"/>
            <a:ext cx="9144000" cy="53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103924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люди так часто обращаются к религ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кая религиозная проблема стоит перед человечеством в современном мир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9240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04:58:10Z</dcterms:created>
  <dc:creator>Admin</dc:creator>
  <dc:description/>
  <dc:language>en-US</dc:language>
  <cp:lastModifiedBy>пользователь</cp:lastModifiedBy>
  <dcterms:modified xsi:type="dcterms:W3CDTF">2013-03-29T19:04:14Z</dcterms:modified>
  <cp:revision>29</cp:revision>
  <dc:subject/>
  <dc:title>РЕЛИГИОЗНАЯ ТОЛЕРАНТНОСТЬ</dc:title>
</cp:coreProperties>
</file>