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D2D-ABD1-4ACD-BD3E-4C38816B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513-0801-431A-AE74-939D3228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FB2-741A-4789-A15A-8FAEACAB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296-0003-4A57-8357-78B9C0EA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9C6-A498-4322-B669-797F00D5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C49-A6C8-4EB9-A1BC-CAFD57C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625-8BE7-43EB-8697-6795FE13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867-F3B5-4095-9F1B-2ABC1A6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A22-EEF2-4AEF-A748-CDEFF4B7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7E6-F0CA-463E-9C44-F797AA9C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2EF-EFAF-4C37-B27D-6641474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9FB-6CE1-4D64-BB20-EF68C9A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17D3-296A-4D30-A20E-42B90032D6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«Проблема религиозной толерантности. Право выбора.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с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баян Р.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.-к. Кисловодск, 2013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лобальной проблемой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проблема отношений между людьми, исповедывающими разные рели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акие нравственные ценности лежат в основании религиозных учен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сет ли истинная религия вражду и ненави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4356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Этические принципы крупней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ировых 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ациональных  рели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удд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елай другим того, что сам считаешь з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нду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елай другим того, что причинило бы боль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уда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енавистно тебе, не делай того друг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аос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читай прибыль ближнего своей прибылью, его потерю – своей пот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сла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ьзя назвать верующим того, кто не желает сестре или брату своему того же, чего желает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Христианство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ай с другим так,  как хочешь, чтобы поступали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14200"/>
            <a:ext cx="82296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юбая религия, будь то мировая или национальная, учит нравственной чистоте, порядочности, совествлив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лигия, как наука, как и искусство, является неотъемлемой частью национальной культу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м необходимо научиться быть толерантны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Обращение к главам мировых государст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Обращение к главам религиозных объедин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«Толерантнос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00" y="1447560"/>
            <a:ext cx="87868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ерв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тема синквейна, заключает в себе одно слово (обычно существительное), которое обозначает объект или предмет, о котором пойдет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тор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два слова (чаще всего прилагательные), они дают описание признаков и свойств выбранного в синквейне предмета или объ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еть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образована тремя глаголами, описывающими характерные действия объ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етверт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фраза из четырёх слов, выражающая личное отношение автора синквейна к описываемому предмету или объект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ят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одно слово-резюме, характеризующее суть предмета или объ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11280" y="54900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Что на ваш взгляд сможет сплотить жителей нашего город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  <a:ea typeface="Arial"/>
              </a:rPr>
              <a:t>К чему призывает нас тема сегодняшнего урока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узнал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поня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удив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28548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олотое правило нравствен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 Относитесь к людям та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 вы хотите, чтобы относились к вам 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 И любить людей над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 за что-т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просто та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они есть 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фору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 чем данный видеосюж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ые ли проблемы поднимает данный видеосюж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ли нам решать эту проблему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9680" y="285840"/>
            <a:ext cx="81867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Написать эссе на тему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Религиозная толерантност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Толерантность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(от лат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lerant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– терпение) – терпимость, уважение, снисходительность к кому-, чему-либо – записано на дос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 удивительно л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то люди так часто вою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 религию 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ак редко живут по ее предписани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ихтенберг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Россия</a:t>
            </a: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ногонациональное, многоконфессиональное государство, поэтому тема толерантности важная. Характерная особенность толерантности – уважение к культуре, религии и традициям каждого народа. Такой настрой позволил выстроить уникальную систему межнациональных и межрелигиозных связей. Образовался монолит российской государствен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лигия……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акое короткое и вместе с тем такое емкое, многогранное слово…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32940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к вы понимаете слово религ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51228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кие национальные и мировые религ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ы знает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1072800"/>
            <a:ext cx="914400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люди так часто обращаются к религ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ая религиозная проблема стоит перед человечеством в современном мир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04:58:10Z</dcterms:created>
  <dc:creator>Admin</dc:creator>
  <dc:description/>
  <dc:language>en-US</dc:language>
  <cp:lastModifiedBy>пользователь</cp:lastModifiedBy>
  <dcterms:modified xsi:type="dcterms:W3CDTF">2013-03-29T19:04:14Z</dcterms:modified>
  <cp:revision>29</cp:revision>
  <dc:subject/>
  <dc:title>РЕЛИГИОЗНАЯ ТОЛЕРАНТНОСТЬ</dc:title>
</cp:coreProperties>
</file>