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C94-80B6-4B6A-8935-83714D92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0E5-A049-4713-9EEE-9ECBE380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FAB-D383-4F69-9858-A42DA283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86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88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86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0D1-0BFA-47A3-AEA5-186763DD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2491-3590-42EC-8F47-16477CC5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AF31-1F20-4C8E-8358-8E38C5C8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AA3-D69F-460F-88E5-B5FC9AFC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0478-D312-4680-BB3E-E9FAFE0F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7D56-B423-4227-92A1-2FF6C96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642600"/>
            <a:ext cx="75009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67DE-1A2A-4D8C-A616-1F397914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8AB0-3A67-4F94-8026-BD179C7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738-F2FA-431E-8670-6F42E70D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2054-DCE0-477D-BCF9-6C19907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46CA-E7C4-46E8-B36D-BB7931F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F8AE-7F63-4EDE-913B-7CD9ABC4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2807-8510-4785-9ED5-FF7F8D81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4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586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88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4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586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884F-87D3-4931-BE57-B54C2530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1C8-7121-44A6-891E-229D212B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8A8-3FBA-41FA-BA90-284343F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B62-6CDE-4066-AD66-4ACAAAC1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642600"/>
            <a:ext cx="75009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76C-BF25-4B58-AF62-DE022CC1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C38-5C4C-400A-AFA5-72ECDEC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811-F110-432F-91A4-C22E98CD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808-17CE-4AD0-BDE5-C6649C7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DCB6-19D7-47BB-BB03-41C83D08A3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1CD-A52A-411D-A94E-162E473D6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206360" y="781200"/>
            <a:ext cx="6694560" cy="1869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43040" y="3286080"/>
            <a:ext cx="60436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читель высшей категор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Ершова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71388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5880" y="8571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мотивации к учен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эффективности образовательного процесса за счёт высокой степени нагляд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ктивизации познавательной деятельности, повышению качественной успеваемости школьн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витие наглядно-образного, информационного мыш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витию навыков самообразования и самоконтроля у младших школьников на ур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активности и инициативности младших школьников на уро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уровня комфортност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то совокупность знаний о способах и средствах работы с информационными ресурсами, и способ сбора, обработки и передачи информации для получения новых сведений об изучаемом объект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( И.Г.Захар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85880" y="1428840"/>
            <a:ext cx="7500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означение тем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начале урока с помощью вопросов по изучаемой теме, создавая проблемную ситу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ъяснение (введение) нов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вторение, закрепление изучен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нтроль ЗУ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ая информационная технология</a:t>
            </a:r>
            <a:endParaRPr b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480" y="1571400"/>
            <a:ext cx="8001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силение интенсивност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вышение мотивац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мониторинг их дост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довлетворяет основным принципам педагогической технологии (предварительное проектирование, воспроизводимость, целеполагание, целост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ешает задачи, которые ранее в дидактике не были теоретически или практически реш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48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1200" y="560520"/>
            <a:ext cx="750888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онцепту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хнол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перацио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едагогическая реа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Адаптивность: приспособление компьютера к индивидуальным особенностям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правляемость: коррекция учителем возможна в любой мо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нтерактивность и  диалоговый характер: ИКТ обладают способностью «откликаться» на действия ученика и учителя, вступать с ним в диа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птимальное сочетание индивидуальной и группов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ддержание у ученика состояния психологического комфорта при обращении с компьюте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еограниченное обучение: содержание, его интерпретации и приложение сколь угодно ве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 и подготовка дидактических материалов ( варианты заданий, таблицы, схемы, памятки, чертеж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 мониторингов по отслеживанию результатов обучения и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 текстов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общение методического опыта в электронном виде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4:13:24Z</dcterms:created>
  <dc:creator>Comp</dc:creator>
  <dc:description/>
  <dc:language>en-US</dc:language>
  <cp:lastModifiedBy>Admin</cp:lastModifiedBy>
  <dcterms:modified xsi:type="dcterms:W3CDTF">2013-03-30T19:47:37Z</dcterms:modified>
  <cp:revision>29</cp:revision>
  <dc:subject/>
  <dc:title>Слайд 1</dc:title>
</cp:coreProperties>
</file>