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F3C-487D-41D4-A840-B3F15472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E16-A0A8-46AA-976C-B42909C2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5CE-F1A1-44FA-8D65-056B651E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586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88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586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7B2-53AE-48C8-9885-1EB1306E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C87D-CB22-4216-9E9A-7FA0C034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183E-9C6D-4A24-BAFC-619B96BD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67B5-7128-4019-B4E4-BA361AB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0FCE-57FB-4365-AE07-00033E9A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FEDA-CE79-45E5-A5EE-55CEDE84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642600"/>
            <a:ext cx="75009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A441-D85A-4C9A-BBA5-B37F5ACA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1FC7-6AE5-4BE3-91CC-17A2B928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331-329E-4F97-867F-69D6D736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29B0-0B34-4102-90A3-3B7CE3E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DA15-BF62-407F-B746-3737AB5E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D446-27B3-4224-AD66-503FC381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4E02-FA72-4842-B924-CC035F47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24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58640" y="178596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88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224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58640" y="3689280"/>
            <a:ext cx="241524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D49F-25FC-43F5-B622-3C3A5E44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0C8-A1CB-4359-BE27-077305F2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50E-2075-4CA6-B56D-9C12247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6A0-5A97-4C28-8A62-5B3F9765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642600"/>
            <a:ext cx="75009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0AB-9036-4672-8CB3-73924288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D58-CBFC-4149-B882-332DDE3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240" y="368928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AF3-72F9-4668-8928-C8C52634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240" y="1785960"/>
            <a:ext cx="366012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880" y="3689280"/>
            <a:ext cx="7500960" cy="17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D6D-2765-4FCF-9985-D8739DA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1877-43D3-4E5B-9D6F-66DB20036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64E4-3253-40FB-854F-81254A7126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206360" y="781200"/>
            <a:ext cx="6694560" cy="1869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43040" y="3286080"/>
            <a:ext cx="60436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читель высшей категор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Ершова Т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71388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85880" y="8571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ышению мотивации к учен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ышению эффективности образовательного процесса за счёт высокой степени нагляд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ктивизации познавательной деятельности, повышению качественной успеваемости школьни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витие наглядно-образного, информационного мыш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витию навыков самообразования и самоконтроля у младших школьников на уро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ышению активности и инициативности младших школьников на уро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вышению уровня комфортност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это совокупность знаний о способах и средствах работы с информационными ресурсами, и способ сбора, обработки и передачи информации для получения новых сведений об изучаемом объект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( И.Г.Захар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85880" y="1428840"/>
            <a:ext cx="7500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бозначение темы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 начале урока с помощью вопросов по изучаемой теме, создавая проблемную ситу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бъяснение (введение) нов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вторение, закрепление изученн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Контроль ЗУ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вая информационная технология</a:t>
            </a:r>
            <a:endParaRPr b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480" y="1571400"/>
            <a:ext cx="8001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силение интенсивности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вышение мотивац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мониторинг их дост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довлетворяет основным принципам педагогической технологии (предварительное проектирование, воспроизводимость, целеполагание, целост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ешает задачи, которые ранее в дидактике не были теоретически или практически реш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500960" cy="48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781200" y="560520"/>
            <a:ext cx="750888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Концепту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Технолог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перацио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едагогическая реа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Адаптивность: приспособление компьютера к индивидуальным особенностям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правляемость: коррекция учителем возможна в любой мо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Интерактивность и  диалоговый характер: ИКТ обладают способностью «откликаться» на действия ученика и учителя, вступать с ним в диал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птимальное сочетание индивидуальной и группов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ддержание у ученика состояния психологического комфорта при обращении с компьюте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Неограниченное обучение: содержание, его интерпретации и приложение сколь угодно ве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7508880" cy="108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85880" y="1785960"/>
            <a:ext cx="75009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здание и подготовка дидактических материалов ( варианты заданий, таблицы, схемы, памятки, чертеж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здание мониторингов по отслеживанию результатов обучения и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здание текстовых р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общение методического опыта в электронном виде и т.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4:13:24Z</dcterms:created>
  <dc:creator>Comp</dc:creator>
  <dc:description/>
  <dc:language>en-US</dc:language>
  <cp:lastModifiedBy>Admin</cp:lastModifiedBy>
  <dcterms:modified xsi:type="dcterms:W3CDTF">2013-03-30T19:47:37Z</dcterms:modified>
  <cp:revision>29</cp:revision>
  <dc:subject/>
  <dc:title>Слайд 1</dc:title>
</cp:coreProperties>
</file>