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6DA-F98B-451B-AB6C-5D32E9FD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282-0E76-402B-9BE5-15FC2CF7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99E-A92F-42A9-9252-E3A6DF30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ECB-1051-4628-A674-D8918BEF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FB3-6104-4F7C-98C9-0DE8AF1F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6B0-6F99-4C8D-90F3-B1EBF8E1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0B8-ACBE-4E5D-89EF-5D72EC81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91D-F9B4-45E6-AE2F-3B3D4D4F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7CA-6747-44F0-A8DB-8E30750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72A-82A7-4776-9580-D5D736EE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069-6356-4F33-A9BD-53269852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3C5-AFEA-4C95-A3DB-5F392C29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A42-7D86-41A5-847B-245DA5B2E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kinklub.com/" TargetMode="External"/><Relationship Id="rId2" Type="http://schemas.openxmlformats.org/officeDocument/2006/relationships/hyperlink" Target="http://ladushki.ru/" TargetMode="External"/><Relationship Id="rId3" Type="http://schemas.openxmlformats.org/officeDocument/2006/relationships/hyperlink" Target="http://elkin52.narod.ru/" TargetMode="External"/><Relationship Id="rId4" Type="http://schemas.openxmlformats.org/officeDocument/2006/relationships/hyperlink" Target="http://playroom.com.ru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дошкольное образователь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реждение детский сад № 9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развивающего вида с приорететны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м физического развития воспитанник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сногвардейского района Санкт-Петербург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916280"/>
            <a:ext cx="8291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русенко Ирина Кузьминична, воспитател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2962440"/>
            <a:ext cx="7143840" cy="2133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74960" y="-3168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822960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, расскажите какие деревья, вы знает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80500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3" descr="Рябина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Дуб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Береза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3" descr="Ель-1.jpg"/>
          <p:cNvPicPr/>
          <p:nvPr/>
        </p:nvPicPr>
        <p:blipFill>
          <a:blip r:embed="rId1"/>
          <a:srcRect l="0" t="0" r="0" b="45800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дует нам в ли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ачалось деревц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тер тише, тише, ти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цо растет всё вы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еперь, я покажу вам, как надо рисовать дере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5ris5.jpg"/>
          <p:cNvPicPr/>
          <p:nvPr/>
        </p:nvPicPr>
        <p:blipFill>
          <a:blip r:embed="rId1"/>
          <a:stretch/>
        </p:blipFill>
        <p:spPr>
          <a:xfrm>
            <a:off x="611280" y="1773360"/>
            <a:ext cx="8137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йчас, вы садитесь за столы и каждый нарисует свое дере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работа детей, рассматривание детских рисунков, оценка работ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 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oi-detsa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68360" y="2066040"/>
            <a:ext cx="68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kinklub.co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ladushki.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http://elkin52.narod.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http://playroom.com.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psyparents.ru/inde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зна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должить учить детей собирать целое изображение ( дерево) из геометрических фигу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знания геометрических фигур; закрепление понятий : широкий, узкий , тонкий,  толстый, вверх, вниз, много , один.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оммуникац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ть учить отвечать на вопросы полными ответами. Расширять словарный запас слов за счет названий деревьев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Физкультур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двигательную активность вовремя физминутки. Здоровье: следить за осанкой детей.  Художественное творчество: Закреплять умение рисовать прямые линии, правильно держать кисть, набирать 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800000">
            <a:off x="457200" y="61261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оровье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ить за осанкой детей.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Художественное творчество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лять умение рисовать прямые линии, правильно держать кисть, набирать крас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узык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детей внимательно слушать музыкальное произведение, выражать свои эмоции в рису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циализация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ироде, способность любоваться её крас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уд: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ь детей убирать своё рабоче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атериа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дерева, картинки различных деревьев, запись шума леса, гуашь, кисточки, вода, тряп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едвари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я за деревьями на прогулке, беседы о деревьях, чтение стихотворений о деревьях, рассматривание иллюстр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89308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д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чит музыка композитора П.И.Чайк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ремена года»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прослушивания, детям предлагается ответить на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ята, вы прослушали музыкальное произведение, расскажите, что оно Вам напомин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м из каких частей состоит дере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post-70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01960" y="5661000"/>
            <a:ext cx="488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Вспомним из каких частей состоит дерево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акой ствол вниз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акой ствол вверх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Сколько на дереве веток, сколько ство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162120" y="5950080"/>
            <a:ext cx="17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 какие ве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геометрические фигуры,  вы узнали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8eb5be88f0.jpg"/>
          <p:cNvPicPr/>
          <p:nvPr/>
        </p:nvPicPr>
        <p:blipFill>
          <a:blip r:embed="rId1"/>
          <a:srcRect l="65122" t="0" r="0" b="0"/>
          <a:stretch/>
        </p:blipFill>
        <p:spPr>
          <a:xfrm>
            <a:off x="324000" y="981000"/>
            <a:ext cx="1660320" cy="3438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b7e77de994.jpg"/>
          <p:cNvPicPr/>
          <p:nvPr/>
        </p:nvPicPr>
        <p:blipFill>
          <a:blip r:embed="rId2"/>
          <a:srcRect l="65122" t="18753" r="0" b="0"/>
          <a:stretch/>
        </p:blipFill>
        <p:spPr>
          <a:xfrm>
            <a:off x="7020000" y="1700280"/>
            <a:ext cx="166212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1(1).jpg"/>
          <p:cNvPicPr/>
          <p:nvPr/>
        </p:nvPicPr>
        <p:blipFill>
          <a:blip r:embed="rId3"/>
          <a:srcRect l="0" t="3816" r="0" b="30790"/>
          <a:stretch/>
        </p:blipFill>
        <p:spPr>
          <a:xfrm>
            <a:off x="2771640" y="1484280"/>
            <a:ext cx="1657440" cy="1225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3.jpg"/>
          <p:cNvPicPr/>
          <p:nvPr/>
        </p:nvPicPr>
        <p:blipFill>
          <a:blip r:embed="rId4"/>
          <a:srcRect l="0" t="5730" r="0" b="42872"/>
          <a:stretch/>
        </p:blipFill>
        <p:spPr>
          <a:xfrm>
            <a:off x="4932360" y="141300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2.jpg"/>
          <p:cNvPicPr/>
          <p:nvPr/>
        </p:nvPicPr>
        <p:blipFill>
          <a:blip r:embed="rId5"/>
          <a:srcRect l="6650" t="5094" r="6600" b="38804"/>
          <a:stretch/>
        </p:blipFill>
        <p:spPr>
          <a:xfrm>
            <a:off x="4427640" y="2781360"/>
            <a:ext cx="1873080" cy="1584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1705680" y="436572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из геометрических фигур дер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8" descr="geo-figuri3-150x150.jpg"/>
          <p:cNvPicPr/>
          <p:nvPr/>
        </p:nvPicPr>
        <p:blipFill>
          <a:blip r:embed="rId6"/>
          <a:srcRect l="0" t="10078" r="0" b="29453"/>
          <a:stretch/>
        </p:blipFill>
        <p:spPr>
          <a:xfrm>
            <a:off x="7164360" y="836640"/>
            <a:ext cx="142884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11971494591216069200nlyl_orange_triangle.svg.hi.png"/>
          <p:cNvPicPr/>
          <p:nvPr/>
        </p:nvPicPr>
        <p:blipFill>
          <a:blip r:embed="rId7"/>
          <a:stretch/>
        </p:blipFill>
        <p:spPr>
          <a:xfrm>
            <a:off x="1979640" y="2565360"/>
            <a:ext cx="208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12:54:38Z</dcterms:created>
  <dc:creator>Ричард</dc:creator>
  <dc:description/>
  <dc:language>en-US</dc:language>
  <cp:lastModifiedBy>Ричард</cp:lastModifiedBy>
  <dcterms:modified xsi:type="dcterms:W3CDTF">2013-02-23T11:48:52Z</dcterms:modified>
  <cp:revision>22</cp:revision>
  <dc:subject/>
  <dc:title>Слайд 1</dc:title>
</cp:coreProperties>
</file>