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4A9B-B3E2-4F9A-A235-F2A2DE73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F57B-911F-4CE7-82DC-C62D3D7F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01F-28B8-4C06-A734-9B3DD73E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488-E9D2-4FFB-9149-7544884A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4555-4BF4-4111-BC9C-E152BA4C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6B78-2406-48E3-AE32-B3C1F28F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2C0-B6AF-473A-AB47-5BBCAE7B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4D8-85EF-4E84-8FB7-594804CC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B80-AA81-4031-9FC4-65F84A90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F8E-EDBB-4B30-9FD5-F0A582EC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F83-3237-460F-A8FF-EEC9E760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A38-2B71-4BE2-ABE9-6B07B6CB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05D8-F1BB-4C5D-A523-E32F59071E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kinklub.com/" TargetMode="External"/><Relationship Id="rId2" Type="http://schemas.openxmlformats.org/officeDocument/2006/relationships/hyperlink" Target="http://ladushki.ru/" TargetMode="External"/><Relationship Id="rId3" Type="http://schemas.openxmlformats.org/officeDocument/2006/relationships/hyperlink" Target="http://elkin52.narod.ru/" TargetMode="External"/><Relationship Id="rId4" Type="http://schemas.openxmlformats.org/officeDocument/2006/relationships/hyperlink" Target="http://playroom.com.ru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ое бюджетное дошкольное образовательн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реждение детский сад № 91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развивающего вида с приорететны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ением физического развития воспитанник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асногвардейского района Санкт-Петербург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916280"/>
            <a:ext cx="82915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арусенко Ирина Кузьминична, воспитател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квалификационная катег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1000080" y="2962440"/>
            <a:ext cx="7143840" cy="2133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74960" y="-3168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8229600" cy="286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теперь, расскажите какие деревья, вы знаете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580500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3" descr="Рябина-1.jpg"/>
          <p:cNvPicPr/>
          <p:nvPr/>
        </p:nvPicPr>
        <p:blipFill>
          <a:blip r:embed="rId1"/>
          <a:srcRect l="0" t="0" r="0" b="45800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3" descr="Дуб-1.jpg"/>
          <p:cNvPicPr/>
          <p:nvPr/>
        </p:nvPicPr>
        <p:blipFill>
          <a:blip r:embed="rId1"/>
          <a:srcRect l="0" t="0" r="0" b="45800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3" descr="Береза-1.jpg"/>
          <p:cNvPicPr/>
          <p:nvPr/>
        </p:nvPicPr>
        <p:blipFill>
          <a:blip r:embed="rId1"/>
          <a:srcRect l="0" t="0" r="0" b="45800"/>
          <a:stretch/>
        </p:blipFill>
        <p:spPr>
          <a:xfrm>
            <a:off x="0" y="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3" descr="Ель-1.jpg"/>
          <p:cNvPicPr/>
          <p:nvPr/>
        </p:nvPicPr>
        <p:blipFill>
          <a:blip r:embed="rId1"/>
          <a:srcRect l="0" t="0" r="0" b="45800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минут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тер дует нам в лиц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ачалось деревц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тер тише, тише, ти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цо растет всё выш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теперь, я покажу вам, как надо рисовать дере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одержимое 3" descr="5ris5.jpg"/>
          <p:cNvPicPr/>
          <p:nvPr/>
        </p:nvPicPr>
        <p:blipFill>
          <a:blip r:embed="rId1"/>
          <a:stretch/>
        </p:blipFill>
        <p:spPr>
          <a:xfrm>
            <a:off x="611280" y="1773360"/>
            <a:ext cx="8137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йчас, вы садитесь за столы и каждый нарисует свое дере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работа детей, рассматривание детских рисунков, оценка работ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нет -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moi-detsad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468360" y="2066040"/>
            <a:ext cx="68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http://kinklub.com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http://ladushki.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http://elkin52.narod.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/>
              </a:rPr>
              <a:t>http://playroom.com.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psyparents.ru/inde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озна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должить учить детей собирать целое изображение ( дерево) из геометрических фигур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ение знания геометрических фигур; закрепление понятий : широкий, узкий , тонкий,  толстый, вверх, вниз, много , один.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оммуникац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ть учить отвечать на вопросы полными ответами. Расширять словарный запас слов за счет названий деревьев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Физкультур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двигательную активность вовремя физминутки. Здоровье: следить за осанкой детей.  Художественное творчество: Закреплять умение рисовать прямые линии, правильно держать кисть, набирать 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10800000">
            <a:off x="457200" y="612612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13040" indent="-11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доровье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ить за осанкой детей.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Художественное творчество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лять умение рисовать прямые линии, правильно держать кисть, набирать крас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узык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ь детей внимательно слушать музыкальное произведение, выражать свои эмоции в рисун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24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циализация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ывать бережное отношение к природе, способность любоваться её крас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руд: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ь детей убирать своё рабочее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териа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ема дерева, картинки различных деревьев, запись шума леса, гуашь, кисточки, вода, тряп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едвари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ения за деревьями на прогулке, беседы о деревьях, чтение стихотворений о деревьях, рассматривание иллюстр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89308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д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учит музыка композитора П.И.Чайко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ремена года»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прослушивания, детям предлагается ответить на вопрос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ята, вы прослушали музыкальное произведение, расскажите, что оно Вам напомин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м из каких частей состоит дерево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3" descr="post-70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201960" y="5661000"/>
            <a:ext cx="488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Вспомним из каких частей состоит дерево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Какой ствол вниз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Какой ствол вверх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Сколько на дереве веток, сколько ствол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6162120" y="5950080"/>
            <a:ext cx="17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А какие вет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геометрические фигуры,  вы узнали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Содержимое 3" descr="8eb5be88f0.jpg"/>
          <p:cNvPicPr/>
          <p:nvPr/>
        </p:nvPicPr>
        <p:blipFill>
          <a:blip r:embed="rId1"/>
          <a:srcRect l="65122" t="0" r="0" b="0"/>
          <a:stretch/>
        </p:blipFill>
        <p:spPr>
          <a:xfrm>
            <a:off x="324000" y="981000"/>
            <a:ext cx="1660320" cy="3438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b7e77de994.jpg"/>
          <p:cNvPicPr/>
          <p:nvPr/>
        </p:nvPicPr>
        <p:blipFill>
          <a:blip r:embed="rId2"/>
          <a:srcRect l="65122" t="18753" r="0" b="0"/>
          <a:stretch/>
        </p:blipFill>
        <p:spPr>
          <a:xfrm>
            <a:off x="7020000" y="1700280"/>
            <a:ext cx="1662120" cy="28098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1(1).jpg"/>
          <p:cNvPicPr/>
          <p:nvPr/>
        </p:nvPicPr>
        <p:blipFill>
          <a:blip r:embed="rId3"/>
          <a:srcRect l="0" t="3816" r="0" b="30790"/>
          <a:stretch/>
        </p:blipFill>
        <p:spPr>
          <a:xfrm>
            <a:off x="2771640" y="1484280"/>
            <a:ext cx="1657440" cy="12254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3.jpg"/>
          <p:cNvPicPr/>
          <p:nvPr/>
        </p:nvPicPr>
        <p:blipFill>
          <a:blip r:embed="rId4"/>
          <a:srcRect l="0" t="5730" r="0" b="42872"/>
          <a:stretch/>
        </p:blipFill>
        <p:spPr>
          <a:xfrm>
            <a:off x="4932360" y="1413000"/>
            <a:ext cx="2016000" cy="1295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2.jpg"/>
          <p:cNvPicPr/>
          <p:nvPr/>
        </p:nvPicPr>
        <p:blipFill>
          <a:blip r:embed="rId5"/>
          <a:srcRect l="6650" t="5094" r="6600" b="38804"/>
          <a:stretch/>
        </p:blipFill>
        <p:spPr>
          <a:xfrm>
            <a:off x="4427640" y="2781360"/>
            <a:ext cx="1873080" cy="1584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1705680" y="4365720"/>
            <a:ext cx="49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из геометрических фигур дер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8" descr="geo-figuri3-150x150.jpg"/>
          <p:cNvPicPr/>
          <p:nvPr/>
        </p:nvPicPr>
        <p:blipFill>
          <a:blip r:embed="rId6"/>
          <a:srcRect l="0" t="10078" r="0" b="29453"/>
          <a:stretch/>
        </p:blipFill>
        <p:spPr>
          <a:xfrm>
            <a:off x="7164360" y="836640"/>
            <a:ext cx="1428840" cy="863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9" descr="11971494591216069200nlyl_orange_triangle.svg.hi.png"/>
          <p:cNvPicPr/>
          <p:nvPr/>
        </p:nvPicPr>
        <p:blipFill>
          <a:blip r:embed="rId7"/>
          <a:stretch/>
        </p:blipFill>
        <p:spPr>
          <a:xfrm>
            <a:off x="1979640" y="2565360"/>
            <a:ext cx="208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2T12:54:38Z</dcterms:created>
  <dc:creator>Ричард</dc:creator>
  <dc:description/>
  <dc:language>en-US</dc:language>
  <cp:lastModifiedBy>Ричард</cp:lastModifiedBy>
  <dcterms:modified xsi:type="dcterms:W3CDTF">2013-02-23T11:48:52Z</dcterms:modified>
  <cp:revision>22</cp:revision>
  <dc:subject/>
  <dc:title>Слайд 1</dc:title>
</cp:coreProperties>
</file>