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901-5034-4D43-AE8D-004BEB68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274-303C-4789-930F-7EDD7434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3B1-AB4C-4739-BEBA-E43DEEF0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393-7571-4017-8A94-C2ABB225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8DD7-3007-4009-8F52-41FF4431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2E28-142E-4582-8F43-3F2DD323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9583-06D8-4568-A48A-8FCA1AC6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7474-11B7-47E8-B347-38657D3A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BBFE-0D48-4BFC-A25E-14DDCBDD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DA66-E9A3-4B5E-B43E-7618533F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D798-E409-4802-9089-EAEC132F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1BE-5727-4464-99D2-7701E1E3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1593-D897-44FB-B172-6733122E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CA10-2146-4912-8575-30B2F889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AAED-CB41-4C9B-908F-9B1CDD57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D9AE-38A5-416B-ADCA-8E4E9787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307C-2004-4A32-8A70-940ACF12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A2A-00A4-47A1-A815-46CB559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0E8-D036-4F3E-9DA2-08F53D2A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7DE-29A8-4282-93D6-CC4478D1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9BF-B035-435C-A912-6668F6A0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F4A-E426-437F-B11C-F9C960DA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1E5-D4FD-4DD1-93B9-C78AA70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9B0-76A4-4110-8A1F-3C5263C1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05F7-1F65-4437-AFED-7B6F8131B14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F34C-A127-4518-9B95-081C850669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ализация национального проекта «Образование» через инновационные процессы в преподавании иностранного язы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еминар провод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иностранного язык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валификационной катего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белева Е.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DSC02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395280" y="587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ПРОЕКТ  ПО ТЕМЕ « РАЗНЫЕ СТРАНЫ – РАЗНЫЕ ПЕЙЗАЖ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10 КЛАСС КАЛИНИНА  КРИСТИНА   «НОВАЯ ЗЕЛАНДИЯ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DSC027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4360" y="573264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ПРОЕКТ ПО ТЕМЕ «РАЗНЫЕ СТРАНЫ – РАЗНЫЕ ПЕЙЗАЖ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10 КЛАСС  ДУРЯГИНА ЯНА  «АМЕРИК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DSC028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324000" y="580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ПРОЕКТ ПО ТЕМЕ «РАЗНЫЕ СТРАНЫ – РАЗНЫЕ ПЕЙЗАЖИ</a:t>
            </a:r>
            <a:br>
              <a:rPr sz="1800"/>
            </a:b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10 КЛАСС ПОЗДНЯКОВ ВАДИМ  «РОССИЯ, РОСТОВ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2721960" y="58197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ПОЛНЕНИЕ КАР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355200" y="5602320"/>
            <a:ext cx="35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Verdana"/>
              </a:rPr>
              <a:t>ЗАПОЛНЕНИЕ ФОР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SDC148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84360" y="260280"/>
            <a:ext cx="7545240" cy="6426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ЕКТ  ПО ТЕМЕ « ЗДОРОВЫЙ ОБРАЗ ЖИЗНИ»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7 КЛАСС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СИПОВА АНАСТА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79280" y="189000"/>
            <a:ext cx="831708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ОЛЕВАЯ ИГРА ПО ТЕМЕ « 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 7 КЛАССЕ  « НА ПРИЕМЕ У ДОКТОР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8" descr="IMG_0002"/>
          <p:cNvPicPr/>
          <p:nvPr/>
        </p:nvPicPr>
        <p:blipFill>
          <a:blip r:embed="rId1"/>
          <a:stretch/>
        </p:blipFill>
        <p:spPr>
          <a:xfrm>
            <a:off x="0" y="260280"/>
            <a:ext cx="4494240" cy="5256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1"/>
          <p:cNvSpPr/>
          <p:nvPr/>
        </p:nvSpPr>
        <p:spPr>
          <a:xfrm>
            <a:off x="5003640" y="260280"/>
            <a:ext cx="28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« Есть ли у вас проблемы со здоровьем?» в 7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9" name="Object 56"/>
          <p:cNvGraphicFramePr/>
          <p:nvPr/>
        </p:nvGraphicFramePr>
        <p:xfrm>
          <a:off x="4572000" y="1413000"/>
          <a:ext cx="4211640" cy="403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Object 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413000"/>
                    <a:ext cx="42116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57"/>
          <p:cNvSpPr/>
          <p:nvPr/>
        </p:nvSpPr>
        <p:spPr>
          <a:xfrm>
            <a:off x="6516720" y="1700280"/>
            <a:ext cx="16556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Arial"/>
              </a:rPr>
              <a:t>Имеют проблемы со здоровьем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Arial"/>
              </a:rPr>
              <a:t>необходимо соблюдать Не имеют проблем со здоровьем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58"/>
          <p:cNvSpPr/>
          <p:nvPr/>
        </p:nvSpPr>
        <p:spPr>
          <a:xfrm>
            <a:off x="711360" y="6035760"/>
            <a:ext cx="76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УЛЬТАТЫ АНКЕТЫ « ПРОБЛЕМЫ СО ЗДОРОВЬЕМ» В 7 А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SDC17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377000" y="492120"/>
            <a:ext cx="6105960" cy="64260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ЕКТ ПО ТЕМЕ « УЗНАЕМ БОЛЬШЕ О ЛОНДОНЕ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  ПАВЛОГРАДСКОЙ ОЛЬГИ 5 КЛАС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SDC17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403280" y="333360"/>
            <a:ext cx="5205600" cy="11912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ПРОЕКТ ПО ТЕМ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 УЗНАЕМ БОЛЬШЕ О  ЛОНДОНЕ»</a:t>
            </a:r>
            <a:br>
              <a:rPr sz="1800"/>
            </a:b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5 КЛАСС ШВАРЕВОЙ ПОЛИН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 МУЗЕИ ЛОНДОН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SDC17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771640" y="549360"/>
            <a:ext cx="5545440" cy="916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ЕКТ « УЗНАЕМ БОЛЬШЕ О НОВОШАХТИНСКЕ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5 КЛАСС КРАВЦОВА Н. БУНДИКОВА 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ННОВАЦИОННАЯ ДЕЯ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Научно-исследовательская деятельнос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роектная деятельнос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Образовательная деятельнос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DSCN0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791640" y="347760"/>
            <a:ext cx="6141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ПРОЕКТ ПО ТЕМЕ « ЛЮБИТЕ ЛИ ВЫ ПРАЗДНИКИ?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УСКОВ А. ВАСИЛЕНКО 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DSCN06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46200" y="6021360"/>
            <a:ext cx="184320" cy="3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68360" y="5661000"/>
            <a:ext cx="62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ПРОЕКТ ПО ТЕМЕ «ЛЮБИТЕ ЛИ ВЫ ПРАЗДН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МАЙСКАЯ КОРОЛЕВА»В  6 А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SCN06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sp>
        <p:nvSpPr>
          <p:cNvPr id="205" name="Text Box 5"/>
          <p:cNvSpPr/>
          <p:nvPr/>
        </p:nvSpPr>
        <p:spPr>
          <a:xfrm>
            <a:off x="1908000" y="5877000"/>
            <a:ext cx="604872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ект «Любите ли вы праздники?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1717920" y="6237360"/>
            <a:ext cx="5066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ПРОЕКТ « ЛЮБИТЕ ЛИ ВЫ ПРАЗДНИКИ?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DSCN05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324000" y="6021360"/>
            <a:ext cx="5795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ВНЕКЛАССНОЕ МЕРОПРИЯТИЕ В 4КЛАСС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«КОНКУРС ЗНАТОКОВ</a:t>
            </a:r>
            <a:r>
              <a:rPr b="0" lang="ru-RU" sz="1800" spc="-1" strike="noStrike">
                <a:solidFill>
                  <a:srgbClr val="0066cc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SDC169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250920" y="620640"/>
            <a:ext cx="526248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НЕКЛАССНОЕ МЕРОПРИЯТИЕ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ГРА « ЗВЕЗДНЫЙ ЧАС» 8 КЛАС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SDC169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258920" y="765000"/>
            <a:ext cx="6264360" cy="6426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НЕКЛАССНОЕ МЕРОПРИЯТИЕ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ГРА « ЗВЕЗДНЫЙ ЧАС» 7 КЛАС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DSCN09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821160" y="404640"/>
            <a:ext cx="3279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ПРАЗДНИК « </a:t>
            </a: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Hallowe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’en</a:t>
            </a: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УЧАЩИЕСЯ 7 А КЛАСС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ртфолио - новое направление оценочной деятельности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пособ фиксирования, накопления и оценки работ учащегося, свидетельствующих о его усилиях, прогрессе, достижениях в различных областях за определенный период времен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ортфолио реализует задач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ддерживать и стимулировать учебную мотивацию учащихс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ощрять их активность и самостоятельность, расширять возможности обучения и самообуче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звивать навыки рефлексивной и оценочной деятельности учащихс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ормировать умения: ставить цели, планировать и организовывать собственную учебную деятельность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кладывать  дополнительные предпосылки и возможности для успешной социализа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действовать индивидуализации образования школьнико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ормировать умения отслеживать и гордиться своими успехами в конкурентной сред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ИННОВАЦИОННАЯ ОБРАЗОВАТЕЛЬНАЯ ТЕХНОЛОГ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ое содержа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ые метод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ая инфраструктура обуче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информационна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технологическа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организационна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коммуникационна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Технология ПОРТФОЛИО реализует следующие функци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гностическ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еполаг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тивационн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ржательн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ивающ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йтингов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учающ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ректирующ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Organization Chart 5"/>
          <p:cNvGrpSpPr/>
          <p:nvPr/>
        </p:nvGrpSpPr>
        <p:grpSpPr>
          <a:xfrm>
            <a:off x="324000" y="1413000"/>
            <a:ext cx="8603280" cy="4730760"/>
            <a:chOff x="324000" y="1413000"/>
            <a:chExt cx="8603280" cy="4730760"/>
          </a:xfrm>
        </p:grpSpPr>
        <p:cxnSp>
          <p:nvCxnSpPr>
            <p:cNvPr id="223" name="_s1028"/>
            <p:cNvCxnSpPr>
              <a:stCxn id="224" idx="0"/>
              <a:endCxn id="225" idx="2"/>
            </p:cNvCxnSpPr>
            <p:nvPr/>
          </p:nvCxnSpPr>
          <p:spPr>
            <a:xfrm flipV="1" rot="16200000">
              <a:off x="5657760" y="2271960"/>
              <a:ext cx="946800" cy="3011760"/>
            </a:xfrm>
            <a:prstGeom prst="bentConnector3">
              <a:avLst>
                <a:gd name="adj1" fmla="val 209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0"/>
              <a:endCxn id="225" idx="2"/>
            </p:cNvCxnSpPr>
            <p:nvPr/>
          </p:nvCxnSpPr>
          <p:spPr>
            <a:xfrm flipV="1">
              <a:off x="4625280" y="3304800"/>
              <a:ext cx="3240" cy="946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8" name="_s1030"/>
            <p:cNvCxnSpPr>
              <a:stCxn id="229" idx="0"/>
              <a:endCxn id="225" idx="2"/>
            </p:cNvCxnSpPr>
            <p:nvPr/>
          </p:nvCxnSpPr>
          <p:spPr>
            <a:xfrm flipH="1" flipV="1" rot="5400000">
              <a:off x="2646360" y="2272320"/>
              <a:ext cx="946800" cy="3011760"/>
            </a:xfrm>
            <a:prstGeom prst="bentConnector3">
              <a:avLst>
                <a:gd name="adj1" fmla="val 209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5" name="_s1031"/>
            <p:cNvSpPr/>
            <p:nvPr/>
          </p:nvSpPr>
          <p:spPr>
            <a:xfrm>
              <a:off x="3335040" y="1413000"/>
              <a:ext cx="2580840" cy="18921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ОРТФОЛИО-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форма оценки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достижений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учащихся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1032"/>
            <p:cNvSpPr/>
            <p:nvPr/>
          </p:nvSpPr>
          <p:spPr>
            <a:xfrm>
              <a:off x="324000" y="4251600"/>
              <a:ext cx="2580840" cy="18921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Портфолио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документов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3335040" y="4251600"/>
              <a:ext cx="2580840" cy="18921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Портфолио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работ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_s1034"/>
            <p:cNvSpPr/>
            <p:nvPr/>
          </p:nvSpPr>
          <p:spPr>
            <a:xfrm>
              <a:off x="6346440" y="4251600"/>
              <a:ext cx="2580840" cy="18921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Портфолио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отзывов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ортфолио документов»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- портфель сертифицированных индивидуальных образовательных достижений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зультаты олимпиад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кольной, городской, област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разовательные тестиров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конкурсы по предмета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ероприятия, организованные ОУ;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ероприятия, организованные УД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ортфолио работ»-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собрание различных форм и направлений учебной и творческой активност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следовательские работы и рефера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ектные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хническое творчест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ы по искусств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ормы творческой активности в театре, хор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лективные курсы и факультатив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нятия в УД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астие в конференциях, семинарах, акция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ортивные достиж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«Портфолио отзывов»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- характеристики отношения к различным видам деятельности учителями, родителями, работниками УДО, самого школьни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ключение  о качестве выполненной рабо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цензия на статью, опубликованную в С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зыв о работе в творческом коллектив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зюме , подготовленное школьником , с оценкой собственных учебных достижени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Эссе школьника , посвященное выбору направления дальнейшего обуче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комендательное письмо о прохождении социальной практики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НГАФОННЫЙ КАБИН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редство повышения познавательной активности учащихся при изучении иностранного язы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овое орудие труда учите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DSCN09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DSCN09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ункции лингафонного кабине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формативна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енировочно-обучающа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тролирующее-корректирующа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муникативна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правление учебной деятельностью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5" descr="DSCN0934"/>
          <p:cNvPicPr/>
          <p:nvPr/>
        </p:nvPicPr>
        <p:blipFill>
          <a:blip r:embed="rId1"/>
          <a:stretch/>
        </p:blipFill>
        <p:spPr>
          <a:xfrm>
            <a:off x="4572000" y="206064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ИМУЩЕСТВА ЛИНГАФОННОГО КАБИНЕ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ногообразие разных режимов организационных форм работы (общий, парный, групповой режимы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ткое определение условий применения технических возможностей лингафонного кабинета в зависимости от целей, содержания этапа обуч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правление познавательной деятельностью как на этапе формирования умений и навыков, так и на этапе контрол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арактер взаимодействия преподавателя и учащих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зможность комплексного использования (подключение CD-плеера или телевизор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ННОВАЦИОННЫЕ ТЕХНОЛОГИИ В О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 коммуникационны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ичностно- ориентированн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 аналитическое обеспечение учебного процесса и управление качеством образования школьни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ниторинг интеллектуального разви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спитательные технологии как ведущий механизм формирования учени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идактические приемы как условие развития учебного процес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сихолого – педагогическое сопровождение внедрения инновационных технологий в учебно- воспитательный процесс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DSCN09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684360" y="404640"/>
            <a:ext cx="347184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В 7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DSCN1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-812880" y="39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2268360" y="1773360"/>
            <a:ext cx="612000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ПЕСНИ ВО 2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DSCN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 flipV="1" rot="10800000">
            <a:off x="3421080" y="-10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ДИКТАНТ ВО 2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DSCN1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324000" y="404640"/>
            <a:ext cx="3887640" cy="9169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БОТА С ТЕКСТОМ.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ГРАММАТИЧЕСКОЕ ЗАДАНИЕ В 3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DSCN1059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324000" y="1557360"/>
            <a:ext cx="324144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АК ЭТО УВЛЕКАТЕЛЬНО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DSCN1056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1187280" y="5300640"/>
            <a:ext cx="687708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ЧИМСЯ ПЕЧАТАТЬ АНГЛИЙСКИ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БУКВЫ (2Акласс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DSCN1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784520" y="1341360"/>
            <a:ext cx="419508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ТЕКСТА 7 А КЛАСС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о материалам ГИ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DSCN09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250920" y="1052640"/>
            <a:ext cx="640872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ИАЛОГ УЧАЩИХСЯ 7А КЛАССА  С УЧИТЕЛЕ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DSCN11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395280" y="981000"/>
            <a:ext cx="727236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МАТЕРИАЛОВ ЕГЭ В 10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DSCN11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3511080" y="836640"/>
            <a:ext cx="353808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 В 10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ТОД ПРОЕКТ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соб достижения дидактической цели через детальную разработку проблемы ( технологию), которая должна завершиться вполне реальным практическим, осязаемым результатом, оформленным тем или иным образ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DSCN11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4733640" y="620640"/>
            <a:ext cx="427716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ОМАШНЕЕ ЗАДАНИЕ В 10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Условия для эффективного использования лингафонного кабинет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нимание роли, места и значения ЛК в преподавании предме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ние психолого-педагогических основ эффективного использования ЛК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ладение методикой использования Л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о отношению к обучаемому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лингафонный кабинет выступает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 качестве средства воссоздания условий деятельности, и как инструмент деятельности оказывает техническую поддержку в получении или передаче информаци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DSCN1183"/>
          <p:cNvPicPr/>
          <p:nvPr/>
        </p:nvPicPr>
        <p:blipFill>
          <a:blip r:embed="rId1"/>
          <a:stretch/>
        </p:blipFill>
        <p:spPr>
          <a:xfrm>
            <a:off x="2484360" y="4797360"/>
            <a:ext cx="2916360" cy="20606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i="1" lang="ru-RU" sz="1400" spc="-1" strike="noStrike">
                <a:solidFill>
                  <a:srgbClr val="ffffff"/>
                </a:solidFill>
                <a:latin typeface="Monotype Corsiva"/>
              </a:rPr>
              <a:t>лингафонном кабинете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 применяют в работе аудиоматериал (аудиокурсы к УМК или фонетические курсы, озвученные носителями языка), с помощью которого </a:t>
            </a:r>
            <a:r>
              <a:rPr b="1" i="1" lang="ru-RU" sz="1400" spc="-1" strike="noStrike">
                <a:solidFill>
                  <a:srgbClr val="ffffff"/>
                </a:solidFill>
                <a:latin typeface="Monotype Corsiva"/>
              </a:rPr>
              <a:t>эффективно решаются следующие дидактические задачи:</a:t>
            </a:r>
            <a:r>
              <a:rPr b="1" lang="ru-RU" sz="1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формирование артикуляции и ритмико-интонационных навыков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формирование и совершенствование навыка чте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формирование и совершенствование навыка аудирова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формирование и совершенствование лексического и грамматического навыка говоре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развитие и контроль речевого навыка устной речи (монологическая/ диалогическая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контроль понимания прослушанного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контроль усвоения лексического материал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Picture 14" descr="DSCN1184"/>
          <p:cNvPicPr/>
          <p:nvPr/>
        </p:nvPicPr>
        <p:blipFill>
          <a:blip r:embed="rId2"/>
          <a:stretch/>
        </p:blipFill>
        <p:spPr>
          <a:xfrm>
            <a:off x="4500720" y="333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DSCN1186"/>
          <p:cNvPicPr/>
          <p:nvPr/>
        </p:nvPicPr>
        <p:blipFill>
          <a:blip r:embed="rId3"/>
          <a:stretch/>
        </p:blipFill>
        <p:spPr>
          <a:xfrm>
            <a:off x="5940360" y="36450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лекоммуникационный проек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стная учебно-познавательная , исследовательская , творческая или игровая деятельность учащихся –партнеров, организованная на основе компьютерной телекоммуникации, имеющей общую проблему, цель, согласованные методы, способы деятельности, направленные на достижение совместного результата деятель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ЕТОДИЧЕСКОЕ ОБЪЕДИНЕНИЕ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учителей иностранного язы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год в апреле месяце проводится неделя иностранного язы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английского и немецкого языков проводят открытые уроки с применением информационно- компьютерных технологий, внеклассные мероприятия в игровой театрализованной форм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838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Я слышал колокольчик Рождества,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Его привычно старые мотивы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И вольные и нежные слова,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лова, что в памяти народной живы,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 мире на земле и счастье для людей.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еревод М. Кауфман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АЖАЕМЫЕ КОЛЛЕГИ, СПАСИБО ЗА ВНИМАНИЕ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бщедидактическая типология проектов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ОМИНИРУЮЩИЙ ВИ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следовательский, творческий, ролево-игрово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ктико-ориентированн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ЕДМЕТНОСОДЕРЖАТЕЛЬНАЯ ОБЛА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нопроект, межпредметный проек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ХАРАКТЕР КООРДИН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открытой , явной координацией; со скрытой координаци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ХАРАКТЕР КОНТАК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нутренний, региональный, международн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ОЛИЧЕСТВО УЧАСТ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чностные, парные, групповы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ОДОЛЖИТЕЛЬ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аткосрочные, долгосрочные, средней продолжитель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сновные требования для создания проект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личие значимой проблемы, требующей интегрированного, исследовательского поиска для её реш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ктическая , теоретическая значимость результат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мостоятельная деятель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уктурирование содержательной части 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пользование исследовательских мето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Этапы разработки структуры проекта и проведения его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ставление ситуаций, позволяющих выявить одну или несколько проблем по обсуждаемой темати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движение гипотез решения проблем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суждение методов проверки принятых гипотез в малых группа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а в группах над поиском фактов, аргументов, подтверждающих или опровергающих гипотез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щита проектов каждой из групп с оппонированием со стороны всех присутствующи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явление новых пробл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араметры внешней оценки проект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чимость и актуальность выдвинутых проблем, адекватность их изучаемой тематик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ректность используемых методов исследования и методов обработки полученных результато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тивность каждого участника проекта в соответствии с его индивидуальными возможностям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ллективный характер принимаемых решен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арактер общения и взаимопомощи, взаимодополняемости участников проект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ходимая и достаточная глубина проникновения в проблему, привлечение знаний из других област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казательность принимаемых решений, умение аргументировать свои заключения, вывод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стетика оформления результатов проведенного проект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мение отвечать на вопросы оппонентов, лаконичность и аргументированность ответов каждого члена групп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6:28:37Z</dcterms:created>
  <dc:creator>DNA7 X86</dc:creator>
  <dc:description/>
  <dc:language>en-US</dc:language>
  <cp:lastModifiedBy>8</cp:lastModifiedBy>
  <dcterms:modified xsi:type="dcterms:W3CDTF">2013-03-30T13:37:38Z</dcterms:modified>
  <cp:revision>135</cp:revision>
  <dc:subject/>
  <dc:title>Слайд 1</dc:title>
</cp:coreProperties>
</file>