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3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AEFD-2FAE-439C-9E8A-96513F0BAE4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95EE-BF9D-4981-ACA7-1BEFAB2E674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447-1CBB-4D25-81EA-03EBBB63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80A-910E-4256-B235-29EBDFEE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784-AA7C-41FA-A7FD-618FF275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5A6-147C-4A92-825E-9DE68CF0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9CED-0E96-489A-8F66-2A3CE4FF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C617-F338-4394-B290-78057B5C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1AF7-E2D4-4DE9-97EB-7BF8D5D9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38DF-AACD-46F3-BE56-40C228D8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5999-AABC-4B88-BB2C-A2FAA27C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6DC5-705B-462E-88E0-0F9577CB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B44F-EF48-46F0-9212-118C85F8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EDE-9170-463F-A702-CDEBAD51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B3AA-4791-48D4-9868-27EFE92C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6613-DA6D-499B-B177-521D9B99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C85C-D79C-47B5-BCB7-C40BA04F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7A1E-A840-4BC0-A603-E65DCEE4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8A98-9A24-4C1D-9D04-8A7C2743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555-E8E9-432C-B386-6A3C95FD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777-4C7C-4C9C-85F1-C826018E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3FF-319E-4AAA-89E5-09C2B577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A81-6662-418F-AADD-F764822F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ADE-4E32-4F41-9F83-1C1FA995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DB8-FA28-4B54-82F6-F727285B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C28-9C5C-475B-956F-96CAD12F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6E0D-98EA-44FB-890B-3C3786F43AB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0AA8-B1B7-4057-9F50-158B03EB83B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ма урока: Сложноподчиненные предложения с придаточными определительн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ознакомлени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образовательная система «Школа 2100»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ебник Бунеева Р.Н.,Бунеева Е.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р: Храпова И.А.,учител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усского языка и литера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d8c0"/>
                </a:solidFill>
                <a:latin typeface="Arial Unicode MS"/>
              </a:rPr>
              <a:t>Придаточные определительные предложения</a:t>
            </a:r>
            <a:endParaRPr b="1" lang="en-US" sz="28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878544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[                  ]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,(                     )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12600" y="2708280"/>
            <a:ext cx="178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тор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56" name="AutoShape 5"/>
          <p:cNvCxnSpPr>
            <a:stCxn id="154" idx="0"/>
            <a:endCxn id="154" idx="0"/>
          </p:cNvCxnSpPr>
          <p:nvPr/>
        </p:nvCxnSpPr>
        <p:spPr>
          <a:xfrm>
            <a:off x="4571640" y="2781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7" name="AutoShape 6"/>
          <p:cNvCxnSpPr/>
          <p:nvPr/>
        </p:nvCxnSpPr>
        <p:spPr>
          <a:xfrm flipV="1">
            <a:off x="2050560" y="220428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8" name="AutoShape 7"/>
          <p:cNvCxnSpPr/>
          <p:nvPr/>
        </p:nvCxnSpPr>
        <p:spPr>
          <a:xfrm>
            <a:off x="2050920" y="2204640"/>
            <a:ext cx="3385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9" name="AutoShape 8"/>
          <p:cNvCxnSpPr/>
          <p:nvPr/>
        </p:nvCxnSpPr>
        <p:spPr>
          <a:xfrm>
            <a:off x="5435280" y="220464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0" name="Text Box 9"/>
          <p:cNvSpPr/>
          <p:nvPr/>
        </p:nvSpPr>
        <p:spPr>
          <a:xfrm>
            <a:off x="2631240" y="168768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ой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5"/>
          <p:cNvGrpSpPr/>
          <p:nvPr/>
        </p:nvGrpSpPr>
        <p:grpSpPr>
          <a:xfrm>
            <a:off x="457200" y="836640"/>
            <a:ext cx="8228880" cy="5257800"/>
            <a:chOff x="457200" y="836640"/>
            <a:chExt cx="8228880" cy="5257800"/>
          </a:xfrm>
        </p:grpSpPr>
        <p:cxnSp>
          <p:nvCxnSpPr>
            <p:cNvPr id="162" name="_s2052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485320" y="2024640"/>
              <a:ext cx="105228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2053"/>
            <p:cNvCxnSpPr>
              <a:stCxn id="166" idx="0"/>
              <a:endCxn id="164" idx="2"/>
            </p:cNvCxnSpPr>
            <p:nvPr/>
          </p:nvCxnSpPr>
          <p:spPr>
            <a:xfrm flipV="1">
              <a:off x="4571280" y="2939040"/>
              <a:ext cx="3240" cy="105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2054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605320" y="2025000"/>
              <a:ext cx="105228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4" name="_s2055"/>
            <p:cNvSpPr/>
            <p:nvPr/>
          </p:nvSpPr>
          <p:spPr>
            <a:xfrm>
              <a:off x="3337200" y="836640"/>
              <a:ext cx="2468520" cy="210312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Разделяй запятой(запятыми)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придаточное предлож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и главное, 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если придаточное находится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_s2056"/>
            <p:cNvSpPr/>
            <p:nvPr/>
          </p:nvSpPr>
          <p:spPr>
            <a:xfrm>
              <a:off x="457200" y="3991320"/>
              <a:ext cx="2468520" cy="210312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Garamond"/>
                </a:rPr>
                <a:t>Перед главным</a:t>
              </a:r>
              <a:endParaRPr b="0" lang="en-US" sz="2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_s2057"/>
            <p:cNvSpPr/>
            <p:nvPr/>
          </p:nvSpPr>
          <p:spPr>
            <a:xfrm>
              <a:off x="3337200" y="3991320"/>
              <a:ext cx="2468520" cy="210312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Garamond"/>
                </a:rPr>
                <a:t>В середине главного</a:t>
              </a:r>
              <a:endParaRPr b="0" lang="en-US" sz="2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_s2058"/>
            <p:cNvSpPr/>
            <p:nvPr/>
          </p:nvSpPr>
          <p:spPr>
            <a:xfrm>
              <a:off x="6217560" y="3991320"/>
              <a:ext cx="2468520" cy="210312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Garamond"/>
                </a:rPr>
                <a:t>После главного</a:t>
              </a:r>
              <a:endParaRPr b="0" lang="en-US" sz="2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2881440" cy="2646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дни блокады к человеку постепенно подкрадывалось безразличие к жизни. Изнуренные лишениями, люди теряли интерес ко всему на свете и к себе самим. Но в этих жестоких испытаниях даже юные блокадники верили: чтобы выжить, нельзя поддаваться апатии. Они вспоминали о своих учителях. В дни блокады в холодных классах педагоги давали уроки, которых не было в расписании. Это были уроки мужества. Они ободряли детей, помогали им, учили их выживать в условиях, когда, казалось, выжить было невозможно. Учителя показывали пример бескорыстия и самоотверженно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2"/>
          <a:stretch/>
        </p:blipFill>
        <p:spPr>
          <a:xfrm>
            <a:off x="1028880" y="39243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истема оповещения жителей. Метроном</a:t>
            </a:r>
            <a:br>
              <a:rPr sz="3200"/>
            </a:br>
            <a:endParaRPr b="1" lang="en-US" sz="32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Знаменитый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етроном, 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который вошёл в историю блокады Ленинграда как культурный памятник сопротивления населения, включался во время налетов. Быстрый ритм означал воздушную тревогу, медленный ритм — отб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2" descr="C:\Documents and Settings\Владимир\Мои документы\картинки\958588.jpg_925493514099a83a0b420aad9c155655.jpg"/>
          <p:cNvPicPr/>
          <p:nvPr/>
        </p:nvPicPr>
        <p:blipFill>
          <a:blip r:embed="rId1"/>
          <a:stretch/>
        </p:blipFill>
        <p:spPr>
          <a:xfrm>
            <a:off x="684360" y="1484280"/>
            <a:ext cx="2928960" cy="4443480"/>
          </a:xfrm>
          <a:prstGeom prst="rect">
            <a:avLst/>
          </a:prstGeom>
          <a:ln w="0">
            <a:noFill/>
          </a:ln>
        </p:spPr>
      </p:pic>
      <p:pic>
        <p:nvPicPr>
          <p:cNvPr id="175" name="metronom1.mp3" descr=""/>
          <p:cNvPicPr/>
          <p:nvPr/>
        </p:nvPicPr>
        <p:blipFill>
          <a:blip r:embed="rId2"/>
          <a:stretch/>
        </p:blipFill>
        <p:spPr>
          <a:xfrm>
            <a:off x="399564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22653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image"/>
          <p:cNvPicPr/>
          <p:nvPr/>
        </p:nvPicPr>
        <p:blipFill>
          <a:blip r:embed="rId1"/>
          <a:stretch/>
        </p:blipFill>
        <p:spPr>
          <a:xfrm>
            <a:off x="468360" y="1125360"/>
            <a:ext cx="3672000" cy="284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3745080" cy="244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1487"/>
          <p:cNvPicPr/>
          <p:nvPr/>
        </p:nvPicPr>
        <p:blipFill>
          <a:blip r:embed="rId3"/>
          <a:stretch/>
        </p:blipFill>
        <p:spPr>
          <a:xfrm>
            <a:off x="4859280" y="1125360"/>
            <a:ext cx="3600360" cy="25909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1"/>
          <p:cNvSpPr/>
          <p:nvPr/>
        </p:nvSpPr>
        <p:spPr>
          <a:xfrm>
            <a:off x="4500720" y="3690720"/>
            <a:ext cx="439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Aparajita"/>
              </a:rPr>
              <a:t>И обелиск величественно-строг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Aparajit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Aparajita"/>
              </a:rPr>
              <a:t>Напоминает нынче всем жив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Aparajit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Aparajita"/>
              </a:rPr>
              <a:t>О той суровой Ладожской дороге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Aparajit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Aparajita"/>
              </a:rPr>
              <a:t>Которую мы в памяти храним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осаждённом городе случались события невероятные. Это произошло 6-го января 1943 года на стадионе «Динамо». Проходили соревнования по конькобежному спорту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гда на беговую дорожку вылетел Свет Тихвинский, посредине стадиона разорвался снаряд. Все люди, которые были на трибунах, замерли не только от близкой опасности, но и от необычного зрелища. Но спортсмен не сошел с круга и невозмутимо продолжал свой бег к финишу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671640" cy="3529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48320" y="764640"/>
            <a:ext cx="4038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7 января исполняется 68 лет со дня снятия блокады Ленинграда, которая длилась 871 день. Хотя обычно округляют и называют цифру 900 дней, но, наверное, это не суть важно, ибо уже перед тем, как сомкнулось блокадное кольцо, 8 сентября 1941 года, город подвергался тяжелейшим бомбежкам и артиллерийским обстрелам. Годом раньше, 18 января 1943 года было прорвано блокадное кольцо, когда после недельных боев на восточной окраине Рабочего поселка №1 (недалеко от Шлиссельбурга) встретились воины 123-й отдельной стрелковой бригады Ленинградского фронта и 372-й стрелковой дивизии Волховского фронта. На месте встречи двух фронтов был составлен Акт, который хранится в Центральном архиве Министерства обороны. И в тот же день был освобожден город Шлиссельбург (Петрокрепость). Но потребовался еще целый год непрерывных боев, тысячи жизней, чтобы блокада Великого города закончилась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887640" cy="2808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3960720" cy="259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рехсотметровая аллея, разделенная газонами на три ряда, ведет вдоль братских могил, у каждой из которых – гранитная плита с изображением дубового листа и даты: 1941, 1942, 1943… Здесь 200 братских могил и около 7 тысяч индивидуальных захоронений. В конце аллеи в скорбном молчании застыла Родина-Мать – 6-метровая статуя на 6-метровом пьедестале. За монументом на 150 метров протянулась гранитная стена-стела, на которой выбиты взволнованные и горькие поэтические строки Ольги Берггольц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2286000" cy="1873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2"/>
          <a:stretch/>
        </p:blipFill>
        <p:spPr>
          <a:xfrm>
            <a:off x="2987640" y="907920"/>
            <a:ext cx="2286000" cy="1873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5867280" y="907920"/>
            <a:ext cx="2286000" cy="187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48320" y="2060280"/>
            <a:ext cx="40384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ава вам, которые в сраженья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стояли берега Нев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енинград, не знавший поражень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овым светом озарили в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3600360" cy="381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Звание Города-геро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В 1965 году за героизм и мужество, которые проявили жители Ленинграда во время блокады, городу в числе первых было присвоено звание Города-геро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Picture 6" descr="C:\Documents and Settings\Владимир\Мои документы\картинки\143.jpg"/>
          <p:cNvPicPr/>
          <p:nvPr/>
        </p:nvPicPr>
        <p:blipFill>
          <a:blip r:embed="rId1"/>
          <a:stretch/>
        </p:blipFill>
        <p:spPr>
          <a:xfrm>
            <a:off x="500040" y="1357200"/>
            <a:ext cx="8258040" cy="2686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Garamond"/>
              </a:rPr>
              <a:t>Эпиграф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спомним всех поименн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ор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спомни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воим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то нужно 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 мертвым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то надо – живым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.Рождественс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4" name="Group 12"/>
          <p:cNvGrpSpPr/>
          <p:nvPr/>
        </p:nvGrpSpPr>
        <p:grpSpPr>
          <a:xfrm>
            <a:off x="755640" y="1557360"/>
            <a:ext cx="3528720" cy="4320360"/>
            <a:chOff x="755640" y="1557360"/>
            <a:chExt cx="3528720" cy="4320360"/>
          </a:xfrm>
        </p:grpSpPr>
        <p:pic>
          <p:nvPicPr>
            <p:cNvPr id="125" name="Picture 10" descr="вечный огонь"/>
            <p:cNvPicPr/>
            <p:nvPr/>
          </p:nvPicPr>
          <p:blipFill>
            <a:blip r:embed="rId1"/>
            <a:srcRect l="0" t="0" r="0" b="45664"/>
            <a:stretch/>
          </p:blipFill>
          <p:spPr>
            <a:xfrm>
              <a:off x="755640" y="1862640"/>
              <a:ext cx="3528720" cy="22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8" descr="AG00355_"/>
            <p:cNvPicPr/>
            <p:nvPr/>
          </p:nvPicPr>
          <p:blipFill>
            <a:blip r:embed="rId2"/>
            <a:stretch/>
          </p:blipFill>
          <p:spPr>
            <a:xfrm>
              <a:off x="2475720" y="1557360"/>
              <a:ext cx="1349280" cy="28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вечный огонь"/>
            <p:cNvPicPr/>
            <p:nvPr/>
          </p:nvPicPr>
          <p:blipFill>
            <a:blip r:embed="rId3"/>
            <a:srcRect l="0" t="54793" r="0" b="0"/>
            <a:stretch/>
          </p:blipFill>
          <p:spPr>
            <a:xfrm>
              <a:off x="755640" y="3994200"/>
              <a:ext cx="3528720" cy="188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907560"/>
            <a:ext cx="7643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Те люди, которые пережили блокаду, были обычными людьми. Они сумели совершить невозможное - пережить ледяной ад. И не только пережить, но и остаться людьми. Они уходят, и вместе с ними уходит история. От нас зависит, чтобы она не ушл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авсегда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95640" y="290160"/>
            <a:ext cx="540072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</a:t>
            </a: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Итоги урока </a:t>
            </a:r>
            <a:r>
              <a:rPr b="1" lang="ru-RU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</a:t>
            </a: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2050920" y="1628640"/>
            <a:ext cx="62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Что узнали нового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Чему научились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Рисунок 7" descr="kniga52.jpg"/>
          <p:cNvPicPr/>
          <p:nvPr/>
        </p:nvPicPr>
        <p:blipFill>
          <a:blip r:embed="rId1"/>
          <a:stretch/>
        </p:blipFill>
        <p:spPr>
          <a:xfrm>
            <a:off x="3276720" y="4437000"/>
            <a:ext cx="3076560" cy="2000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9850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Wingdings 2"/>
                <a:ea typeface="Wingdings 2"/>
              </a:rPr>
              <a:t></a:t>
            </a:r>
            <a:r>
              <a:rPr b="1" lang="ru-RU" sz="4400" spc="-1" strike="noStrike">
                <a:solidFill>
                  <a:srgbClr val="4f6228"/>
                </a:solidFill>
                <a:latin typeface="Book Antiqu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Домашнее задание </a:t>
            </a:r>
            <a:r>
              <a:rPr b="1" lang="ru-RU" sz="4000" spc="-1" strike="noStrike">
                <a:solidFill>
                  <a:srgbClr val="4f6228"/>
                </a:solidFill>
                <a:latin typeface="Wingdings 2"/>
                <a:ea typeface="Wingdings 2"/>
              </a:rPr>
              <a:t></a:t>
            </a: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99" name="Скругленный прямоугольник 10"/>
          <p:cNvSpPr/>
          <p:nvPr/>
        </p:nvSpPr>
        <p:spPr>
          <a:xfrm>
            <a:off x="1908000" y="2276640"/>
            <a:ext cx="5715000" cy="2786040"/>
          </a:xfrm>
          <a:prstGeom prst="roundRect">
            <a:avLst>
              <a:gd name="adj" fmla="val 1903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81910"/>
                </a:solidFill>
                <a:latin typeface="Garamond"/>
              </a:rPr>
              <a:t>Упражнение 39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81910"/>
                </a:solidFill>
                <a:latin typeface="Garamond"/>
              </a:rPr>
              <a:t>Понятно ли задание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Garamond"/>
              </a:rPr>
              <a:t>Литература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.В.Бунеева,Л.Ю.Комиссарова. Русский язык 6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унеевР.Н.,Бунеева Е.В.Комиссарова. Текучева И.В. Русский язык 6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Прямоугольник 5" descr=""/>
          <p:cNvPicPr/>
          <p:nvPr/>
        </p:nvPicPr>
        <p:blipFill>
          <a:blip r:embed="rId1"/>
          <a:stretch/>
        </p:blipFill>
        <p:spPr>
          <a:xfrm>
            <a:off x="895320" y="1743120"/>
            <a:ext cx="7499520" cy="1103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640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Garamond"/>
              </a:rPr>
              <a:t>Языковая разминка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густом и холодном тумане - Проспекты, каналы, сад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рга леденит и арканит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ёмка заносит следы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Garamond"/>
              </a:rPr>
              <a:t>Запишите четверостишие, </a:t>
            </a: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разберите по членам 2 предложение, </a:t>
            </a:r>
            <a:r>
              <a:rPr b="0" lang="ru-RU" sz="2800" spc="-1" strike="noStrike">
                <a:solidFill>
                  <a:srgbClr val="cccc00"/>
                </a:solidFill>
                <a:latin typeface="Garamond"/>
              </a:rPr>
              <a:t>обозначьте орфограммы, выделите</a:t>
            </a:r>
            <a:r>
              <a:rPr b="0" lang="ru-RU" sz="2800" spc="-1" strike="noStrike">
                <a:solidFill>
                  <a:srgbClr val="cccc00"/>
                </a:solidFill>
                <a:latin typeface="Garamond"/>
              </a:rPr>
              <a:t> грамматическую  основу и начертите схе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Garamond"/>
              </a:rPr>
              <a:t>Проверим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165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[               ], [              ]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cc00"/>
                </a:solidFill>
                <a:latin typeface="Garamond"/>
              </a:rPr>
              <a:t>Каким  по строению является  это предложение?</a:t>
            </a:r>
            <a:r>
              <a:rPr b="0" lang="en-US" sz="2400" spc="-1" strike="noStrike">
                <a:solidFill>
                  <a:srgbClr val="cccc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cc00"/>
                </a:solidFill>
                <a:latin typeface="Garamond"/>
              </a:rPr>
              <a:t>Как связываются между собой части этого предложения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cc00"/>
                </a:solidFill>
                <a:latin typeface="Garamond"/>
              </a:rPr>
              <a:t>Какими ещё бывают сложные предложения?</a:t>
            </a:r>
            <a:r>
              <a:rPr b="0" lang="en-US" sz="2400" spc="-1" strike="noStrike">
                <a:solidFill>
                  <a:srgbClr val="cccc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cc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cccc00"/>
                </a:solidFill>
                <a:latin typeface="Garamond"/>
              </a:rPr>
              <a:t>Чем отличается сложноподчинённое предложение от сложносочинённого?</a:t>
            </a:r>
            <a:r>
              <a:rPr b="0" lang="en-US" sz="8800" spc="-1" strike="noStrike">
                <a:solidFill>
                  <a:srgbClr val="cccc00"/>
                </a:solidFill>
                <a:latin typeface="Garamond"/>
              </a:rPr>
              <a:t>             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Organization Chart 5"/>
          <p:cNvGrpSpPr/>
          <p:nvPr/>
        </p:nvGrpSpPr>
        <p:grpSpPr>
          <a:xfrm>
            <a:off x="457200" y="765000"/>
            <a:ext cx="8228880" cy="5329800"/>
            <a:chOff x="457200" y="765000"/>
            <a:chExt cx="8228880" cy="5329800"/>
          </a:xfrm>
        </p:grpSpPr>
        <p:cxnSp>
          <p:nvCxnSpPr>
            <p:cNvPr id="134" name="_s1028"/>
            <p:cNvCxnSpPr>
              <a:stCxn id="135" idx="0"/>
              <a:endCxn id="136" idx="2"/>
            </p:cNvCxnSpPr>
            <p:nvPr/>
          </p:nvCxnSpPr>
          <p:spPr>
            <a:xfrm flipV="1" rot="16200000">
              <a:off x="4238280" y="3555360"/>
              <a:ext cx="666720" cy="1746720"/>
            </a:xfrm>
            <a:prstGeom prst="bentConnector3">
              <a:avLst>
                <a:gd name="adj1" fmla="val 203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7" name="_s1029"/>
            <p:cNvCxnSpPr>
              <a:stCxn id="138" idx="0"/>
              <a:endCxn id="136" idx="2"/>
            </p:cNvCxnSpPr>
            <p:nvPr/>
          </p:nvCxnSpPr>
          <p:spPr>
            <a:xfrm flipH="1" flipV="1" rot="5400000">
              <a:off x="2492280" y="3556080"/>
              <a:ext cx="666720" cy="1745640"/>
            </a:xfrm>
            <a:prstGeom prst="bentConnector3">
              <a:avLst>
                <a:gd name="adj1" fmla="val 203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9" name="_s1030"/>
            <p:cNvCxnSpPr>
              <a:stCxn id="140" idx="0"/>
              <a:endCxn id="141" idx="2"/>
            </p:cNvCxnSpPr>
            <p:nvPr/>
          </p:nvCxnSpPr>
          <p:spPr>
            <a:xfrm flipV="1" rot="16200000">
              <a:off x="5983560" y="1557360"/>
              <a:ext cx="666720" cy="1745640"/>
            </a:xfrm>
            <a:prstGeom prst="bentConnector3">
              <a:avLst>
                <a:gd name="adj1" fmla="val 203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1031"/>
            <p:cNvCxnSpPr>
              <a:stCxn id="136" idx="0"/>
              <a:endCxn id="141" idx="2"/>
            </p:cNvCxnSpPr>
            <p:nvPr/>
          </p:nvCxnSpPr>
          <p:spPr>
            <a:xfrm flipH="1" flipV="1" rot="5400000">
              <a:off x="4238280" y="1557000"/>
              <a:ext cx="666720" cy="1746720"/>
            </a:xfrm>
            <a:prstGeom prst="bentConnector3">
              <a:avLst>
                <a:gd name="adj1" fmla="val 203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1" name="_s1032"/>
            <p:cNvSpPr/>
            <p:nvPr/>
          </p:nvSpPr>
          <p:spPr>
            <a:xfrm>
              <a:off x="3948480" y="765000"/>
              <a:ext cx="2992320" cy="133236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Сложное предложени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_s1033"/>
            <p:cNvSpPr/>
            <p:nvPr/>
          </p:nvSpPr>
          <p:spPr>
            <a:xfrm>
              <a:off x="2202120" y="2763720"/>
              <a:ext cx="2992320" cy="133236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союзное</a:t>
              </a:r>
              <a:endParaRPr b="0" lang="en-US" sz="2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_s1034"/>
            <p:cNvSpPr/>
            <p:nvPr/>
          </p:nvSpPr>
          <p:spPr>
            <a:xfrm>
              <a:off x="5693760" y="2763720"/>
              <a:ext cx="2992320" cy="133236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бессоюзное</a:t>
              </a:r>
              <a:endParaRPr b="0" lang="en-US" sz="2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_s1035"/>
            <p:cNvSpPr/>
            <p:nvPr/>
          </p:nvSpPr>
          <p:spPr>
            <a:xfrm>
              <a:off x="457200" y="4762440"/>
              <a:ext cx="2992320" cy="133236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Сложносочиненное </a:t>
              </a:r>
              <a:endParaRPr b="0" lang="en-US" sz="2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_s1036"/>
            <p:cNvSpPr/>
            <p:nvPr/>
          </p:nvSpPr>
          <p:spPr>
            <a:xfrm>
              <a:off x="3948480" y="4762440"/>
              <a:ext cx="2992320" cy="133236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сложноподчиненное</a:t>
              </a:r>
              <a:endParaRPr b="0" lang="en-US" sz="27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Упр. 386 (устно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65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Упр. 387 (устно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d8c0"/>
                </a:solidFill>
                <a:latin typeface="Garamond"/>
              </a:rPr>
              <a:t>Сложноподчиненное предложение</a:t>
            </a: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[               ]</a:t>
            </a: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,(                  )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2282760" y="3716280"/>
            <a:ext cx="20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главно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707000" y="37162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ридаточно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3059280" y="2852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940360" y="2781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d8c0"/>
                </a:solidFill>
                <a:latin typeface="Garamond"/>
              </a:rPr>
              <a:t>Каким по строению является выделенное предложение? Найдите главное и придаточное предложение .Составьте схему</a:t>
            </a:r>
            <a:endParaRPr b="1" lang="en-US" sz="28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4360" y="1600200"/>
            <a:ext cx="4608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ервые бомбежки обрушились на Ленинград 70 лет назад, в начале сентября 1941 года, когда дети только пошли в школы. «В нашей школе, помещавшейся в старинном здании, были большие подвальные помещения, - рассказывала Валентина Ивановна Полякова, будущий врач. - Педагоги оборудовали в них классы. Повесили на стены школьные доски. Как только по радио раздавались сигналы воздушной тревоги, бежали в подвалы. Поскольку света не было, прибегали к стародавнему способу, о котором знали только по книгам - жгли лучины. С лучиной встречал нас учитель у входа в подвал. Мы рассаживались по своим местам. У дежурного по классу были теперь такие обязанности: </a:t>
            </a:r>
            <a:r>
              <a:rPr b="0" lang="ru-RU" sz="1600" spc="-1" strike="noStrike">
                <a:solidFill>
                  <a:srgbClr val="ff0000"/>
                </a:solidFill>
                <a:latin typeface="Garamond"/>
              </a:rPr>
              <a:t>он заранее заготавливал лучины и стоял с зажженной палочкой, освещал школьную доску, на которой учитель писал задачи и стихи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В полутьме писать ученикам было трудно, поэтому уроки заучивали наизусть, часто под грохот взрывов»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311280" cy="460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3:11:17Z</dcterms:created>
  <dc:creator>1</dc:creator>
  <dc:description/>
  <dc:language>en-US</dc:language>
  <cp:lastModifiedBy>Asmadey</cp:lastModifiedBy>
  <dcterms:modified xsi:type="dcterms:W3CDTF">2012-04-14T18:15:41Z</dcterms:modified>
  <cp:revision>16</cp:revision>
  <dc:subject/>
  <dc:title>МОУ Харганатская СОШ</dc:title>
</cp:coreProperties>
</file>