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C25-CCEF-4F77-AC01-894DB2C868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1ABD-FF65-4BD4-A028-9ECF4C16500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533-0819-4926-87A9-40CCB62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E0A-81B4-44B5-A1A1-D97E36C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0BC-C105-4F6F-9C82-3AD4365F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409-64BF-4C44-A6F1-C9D49BE1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4B03-B966-4F9C-89F1-B496E370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A52E-CC86-4A36-B10E-6CEE0682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DFFD-4044-460B-9A65-F8402FC8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EEA-1E0B-4ADE-9D19-B7CDAE6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0F3-DCFA-4B23-BFBA-653B4AB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50B-C738-4397-A48C-295A2E59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4EF7-37BC-4E24-9187-B8D40E9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426-2270-4608-8101-21184CDC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337-0872-490A-87F8-F95E6FD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043A-4F2E-4364-873C-7183E28C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005C-30F6-469E-B74D-B8453E6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8CF1-DB17-472E-B657-FE7FBC3D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63B0-A53A-404E-B7F0-9F057C96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70E-31CC-4B4A-A4CE-4DFD4072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C7C-35E0-4561-B8C7-E4DD740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E98-4EB5-4759-8722-076EF68A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EFA-7DC3-4EF2-98CB-73C23B4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F57-FE41-43F2-A5C5-8249CBDB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36D-BEE3-45DA-9AF1-8D413AE8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365-BAE6-4AF0-AC37-841B745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2D52-1A70-4E75-B761-49C476EFCC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6A6A-999C-4564-903D-C3183C5F0D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ма урока: Сложноподчиненные предложения с придаточными определитель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знакомлени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бразовательная система «Школа 2100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ебник Бунеева Р.Н.,Бунеева Е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Храпова И.А.,учител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d8c0"/>
                </a:solidFill>
                <a:latin typeface="Arial Unicode MS"/>
              </a:rPr>
              <a:t>Придаточные определительные предложения</a:t>
            </a:r>
            <a:endParaRPr b="1" lang="en-US" sz="2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[                  ]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,(                     )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512600" y="2708280"/>
            <a:ext cx="178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тор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6" name="AutoShape 5"/>
          <p:cNvCxnSpPr>
            <a:stCxn id="154" idx="0"/>
            <a:endCxn id="154" idx="0"/>
          </p:cNvCxnSpPr>
          <p:nvPr/>
        </p:nvCxnSpPr>
        <p:spPr>
          <a:xfrm>
            <a:off x="4571640" y="2781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7" name="AutoShape 6"/>
          <p:cNvCxnSpPr/>
          <p:nvPr/>
        </p:nvCxnSpPr>
        <p:spPr>
          <a:xfrm flipV="1">
            <a:off x="2050560" y="220428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8" name="AutoShape 7"/>
          <p:cNvCxnSpPr/>
          <p:nvPr/>
        </p:nvCxnSpPr>
        <p:spPr>
          <a:xfrm>
            <a:off x="2050920" y="2204640"/>
            <a:ext cx="3385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9" name="AutoShape 8"/>
          <p:cNvCxnSpPr/>
          <p:nvPr/>
        </p:nvCxnSpPr>
        <p:spPr>
          <a:xfrm>
            <a:off x="5435280" y="220464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0" name="Text Box 9"/>
          <p:cNvSpPr/>
          <p:nvPr/>
        </p:nvSpPr>
        <p:spPr>
          <a:xfrm>
            <a:off x="2631240" y="16876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о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457200" y="836640"/>
            <a:ext cx="8228880" cy="5257800"/>
            <a:chOff x="457200" y="836640"/>
            <a:chExt cx="8228880" cy="5257800"/>
          </a:xfrm>
        </p:grpSpPr>
        <p:cxnSp>
          <p:nvCxnSpPr>
            <p:cNvPr id="162" name="_s20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2024640"/>
              <a:ext cx="105228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053"/>
            <p:cNvCxnSpPr>
              <a:stCxn id="166" idx="0"/>
              <a:endCxn id="164" idx="2"/>
            </p:cNvCxnSpPr>
            <p:nvPr/>
          </p:nvCxnSpPr>
          <p:spPr>
            <a:xfrm flipV="1">
              <a:off x="4571280" y="2939040"/>
              <a:ext cx="3240" cy="105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054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605320" y="2025000"/>
              <a:ext cx="105228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4" name="_s2055"/>
            <p:cNvSpPr/>
            <p:nvPr/>
          </p:nvSpPr>
          <p:spPr>
            <a:xfrm>
              <a:off x="3337200" y="83664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Разделяй запятой(запятыми)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придаточное предложение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и главное, 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если придаточное находится</a:t>
              </a:r>
              <a:endParaRPr b="0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45720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Перед главным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_s2057"/>
            <p:cNvSpPr/>
            <p:nvPr/>
          </p:nvSpPr>
          <p:spPr>
            <a:xfrm>
              <a:off x="333720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В середине главного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6217560" y="3991320"/>
              <a:ext cx="2468520" cy="210312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Garamond"/>
                </a:rPr>
                <a:t>После главного</a:t>
              </a:r>
              <a:endParaRPr b="0" lang="en-US" sz="2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2881440" cy="2646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дни блокады к человеку постепенно подкрадывалось безразличие к жизни. Изнуренные лишениями, люди теряли интерес ко всему на свете и к себе самим. Но в этих жестоких испытаниях даже юные блокадники верили: чтобы выжить, нельзя поддаваться апатии. Они вспоминали о своих учителях. В дни блокады в холодных классах педагоги давали уроки, которых не было в расписании. Это были уроки мужества. Они ободряли детей, помогали им, учили их выживать в условиях, когда, казалось, выжить было невозможно. Учителя показывали пример бескорыстия и самоотверженно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2"/>
          <a:stretch/>
        </p:blipFill>
        <p:spPr>
          <a:xfrm>
            <a:off x="1028880" y="39243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истема оповещения жителей. Метроном</a:t>
            </a:r>
            <a:br>
              <a:rPr sz="3200"/>
            </a:br>
            <a:endParaRPr b="1" lang="en-US" sz="32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Знаменитый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троном,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оторый вошёл в историю блокады Ленинграда как культурный памятник сопротивления населения, включался во время налетов. Быстрый ритм означал воздушную тревогу, медленный ритм — отб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2" descr="C:\Documents and Settings\Владимир\Мои документы\картинки\958588.jpg_925493514099a83a0b420aad9c155655.jpg"/>
          <p:cNvPicPr/>
          <p:nvPr/>
        </p:nvPicPr>
        <p:blipFill>
          <a:blip r:embed="rId1"/>
          <a:stretch/>
        </p:blipFill>
        <p:spPr>
          <a:xfrm>
            <a:off x="684360" y="1484280"/>
            <a:ext cx="2928960" cy="4443480"/>
          </a:xfrm>
          <a:prstGeom prst="rect">
            <a:avLst/>
          </a:prstGeom>
          <a:ln w="0">
            <a:noFill/>
          </a:ln>
        </p:spPr>
      </p:pic>
      <p:pic>
        <p:nvPicPr>
          <p:cNvPr id="175" name="metronom1.mp3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653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image"/>
          <p:cNvPicPr/>
          <p:nvPr/>
        </p:nvPicPr>
        <p:blipFill>
          <a:blip r:embed="rId1"/>
          <a:stretch/>
        </p:blipFill>
        <p:spPr>
          <a:xfrm>
            <a:off x="468360" y="1125360"/>
            <a:ext cx="3672000" cy="284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74508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1487"/>
          <p:cNvPicPr/>
          <p:nvPr/>
        </p:nvPicPr>
        <p:blipFill>
          <a:blip r:embed="rId3"/>
          <a:stretch/>
        </p:blipFill>
        <p:spPr>
          <a:xfrm>
            <a:off x="4859280" y="1125360"/>
            <a:ext cx="3600360" cy="2590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4500720" y="3690720"/>
            <a:ext cx="439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И обелиск величественно-стро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Напоминает нынче всем жив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О той суровой Ладожской дорог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  <a:ea typeface="Aparajita"/>
              </a:rPr>
              <a:t>Которую мы в памяти храни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саждённом городе случались события невероятные. Это произошло 6-го января 1943 года на стадионе «Динамо». Проходили соревнования по конькобежному спорт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гда на беговую дорожку вылетел Свет Тихвинский, посредине стадиона разорвался снаряд. Все люди, которые были на трибунах, замерли не только от близкой опасности, но и от необычного зрелища. Но спортсмен не сошел с круга и невозмутимо продолжал свой бег к финиш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6716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7 января исполняется 68 лет со дня снятия блокады Ленинграда, которая длилась 871 день. Хотя обычно округляют и называют цифру 900 дней, но, наверное, это не суть важно, ибо уже перед тем, как сомкнулось блокадное кольцо, 8 сентября 1941 года, город подвергался тяжелейшим бомбежкам и артиллерийским обстрелам. Годом раньше, 18 января 1943 года было прорвано блокадное кольцо, когда после недельных боев на восточной окраине Рабочего поселка №1 (недалеко от Шлиссельбурга) встретились воины 123-й отдельной стрелковой бригады Ленинградского фронта и 372-й стрелковой дивизии Волховского фронта. На месте встречи двух фронтов был составлен Акт, который хранится в Центральном архиве Министерства обороны. И в тот же день был освобожден город Шлиссельбург (Петрокрепость). Но потребовался еще целый год непрерывных боев, тысячи жизней, чтобы блокада Великого города закончилась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7640" cy="2808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2"/>
          <a:stretch/>
        </p:blipFill>
        <p:spPr>
          <a:xfrm>
            <a:off x="395280" y="3716280"/>
            <a:ext cx="396072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рехсотметровая аллея, разделенная газонами на три ряда, ведет вдоль братских могил, у каждой из которых – гранитная плита с изображением дубового листа и даты: 1941, 1942, 1943… Здесь 200 братских могил и около 7 тысяч индивидуальных захоронений. В конце аллеи в скорбном молчании застыла Родина-Мать – 6-метровая статуя на 6-метровом пьедестале. За монументом на 150 метров протянулась гранитная стена-стела, на которой выбиты взволнованные и горькие поэтические строки Ольги Бергголь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286000" cy="1873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286000" cy="187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5867280" y="907920"/>
            <a:ext cx="2286000" cy="18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ва вам, которые в сраженья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стояли берега Не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енинград, не знавший пораженья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вым светом озарили в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3600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Звание Города-героя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В 1965 году за героизм и мужество, которые проявили жители Ленинграда во время блокады, городу в числе первых было присвоено звание Города-геро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6" descr="C:\Documents and Settings\Владимир\Мои документы\картинки\143.jpg"/>
          <p:cNvPicPr/>
          <p:nvPr/>
        </p:nvPicPr>
        <p:blipFill>
          <a:blip r:embed="rId1"/>
          <a:stretch/>
        </p:blipFill>
        <p:spPr>
          <a:xfrm>
            <a:off x="500040" y="1357200"/>
            <a:ext cx="8258040" cy="268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помним всех поименно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р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помни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им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о нужно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мертвы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то надо – живым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.Рождествен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12"/>
          <p:cNvGrpSpPr/>
          <p:nvPr/>
        </p:nvGrpSpPr>
        <p:grpSpPr>
          <a:xfrm>
            <a:off x="755640" y="1557360"/>
            <a:ext cx="3528720" cy="4320360"/>
            <a:chOff x="755640" y="1557360"/>
            <a:chExt cx="3528720" cy="4320360"/>
          </a:xfrm>
        </p:grpSpPr>
        <p:pic>
          <p:nvPicPr>
            <p:cNvPr id="125" name="Picture 10" descr="вечный огонь"/>
            <p:cNvPicPr/>
            <p:nvPr/>
          </p:nvPicPr>
          <p:blipFill>
            <a:blip r:embed="rId1"/>
            <a:srcRect l="0" t="0" r="0" b="45664"/>
            <a:stretch/>
          </p:blipFill>
          <p:spPr>
            <a:xfrm>
              <a:off x="755640" y="1862640"/>
              <a:ext cx="3528720" cy="226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AG00355_"/>
            <p:cNvPicPr/>
            <p:nvPr/>
          </p:nvPicPr>
          <p:blipFill>
            <a:blip r:embed="rId2"/>
            <a:stretch/>
          </p:blipFill>
          <p:spPr>
            <a:xfrm>
              <a:off x="2475720" y="1557360"/>
              <a:ext cx="1349280" cy="28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вечный огонь"/>
            <p:cNvPicPr/>
            <p:nvPr/>
          </p:nvPicPr>
          <p:blipFill>
            <a:blip r:embed="rId3"/>
            <a:srcRect l="0" t="54793" r="0" b="0"/>
            <a:stretch/>
          </p:blipFill>
          <p:spPr>
            <a:xfrm>
              <a:off x="755640" y="3994200"/>
              <a:ext cx="3528720" cy="188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907560"/>
            <a:ext cx="7643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Те люди, которые пережили блокаду, были обычными людьми. Они сумели совершить невозможное - пережить ледяной ад. И не только пережить, но и остаться людьми. Они уходят, и вместе с ними уходит история. От нас зависит, чтобы она не ушл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всегда.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95640" y="290160"/>
            <a:ext cx="54007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Итоги урока </a:t>
            </a:r>
            <a:r>
              <a:rPr b="1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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2050920" y="1628640"/>
            <a:ext cx="62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Что узнали нового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Чему научились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7" descr="kniga52.jpg"/>
          <p:cNvPicPr/>
          <p:nvPr/>
        </p:nvPicPr>
        <p:blipFill>
          <a:blip r:embed="rId1"/>
          <a:stretch/>
        </p:blipFill>
        <p:spPr>
          <a:xfrm>
            <a:off x="3276720" y="443700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69850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4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Домашнее задание </a:t>
            </a:r>
            <a:r>
              <a:rPr b="1" lang="ru-RU" sz="40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99" name="Скругленный прямоугольник 10"/>
          <p:cNvSpPr/>
          <p:nvPr/>
        </p:nvSpPr>
        <p:spPr>
          <a:xfrm>
            <a:off x="1908000" y="2276640"/>
            <a:ext cx="5715000" cy="2786040"/>
          </a:xfrm>
          <a:prstGeom prst="roundRect">
            <a:avLst>
              <a:gd name="adj" fmla="val 1903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1910"/>
                </a:solidFill>
                <a:latin typeface="Garamond"/>
              </a:rPr>
              <a:t>Упражнение 39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81910"/>
                </a:solidFill>
                <a:latin typeface="Garamond"/>
              </a:rPr>
              <a:t>Понятно ли задание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Литература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.В.Бунеева,Л.Ю.Комиссарова. Русский язык 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унеевР.Н.,Бунеева Е.В.Комиссарова. Текучева И.В. Русский язык 6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Прямоугольник 5" descr=""/>
          <p:cNvPicPr/>
          <p:nvPr/>
        </p:nvPicPr>
        <p:blipFill>
          <a:blip r:embed="rId1"/>
          <a:stretch/>
        </p:blipFill>
        <p:spPr>
          <a:xfrm>
            <a:off x="895320" y="1743120"/>
            <a:ext cx="7499520" cy="110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Языковая разминка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устом и холодном тумане - Проспекты, каналы, сад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рга леденит и арканит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ёмка заносит след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ctr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Запишите четверостишие, </a:t>
            </a:r>
            <a:r>
              <a:rPr b="0" lang="ru-RU" sz="2800" spc="-1" strike="noStrike">
                <a:solidFill>
                  <a:srgbClr val="cccc00"/>
                </a:solidFill>
                <a:latin typeface="Arial"/>
              </a:rPr>
              <a:t>разберите по членам 2 предложение, </a:t>
            </a: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обозначьте орфограммы, выделите</a:t>
            </a:r>
            <a:r>
              <a:rPr b="0" lang="ru-RU" sz="2800" spc="-1" strike="noStrike">
                <a:solidFill>
                  <a:srgbClr val="cccc00"/>
                </a:solidFill>
                <a:latin typeface="Garamond"/>
              </a:rPr>
              <a:t> грамматическую  основу и начертите схе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Проверим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[               ], [              ]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им  по строению является  это предложение?</a:t>
            </a:r>
            <a:r>
              <a:rPr b="0" lang="en-US" sz="2400" spc="-1" strike="noStrike">
                <a:solidFill>
                  <a:srgbClr val="cc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 связываются между собой части этого предлож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Какими ещё бывают сложные предложения?</a:t>
            </a:r>
            <a:r>
              <a:rPr b="0" lang="en-US" sz="2400" spc="-1" strike="noStrike">
                <a:solidFill>
                  <a:srgbClr val="cc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cccc00"/>
                </a:solidFill>
                <a:latin typeface="Garamond"/>
              </a:rPr>
              <a:t>Чем отличается сложноподчинённое предложение от сложносочинённого?</a:t>
            </a:r>
            <a:r>
              <a:rPr b="0" lang="en-US" sz="8800" spc="-1" strike="noStrike">
                <a:solidFill>
                  <a:srgbClr val="cccc00"/>
                </a:solidFill>
                <a:latin typeface="Garamond"/>
              </a:rPr>
              <a:t>             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Organization Chart 5"/>
          <p:cNvGrpSpPr/>
          <p:nvPr/>
        </p:nvGrpSpPr>
        <p:grpSpPr>
          <a:xfrm>
            <a:off x="457200" y="765000"/>
            <a:ext cx="8228880" cy="5329800"/>
            <a:chOff x="457200" y="765000"/>
            <a:chExt cx="8228880" cy="5329800"/>
          </a:xfrm>
        </p:grpSpPr>
        <p:cxnSp>
          <p:nvCxnSpPr>
            <p:cNvPr id="134" name="_s1028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4238280" y="3555360"/>
              <a:ext cx="666720" cy="174672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7" name="_s1029"/>
            <p:cNvCxnSpPr>
              <a:stCxn id="138" idx="0"/>
              <a:endCxn id="136" idx="2"/>
            </p:cNvCxnSpPr>
            <p:nvPr/>
          </p:nvCxnSpPr>
          <p:spPr>
            <a:xfrm flipH="1" flipV="1" rot="5400000">
              <a:off x="2492280" y="3556080"/>
              <a:ext cx="666720" cy="174564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1030"/>
            <p:cNvCxnSpPr>
              <a:stCxn id="140" idx="0"/>
              <a:endCxn id="141" idx="2"/>
            </p:cNvCxnSpPr>
            <p:nvPr/>
          </p:nvCxnSpPr>
          <p:spPr>
            <a:xfrm flipV="1" rot="16200000">
              <a:off x="5983560" y="1557360"/>
              <a:ext cx="666720" cy="174564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1031"/>
            <p:cNvCxnSpPr>
              <a:stCxn id="136" idx="0"/>
              <a:endCxn id="141" idx="2"/>
            </p:cNvCxnSpPr>
            <p:nvPr/>
          </p:nvCxnSpPr>
          <p:spPr>
            <a:xfrm flipH="1" flipV="1" rot="5400000">
              <a:off x="4238280" y="1557000"/>
              <a:ext cx="666720" cy="1746720"/>
            </a:xfrm>
            <a:prstGeom prst="bentConnector3">
              <a:avLst>
                <a:gd name="adj1" fmla="val 203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1" name="_s1032"/>
            <p:cNvSpPr/>
            <p:nvPr/>
          </p:nvSpPr>
          <p:spPr>
            <a:xfrm>
              <a:off x="3948480" y="76500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Сложное предложени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2202120" y="276372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оюз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_s1034"/>
            <p:cNvSpPr/>
            <p:nvPr/>
          </p:nvSpPr>
          <p:spPr>
            <a:xfrm>
              <a:off x="5693760" y="276372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бессоюз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457200" y="476244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ложносочиненное 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3948480" y="4762440"/>
              <a:ext cx="2992320" cy="133236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сложноподчиненное</a:t>
              </a:r>
              <a:endParaRPr b="0" lang="en-US" sz="27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Упр. 386 (устно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65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Упр. 387 (устно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d8c0"/>
                </a:solidFill>
                <a:latin typeface="Garamond"/>
              </a:rPr>
              <a:t>Сложноподчиненное предложение</a:t>
            </a:r>
            <a:endParaRPr b="1" lang="en-US" sz="4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[               ]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,(                  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82760" y="371628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лав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707000" y="37162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даточ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059280" y="285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0360" y="2781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d8c0"/>
                </a:solidFill>
                <a:latin typeface="Garamond"/>
              </a:rPr>
              <a:t>Каким по строению является выделенное предложение? Найдите главное и придаточное предложение .Составьте схему</a:t>
            </a:r>
            <a:endParaRPr b="1" lang="en-US" sz="2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вые бомбежки обрушились на Ленинград 70 лет назад, в начале сентября 1941 года, когда дети только пошли в школы. «В нашей школе, помещавшейся в старинном здании, были большие подвальные помещения, - рассказывала Валентина Ивановна Полякова, будущий врач. - Педагоги оборудовали в них классы. Повесили на стены школьные доски. Как только по радио раздавались сигналы воздушной тревоги, бежали в подвалы. Поскольку света не было, прибегали к стародавнему способу, о котором знали только по книгам - жгли лучины. С лучиной встречал нас учитель у входа в подвал. Мы рассаживались по своим местам. У дежурного по классу были теперь такие обязанности: </a:t>
            </a: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он заранее заготавливал лучины и стоял с зажженной палочкой, освещал школьную доску, на которой учитель писал задачи и стих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В полутьме писать ученикам было трудно, поэтому уроки заучивали наизусть, часто под грохот взрывов»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1128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13:11:17Z</dcterms:created>
  <dc:creator>1</dc:creator>
  <dc:description/>
  <dc:language>en-US</dc:language>
  <cp:lastModifiedBy>Asmadey</cp:lastModifiedBy>
  <dcterms:modified xsi:type="dcterms:W3CDTF">2012-04-14T18:15:41Z</dcterms:modified>
  <cp:revision>16</cp:revision>
  <dc:subject/>
  <dc:title>МОУ Харганатская СОШ</dc:title>
</cp:coreProperties>
</file>