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1C0B7-0D70-40BF-B031-9C8408B04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1A78-E434-40F3-A7B9-4E5B88E6D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60DD-2CCD-48D6-9C43-CFCA81E20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3250-560C-4C44-8F98-CDDA06E2A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E2431-3FF9-4D03-BEBE-6CD4C503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13BE4-24DD-445B-AAE7-AD4B7692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4B657-FCE1-4160-A803-CF2A8DA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EEAF4-33E3-490E-9868-D782F670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94A9F-D8BD-47E0-B6FD-50EEF774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C3EE0-C8F5-4525-8435-AD004BCE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EA669-0220-4688-82FA-0E9D50C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08C4-FADF-4B30-B66F-E74D03801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2DCB8-879F-4D1C-B67A-39798420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40D79-EA4D-40D7-8AA2-1916FFA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CF571-58DA-43FC-BCE7-1EECB1F2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17900-69A3-4D37-AA75-77B3E949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76CF5-2BE6-4AFB-B9B7-C4DDD5C2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7A00-B985-44F3-9C7A-347AE5E72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2A7F-D1B9-4014-B3A2-570D77470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00F5D-156C-4FAC-81FD-FEE64F8A2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CED5-CE4C-4004-BD47-FA9F6D745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FD0C-6BB1-4930-9EEA-7B47D51E0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82BF-2755-47A7-BA78-004B21CBA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CB2A-FABC-462C-8168-DAC7A7BF0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531-D223-4A2F-BE8F-9B19E4066183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D11A-49C6-46D0-A404-1BAFE2283F1A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9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6EE2-CA96-4183-B0D9-214BEC25953D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197000"/>
            <a:ext cx="860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619280" y="549360"/>
            <a:ext cx="608184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Северная война</a:t>
            </a:r>
            <a:endParaRPr b="1" lang="en-US" sz="4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2349360"/>
            <a:ext cx="662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Была ли необходимость войны со Швецией для дальнейшего развития России?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580536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90a11"/>
                </a:solidFill>
                <a:latin typeface="Times New Roman"/>
              </a:rPr>
              <a:t>Гекова Т.А.   Лицей № 15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4019400" cy="5222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Гарнизон крепости 1,5 месяца сдерживал ата ки шведов.20 июня к городу подошли рус-ские войска и распо-ложились к северо-западу от Полтав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Карл,нуждавшийся в за-пасах продовольствия и боеприпасах,несмот-ря на численное пре-восходство,решился на битву и вывел вой-ска на поле к северу от город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лтавская битв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8785800">
            <a:off x="735840" y="4368960"/>
            <a:ext cx="733320" cy="1900080"/>
          </a:xfrm>
          <a:custGeom>
            <a:avLst/>
            <a:gdLst>
              <a:gd name="textAreaLeft" fmla="*/ 98280 w 733320"/>
              <a:gd name="textAreaRight" fmla="*/ 635040 w 733320"/>
              <a:gd name="textAreaTop" fmla="*/ 332280 h 1900080"/>
              <a:gd name="textAreaBottom" fmla="*/ 1377720 h 19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4724280"/>
            <a:ext cx="914400" cy="838440"/>
          </a:xfrm>
          <a:prstGeom prst="hexagon">
            <a:avLst>
              <a:gd name="adj" fmla="val 27265"/>
              <a:gd name="vf" fmla="val 115470"/>
            </a:avLst>
          </a:prstGeom>
          <a:solidFill>
            <a:srgbClr val="ff0000"/>
          </a:solidFill>
          <a:ln cap="sq"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836640"/>
            <a:ext cx="4876920" cy="6021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етр посредине поля выстроил земляные укрепления - 6 поперек поля, а 4 недостроен-ных выдавались дале-ко вперед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2 часа ночи 27 июня 1709 г. Карл </a:t>
            </a:r>
            <a:r>
              <a:rPr b="1" lang="en-US" sz="2800" spc="-1" strike="noStrike">
                <a:solidFill>
                  <a:srgbClr val="090a11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атако-вал редуты, нанеся удар по центру, но был отбит метким ружей-ным огнем. Попытка прорваться слева, так-же закончилась неуда-чей.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365000">
            <a:off x="1947600" y="2112840"/>
            <a:ext cx="1295280" cy="486000"/>
          </a:xfrm>
          <a:prstGeom prst="rightArrow">
            <a:avLst>
              <a:gd name="adj1" fmla="val 50000"/>
              <a:gd name="adj2" fmla="val 66630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463600">
            <a:off x="2619000" y="2133360"/>
            <a:ext cx="504720" cy="1447560"/>
          </a:xfrm>
          <a:custGeom>
            <a:avLst/>
            <a:gdLst>
              <a:gd name="textAreaLeft" fmla="*/ 67320 w 504720"/>
              <a:gd name="textAreaRight" fmla="*/ 437400 w 50472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699200">
            <a:off x="2379240" y="2461680"/>
            <a:ext cx="1752840" cy="486000"/>
          </a:xfrm>
          <a:prstGeom prst="rightArrow">
            <a:avLst>
              <a:gd name="adj1" fmla="val 50000"/>
              <a:gd name="adj2" fmla="val 90167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862000">
            <a:off x="3007080" y="2192760"/>
            <a:ext cx="459000" cy="2374920"/>
          </a:xfrm>
          <a:custGeom>
            <a:avLst/>
            <a:gdLst>
              <a:gd name="textAreaLeft" fmla="*/ 61200 w 459000"/>
              <a:gd name="textAreaRight" fmla="*/ 397800 w 459000"/>
              <a:gd name="textAreaTop" fmla="*/ 485640 h 2374920"/>
              <a:gd name="textAreaBottom" fmla="*/ 165168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38" stAng="-5400000" swAng="5400000"/>
                <a:lnTo>
                  <a:pt x="21600" y="10603"/>
                </a:lnTo>
                <a:arcTo wR="21600" hR="8838" stAng="0" swAng="2950122"/>
                <a:lnTo>
                  <a:pt x="7200" y="21095"/>
                </a:lnTo>
                <a:lnTo>
                  <a:pt x="0" y="18558"/>
                </a:lnTo>
                <a:lnTo>
                  <a:pt x="7200" y="15010"/>
                </a:lnTo>
                <a:lnTo>
                  <a:pt x="7200" y="17170"/>
                </a:lnTo>
                <a:arcTo wR="21600" hR="8838" stAng="2950122" swAng="-2809042"/>
                <a:lnTo>
                  <a:pt x="21492" y="9720"/>
                </a:lnTo>
                <a:arcTo wR="21600" hR="8838" stAng="-141081" swAng="-5258919"/>
                <a:close/>
              </a:path>
              <a:path fill="darkenLess" w="21600" h="21600">
                <a:moveTo>
                  <a:pt x="0" y="0"/>
                </a:moveTo>
                <a:arcTo wR="21600" hR="8838" stAng="-5400000" swAng="5400000"/>
                <a:lnTo>
                  <a:pt x="21600" y="10603"/>
                </a:lnTo>
                <a:arcTo wR="21600" hR="8838" stAng="0" swAng="-141081"/>
                <a:lnTo>
                  <a:pt x="21492" y="9720"/>
                </a:lnTo>
                <a:arcTo wR="21600" hR="8838" stAng="-141081" swAng="-5258919"/>
                <a:close/>
              </a:path>
            </a:pathLst>
          </a:cu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6840" y="621180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90a11"/>
                </a:solidFill>
                <a:uFillTx/>
                <a:latin typeface="Times New Roman"/>
              </a:rPr>
              <a:t>I</a:t>
            </a: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 этап Полтавской битвы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evt="end">
                                        <p:tn val="191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360" y="765000"/>
            <a:ext cx="3922920" cy="5357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етр</a:t>
            </a:r>
            <a:r>
              <a:rPr b="1" lang="en-US" sz="2800" spc="-1" strike="noStrike">
                <a:solidFill>
                  <a:srgbClr val="090a11"/>
                </a:solidFill>
                <a:latin typeface="Arial"/>
              </a:rPr>
              <a:t> I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,решил,что против нику нанесен доста-точный урон, и отвел войска на заранее ук-репленные позиции около своего лагеря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Шведы выстроились напротив.Карл,ранен-ный в ногу, руководил войсками с носилок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Шведы ударили в центр русских войск и те дро гнул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765000"/>
            <a:ext cx="4876920" cy="609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решающий момент, Петр взял Новгородс-кий полк и нанес про-тивнику удар на пра-вом фланге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Шведы дрогнули и при-остановили наступле-ние. В это время пере-шел в наступление и левый фланг. Шведы начали отходить и вскоре их отступление превратилось в пани-ческое бегство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0344800">
            <a:off x="1938240" y="2112480"/>
            <a:ext cx="486000" cy="1600200"/>
          </a:xfrm>
          <a:prstGeom prst="downArrow">
            <a:avLst>
              <a:gd name="adj1" fmla="val 50000"/>
              <a:gd name="adj2" fmla="val 82315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лтавская битв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4242800">
            <a:off x="2376360" y="1585440"/>
            <a:ext cx="2405160" cy="604800"/>
          </a:xfrm>
          <a:custGeom>
            <a:avLst/>
            <a:gdLst>
              <a:gd name="textAreaLeft" fmla="*/ 420840 w 2405160"/>
              <a:gd name="textAreaRight" fmla="*/ 1743840 w 240516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5334600">
            <a:off x="-824040" y="2576160"/>
            <a:ext cx="2404800" cy="604800"/>
          </a:xfrm>
          <a:custGeom>
            <a:avLst/>
            <a:gdLst>
              <a:gd name="textAreaLeft" fmla="*/ 420840 w 2404800"/>
              <a:gd name="textAreaRight" fmla="*/ 1743480 w 240480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845600">
            <a:off x="-75960" y="1295280"/>
            <a:ext cx="1890720" cy="486000"/>
          </a:xfrm>
          <a:prstGeom prst="leftArrow">
            <a:avLst>
              <a:gd name="adj1" fmla="val 50000"/>
              <a:gd name="adj2" fmla="val 97259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0360" y="6211800"/>
            <a:ext cx="38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90a11"/>
                </a:solidFill>
                <a:uFillTx/>
                <a:latin typeface="Times New Roman"/>
              </a:rPr>
              <a:t>II</a:t>
            </a: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 этап Полтавской битвы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evt="end">
                                        <p:tn val="239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evt="end">
                                        <p:tn val="257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5029200"/>
            <a:ext cx="8763120" cy="18288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Русские не стали сразу преследовать соперни-ка.Вечером после битвы Петр устроил пир где в качестве почетных гостей присутство-вали «шведы-учителя» 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лтавская битв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Наследующий день преследование возобнови-лось и 30 июня, у переправы через Днепр, шведы были разбиты. Карл и Мазепа бежали в сопровождении 600 гвардейцев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13080" y="836640"/>
            <a:ext cx="6730920" cy="4113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41040" y="22050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арл </a:t>
            </a:r>
            <a:r>
              <a:rPr b="1" lang="en-US" sz="2400" spc="-1" strike="noStrike" u="sng">
                <a:solidFill>
                  <a:srgbClr val="090a11"/>
                </a:solidFill>
                <a:uFillTx/>
                <a:latin typeface="Times New Roman"/>
              </a:rPr>
              <a:t>XII</a:t>
            </a: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 у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ереправы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через Днепр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вюра. 18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рутский поход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0" y="764640"/>
            <a:ext cx="4572000" cy="609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осле Полтавы Россия овладела побережь-ем Балтики и Петр </a:t>
            </a:r>
            <a:r>
              <a:rPr b="1" lang="en-US" sz="2800" spc="-1" strike="noStrike">
                <a:solidFill>
                  <a:srgbClr val="090a11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решил сосредото-чить внимание на черноморском по-бережье. В 1711 г.Ту-рция, под давлением Карла </a:t>
            </a:r>
            <a:r>
              <a:rPr b="1" lang="en-US" sz="2800" spc="-1" strike="noStrike">
                <a:solidFill>
                  <a:srgbClr val="090a11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объявила войну Росси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етр во главе 35-тыс. войска  двинулся на Балканы. Из-за распу- тицы армия растяну-лась почти на 30 км и ее атаковали тур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610080" cy="4859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453240" y="5697360"/>
            <a:ext cx="38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.П.Шафиров. Глав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усской делегации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 переговорах с турками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обеды русского флот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Успехи на суше необходимо было закрепить победами на море. За годы реформ Петр создал внушительный флот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13 г. русская армия одержала ряд побед в Финлян-дии, принадлежавшей Швеции. Для дальнейших бое-вых действий нужно было доставить войска по морю на север стра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916360" y="851040"/>
            <a:ext cx="6227640" cy="3429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53440" y="2205000"/>
            <a:ext cx="24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усский боевой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орабль, н.18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797040"/>
            <a:ext cx="9144000" cy="5984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беды русского флот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4680" y="5181480"/>
            <a:ext cx="4379400" cy="1557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етр опасавшийся столкнове-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тия со шведами решил пере-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тащить корабли в самом уз-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ком месте полуостров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724400">
            <a:off x="5866920" y="2276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854200">
            <a:off x="4974120" y="17294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06480" y="5181480"/>
            <a:ext cx="4460040" cy="1557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Шведы узнав об этом двинул-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ись навстречу русской эскад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ры, но ветер на море неожидан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но стих и они остановились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3971400">
            <a:off x="4024440" y="3826800"/>
            <a:ext cx="485640" cy="2881080"/>
          </a:xfrm>
          <a:prstGeom prst="upArrow">
            <a:avLst>
              <a:gd name="adj1" fmla="val 50000"/>
              <a:gd name="adj2" fmla="val 148314"/>
            </a:avLst>
          </a:prstGeom>
          <a:solidFill>
            <a:srgbClr val="66ccff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04680" y="5181480"/>
            <a:ext cx="4498200" cy="1557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етр воспользовался тем, что 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русские суда были гребными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обошел шведов и, обогнув Ган-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Гут,  воссоединил эскадру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074800">
            <a:off x="722160" y="4657680"/>
            <a:ext cx="6919920" cy="486000"/>
          </a:xfrm>
          <a:prstGeom prst="leftArrow">
            <a:avLst>
              <a:gd name="adj1" fmla="val 50000"/>
              <a:gd name="adj2" fmla="val 355963"/>
            </a:avLst>
          </a:pr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8325200">
            <a:off x="-258480" y="3604680"/>
            <a:ext cx="6096240" cy="609840"/>
          </a:xfrm>
          <a:custGeom>
            <a:avLst/>
            <a:gdLst>
              <a:gd name="textAreaLeft" fmla="*/ 0 w 6096240"/>
              <a:gd name="textAreaRight" fmla="*/ 6096600 w 60962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7854800">
            <a:off x="4458240" y="1658160"/>
            <a:ext cx="750960" cy="485640"/>
          </a:xfrm>
          <a:prstGeom prst="leftArrow">
            <a:avLst>
              <a:gd name="adj1" fmla="val 50000"/>
              <a:gd name="adj2" fmla="val 38658"/>
            </a:avLst>
          </a:prstGeom>
          <a:solidFill>
            <a:srgbClr val="009900"/>
          </a:solidFill>
          <a:ln cap="sq" w="38160">
            <a:solidFill>
              <a:srgbClr val="090a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Ништадтский мир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160" y="4365360"/>
            <a:ext cx="9105840" cy="2492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21 г. был   заключен Ништадтский мир, по которому Россия возвращала Швеции Финляндию, но получала Ингрию, Лифляндию, Эстлянди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За вновь присоединенные земли Россия выплатила 1,5 млн. руб. компенсаци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21 г. Петр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провозгласил Россию империе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80000" y="785880"/>
            <a:ext cx="5364000" cy="3502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82880" y="1628640"/>
            <a:ext cx="335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Торжеств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 Санкт-Петербург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о случаю заключения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иштадтского мир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вюра  18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еликая Северная война полностью изменила соотношение сил на Балтик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Россия превратилась в великую державу, доминировавшую в Восточной Европ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Была решена ключевая задача царствования Петра I — обеспечение выхода к морю и налаживание морской торговли с Европой. К концу войны Россия обладала современной, первоклассной армией и мощным флотом на Балтик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Швеция утратила своё могущество и превратилась во второстепенную державу.          Были потеряны не только территории, уступленные России, но и все владения Швеции на южном берегу Балтийского мор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 advTm="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2560" cy="1557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2560" cy="5300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http://ru.wikipedia.org/</a:t>
            </a:r>
            <a:r>
              <a:rPr b="0" lang="ru-RU" sz="3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3216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1141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http://zacheta.net.ua/</a:t>
            </a:r>
            <a:r>
              <a:rPr b="1" lang="en-US" sz="4000" spc="-1" strike="noStrike" u="sng">
                <a:solidFill>
                  <a:srgbClr val="660033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76360" y="2349360"/>
            <a:ext cx="583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421000"/>
            <a:ext cx="9144000" cy="7034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http://</a:t>
            </a: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www.zachotik.ru</a:t>
            </a: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/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14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http://www.empire-rus.ru/</a:t>
            </a: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941720"/>
            <a:ext cx="9144000" cy="14770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http://yandex.ru/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http://google.ru/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3490920"/>
            <a:ext cx="712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06472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Познакомить учащихся с событиями Северной войны 1700-1721 гг., рассказать о значении Северной войны для России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421000"/>
            <a:ext cx="856908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1. Рассмотреть причины, характер войны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2. Рассказать о начале Северной войны, формировании новой армии и создании флота в России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3. Показать основные сражения и ход     военных действий.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000" y="765000"/>
            <a:ext cx="4307040" cy="6093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43040" y="761760"/>
            <a:ext cx="4724280" cy="6019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н.1700 г. Войну Швеции объявили Дания и Саксо-ния,но 18-летний шведс-кий король Карл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XII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еожи-данно появился у Копенга-гена и заставил Данию ка-питулировать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Летом,шведы высадились у Риги и разбили саксонцев осаждавших город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сентябре 1700 г. Петр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о главе 35-тысячной армии двинулся к Нарве, принад лежащей шведам и осадил город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Начало войны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581280"/>
            <a:ext cx="228600" cy="228600"/>
          </a:xfrm>
          <a:prstGeom prst="donut">
            <a:avLst>
              <a:gd name="adj" fmla="val 50000"/>
            </a:avLst>
          </a:prstGeom>
          <a:solidFill>
            <a:srgbClr val="ff00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3809880"/>
            <a:ext cx="838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6600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рва</a:t>
            </a:r>
            <a:endParaRPr b="0" lang="en-US" sz="2400" spc="1" strike="noStrike">
              <a:ln cap="sq" w="9360">
                <a:solidFill>
                  <a:srgbClr val="660033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 rot="2539800">
            <a:off x="761760" y="3892680"/>
            <a:ext cx="914400" cy="380880"/>
          </a:xfrm>
          <a:prstGeom prst="leftArrow">
            <a:avLst>
              <a:gd name="adj1" fmla="val 50000"/>
              <a:gd name="adj2" fmla="val 60019"/>
            </a:avLst>
          </a:prstGeom>
          <a:solidFill>
            <a:srgbClr val="ff00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768240"/>
            <a:ext cx="4724280" cy="6089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Основу русской армии сос-тавляли стрелецкие полки обладавшие низкой бое-вой подготовкой и поэто-му осада затянулась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Раздосадованный царь оставил армию и уехал в Новгород собирать допол-нительные войск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А в это время Карл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XI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поспе- шил на помощь осажден-ному гарнизону. Он совер-шил стремительный пере-ход к Нарве и, воспользо-вавшись пургой, атаковал русски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629600">
            <a:off x="69480" y="3820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40360" y="379440"/>
            <a:ext cx="5003640" cy="35971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Разгромив русских Карл отправился в Польшу, чтобы разбить польского короля Августа. В 1701 г. русские одержали 1-ю победу-в Прибалтике Шереметев разг-ромил швед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03 г. Петр овладел крепостями по течению Невы-Нотебургом и Ниеншацем и 30 мая 1703 г. приказал заложить на Заячьем острове в устье Невы будущую столицу России Санкт-Петербур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Начало войны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7960" y="1366920"/>
            <a:ext cx="2638800" cy="1922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етр Великий на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троительств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етербурга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еизвестный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художник. 19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ransition spd="med" advTm="0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6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Начало войны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66720" y="761760"/>
            <a:ext cx="487692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Эти победы  позволили Петру выйти на побе-режье Балтийского мо ря, но для закрепления нужно было взять Нар- ву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1704 г. Петр вновь дви- нулся к городу, осадил его и несколько дней спустя начал штурм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ервым на крепостную стену ворвался фаво-рит Петра Меншиков. Вскоре Нарва пал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760" y="765000"/>
            <a:ext cx="4273560" cy="6093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 spd="med" advTm="0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356000" y="907920"/>
            <a:ext cx="4788000" cy="5950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66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поражения под Нар-вой Петр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I 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риступил к реформированию арми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авните слайды и ответьте на вопрос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Arial"/>
              </a:rPr>
              <a:t>Какие изменения произошли в Русской армии? Дайте им оценку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етр взамен стрелецких пол-ков начал создавать пол-ки нового строя  и объя-вил о начале рекрутских наборов. От тысячи дво-ров раз в год брали на службу 1 рекрут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оенная реформ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001880"/>
            <a:ext cx="4284720" cy="2673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692520"/>
            <a:ext cx="4284720" cy="3146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 spd="med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66720" y="761760"/>
            <a:ext cx="487692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русской армии появились различные рода войск. Петр сделал ставку на уси- ление артиллерии и решил основать на Урале ме- таллургические заводы. Но быстрой отдачи от них не было и поэтому Петр приказал снять с церквей колокола и переплавить их на пушк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ервоначальную потреб-ность армии эта мера поз-волила удовлетворить, но Петр на этом не останови-лся и в стране продолжа-ли возникать новые ману-фактур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оенная реформ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4211640" cy="3284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4211640" cy="2654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 spd="med" advTm="0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266720" y="761760"/>
            <a:ext cx="487692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ля подготовки офицеров по приказу Петра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стали создавать военные школы В 1701 г. в Москве возник-ла Навигацкая школа, пре-образованная впоследст-вии в Морскую Академию. Вскоре возникли школы других направлени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ля подготовки офицеров Петр продолжал отправ-лять молодых  дворян за границ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16 г. был принят новый воинский устав , чуть поз-же появился «Морской устав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Военная реформ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30960" y="5481720"/>
            <a:ext cx="237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оинский устав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писанный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етром</a:t>
            </a:r>
            <a:r>
              <a:rPr b="1" lang="en-US" sz="2400" spc="-1" strike="noStrike" u="sng">
                <a:solidFill>
                  <a:srgbClr val="090a11"/>
                </a:solidFill>
                <a:uFillTx/>
                <a:latin typeface="Times New Roman"/>
              </a:rPr>
              <a:t> I</a:t>
            </a: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3994200" cy="3274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 spd="med" advTm="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3840120" cy="52718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66720" y="764640"/>
            <a:ext cx="4876920" cy="609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706 г.Август Саксонский капитулировал. Карл, дав своей армии в 1707г. от-дых, в 1708 г. двинулся на Украину. Его неожиданно поддержал гетман И.Мазе-п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 помощь Карлу из Риги двинулся обоз в 3000 те-лег, но 28.09.1709 г. в битве при Лесной русские захватили его, и шведы провели тяжелую зиму в Могилеве. Весной Карл двинулся на Полтаву, где находились крупные армейские магази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99ffcc"/>
          </a:soli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90a11"/>
                </a:solidFill>
                <a:latin typeface="Times New Roman"/>
              </a:rPr>
              <a:t>Полтавская битва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19440" y="2619360"/>
            <a:ext cx="304560" cy="304920"/>
          </a:xfrm>
          <a:prstGeom prst="donut">
            <a:avLst>
              <a:gd name="adj" fmla="val 50000"/>
            </a:avLst>
          </a:prstGeom>
          <a:solidFill>
            <a:srgbClr val="ff00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5284800"/>
            <a:ext cx="304920" cy="304920"/>
          </a:xfrm>
          <a:prstGeom prst="donut">
            <a:avLst>
              <a:gd name="adj" fmla="val 50000"/>
            </a:avLst>
          </a:prstGeom>
          <a:solidFill>
            <a:srgbClr val="ff00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09680" y="2362320"/>
            <a:ext cx="179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660033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гилев</a:t>
            </a:r>
            <a:endParaRPr b="1" lang="en-US" sz="2400" spc="1" strike="noStrike">
              <a:ln cap="sq" w="19080">
                <a:solidFill>
                  <a:srgbClr val="660033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362320" y="5638680"/>
            <a:ext cx="1790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660033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тава</a:t>
            </a:r>
            <a:endParaRPr b="1" lang="en-US" sz="2400" spc="1" strike="noStrike">
              <a:ln cap="sq" w="19080">
                <a:solidFill>
                  <a:srgbClr val="660033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0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Геков</cp:lastModifiedBy>
  <cp:lastPrinted>1997-01-19T19:09:28Z</cp:lastPrinted>
  <dcterms:modified xsi:type="dcterms:W3CDTF">2009-09-19T19:34:15Z</dcterms:modified>
  <cp:revision>338</cp:revision>
  <dc:subject/>
  <dc:title>Заголовок слайда отсутствует</dc:title>
</cp:coreProperties>
</file>