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F73-44A8-47E7-A3E4-83935062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DC5D-2E12-438E-80AA-9D92C1C0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D74-66BC-440F-9094-B2FB231D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CA2-2B35-42AE-8276-BB5F89D1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D2A7-01C3-46A7-9845-8FF7FCF3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107B-6C72-417D-A681-57F2F58E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28F6-92D0-447E-B6F0-AF88A33D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21F0-0425-489A-81E1-D562DDCB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744F-ACA1-4813-AFC3-8521BBA7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42CE-DDA4-485C-B4BD-49731742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212E-9BA2-4032-9C04-ED2F2986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894-3CB4-43CC-9E97-B0D56DBD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C8D2-F0D3-40AD-A375-74E1325C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0DED-8F89-4369-9486-EB3956C2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ABB0-FCAE-4507-941C-71599CA3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96A9-36F5-4EB9-9757-6DEBAF2E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1D5D-742B-49E5-A2C0-F756A2B7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77E-FD57-4BD8-91D5-33B72EEA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DC2-7F4E-42B0-A37F-B700EA22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1346-FF19-4EE2-BF5E-8BCDFE2A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2A7-7C3D-4E80-950B-ECF0E6C2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B3A-9BFE-4038-92B7-B70EF4DC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2B6-3B5E-4459-87A0-E0174AB6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C48E-8571-41F6-9926-19525E36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6914-3541-4210-8F72-9035CC7D2D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f0f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3a"/>
                </a:gs>
                <a:gs pos="50000">
                  <a:srgbClr val="080840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7BA8-D94E-4B88-AB69-12C55A7A8FE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G:\гжель\52.jpg"/>
          <p:cNvPicPr/>
          <p:nvPr/>
        </p:nvPicPr>
        <p:blipFill>
          <a:blip r:embed="rId1"/>
          <a:stretch/>
        </p:blipFill>
        <p:spPr>
          <a:xfrm>
            <a:off x="-6480" y="-6480"/>
            <a:ext cx="4157640" cy="3237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G:\гжель\53.jpg"/>
          <p:cNvPicPr/>
          <p:nvPr/>
        </p:nvPicPr>
        <p:blipFill>
          <a:blip r:embed="rId2"/>
          <a:stretch/>
        </p:blipFill>
        <p:spPr>
          <a:xfrm>
            <a:off x="4780080" y="3584520"/>
            <a:ext cx="4370400" cy="327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G:\гжель\54.jpg"/>
          <p:cNvPicPr/>
          <p:nvPr/>
        </p:nvPicPr>
        <p:blipFill>
          <a:blip r:embed="rId3"/>
          <a:stretch/>
        </p:blipFill>
        <p:spPr>
          <a:xfrm>
            <a:off x="4780080" y="-6480"/>
            <a:ext cx="4370400" cy="3230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G:\гжель\55.jpg"/>
          <p:cNvPicPr/>
          <p:nvPr/>
        </p:nvPicPr>
        <p:blipFill>
          <a:blip r:embed="rId4"/>
          <a:stretch/>
        </p:blipFill>
        <p:spPr>
          <a:xfrm>
            <a:off x="-6480" y="3706920"/>
            <a:ext cx="4157640" cy="3157560"/>
          </a:xfrm>
          <a:prstGeom prst="rect">
            <a:avLst/>
          </a:prstGeom>
          <a:ln w="0">
            <a:noFill/>
          </a:ln>
        </p:spPr>
      </p:pic>
      <p:sp>
        <p:nvSpPr>
          <p:cNvPr id="108" name="Круглая лента лицом вниз 9"/>
          <p:cNvSpPr/>
          <p:nvPr/>
        </p:nvSpPr>
        <p:spPr>
          <a:xfrm>
            <a:off x="971640" y="3068640"/>
            <a:ext cx="6743520" cy="789120"/>
          </a:xfrm>
          <a:custGeom>
            <a:avLst/>
            <a:gdLst>
              <a:gd name="textAreaLeft" fmla="*/ 1133280 w 6743520"/>
              <a:gd name="textAreaRight" fmla="*/ 5610240 w 6743520"/>
              <a:gd name="textAreaTop" fmla="*/ 197280 h 789120"/>
              <a:gd name="textAreaBottom" fmla="*/ 747360 h 789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665082"/>
                <a:lnTo>
                  <a:pt x="3630" y="20457"/>
                </a:lnTo>
                <a:arcTo wR="21600" hR="20153" stAng="6639874" swAng="-2479748"/>
                <a:lnTo>
                  <a:pt x="17970" y="17757"/>
                </a:lnTo>
                <a:arcTo wR="21600" hR="20153" stAng="4160126" swAng="-665082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138541"/>
                <a:lnTo>
                  <a:pt x="15270" y="4964"/>
                </a:lnTo>
                <a:arcTo wR="21600" hR="20153" stAng="4633585" swAng="1532831"/>
                <a:lnTo>
                  <a:pt x="6330" y="2264"/>
                </a:lnTo>
                <a:arcTo wR="21600" hR="20153" stAng="6166415" swAng="1138541"/>
                <a:lnTo>
                  <a:pt x="2700" y="9329"/>
                </a:lnTo>
                <a:close/>
              </a:path>
              <a:path fill="none" w="21600" h="21600">
                <a:moveTo>
                  <a:pt x="6330" y="4964"/>
                </a:moveTo>
                <a:arcTo wR="21600" hR="20153" stAng="6166415" swAng="473459"/>
                <a:lnTo>
                  <a:pt x="6330" y="2264"/>
                </a:lnTo>
              </a:path>
              <a:path fill="none" w="21600" h="21600">
                <a:moveTo>
                  <a:pt x="15270" y="4964"/>
                </a:moveTo>
                <a:arcTo wR="21600" hR="20153" stAng="4633585" swAng="-473459"/>
                <a:lnTo>
                  <a:pt x="15270" y="2264"/>
                </a:lnTo>
              </a:path>
              <a:path fill="none" w="21600" h="21600">
                <a:moveTo>
                  <a:pt x="3630" y="17757"/>
                </a:moveTo>
                <a:lnTo>
                  <a:pt x="3630" y="4257"/>
                </a:lnTo>
              </a:path>
              <a:path fill="none" w="21600" h="21600">
                <a:moveTo>
                  <a:pt x="17970" y="17757"/>
                </a:moveTo>
                <a:lnTo>
                  <a:pt x="17970" y="4257"/>
                </a:lnTo>
              </a:path>
            </a:pathLst>
          </a:custGeom>
          <a:solidFill>
            <a:srgbClr val="00007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Белый чайничек из Гжели вам запомнится нав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ужели – неужели это сделал человек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G:\гжель\гж11.jpeg"/>
          <p:cNvPicPr/>
          <p:nvPr/>
        </p:nvPicPr>
        <p:blipFill>
          <a:blip r:embed="rId1"/>
          <a:stretch/>
        </p:blipFill>
        <p:spPr>
          <a:xfrm>
            <a:off x="165240" y="324000"/>
            <a:ext cx="5192640" cy="428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G:\гжель\гж12.jpeg"/>
          <p:cNvPicPr/>
          <p:nvPr/>
        </p:nvPicPr>
        <p:blipFill>
          <a:blip r:embed="rId2"/>
          <a:stretch/>
        </p:blipFill>
        <p:spPr>
          <a:xfrm>
            <a:off x="5022720" y="1395360"/>
            <a:ext cx="3981600" cy="4243320"/>
          </a:xfrm>
          <a:prstGeom prst="rect">
            <a:avLst/>
          </a:prstGeom>
          <a:ln w="0">
            <a:noFill/>
          </a:ln>
        </p:spPr>
      </p:pic>
      <p:sp>
        <p:nvSpPr>
          <p:cNvPr id="111" name="Круглая лента лицом вниз 6"/>
          <p:cNvSpPr/>
          <p:nvPr/>
        </p:nvSpPr>
        <p:spPr>
          <a:xfrm>
            <a:off x="1571760" y="5857920"/>
            <a:ext cx="6429240" cy="687240"/>
          </a:xfrm>
          <a:custGeom>
            <a:avLst/>
            <a:gdLst>
              <a:gd name="textAreaLeft" fmla="*/ 1080360 w 6429240"/>
              <a:gd name="textAreaRight" fmla="*/ 5348880 w 6429240"/>
              <a:gd name="textAreaTop" fmla="*/ 171720 h 687240"/>
              <a:gd name="textAreaBottom" fmla="*/ 650880 h 6872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665082"/>
                <a:lnTo>
                  <a:pt x="3630" y="20457"/>
                </a:lnTo>
                <a:arcTo wR="21600" hR="20153" stAng="6639874" swAng="-2479748"/>
                <a:lnTo>
                  <a:pt x="17970" y="17757"/>
                </a:lnTo>
                <a:arcTo wR="21600" hR="20153" stAng="4160126" swAng="-665082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138541"/>
                <a:lnTo>
                  <a:pt x="15270" y="4964"/>
                </a:lnTo>
                <a:arcTo wR="21600" hR="20153" stAng="4633585" swAng="1532831"/>
                <a:lnTo>
                  <a:pt x="6330" y="2264"/>
                </a:lnTo>
                <a:arcTo wR="21600" hR="20153" stAng="6166415" swAng="1138541"/>
                <a:lnTo>
                  <a:pt x="2700" y="9329"/>
                </a:lnTo>
                <a:close/>
              </a:path>
              <a:path fill="none" w="21600" h="21600">
                <a:moveTo>
                  <a:pt x="6330" y="4964"/>
                </a:moveTo>
                <a:arcTo wR="21600" hR="20153" stAng="6166415" swAng="473459"/>
                <a:lnTo>
                  <a:pt x="6330" y="2264"/>
                </a:lnTo>
              </a:path>
              <a:path fill="none" w="21600" h="21600">
                <a:moveTo>
                  <a:pt x="15270" y="4964"/>
                </a:moveTo>
                <a:arcTo wR="21600" hR="20153" stAng="4633585" swAng="-473459"/>
                <a:lnTo>
                  <a:pt x="15270" y="2264"/>
                </a:lnTo>
              </a:path>
              <a:path fill="none" w="21600" h="21600">
                <a:moveTo>
                  <a:pt x="3630" y="17757"/>
                </a:moveTo>
                <a:lnTo>
                  <a:pt x="3630" y="4257"/>
                </a:lnTo>
              </a:path>
              <a:path fill="none" w="21600" h="21600">
                <a:moveTo>
                  <a:pt x="17970" y="17757"/>
                </a:moveTo>
                <a:lnTo>
                  <a:pt x="17970" y="4257"/>
                </a:lnTo>
              </a:path>
            </a:pathLst>
          </a:custGeom>
          <a:solidFill>
            <a:srgbClr val="00007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бор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ля специй и салфетниц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8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38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38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38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G:\гжель\гж20.jpeg"/>
          <p:cNvPicPr/>
          <p:nvPr/>
        </p:nvPicPr>
        <p:blipFill>
          <a:blip r:embed="rId1"/>
          <a:stretch/>
        </p:blipFill>
        <p:spPr>
          <a:xfrm>
            <a:off x="523800" y="3395520"/>
            <a:ext cx="2238480" cy="3237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G:\гжель\гж19.jpeg"/>
          <p:cNvPicPr/>
          <p:nvPr/>
        </p:nvPicPr>
        <p:blipFill>
          <a:blip r:embed="rId2"/>
          <a:stretch/>
        </p:blipFill>
        <p:spPr>
          <a:xfrm>
            <a:off x="6229440" y="3249720"/>
            <a:ext cx="2622600" cy="3449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G:\гжель\гж13.jpeg"/>
          <p:cNvPicPr/>
          <p:nvPr/>
        </p:nvPicPr>
        <p:blipFill>
          <a:blip r:embed="rId3"/>
          <a:stretch/>
        </p:blipFill>
        <p:spPr>
          <a:xfrm>
            <a:off x="804960" y="182520"/>
            <a:ext cx="2455920" cy="3273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G:\гжель\гж14.jpeg"/>
          <p:cNvPicPr/>
          <p:nvPr/>
        </p:nvPicPr>
        <p:blipFill>
          <a:blip r:embed="rId4"/>
          <a:stretch/>
        </p:blipFill>
        <p:spPr>
          <a:xfrm>
            <a:off x="3340080" y="281160"/>
            <a:ext cx="2395440" cy="2199960"/>
          </a:xfrm>
          <a:prstGeom prst="rect">
            <a:avLst/>
          </a:prstGeom>
          <a:ln w="0">
            <a:noFill/>
          </a:ln>
        </p:spPr>
      </p:pic>
      <p:sp>
        <p:nvSpPr>
          <p:cNvPr id="116" name="Круглая лента лицом вниз 6"/>
          <p:cNvSpPr/>
          <p:nvPr/>
        </p:nvSpPr>
        <p:spPr>
          <a:xfrm>
            <a:off x="2786040" y="5572080"/>
            <a:ext cx="3571920" cy="687600"/>
          </a:xfrm>
          <a:custGeom>
            <a:avLst/>
            <a:gdLst>
              <a:gd name="textAreaLeft" fmla="*/ 600120 w 3571920"/>
              <a:gd name="textAreaRight" fmla="*/ 2971800 w 3571920"/>
              <a:gd name="textAreaTop" fmla="*/ 171720 h 687600"/>
              <a:gd name="textAreaBottom" fmla="*/ 651240 h 6876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665082"/>
                <a:lnTo>
                  <a:pt x="3630" y="20457"/>
                </a:lnTo>
                <a:arcTo wR="21600" hR="20153" stAng="6639874" swAng="-2479748"/>
                <a:lnTo>
                  <a:pt x="17970" y="17757"/>
                </a:lnTo>
                <a:arcTo wR="21600" hR="20153" stAng="4160126" swAng="-665082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138541"/>
                <a:lnTo>
                  <a:pt x="15270" y="4964"/>
                </a:lnTo>
                <a:arcTo wR="21600" hR="20153" stAng="4633585" swAng="1532831"/>
                <a:lnTo>
                  <a:pt x="6330" y="2264"/>
                </a:lnTo>
                <a:arcTo wR="21600" hR="20153" stAng="6166415" swAng="1138541"/>
                <a:lnTo>
                  <a:pt x="2700" y="9329"/>
                </a:lnTo>
                <a:close/>
              </a:path>
              <a:path fill="none" w="21600" h="21600">
                <a:moveTo>
                  <a:pt x="6330" y="4964"/>
                </a:moveTo>
                <a:arcTo wR="21600" hR="20153" stAng="6166415" swAng="473459"/>
                <a:lnTo>
                  <a:pt x="6330" y="2264"/>
                </a:lnTo>
              </a:path>
              <a:path fill="none" w="21600" h="21600">
                <a:moveTo>
                  <a:pt x="15270" y="4964"/>
                </a:moveTo>
                <a:arcTo wR="21600" hR="20153" stAng="4633585" swAng="-473459"/>
                <a:lnTo>
                  <a:pt x="15270" y="2264"/>
                </a:lnTo>
              </a:path>
              <a:path fill="none" w="21600" h="21600">
                <a:moveTo>
                  <a:pt x="3630" y="17757"/>
                </a:moveTo>
                <a:lnTo>
                  <a:pt x="3630" y="4257"/>
                </a:lnTo>
              </a:path>
              <a:path fill="none" w="21600" h="21600">
                <a:moveTo>
                  <a:pt x="17970" y="17757"/>
                </a:moveTo>
                <a:lnTo>
                  <a:pt x="17970" y="4257"/>
                </a:lnTo>
              </a:path>
            </a:pathLst>
          </a:custGeom>
          <a:solidFill>
            <a:srgbClr val="00007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Животные и птиц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Невиданной кра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G:\гжель\гж27.jpeg"/>
          <p:cNvPicPr/>
          <p:nvPr/>
        </p:nvPicPr>
        <p:blipFill>
          <a:blip r:embed="rId5"/>
          <a:stretch/>
        </p:blipFill>
        <p:spPr>
          <a:xfrm>
            <a:off x="5907240" y="122400"/>
            <a:ext cx="2736720" cy="3389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G:\гжель\гж17.jpeg"/>
          <p:cNvPicPr/>
          <p:nvPr/>
        </p:nvPicPr>
        <p:blipFill>
          <a:blip r:embed="rId6"/>
          <a:stretch/>
        </p:blipFill>
        <p:spPr>
          <a:xfrm>
            <a:off x="3382920" y="2548080"/>
            <a:ext cx="24512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:\гжель\гж2.jpeg"/>
          <p:cNvPicPr/>
          <p:nvPr/>
        </p:nvPicPr>
        <p:blipFill>
          <a:blip r:embed="rId1"/>
          <a:stretch/>
        </p:blipFill>
        <p:spPr>
          <a:xfrm>
            <a:off x="357120" y="285840"/>
            <a:ext cx="4429080" cy="6292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500800" y="1600200"/>
            <a:ext cx="36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о соотношении частей и це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о форме предмета и элементах уз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о симмет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об  асимметрич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   </a:t>
            </a: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равнове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Прямоугольник 5" descr=""/>
          <p:cNvPicPr/>
          <p:nvPr/>
        </p:nvPicPr>
        <p:blipFill>
          <a:blip r:embed="rId2"/>
          <a:stretch/>
        </p:blipFill>
        <p:spPr>
          <a:xfrm>
            <a:off x="5778360" y="347760"/>
            <a:ext cx="2427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G:\гжель\гж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G:\гжель\mainimage.gif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1838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G:\гжель\mainimage.gif"/>
          <p:cNvPicPr/>
          <p:nvPr/>
        </p:nvPicPr>
        <p:blipFill>
          <a:blip r:embed="rId2"/>
          <a:stretch/>
        </p:blipFill>
        <p:spPr>
          <a:xfrm>
            <a:off x="0" y="0"/>
            <a:ext cx="5214960" cy="18381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>
            <a:off x="3287880" y="2286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7609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050920" y="1844640"/>
            <a:ext cx="5689800" cy="453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1258560" y="6237360"/>
            <a:ext cx="70722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lvl="4" marL="1275480" indent="-141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76092"/>
                </a:solidFill>
                <a:latin typeface="Arial"/>
              </a:rPr>
              <a:t>коне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6:33:36Z</dcterms:created>
  <dc:creator>user</dc:creator>
  <dc:description/>
  <dc:language>en-US</dc:language>
  <cp:lastModifiedBy>XTreme.ws</cp:lastModifiedBy>
  <dcterms:modified xsi:type="dcterms:W3CDTF">2013-03-30T06:17:32Z</dcterms:modified>
  <cp:revision>119</cp:revision>
  <dc:subject/>
  <dc:title>Слайд 1</dc:title>
</cp:coreProperties>
</file>