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B32-A918-4822-872C-6610D4E6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953-7B24-4B4A-8787-013752C8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27D-67BC-4DBE-AB95-6E7D436A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B4B-F818-4D75-99F3-C945E084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7F5A-2C6E-47B4-8D76-6731B994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5141-90A6-4B7F-B301-25B80543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3D75-EB32-4256-984C-397CA019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46AD-D5BE-4D62-A834-75DAB5F1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7042-A45D-4AEF-A941-9E44D7A9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0146-39AB-4AAF-8A3F-72F6F68A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2604-C3B0-4E2D-B81A-1496DAEF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6B5-5168-465E-AE3F-2E22F26B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934B-0774-45A2-8979-E6D12FD3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FE31-A845-4255-BD6E-3262DB70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D512-004F-411B-B54B-DD9C55DD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3BCC-36F4-400A-976D-58DB8BE5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CAE2-3630-49A6-8C0E-4F03CE47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3FB-03BC-41E7-936D-8332756C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5CC-A7F2-47F0-88B6-F26B73C9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991-2E91-4C79-AB2C-3F5F97CB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7E5-F816-4263-8320-4D489F22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65A-8D0D-499D-9332-79445106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61F-491A-4384-B61D-5D0A8BDC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15A-3253-43EE-B2BF-14B33710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AD7D-2BF0-457C-BCDD-7E7C3E1433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6AE1-9895-4045-9D8C-60F62B4EBA2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G:\гжель\52.jpg"/>
          <p:cNvPicPr/>
          <p:nvPr/>
        </p:nvPicPr>
        <p:blipFill>
          <a:blip r:embed="rId1"/>
          <a:stretch/>
        </p:blipFill>
        <p:spPr>
          <a:xfrm>
            <a:off x="-6480" y="-6480"/>
            <a:ext cx="4157640" cy="3237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:\гжель\53.jpg"/>
          <p:cNvPicPr/>
          <p:nvPr/>
        </p:nvPicPr>
        <p:blipFill>
          <a:blip r:embed="rId2"/>
          <a:stretch/>
        </p:blipFill>
        <p:spPr>
          <a:xfrm>
            <a:off x="4780080" y="3584520"/>
            <a:ext cx="4370400" cy="327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G:\гжель\54.jpg"/>
          <p:cNvPicPr/>
          <p:nvPr/>
        </p:nvPicPr>
        <p:blipFill>
          <a:blip r:embed="rId3"/>
          <a:stretch/>
        </p:blipFill>
        <p:spPr>
          <a:xfrm>
            <a:off x="4780080" y="-6480"/>
            <a:ext cx="4370400" cy="3230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G:\гжель\55.jpg"/>
          <p:cNvPicPr/>
          <p:nvPr/>
        </p:nvPicPr>
        <p:blipFill>
          <a:blip r:embed="rId4"/>
          <a:stretch/>
        </p:blipFill>
        <p:spPr>
          <a:xfrm>
            <a:off x="-6480" y="3706920"/>
            <a:ext cx="4157640" cy="3157560"/>
          </a:xfrm>
          <a:prstGeom prst="rect">
            <a:avLst/>
          </a:prstGeom>
          <a:ln w="0">
            <a:noFill/>
          </a:ln>
        </p:spPr>
      </p:pic>
      <p:sp>
        <p:nvSpPr>
          <p:cNvPr id="108" name="Круглая лента лицом вниз 9"/>
          <p:cNvSpPr/>
          <p:nvPr/>
        </p:nvSpPr>
        <p:spPr>
          <a:xfrm>
            <a:off x="971640" y="3068640"/>
            <a:ext cx="6743520" cy="789120"/>
          </a:xfrm>
          <a:custGeom>
            <a:avLst/>
            <a:gdLst>
              <a:gd name="textAreaLeft" fmla="*/ 1133280 w 6743520"/>
              <a:gd name="textAreaRight" fmla="*/ 5610240 w 6743520"/>
              <a:gd name="textAreaTop" fmla="*/ 197280 h 789120"/>
              <a:gd name="textAreaBottom" fmla="*/ 747360 h 789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665082"/>
                <a:lnTo>
                  <a:pt x="3630" y="20457"/>
                </a:lnTo>
                <a:arcTo wR="21600" hR="20153" stAng="6639874" swAng="-2479748"/>
                <a:lnTo>
                  <a:pt x="17970" y="17757"/>
                </a:lnTo>
                <a:arcTo wR="21600" hR="20153" stAng="4160126" swAng="-665082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138541"/>
                <a:lnTo>
                  <a:pt x="15270" y="4964"/>
                </a:lnTo>
                <a:arcTo wR="21600" hR="20153" stAng="4633585" swAng="1532831"/>
                <a:lnTo>
                  <a:pt x="6330" y="2264"/>
                </a:lnTo>
                <a:arcTo wR="21600" hR="20153" stAng="6166415" swAng="1138541"/>
                <a:lnTo>
                  <a:pt x="2700" y="9329"/>
                </a:lnTo>
                <a:close/>
              </a:path>
              <a:path fill="none" w="21600" h="21600">
                <a:moveTo>
                  <a:pt x="6330" y="4964"/>
                </a:moveTo>
                <a:arcTo wR="21600" hR="20153" stAng="6166415" swAng="473459"/>
                <a:lnTo>
                  <a:pt x="6330" y="2264"/>
                </a:lnTo>
              </a:path>
              <a:path fill="none" w="21600" h="21600">
                <a:moveTo>
                  <a:pt x="15270" y="4964"/>
                </a:moveTo>
                <a:arcTo wR="21600" hR="20153" stAng="4633585" swAng="-473459"/>
                <a:lnTo>
                  <a:pt x="15270" y="2264"/>
                </a:lnTo>
              </a:path>
              <a:path fill="none" w="21600" h="21600">
                <a:moveTo>
                  <a:pt x="3630" y="17757"/>
                </a:moveTo>
                <a:lnTo>
                  <a:pt x="3630" y="4257"/>
                </a:lnTo>
              </a:path>
              <a:path fill="none" w="21600" h="21600">
                <a:moveTo>
                  <a:pt x="17970" y="17757"/>
                </a:moveTo>
                <a:lnTo>
                  <a:pt x="17970" y="4257"/>
                </a:lnTo>
              </a:path>
            </a:pathLst>
          </a:custGeom>
          <a:solidFill>
            <a:srgbClr val="00007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Белый чайничек из Гжели вам запомнится на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ужели – неужели это сделал человек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G:\гжель\гж11.jpeg"/>
          <p:cNvPicPr/>
          <p:nvPr/>
        </p:nvPicPr>
        <p:blipFill>
          <a:blip r:embed="rId1"/>
          <a:stretch/>
        </p:blipFill>
        <p:spPr>
          <a:xfrm>
            <a:off x="165240" y="324000"/>
            <a:ext cx="5192640" cy="428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G:\гжель\гж12.jpeg"/>
          <p:cNvPicPr/>
          <p:nvPr/>
        </p:nvPicPr>
        <p:blipFill>
          <a:blip r:embed="rId2"/>
          <a:stretch/>
        </p:blipFill>
        <p:spPr>
          <a:xfrm>
            <a:off x="5022720" y="1395360"/>
            <a:ext cx="3981600" cy="4243320"/>
          </a:xfrm>
          <a:prstGeom prst="rect">
            <a:avLst/>
          </a:prstGeom>
          <a:ln w="0">
            <a:noFill/>
          </a:ln>
        </p:spPr>
      </p:pic>
      <p:sp>
        <p:nvSpPr>
          <p:cNvPr id="111" name="Круглая лента лицом вниз 6"/>
          <p:cNvSpPr/>
          <p:nvPr/>
        </p:nvSpPr>
        <p:spPr>
          <a:xfrm>
            <a:off x="1571760" y="5857920"/>
            <a:ext cx="6429240" cy="687240"/>
          </a:xfrm>
          <a:custGeom>
            <a:avLst/>
            <a:gdLst>
              <a:gd name="textAreaLeft" fmla="*/ 1080360 w 6429240"/>
              <a:gd name="textAreaRight" fmla="*/ 5348880 w 6429240"/>
              <a:gd name="textAreaTop" fmla="*/ 171720 h 687240"/>
              <a:gd name="textAreaBottom" fmla="*/ 650880 h 6872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665082"/>
                <a:lnTo>
                  <a:pt x="3630" y="20457"/>
                </a:lnTo>
                <a:arcTo wR="21600" hR="20153" stAng="6639874" swAng="-2479748"/>
                <a:lnTo>
                  <a:pt x="17970" y="17757"/>
                </a:lnTo>
                <a:arcTo wR="21600" hR="20153" stAng="4160126" swAng="-665082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138541"/>
                <a:lnTo>
                  <a:pt x="15270" y="4964"/>
                </a:lnTo>
                <a:arcTo wR="21600" hR="20153" stAng="4633585" swAng="1532831"/>
                <a:lnTo>
                  <a:pt x="6330" y="2264"/>
                </a:lnTo>
                <a:arcTo wR="21600" hR="20153" stAng="6166415" swAng="1138541"/>
                <a:lnTo>
                  <a:pt x="2700" y="9329"/>
                </a:lnTo>
                <a:close/>
              </a:path>
              <a:path fill="none" w="21600" h="21600">
                <a:moveTo>
                  <a:pt x="6330" y="4964"/>
                </a:moveTo>
                <a:arcTo wR="21600" hR="20153" stAng="6166415" swAng="473459"/>
                <a:lnTo>
                  <a:pt x="6330" y="2264"/>
                </a:lnTo>
              </a:path>
              <a:path fill="none" w="21600" h="21600">
                <a:moveTo>
                  <a:pt x="15270" y="4964"/>
                </a:moveTo>
                <a:arcTo wR="21600" hR="20153" stAng="4633585" swAng="-473459"/>
                <a:lnTo>
                  <a:pt x="15270" y="2264"/>
                </a:lnTo>
              </a:path>
              <a:path fill="none" w="21600" h="21600">
                <a:moveTo>
                  <a:pt x="3630" y="17757"/>
                </a:moveTo>
                <a:lnTo>
                  <a:pt x="3630" y="4257"/>
                </a:lnTo>
              </a:path>
              <a:path fill="none" w="21600" h="21600">
                <a:moveTo>
                  <a:pt x="17970" y="17757"/>
                </a:moveTo>
                <a:lnTo>
                  <a:pt x="17970" y="4257"/>
                </a:lnTo>
              </a:path>
            </a:pathLst>
          </a:custGeom>
          <a:solidFill>
            <a:srgbClr val="00007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бор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ля специй и салфетниц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8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38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38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38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G:\гжель\гж20.jpeg"/>
          <p:cNvPicPr/>
          <p:nvPr/>
        </p:nvPicPr>
        <p:blipFill>
          <a:blip r:embed="rId1"/>
          <a:stretch/>
        </p:blipFill>
        <p:spPr>
          <a:xfrm>
            <a:off x="523800" y="3395520"/>
            <a:ext cx="2238480" cy="3237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G:\гжель\гж19.jpeg"/>
          <p:cNvPicPr/>
          <p:nvPr/>
        </p:nvPicPr>
        <p:blipFill>
          <a:blip r:embed="rId2"/>
          <a:stretch/>
        </p:blipFill>
        <p:spPr>
          <a:xfrm>
            <a:off x="6229440" y="3249720"/>
            <a:ext cx="2622600" cy="3449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G:\гжель\гж13.jpeg"/>
          <p:cNvPicPr/>
          <p:nvPr/>
        </p:nvPicPr>
        <p:blipFill>
          <a:blip r:embed="rId3"/>
          <a:stretch/>
        </p:blipFill>
        <p:spPr>
          <a:xfrm>
            <a:off x="804960" y="182520"/>
            <a:ext cx="2455920" cy="3273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G:\гжель\гж14.jpeg"/>
          <p:cNvPicPr/>
          <p:nvPr/>
        </p:nvPicPr>
        <p:blipFill>
          <a:blip r:embed="rId4"/>
          <a:stretch/>
        </p:blipFill>
        <p:spPr>
          <a:xfrm>
            <a:off x="3340080" y="281160"/>
            <a:ext cx="2395440" cy="2199960"/>
          </a:xfrm>
          <a:prstGeom prst="rect">
            <a:avLst/>
          </a:prstGeom>
          <a:ln w="0">
            <a:noFill/>
          </a:ln>
        </p:spPr>
      </p:pic>
      <p:sp>
        <p:nvSpPr>
          <p:cNvPr id="116" name="Круглая лента лицом вниз 6"/>
          <p:cNvSpPr/>
          <p:nvPr/>
        </p:nvSpPr>
        <p:spPr>
          <a:xfrm>
            <a:off x="2786040" y="5572080"/>
            <a:ext cx="3571920" cy="687600"/>
          </a:xfrm>
          <a:custGeom>
            <a:avLst/>
            <a:gdLst>
              <a:gd name="textAreaLeft" fmla="*/ 600120 w 3571920"/>
              <a:gd name="textAreaRight" fmla="*/ 2971800 w 3571920"/>
              <a:gd name="textAreaTop" fmla="*/ 171720 h 687600"/>
              <a:gd name="textAreaBottom" fmla="*/ 651240 h 6876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665082"/>
                <a:lnTo>
                  <a:pt x="3630" y="20457"/>
                </a:lnTo>
                <a:arcTo wR="21600" hR="20153" stAng="6639874" swAng="-2479748"/>
                <a:lnTo>
                  <a:pt x="17970" y="17757"/>
                </a:lnTo>
                <a:arcTo wR="21600" hR="20153" stAng="4160126" swAng="-665082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138541"/>
                <a:lnTo>
                  <a:pt x="15270" y="4964"/>
                </a:lnTo>
                <a:arcTo wR="21600" hR="20153" stAng="4633585" swAng="1532831"/>
                <a:lnTo>
                  <a:pt x="6330" y="2264"/>
                </a:lnTo>
                <a:arcTo wR="21600" hR="20153" stAng="6166415" swAng="1138541"/>
                <a:lnTo>
                  <a:pt x="2700" y="9329"/>
                </a:lnTo>
                <a:close/>
              </a:path>
              <a:path fill="none" w="21600" h="21600">
                <a:moveTo>
                  <a:pt x="6330" y="4964"/>
                </a:moveTo>
                <a:arcTo wR="21600" hR="20153" stAng="6166415" swAng="473459"/>
                <a:lnTo>
                  <a:pt x="6330" y="2264"/>
                </a:lnTo>
              </a:path>
              <a:path fill="none" w="21600" h="21600">
                <a:moveTo>
                  <a:pt x="15270" y="4964"/>
                </a:moveTo>
                <a:arcTo wR="21600" hR="20153" stAng="4633585" swAng="-473459"/>
                <a:lnTo>
                  <a:pt x="15270" y="2264"/>
                </a:lnTo>
              </a:path>
              <a:path fill="none" w="21600" h="21600">
                <a:moveTo>
                  <a:pt x="3630" y="17757"/>
                </a:moveTo>
                <a:lnTo>
                  <a:pt x="3630" y="4257"/>
                </a:lnTo>
              </a:path>
              <a:path fill="none" w="21600" h="21600">
                <a:moveTo>
                  <a:pt x="17970" y="17757"/>
                </a:moveTo>
                <a:lnTo>
                  <a:pt x="17970" y="4257"/>
                </a:lnTo>
              </a:path>
            </a:pathLst>
          </a:custGeom>
          <a:solidFill>
            <a:srgbClr val="00007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Животные и птиц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Невиданной кра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G:\гжель\гж27.jpeg"/>
          <p:cNvPicPr/>
          <p:nvPr/>
        </p:nvPicPr>
        <p:blipFill>
          <a:blip r:embed="rId5"/>
          <a:stretch/>
        </p:blipFill>
        <p:spPr>
          <a:xfrm>
            <a:off x="5907240" y="122400"/>
            <a:ext cx="2736720" cy="3389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G:\гжель\гж17.jpeg"/>
          <p:cNvPicPr/>
          <p:nvPr/>
        </p:nvPicPr>
        <p:blipFill>
          <a:blip r:embed="rId6"/>
          <a:stretch/>
        </p:blipFill>
        <p:spPr>
          <a:xfrm>
            <a:off x="3382920" y="2548080"/>
            <a:ext cx="24512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:\гжель\гж2.jpeg"/>
          <p:cNvPicPr/>
          <p:nvPr/>
        </p:nvPicPr>
        <p:blipFill>
          <a:blip r:embed="rId1"/>
          <a:stretch/>
        </p:blipFill>
        <p:spPr>
          <a:xfrm>
            <a:off x="357120" y="285840"/>
            <a:ext cx="4429080" cy="6292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500800" y="1600200"/>
            <a:ext cx="36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о соотношении частей и цел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о форме предмета и элементах уз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о симмет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об  асимметричн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   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равнове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Прямоугольник 5" descr=""/>
          <p:cNvPicPr/>
          <p:nvPr/>
        </p:nvPicPr>
        <p:blipFill>
          <a:blip r:embed="rId2"/>
          <a:stretch/>
        </p:blipFill>
        <p:spPr>
          <a:xfrm>
            <a:off x="5778360" y="347760"/>
            <a:ext cx="2427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G:\гжель\гж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G:\гжель\mainimage.gif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1838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G:\гжель\mainimage.gif"/>
          <p:cNvPicPr/>
          <p:nvPr/>
        </p:nvPicPr>
        <p:blipFill>
          <a:blip r:embed="rId2"/>
          <a:stretch/>
        </p:blipFill>
        <p:spPr>
          <a:xfrm>
            <a:off x="0" y="0"/>
            <a:ext cx="5214960" cy="18381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3287880" y="2286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7609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050920" y="1844640"/>
            <a:ext cx="5689800" cy="453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258560" y="6237360"/>
            <a:ext cx="70722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lvl="4" marL="1275480" indent="-141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6:33:36Z</dcterms:created>
  <dc:creator>user</dc:creator>
  <dc:description/>
  <dc:language>en-US</dc:language>
  <cp:lastModifiedBy>XTreme.ws</cp:lastModifiedBy>
  <dcterms:modified xsi:type="dcterms:W3CDTF">2013-03-30T06:17:32Z</dcterms:modified>
  <cp:revision>119</cp:revision>
  <dc:subject/>
  <dc:title>Слайд 1</dc:title>
</cp:coreProperties>
</file>