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501-CBBD-48FB-9B5D-16A1AF97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909F-43AB-4565-B0D2-814EFC77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04DA-2071-4072-8D92-5245F433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F465-E8A5-442E-81A0-2135B1CE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DD23-9705-40C1-AA60-8C4B5D2C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3581-E6EB-473F-AFDB-708A5757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42FD-ECC9-4297-8A16-4A9F7954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736D-30E8-466C-9ED1-617D13B8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AC92-C8D3-4AC8-8AF1-E8F66A5C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203E-BA41-4898-B5E6-9DEC5A41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1AA9-EF7F-4BDE-AAF6-3D06607C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07DB-5DB2-4644-9B5B-2286CADA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A04F-85E8-4103-89D2-F877C399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D43A-8D8C-4341-97BD-411F6382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DE53-D121-42C6-9463-2BD8F0D7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56F2-F0DE-4BF9-89E2-B532140E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E116-E96F-408B-B2D6-ACB103D6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89C-1080-4CB5-B2C9-0DC780AF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9598-0430-4665-94C5-32EEF160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0972-6375-4EA1-9BBF-8B8D4EF5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25EA-6664-4A27-9EC1-AE1E8718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8EDC-5621-4320-9DE1-25DDACCA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9A99-D638-42CE-9755-CFA61461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6C3D-4E97-4D74-95B1-59F485A2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1884-3278-412D-92D1-63B46AD6E85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f0f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3a"/>
                </a:gs>
                <a:gs pos="50000">
                  <a:srgbClr val="080840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8A9E-98D8-4828-B934-AFB08AC4CC1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wmf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G:\гжель\Изображение.jpg"/>
          <p:cNvPicPr/>
          <p:nvPr/>
        </p:nvPicPr>
        <p:blipFill>
          <a:blip r:embed="rId1"/>
          <a:stretch/>
        </p:blipFill>
        <p:spPr>
          <a:xfrm>
            <a:off x="1285920" y="1285920"/>
            <a:ext cx="1357200" cy="169524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105" name="Picture 2" descr="G:\гжель\Изображение.jpg"/>
          <p:cNvPicPr/>
          <p:nvPr/>
        </p:nvPicPr>
        <p:blipFill>
          <a:blip r:embed="rId2"/>
          <a:stretch/>
        </p:blipFill>
        <p:spPr>
          <a:xfrm>
            <a:off x="3714840" y="1285920"/>
            <a:ext cx="1357200" cy="167472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106" name="Picture 2" descr="G:\гжель\Изображение.jpg"/>
          <p:cNvPicPr/>
          <p:nvPr/>
        </p:nvPicPr>
        <p:blipFill>
          <a:blip r:embed="rId3"/>
          <a:stretch/>
        </p:blipFill>
        <p:spPr>
          <a:xfrm>
            <a:off x="6143760" y="1285920"/>
            <a:ext cx="1357200" cy="171288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107" name="Picture 2" descr="G:\гжель\Изображение 001.jpg"/>
          <p:cNvPicPr/>
          <p:nvPr/>
        </p:nvPicPr>
        <p:blipFill>
          <a:blip r:embed="rId4"/>
          <a:stretch/>
        </p:blipFill>
        <p:spPr>
          <a:xfrm>
            <a:off x="642960" y="3714840"/>
            <a:ext cx="1809720" cy="257796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108" name="Picture 3" descr="G:\гжель\Изображение 002.jpg"/>
          <p:cNvPicPr/>
          <p:nvPr/>
        </p:nvPicPr>
        <p:blipFill>
          <a:blip r:embed="rId5"/>
          <a:stretch/>
        </p:blipFill>
        <p:spPr>
          <a:xfrm>
            <a:off x="3357720" y="3714840"/>
            <a:ext cx="1857240" cy="260964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109" name="Прямоугольник 9" descr=""/>
          <p:cNvPicPr/>
          <p:nvPr/>
        </p:nvPicPr>
        <p:blipFill>
          <a:blip r:embed="rId6"/>
          <a:stretch/>
        </p:blipFill>
        <p:spPr>
          <a:xfrm>
            <a:off x="2004840" y="133200"/>
            <a:ext cx="4554720" cy="67176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10" descr=""/>
          <p:cNvPicPr/>
          <p:nvPr/>
        </p:nvPicPr>
        <p:blipFill>
          <a:blip r:embed="rId7"/>
          <a:stretch/>
        </p:blipFill>
        <p:spPr>
          <a:xfrm>
            <a:off x="3127320" y="738360"/>
            <a:ext cx="2608200" cy="517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1"/>
          <p:cNvSpPr/>
          <p:nvPr/>
        </p:nvSpPr>
        <p:spPr>
          <a:xfrm>
            <a:off x="2151360" y="321480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58ed5"/>
                </a:solidFill>
                <a:latin typeface="Arial"/>
              </a:rPr>
              <a:t>бордю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G:\гжель\IMG_9.jpg"/>
          <p:cNvPicPr/>
          <p:nvPr/>
        </p:nvPicPr>
        <p:blipFill>
          <a:blip r:embed="rId8"/>
          <a:stretch/>
        </p:blipFill>
        <p:spPr>
          <a:xfrm>
            <a:off x="5715000" y="3643200"/>
            <a:ext cx="29624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G:\гжель\Изображение 003.jpg"/>
          <p:cNvPicPr/>
          <p:nvPr/>
        </p:nvPicPr>
        <p:blipFill>
          <a:blip r:embed="rId1"/>
          <a:stretch/>
        </p:blipFill>
        <p:spPr>
          <a:xfrm>
            <a:off x="0" y="1714680"/>
            <a:ext cx="3084480" cy="21430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8" descr="C:\Мои документы\Мои рисунки\сс.jpg"/>
          <p:cNvPicPr/>
          <p:nvPr/>
        </p:nvPicPr>
        <p:blipFill>
          <a:blip r:embed="rId2"/>
          <a:stretch/>
        </p:blipFill>
        <p:spPr>
          <a:xfrm>
            <a:off x="566640" y="3846600"/>
            <a:ext cx="2524320" cy="2590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:\Мои документы\Мои рисунки\с.jpg"/>
          <p:cNvPicPr/>
          <p:nvPr/>
        </p:nvPicPr>
        <p:blipFill>
          <a:blip r:embed="rId3"/>
          <a:stretch/>
        </p:blipFill>
        <p:spPr>
          <a:xfrm>
            <a:off x="5778360" y="3736800"/>
            <a:ext cx="2659320" cy="266400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18" descr=""/>
          <p:cNvPicPr/>
          <p:nvPr/>
        </p:nvPicPr>
        <p:blipFill>
          <a:blip r:embed="rId4"/>
          <a:stretch/>
        </p:blipFill>
        <p:spPr>
          <a:xfrm>
            <a:off x="3279600" y="274680"/>
            <a:ext cx="2865600" cy="676080"/>
          </a:xfrm>
          <a:prstGeom prst="rect">
            <a:avLst/>
          </a:prstGeom>
          <a:ln w="0">
            <a:noFill/>
          </a:ln>
        </p:spPr>
      </p:pic>
      <p:sp>
        <p:nvSpPr>
          <p:cNvPr id="118" name="Полилиния 35"/>
          <p:cNvSpPr/>
          <p:nvPr/>
        </p:nvSpPr>
        <p:spPr>
          <a:xfrm rot="19706400">
            <a:off x="3045960" y="1131840"/>
            <a:ext cx="685800" cy="644400"/>
          </a:xfrm>
          <a:prstGeom prst="pie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олилиния 54"/>
          <p:cNvSpPr/>
          <p:nvPr/>
        </p:nvSpPr>
        <p:spPr>
          <a:xfrm rot="18653400">
            <a:off x="4125600" y="1218600"/>
            <a:ext cx="685800" cy="644760"/>
          </a:xfrm>
          <a:prstGeom prst="pie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олилиния 55"/>
          <p:cNvSpPr/>
          <p:nvPr/>
        </p:nvSpPr>
        <p:spPr>
          <a:xfrm rot="17862000">
            <a:off x="5172840" y="1131120"/>
            <a:ext cx="687600" cy="644400"/>
          </a:xfrm>
          <a:prstGeom prst="pie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14"/>
          <p:cNvGraphicFramePr/>
          <p:nvPr/>
        </p:nvGraphicFramePr>
        <p:xfrm>
          <a:off x="2714760" y="2071800"/>
          <a:ext cx="5940360" cy="22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14760" y="2071800"/>
                    <a:ext cx="594036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Picture 2" descr="G:\гжель\Изображение 003.jpg"/>
          <p:cNvPicPr/>
          <p:nvPr/>
        </p:nvPicPr>
        <p:blipFill>
          <a:blip r:embed="rId7"/>
          <a:stretch/>
        </p:blipFill>
        <p:spPr>
          <a:xfrm>
            <a:off x="6076800" y="1571760"/>
            <a:ext cx="30672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Роспись"/>
          <p:cNvPicPr/>
          <p:nvPr/>
        </p:nvPicPr>
        <p:blipFill>
          <a:blip r:embed="rId1"/>
          <a:stretch/>
        </p:blipFill>
        <p:spPr>
          <a:xfrm>
            <a:off x="642960" y="857160"/>
            <a:ext cx="3346560" cy="242892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pic>
        <p:nvPicPr>
          <p:cNvPr id="125" name="Picture 4" descr="Роспись"/>
          <p:cNvPicPr/>
          <p:nvPr/>
        </p:nvPicPr>
        <p:blipFill>
          <a:blip r:embed="rId2"/>
          <a:stretch/>
        </p:blipFill>
        <p:spPr>
          <a:xfrm>
            <a:off x="5214960" y="2870280"/>
            <a:ext cx="3571920" cy="134460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pic>
        <p:nvPicPr>
          <p:cNvPr id="126" name="Picture 4" descr="Роспись"/>
          <p:cNvPicPr/>
          <p:nvPr/>
        </p:nvPicPr>
        <p:blipFill>
          <a:blip r:embed="rId3"/>
          <a:stretch/>
        </p:blipFill>
        <p:spPr>
          <a:xfrm>
            <a:off x="5143680" y="928800"/>
            <a:ext cx="3551040" cy="128592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pic>
        <p:nvPicPr>
          <p:cNvPr id="127" name="Picture 4" descr="Роспись"/>
          <p:cNvPicPr/>
          <p:nvPr/>
        </p:nvPicPr>
        <p:blipFill>
          <a:blip r:embed="rId4"/>
          <a:stretch/>
        </p:blipFill>
        <p:spPr>
          <a:xfrm>
            <a:off x="6819840" y="4794120"/>
            <a:ext cx="1873440" cy="134964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pic>
        <p:nvPicPr>
          <p:cNvPr id="128" name="Picture 5" descr="Роспись1"/>
          <p:cNvPicPr/>
          <p:nvPr/>
        </p:nvPicPr>
        <p:blipFill>
          <a:blip r:embed="rId5"/>
          <a:stretch/>
        </p:blipFill>
        <p:spPr>
          <a:xfrm>
            <a:off x="571680" y="3857760"/>
            <a:ext cx="3431880" cy="242892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pic>
        <p:nvPicPr>
          <p:cNvPr id="129" name="Picture 5" descr="Роспись1"/>
          <p:cNvPicPr/>
          <p:nvPr/>
        </p:nvPicPr>
        <p:blipFill>
          <a:blip r:embed="rId6"/>
          <a:stretch/>
        </p:blipFill>
        <p:spPr>
          <a:xfrm>
            <a:off x="5214960" y="4803840"/>
            <a:ext cx="1647720" cy="132228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pic>
        <p:nvPicPr>
          <p:cNvPr id="130" name="Прямоугольник 12" descr=""/>
          <p:cNvPicPr/>
          <p:nvPr/>
        </p:nvPicPr>
        <p:blipFill>
          <a:blip r:embed="rId7"/>
          <a:stretch/>
        </p:blipFill>
        <p:spPr>
          <a:xfrm>
            <a:off x="1865160" y="133200"/>
            <a:ext cx="5662800" cy="6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G:\гжель\mainimage.gif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1838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G:\гжель\mainimage.gif"/>
          <p:cNvPicPr/>
          <p:nvPr/>
        </p:nvPicPr>
        <p:blipFill>
          <a:blip r:embed="rId2"/>
          <a:stretch/>
        </p:blipFill>
        <p:spPr>
          <a:xfrm>
            <a:off x="0" y="0"/>
            <a:ext cx="5214960" cy="18381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3287880" y="2286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7609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050920" y="1844640"/>
            <a:ext cx="5689800" cy="4537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1258560" y="6237360"/>
            <a:ext cx="70722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lvl="4" marL="1275480" indent="-141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76092"/>
                </a:solidFill>
                <a:latin typeface="Arial"/>
              </a:rPr>
              <a:t>коне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06:33:36Z</dcterms:created>
  <dc:creator>user</dc:creator>
  <dc:description/>
  <dc:language>en-US</dc:language>
  <cp:lastModifiedBy>XTreme.ws</cp:lastModifiedBy>
  <dcterms:modified xsi:type="dcterms:W3CDTF">2013-03-30T06:26:06Z</dcterms:modified>
  <cp:revision>118</cp:revision>
  <dc:subject/>
  <dc:title>Слайд 1</dc:title>
</cp:coreProperties>
</file>