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413-B07E-4EAD-9AD6-288FB876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A68-598C-48AC-9820-CD9B2D60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410-F21D-4DD5-A778-632A097F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B75-BAC4-48EB-8320-3106C0D1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E04-2D90-455A-B2A6-F7E733A9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AC7-4D6A-4CB3-9D82-D273C2A7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36D-46D7-4F99-BA67-C52ECDA5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E14-DAEE-486D-B9F0-E4FDEF44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3770-F940-4567-AF9A-FF8EC589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A89-22E7-48D7-B1CA-CFF7E4B6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76C-820B-4E51-A703-CAE57E2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FF6-C580-429A-B9F0-2ADBBE7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cf1"/>
            </a:gs>
            <a:gs pos="100000">
              <a:srgbClr val="fbd9e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5867-3D57-4B9D-AFC9-40C5713420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Monotype Corsiva"/>
              </a:rPr>
              <a:t>The Fundamentals of  t`English Grammar</a:t>
            </a:r>
            <a:r>
              <a:rPr b="0" lang="en-US" sz="28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BS00554_"/>
          <p:cNvPicPr/>
          <p:nvPr/>
        </p:nvPicPr>
        <p:blipFill>
          <a:blip r:embed="rId1"/>
          <a:stretch/>
        </p:blipFill>
        <p:spPr>
          <a:xfrm>
            <a:off x="6516720" y="3746520"/>
            <a:ext cx="2246400" cy="280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9-181"/>
          <p:cNvPicPr/>
          <p:nvPr/>
        </p:nvPicPr>
        <p:blipFill>
          <a:blip r:embed="rId2"/>
          <a:stretch/>
        </p:blipFill>
        <p:spPr>
          <a:xfrm>
            <a:off x="609480" y="1828800"/>
            <a:ext cx="353700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352680" y="1371600"/>
            <a:ext cx="6248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Monotype Corsiva"/>
              </a:rPr>
              <a:t>The Present </a:t>
            </a: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990033"/>
                </a:solidFill>
                <a:latin typeface="Monotype Corsiva"/>
              </a:rPr>
              <a:t>Simp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Monotype Corsiva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Monotype Corsiva"/>
              </a:rPr>
              <a:t>Progressive Ten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2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2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2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2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2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2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j0432385"/>
          <p:cNvPicPr/>
          <p:nvPr/>
        </p:nvPicPr>
        <p:blipFill>
          <a:blip r:embed="rId1"/>
          <a:stretch/>
        </p:blipFill>
        <p:spPr>
          <a:xfrm>
            <a:off x="6248520" y="1905120"/>
            <a:ext cx="2692440" cy="270648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 rot="20946000">
            <a:off x="234720" y="907560"/>
            <a:ext cx="5867280" cy="30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054000"/>
                </a:gradFill>
                <a:latin typeface="Comic Sans MS"/>
              </a:rPr>
              <a:t>THE END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054000"/>
              </a:gradFill>
              <a:latin typeface="Comic Sans MS"/>
              <a:ea typeface="Comic Sans MS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371600" y="5029200"/>
            <a:ext cx="66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английского язы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У СОШ № 10,п.Раздоль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орский край, Надеждинский рай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Хегя Елизавет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1832"/>
                </a:solidFill>
                <a:latin typeface="Monotype Corsiva"/>
              </a:rPr>
              <a:t>The Present Progressive Tense</a:t>
            </a:r>
            <a:br>
              <a:rPr sz="3600"/>
            </a:br>
            <a:r>
              <a:rPr b="1" lang="en-US" sz="3600" spc="-1" strike="noStrike">
                <a:solidFill>
                  <a:srgbClr val="861832"/>
                </a:solidFill>
                <a:latin typeface="Monotype Corsiva"/>
              </a:rPr>
              <a:t>(</a:t>
            </a:r>
            <a:r>
              <a:rPr b="1" lang="ru-RU" sz="3600" spc="-1" strike="noStrike">
                <a:solidFill>
                  <a:srgbClr val="861832"/>
                </a:solidFill>
                <a:latin typeface="Monotype Corsiva"/>
              </a:rPr>
              <a:t>Настоящее длительное время</a:t>
            </a:r>
            <a:r>
              <a:rPr b="1" lang="en-US" sz="3600" spc="-1" strike="noStrike">
                <a:solidFill>
                  <a:srgbClr val="861832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609480" y="10224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употребляется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для обозначения действия, происходящего в данный момент, в момент речи или в период времени, включающий данный момент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0" descr="j0432657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22"/>
          <p:cNvGrpSpPr/>
          <p:nvPr/>
        </p:nvGrpSpPr>
        <p:grpSpPr>
          <a:xfrm>
            <a:off x="152280" y="5105520"/>
            <a:ext cx="1524240" cy="1496880"/>
            <a:chOff x="152280" y="5105520"/>
            <a:chExt cx="1524240" cy="1496880"/>
          </a:xfrm>
        </p:grpSpPr>
        <p:graphicFrame>
          <p:nvGraphicFramePr>
            <p:cNvPr id="49" name="Object 23"/>
            <p:cNvGraphicFramePr/>
            <p:nvPr/>
          </p:nvGraphicFramePr>
          <p:xfrm>
            <a:off x="261000" y="5416920"/>
            <a:ext cx="1184040" cy="118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" name="Object 2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61000" y="5416920"/>
                      <a:ext cx="1184040" cy="11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AutoShape 24"/>
            <p:cNvSpPr/>
            <p:nvPr/>
          </p:nvSpPr>
          <p:spPr>
            <a:xfrm>
              <a:off x="152280" y="5105520"/>
              <a:ext cx="1524240" cy="35604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Monotype Corsiva"/>
                </a:rPr>
                <a:t>N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25"/>
          <p:cNvGrpSpPr/>
          <p:nvPr/>
        </p:nvGrpSpPr>
        <p:grpSpPr>
          <a:xfrm>
            <a:off x="6172200" y="5029200"/>
            <a:ext cx="2819520" cy="1523520"/>
            <a:chOff x="6172200" y="5029200"/>
            <a:chExt cx="2819520" cy="1523520"/>
          </a:xfrm>
        </p:grpSpPr>
        <p:graphicFrame>
          <p:nvGraphicFramePr>
            <p:cNvPr id="53" name="Object 26"/>
            <p:cNvGraphicFramePr/>
            <p:nvPr/>
          </p:nvGraphicFramePr>
          <p:xfrm>
            <a:off x="6961320" y="5409360"/>
            <a:ext cx="1448640" cy="1143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Object 2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61320" y="5409360"/>
                      <a:ext cx="1448640" cy="114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AutoShape 27"/>
            <p:cNvSpPr/>
            <p:nvPr/>
          </p:nvSpPr>
          <p:spPr>
            <a:xfrm>
              <a:off x="6172200" y="5029200"/>
              <a:ext cx="2819520" cy="38016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Monotype Corsiva"/>
                </a:rPr>
                <a:t>AT THE MO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41"/>
          <p:cNvSpPr/>
          <p:nvPr/>
        </p:nvSpPr>
        <p:spPr>
          <a:xfrm>
            <a:off x="2590920" y="25146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Monotype Corsiva"/>
              </a:rPr>
              <a:t>TO 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3"/>
          <p:cNvSpPr/>
          <p:nvPr/>
        </p:nvSpPr>
        <p:spPr>
          <a:xfrm>
            <a:off x="4419720" y="2590920"/>
            <a:ext cx="609480" cy="57924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4"/>
          <p:cNvSpPr/>
          <p:nvPr/>
        </p:nvSpPr>
        <p:spPr>
          <a:xfrm>
            <a:off x="4952880" y="23623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rebuchet MS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5"/>
          <p:cNvSpPr/>
          <p:nvPr/>
        </p:nvSpPr>
        <p:spPr>
          <a:xfrm>
            <a:off x="5410080" y="274320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e0c14"/>
                </a:solidFill>
                <a:latin typeface="Monotype Corsiva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6"/>
          <p:cNvSpPr/>
          <p:nvPr/>
        </p:nvSpPr>
        <p:spPr>
          <a:xfrm>
            <a:off x="6019920" y="1981080"/>
            <a:ext cx="2133360" cy="990720"/>
          </a:xfrm>
          <a:prstGeom prst="cloudCallout">
            <a:avLst>
              <a:gd name="adj1" fmla="val -67111"/>
              <a:gd name="adj2" fmla="val 36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0c14"/>
                </a:solidFill>
                <a:latin typeface="Arial"/>
              </a:rPr>
              <a:t>V – verb (</a:t>
            </a:r>
            <a:r>
              <a:rPr b="1" lang="ru-RU" sz="2000" spc="-1" strike="noStrike">
                <a:solidFill>
                  <a:srgbClr val="7e0c14"/>
                </a:solidFill>
                <a:latin typeface="Arial"/>
              </a:rPr>
              <a:t>глагол</a:t>
            </a:r>
            <a:r>
              <a:rPr b="1" lang="en-US" sz="2000" spc="-1" strike="noStrike">
                <a:solidFill>
                  <a:srgbClr val="7e0c14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1600200" y="3581280"/>
            <a:ext cx="1143000" cy="838440"/>
          </a:xfrm>
          <a:prstGeom prst="cloudCallout">
            <a:avLst>
              <a:gd name="adj1" fmla="val 78055"/>
              <a:gd name="adj2" fmla="val -81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0c14"/>
                </a:solidFill>
                <a:latin typeface="Monotype Corsiva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2819520" y="3886200"/>
            <a:ext cx="1143000" cy="838080"/>
          </a:xfrm>
          <a:prstGeom prst="cloudCallout">
            <a:avLst>
              <a:gd name="adj1" fmla="val 1666"/>
              <a:gd name="adj2" fmla="val -117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0c14"/>
                </a:solidFill>
                <a:latin typeface="Monotype Corsiva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191120" y="3657600"/>
            <a:ext cx="1143000" cy="838080"/>
          </a:xfrm>
          <a:prstGeom prst="cloudCallout">
            <a:avLst>
              <a:gd name="adj1" fmla="val -69166"/>
              <a:gd name="adj2" fmla="val -85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0c14"/>
                </a:solidFill>
                <a:latin typeface="Monotype Corsiva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2"/>
          <p:cNvSpPr/>
          <p:nvPr/>
        </p:nvSpPr>
        <p:spPr>
          <a:xfrm>
            <a:off x="1676520" y="4419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2971800" y="4952880"/>
            <a:ext cx="990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Monotype Corsiva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Monotype Corsiva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Monotype Corsiva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"/>
          <p:cNvSpPr/>
          <p:nvPr/>
        </p:nvSpPr>
        <p:spPr>
          <a:xfrm>
            <a:off x="4419720" y="4648320"/>
            <a:ext cx="990360" cy="19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s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Monotype Corsiva"/>
              </a:rPr>
              <a:t>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Monotype Corsiva"/>
              </a:rPr>
              <a:t>The Present Simple Tense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(Настоящее простое врем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употребляется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для обозначения действия, происходящего  обычно, систематически,  время от времени, редко, всегда, иногда, ча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rebuchet MS"/>
              </a:rPr>
              <a:t>V</a:t>
            </a:r>
            <a:r>
              <a:rPr b="1" lang="ru-RU" sz="4800" spc="-1" strike="noStrike">
                <a:solidFill>
                  <a:srgbClr val="000066"/>
                </a:solidFill>
                <a:latin typeface="Trebuchet MS"/>
              </a:rPr>
              <a:t>               </a:t>
            </a:r>
            <a:r>
              <a:rPr b="1" lang="en-US" sz="4800" spc="-1" strike="noStrike">
                <a:solidFill>
                  <a:srgbClr val="000066"/>
                </a:solidFill>
                <a:latin typeface="Trebuchet MS"/>
              </a:rPr>
              <a:t>  </a:t>
            </a:r>
            <a:r>
              <a:rPr b="1" lang="en-US" sz="6000" spc="-1" strike="noStrike">
                <a:solidFill>
                  <a:srgbClr val="000066"/>
                </a:solidFill>
                <a:latin typeface="Trebuchet MS"/>
              </a:rPr>
              <a:t>V</a:t>
            </a: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                 </a:t>
            </a: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I                           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                 </a:t>
            </a: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you                       s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                 </a:t>
            </a: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we                         it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                </a:t>
            </a:r>
            <a:r>
              <a:rPr b="1" lang="en-US" sz="4400" spc="-1" strike="noStrike">
                <a:solidFill>
                  <a:srgbClr val="000066"/>
                </a:solidFill>
                <a:latin typeface="Monotype Corsiva"/>
              </a:rPr>
              <a:t>they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6"/>
          <p:cNvSpPr/>
          <p:nvPr/>
        </p:nvSpPr>
        <p:spPr>
          <a:xfrm>
            <a:off x="3581280" y="2438280"/>
            <a:ext cx="2133720" cy="990720"/>
          </a:xfrm>
          <a:prstGeom prst="cloudCallout">
            <a:avLst>
              <a:gd name="adj1" fmla="val -45990"/>
              <a:gd name="adj2" fmla="val 4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e0c14"/>
                </a:solidFill>
                <a:latin typeface="Arial"/>
              </a:rPr>
              <a:t>V –verb (</a:t>
            </a:r>
            <a:r>
              <a:rPr b="1" lang="ru-RU" sz="2000" spc="-1" strike="noStrike">
                <a:solidFill>
                  <a:srgbClr val="7e0c14"/>
                </a:solidFill>
                <a:latin typeface="Arial"/>
              </a:rPr>
              <a:t>глагол</a:t>
            </a:r>
            <a:r>
              <a:rPr b="1" lang="en-US" sz="2000" spc="-1" strike="noStrike">
                <a:solidFill>
                  <a:srgbClr val="7e0c14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3"/>
          <p:cNvGraphicFramePr/>
          <p:nvPr/>
        </p:nvGraphicFramePr>
        <p:xfrm>
          <a:off x="457200" y="5334120"/>
          <a:ext cx="118440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4120"/>
                    <a:ext cx="11844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AutoShape 24"/>
          <p:cNvSpPr/>
          <p:nvPr/>
        </p:nvSpPr>
        <p:spPr>
          <a:xfrm>
            <a:off x="457200" y="4800600"/>
            <a:ext cx="1523880" cy="6602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457200" y="4038480"/>
            <a:ext cx="1523880" cy="736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457200" y="3200400"/>
            <a:ext cx="1523880" cy="8128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sel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26"/>
          <p:cNvGraphicFramePr/>
          <p:nvPr/>
        </p:nvGraphicFramePr>
        <p:xfrm>
          <a:off x="6961320" y="5410080"/>
          <a:ext cx="14493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1320" y="5410080"/>
                    <a:ext cx="1449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AutoShape 24"/>
          <p:cNvSpPr/>
          <p:nvPr/>
        </p:nvSpPr>
        <p:spPr>
          <a:xfrm>
            <a:off x="6934320" y="4952880"/>
            <a:ext cx="198108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4"/>
          <p:cNvSpPr/>
          <p:nvPr/>
        </p:nvSpPr>
        <p:spPr>
          <a:xfrm>
            <a:off x="6858000" y="3657600"/>
            <a:ext cx="2133720" cy="1270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From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to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1832"/>
                </a:solidFill>
                <a:latin typeface="Monotype Corsiva"/>
              </a:rPr>
              <a:t>Statements, questions and neg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181200" y="609480"/>
            <a:ext cx="27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иц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900520" y="777960"/>
            <a:ext cx="29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Вопрос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j0432657"/>
          <p:cNvPicPr/>
          <p:nvPr/>
        </p:nvPicPr>
        <p:blipFill>
          <a:blip r:embed="rId1"/>
          <a:stretch/>
        </p:blipFill>
        <p:spPr>
          <a:xfrm>
            <a:off x="7945560" y="4952880"/>
            <a:ext cx="1198440" cy="1198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9"/>
          <p:cNvSpPr/>
          <p:nvPr/>
        </p:nvSpPr>
        <p:spPr>
          <a:xfrm>
            <a:off x="228600" y="6253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Утверд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200400" y="2362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993300"/>
                </a:solidFill>
                <a:uFillTx/>
                <a:latin typeface="Times New Roman"/>
              </a:rPr>
              <a:t>he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wr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2286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He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is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1905120" y="5867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Yes, 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7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2286000" cy="2009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2438280" cy="2181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9"/>
          <p:cNvSpPr/>
          <p:nvPr/>
        </p:nvSpPr>
        <p:spPr>
          <a:xfrm>
            <a:off x="51055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No, he is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3"/>
          <p:cNvSpPr/>
          <p:nvPr/>
        </p:nvSpPr>
        <p:spPr>
          <a:xfrm>
            <a:off x="6248520" y="1600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H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not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writing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5"/>
          <p:cNvSpPr/>
          <p:nvPr/>
        </p:nvSpPr>
        <p:spPr>
          <a:xfrm>
            <a:off x="2847240" y="297180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Короткие 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832"/>
                </a:solidFill>
                <a:latin typeface="Monotype Corsiva"/>
              </a:rPr>
              <a:t>Short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7"/>
          <p:cNvSpPr/>
          <p:nvPr/>
        </p:nvSpPr>
        <p:spPr>
          <a:xfrm flipV="1">
            <a:off x="7391520" y="213372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8"/>
          <p:cNvSpPr/>
          <p:nvPr/>
        </p:nvSpPr>
        <p:spPr>
          <a:xfrm>
            <a:off x="3200400" y="1905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Times New Roman"/>
              </a:rPr>
              <a:t>He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9"/>
          <p:cNvSpPr/>
          <p:nvPr/>
        </p:nvSpPr>
        <p:spPr>
          <a:xfrm flipH="1">
            <a:off x="2819520" y="1600200"/>
            <a:ext cx="1218960" cy="380880"/>
          </a:xfrm>
          <a:custGeom>
            <a:avLst/>
            <a:gdLst>
              <a:gd name="textAreaLeft" fmla="*/ 218880 w 1218960"/>
              <a:gd name="textAreaRight" fmla="*/ 851760 w 1218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63" hR="21600" stAng="10800000" swAng="5400000"/>
                <a:lnTo>
                  <a:pt x="11213" y="0"/>
                </a:lnTo>
                <a:arcTo wR="7763" hR="21600" stAng="-5400000" swAng="1914026"/>
                <a:lnTo>
                  <a:pt x="20560" y="10800"/>
                </a:lnTo>
                <a:lnTo>
                  <a:pt x="17250" y="21600"/>
                </a:lnTo>
                <a:lnTo>
                  <a:pt x="11860" y="10800"/>
                </a:lnTo>
                <a:lnTo>
                  <a:pt x="14485" y="10800"/>
                </a:lnTo>
                <a:arcTo wR="7763" hR="21600" stAng="-3485974" swAng="-1633070"/>
                <a:lnTo>
                  <a:pt x="9488" y="540"/>
                </a:lnTo>
                <a:arcTo wR="7763" hR="21600" stAng="-5680956" swAng="-5119044"/>
                <a:close/>
              </a:path>
              <a:path fill="darkenLess" w="21600" h="21600">
                <a:moveTo>
                  <a:pt x="0" y="21600"/>
                </a:moveTo>
                <a:arcTo wR="7763" hR="21600" stAng="10800000" swAng="5400000"/>
                <a:lnTo>
                  <a:pt x="7763" y="0"/>
                </a:lnTo>
                <a:arcTo wR="7763" hR="21600" stAng="-5400000" swAng="280956"/>
                <a:lnTo>
                  <a:pt x="9488" y="540"/>
                </a:lnTo>
                <a:arcTo wR="7763" hR="21600" stAng="-5680956" swAng="-5119044"/>
                <a:close/>
              </a:path>
            </a:pathLst>
          </a:custGeom>
          <a:solidFill>
            <a:srgbClr val="e25c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61832"/>
                </a:solidFill>
                <a:latin typeface="Monotype Corsiva"/>
              </a:rPr>
              <a:t>Statements, questions and neg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666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Утвердительное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873520" y="1066680"/>
            <a:ext cx="29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Вопрос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895720" y="1066680"/>
            <a:ext cx="278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иц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предложение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228600" y="205740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h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e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lay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124080" y="220968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Times New Roman"/>
              </a:rPr>
              <a:t>Doe</a:t>
            </a:r>
            <a:r>
              <a:rPr b="1" lang="en-US" sz="2800" spc="-1" strike="noStrike" u="sng">
                <a:solidFill>
                  <a:srgbClr val="224b5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sh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Times New Roman"/>
              </a:rPr>
              <a:t>Do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I spe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6019920" y="2209680"/>
            <a:ext cx="2514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h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e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Times New Roman"/>
              </a:rPr>
              <a:t>does not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lay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do not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2438280" y="373392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Короткие от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832"/>
                </a:solidFill>
                <a:latin typeface="Monotype Corsiva"/>
              </a:rPr>
              <a:t>Short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68580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Yes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imes New Roman"/>
              </a:rPr>
              <a:t>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410080" y="4267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No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he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Times New Roman"/>
              </a:rPr>
              <a:t>doesn`t.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Program Files\Microsoft Office\MEDIA\CAGCAT10\j0285698.wmf"/>
          <p:cNvPicPr/>
          <p:nvPr/>
        </p:nvPicPr>
        <p:blipFill>
          <a:blip r:embed="rId1"/>
          <a:stretch/>
        </p:blipFill>
        <p:spPr>
          <a:xfrm>
            <a:off x="5638680" y="4800600"/>
            <a:ext cx="1706760" cy="182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Program Files\Microsoft Office\MEDIA\CAGCAT10\j0297551.wmf"/>
          <p:cNvPicPr/>
          <p:nvPr/>
        </p:nvPicPr>
        <p:blipFill>
          <a:blip r:embed="rId2"/>
          <a:stretch/>
        </p:blipFill>
        <p:spPr>
          <a:xfrm>
            <a:off x="2133720" y="4724280"/>
            <a:ext cx="13716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692280"/>
            <a:ext cx="8305920" cy="5937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Monotype Corsiva"/>
              </a:rPr>
              <a:t>Wh-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W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Вопрос, начинающийся с </a:t>
            </a:r>
            <a:r>
              <a:rPr b="1" lang="en-US" sz="2400" spc="-1" strike="noStrike">
                <a:solidFill>
                  <a:srgbClr val="861832"/>
                </a:solidFill>
                <a:latin typeface="Monotype Corsiva"/>
              </a:rPr>
              <a:t>When</a:t>
            </a:r>
            <a:r>
              <a:rPr b="1" lang="ru-RU" sz="2400" spc="-1" strike="noStrike">
                <a:solidFill>
                  <a:srgbClr val="861832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не задаётся во времени 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Present</a:t>
            </a: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Progressive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, т.к. в предложении речь идет именно о действии, которое происходит в данный мо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1832"/>
                </a:solidFill>
                <a:latin typeface="Monotype Corsiva"/>
              </a:rPr>
              <a:t>Вопрос к подлежащему</a:t>
            </a:r>
            <a:r>
              <a:rPr b="1" lang="en-US" sz="2800" spc="-1" strike="noStrike">
                <a:solidFill>
                  <a:srgbClr val="861832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Monotype Corsiva"/>
              </a:rPr>
              <a:t>(Who)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Вопрос к подлежащему во времени 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Present Progressive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задаё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3 лице ед. ч. =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&gt; </a:t>
            </a:r>
            <a:r>
              <a:rPr b="1" lang="en-US" sz="2400" spc="-1" strike="noStrike">
                <a:solidFill>
                  <a:srgbClr val="861832"/>
                </a:solidFill>
                <a:latin typeface="Monotype Corsiva"/>
              </a:rPr>
              <a:t>Who is + Ving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!!!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1832"/>
                </a:solidFill>
                <a:latin typeface="Monotype Corsiva"/>
              </a:rPr>
              <a:t>Специальны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23880" y="1371600"/>
            <a:ext cx="503280" cy="1523880"/>
          </a:xfrm>
          <a:custGeom>
            <a:avLst/>
            <a:gdLst>
              <a:gd name="textAreaLeft" fmla="*/ 0 w 503280"/>
              <a:gd name="textAreaRight" fmla="*/ 181800 w 503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955600" y="1447920"/>
            <a:ext cx="6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832"/>
                </a:solidFill>
                <a:latin typeface="Trebuchet MS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832"/>
                </a:solidFill>
                <a:latin typeface="Trebuchet MS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832"/>
                </a:solidFill>
                <a:latin typeface="Trebuchet MS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917880" y="166680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1832"/>
                </a:solidFill>
                <a:latin typeface="Monotype Corsiva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629400" y="14479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7e0c14"/>
                </a:solidFill>
                <a:latin typeface="Monotype Corsiva"/>
              </a:rPr>
              <a:t>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j0432657"/>
          <p:cNvPicPr/>
          <p:nvPr/>
        </p:nvPicPr>
        <p:blipFill>
          <a:blip r:embed="rId1"/>
          <a:stretch/>
        </p:blipFill>
        <p:spPr>
          <a:xfrm>
            <a:off x="7596360" y="189000"/>
            <a:ext cx="1427040" cy="1427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6"/>
          <p:cNvSpPr/>
          <p:nvPr/>
        </p:nvSpPr>
        <p:spPr>
          <a:xfrm>
            <a:off x="2286000" y="1752480"/>
            <a:ext cx="457200" cy="38124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3809880" y="1752480"/>
            <a:ext cx="457200" cy="38124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2"/>
          <p:cNvSpPr/>
          <p:nvPr/>
        </p:nvSpPr>
        <p:spPr>
          <a:xfrm>
            <a:off x="6172200" y="1752480"/>
            <a:ext cx="457200" cy="38124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Monotype Corsiva"/>
              </a:rPr>
              <a:t>Wh-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\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W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1832"/>
                </a:solidFill>
                <a:latin typeface="Monotype Corsiva"/>
              </a:rPr>
              <a:t>Вопрос к подлежащему</a:t>
            </a:r>
            <a:r>
              <a:rPr b="1" lang="en-US" sz="3200" spc="-1" strike="noStrike">
                <a:solidFill>
                  <a:srgbClr val="861832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Monotype Corsiva"/>
              </a:rPr>
              <a:t>(Who)</a:t>
            </a: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задаётся в 3 лице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,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ед. ч. =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&gt; </a:t>
            </a:r>
            <a:r>
              <a:rPr b="1" lang="en-US" sz="3200" spc="-1" strike="noStrike">
                <a:solidFill>
                  <a:srgbClr val="861832"/>
                </a:solidFill>
                <a:latin typeface="Monotype Corsiva"/>
              </a:rPr>
              <a:t>Who  + V</a:t>
            </a:r>
            <a:r>
              <a:rPr b="1" lang="en-US" sz="3200" spc="-1" strike="noStrike">
                <a:solidFill>
                  <a:srgbClr val="262626"/>
                </a:solidFill>
                <a:latin typeface="Monotype Corsiva"/>
              </a:rPr>
              <a:t>s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?</a:t>
            </a: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Monotype Corsiva"/>
              </a:rPr>
              <a:t>Помощников нет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1832"/>
                </a:solidFill>
                <a:latin typeface="Monotype Corsiva"/>
              </a:rPr>
              <a:t>Специальны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2514600" y="2362320"/>
            <a:ext cx="457200" cy="38088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авая фигурная скобка 5"/>
          <p:cNvSpPr/>
          <p:nvPr/>
        </p:nvSpPr>
        <p:spPr>
          <a:xfrm>
            <a:off x="1676520" y="1523880"/>
            <a:ext cx="503280" cy="2743200"/>
          </a:xfrm>
          <a:custGeom>
            <a:avLst/>
            <a:gdLst>
              <a:gd name="textAreaLeft" fmla="*/ 0 w 503280"/>
              <a:gd name="textAreaRight" fmla="*/ 181800 w 503280"/>
              <a:gd name="textAreaTop" fmla="*/ 12960 h 2743200"/>
              <a:gd name="textAreaBottom" fmla="*/ 273024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6"/>
                  <a:pt x="10800" y="331"/>
                </a:cubicBezTo>
                <a:lnTo>
                  <a:pt x="10800" y="10469"/>
                </a:lnTo>
                <a:cubicBezTo>
                  <a:pt x="10800" y="10635"/>
                  <a:pt x="16200" y="10800"/>
                  <a:pt x="21600" y="10800"/>
                </a:cubicBezTo>
                <a:cubicBezTo>
                  <a:pt x="16200" y="10800"/>
                  <a:pt x="10800" y="10966"/>
                  <a:pt x="10800" y="11131"/>
                </a:cubicBezTo>
                <a:lnTo>
                  <a:pt x="10800" y="21269"/>
                </a:lnTo>
                <a:cubicBezTo>
                  <a:pt x="10800" y="2143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5029200" y="2362320"/>
            <a:ext cx="457200" cy="380880"/>
          </a:xfrm>
          <a:prstGeom prst="pie">
            <a:avLst/>
          </a:prstGeom>
          <a:solidFill>
            <a:srgbClr val="e25c7c">
              <a:alpha val="50000"/>
            </a:srgbClr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289480" y="198108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1832"/>
                </a:solidFill>
                <a:latin typeface="Monotype Corsiva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315200" y="19810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rcRect l="1827" t="2812" r="1479" b="1639"/>
          <a:stretch/>
        </p:blipFill>
        <p:spPr>
          <a:xfrm>
            <a:off x="635040" y="1066680"/>
            <a:ext cx="6756480" cy="388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" name="Text Box 5"/>
          <p:cNvSpPr/>
          <p:nvPr/>
        </p:nvSpPr>
        <p:spPr>
          <a:xfrm>
            <a:off x="1905120" y="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1832"/>
                </a:solidFill>
                <a:latin typeface="Monotype Corsiva"/>
              </a:rPr>
              <a:t>Describ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5335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t’s 7 o’clock on Monday morning. The family is in the kit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48320" y="5029200"/>
            <a:ext cx="426708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1832"/>
                </a:solidFill>
                <a:latin typeface="Monotype Corsiva"/>
              </a:rPr>
              <a:t>Characters:</a:t>
            </a:r>
            <a:r>
              <a:rPr b="1" lang="en-US" sz="2800" spc="-1" strike="noStrike">
                <a:solidFill>
                  <a:srgbClr val="861832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Mr. and Mrs.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Grandfather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Joe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Cat Tom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Dog B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905120" y="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1832"/>
                </a:solidFill>
                <a:latin typeface="Monotype Corsiva"/>
              </a:rPr>
              <a:t>Describ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3531" t="7526" r="4671" b="0"/>
          <a:stretch/>
        </p:blipFill>
        <p:spPr>
          <a:xfrm>
            <a:off x="473040" y="1143000"/>
            <a:ext cx="6537240" cy="403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0" name="Text Box 6"/>
          <p:cNvSpPr/>
          <p:nvPr/>
        </p:nvSpPr>
        <p:spPr>
          <a:xfrm>
            <a:off x="3962520" y="5334120"/>
            <a:ext cx="3809880" cy="16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1832"/>
                </a:solidFill>
                <a:latin typeface="Monotype Corsiva"/>
              </a:rPr>
              <a:t>Characters: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Mr. West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Mrs. West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Joe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Cat Tom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Dog B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52280" y="5335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t’s 5 o’clock on Monday afternoon. The family is in the living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Poker</cp:lastModifiedBy>
  <dcterms:modified xsi:type="dcterms:W3CDTF">2013-03-18T12:55:2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