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16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ADCD-4694-4649-ABC5-B33D0307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F4A-2BA0-4F32-A171-372CE58A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F9DB-F3A8-453C-AC09-1D686C3D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27C-73D0-4C99-B907-3B796057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682-D414-4A16-8854-508324A3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1F96-8DFE-4F63-9499-CC18FC10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D4C-5EBE-4D53-ADBC-0B2AEFEE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885-E24A-4666-945B-ABD398B2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F16F-2DD0-4F0C-8DEE-0431847F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D6B-0D91-4427-9CBF-F0FAAFAC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DDE-28CE-43C8-8C31-BC1E1AB7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274-A2E9-4350-87F3-29B28676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edf8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9DFB-1F04-412B-B743-0FC63C5309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 9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лова паразиты в английской </a:t>
            </a:r>
            <a:br>
              <a:rPr sz="4400"/>
            </a:b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разговорной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4800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Работа: Павликовой Татья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учениц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а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Руководитель: Трунилова О. А.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Рейтинг слов-парази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1066680"/>
          <a:ext cx="8686800" cy="541044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563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ксфордский университе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t the end of the day</a:t>
                      </a: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итоге, в конечном сче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airly uniqu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очно уника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 personall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о 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t this moment in time</a:t>
                      </a: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этот момент во врем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ith all due resp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всем моем ув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bsolutel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соглас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t's a nightm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шмар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"Shouldn't of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учае, если 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4/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лые су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t's not rocket science</a:t>
                      </a: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чего сложного в этом н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Рейтинг слов-парази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143000"/>
          <a:ext cx="8229600" cy="4718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lutely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tter of the fact is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ь факта состоит в то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tell the truth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тно гово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know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 ты знае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mea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имею в вид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ly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fac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амом де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Слова-паразиты в речи английских подрост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5" descr="Bridging_Youth_to_Success.jpg"/>
          <p:cNvPicPr/>
          <p:nvPr/>
        </p:nvPicPr>
        <p:blipFill>
          <a:blip r:embed="rId1"/>
          <a:stretch/>
        </p:blipFill>
        <p:spPr>
          <a:xfrm>
            <a:off x="1828800" y="2209680"/>
            <a:ext cx="5486400" cy="3654720"/>
          </a:xfrm>
          <a:prstGeom prst="rect">
            <a:avLst/>
          </a:prstGeom>
          <a:ln w="0">
            <a:noFill/>
          </a:ln>
        </p:spPr>
      </p:pic>
      <p:sp>
        <p:nvSpPr>
          <p:cNvPr id="65" name="Овальная выноска 6"/>
          <p:cNvSpPr/>
          <p:nvPr/>
        </p:nvSpPr>
        <p:spPr>
          <a:xfrm>
            <a:off x="6629400" y="1600200"/>
            <a:ext cx="2362320" cy="990720"/>
          </a:xfrm>
          <a:prstGeom prst="wedgeEllipseCallout">
            <a:avLst>
              <a:gd name="adj1" fmla="val -27976"/>
              <a:gd name="adj2" fmla="val 8393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6934320" y="17524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re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67000" y="1822680"/>
            <a:ext cx="1609200" cy="697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 fontScale="90000"/>
          </a:bodyPr>
          <a:p>
            <a:pPr marL="308520" indent="-308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ьная выноска 9"/>
          <p:cNvSpPr/>
          <p:nvPr/>
        </p:nvSpPr>
        <p:spPr>
          <a:xfrm>
            <a:off x="6934320" y="5410080"/>
            <a:ext cx="1981080" cy="914400"/>
          </a:xfrm>
          <a:prstGeom prst="wedgeEllipseCallout">
            <a:avLst>
              <a:gd name="adj1" fmla="val -37865"/>
              <a:gd name="adj2" fmla="val -803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ьная выноска 10"/>
          <p:cNvSpPr/>
          <p:nvPr/>
        </p:nvSpPr>
        <p:spPr>
          <a:xfrm>
            <a:off x="7010280" y="3429000"/>
            <a:ext cx="1981440" cy="914400"/>
          </a:xfrm>
          <a:prstGeom prst="wedgeEllipseCallout">
            <a:avLst>
              <a:gd name="adj1" fmla="val -62041"/>
              <a:gd name="adj2" fmla="val -553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Текст 8"/>
          <p:cNvSpPr/>
          <p:nvPr/>
        </p:nvSpPr>
        <p:spPr>
          <a:xfrm flipH="1">
            <a:off x="0" y="5486400"/>
            <a:ext cx="2286000" cy="990720"/>
          </a:xfrm>
          <a:prstGeom prst="wedgeEllipseCallout">
            <a:avLst>
              <a:gd name="adj1" fmla="val -46546"/>
              <a:gd name="adj2" fmla="val -9574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ye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Текст 8"/>
          <p:cNvSpPr/>
          <p:nvPr/>
        </p:nvSpPr>
        <p:spPr>
          <a:xfrm flipH="1">
            <a:off x="3048120" y="5562720"/>
            <a:ext cx="3047760" cy="1143000"/>
          </a:xfrm>
          <a:prstGeom prst="wedgeEllipseCallout">
            <a:avLst>
              <a:gd name="adj1" fmla="val 7499"/>
              <a:gd name="adj2" fmla="val -1080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basic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Текст 8"/>
          <p:cNvSpPr/>
          <p:nvPr/>
        </p:nvSpPr>
        <p:spPr>
          <a:xfrm flipH="1">
            <a:off x="2971080" y="1600200"/>
            <a:ext cx="2895480" cy="990720"/>
          </a:xfrm>
          <a:prstGeom prst="wedgeEllipseCallout">
            <a:avLst>
              <a:gd name="adj1" fmla="val -25597"/>
              <a:gd name="adj2" fmla="val 7788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actu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Текст 8"/>
          <p:cNvSpPr/>
          <p:nvPr/>
        </p:nvSpPr>
        <p:spPr>
          <a:xfrm flipH="1">
            <a:off x="0" y="3657600"/>
            <a:ext cx="2666880" cy="990720"/>
          </a:xfrm>
          <a:prstGeom prst="wedgeEllipseCallout">
            <a:avLst>
              <a:gd name="adj1" fmla="val -19402"/>
              <a:gd name="adj2" fmla="val -9574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8c93"/>
                </a:solidFill>
                <a:latin typeface="Arial"/>
              </a:rPr>
              <a:t>sort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Слова-паразиты в речи  публичных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okino"/>
          <p:cNvPicPr/>
          <p:nvPr/>
        </p:nvPicPr>
        <p:blipFill>
          <a:blip r:embed="rId1"/>
          <a:stretch/>
        </p:blipFill>
        <p:spPr>
          <a:xfrm>
            <a:off x="1143000" y="1523880"/>
            <a:ext cx="6635880" cy="5183280"/>
          </a:xfrm>
          <a:prstGeom prst="rect">
            <a:avLst/>
          </a:prstGeom>
          <a:ln w="0">
            <a:noFill/>
          </a:ln>
        </p:spPr>
      </p:pic>
      <p:sp>
        <p:nvSpPr>
          <p:cNvPr id="76" name="Текст 8"/>
          <p:cNvSpPr/>
          <p:nvPr/>
        </p:nvSpPr>
        <p:spPr>
          <a:xfrm flipH="1">
            <a:off x="76320" y="1600200"/>
            <a:ext cx="2286000" cy="990720"/>
          </a:xfrm>
          <a:prstGeom prst="wedgeEllipseCallout">
            <a:avLst>
              <a:gd name="adj1" fmla="val -28930"/>
              <a:gd name="adj2" fmla="val 88875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Текст 8"/>
          <p:cNvSpPr/>
          <p:nvPr/>
        </p:nvSpPr>
        <p:spPr>
          <a:xfrm flipH="1">
            <a:off x="6552360" y="4114800"/>
            <a:ext cx="2590920" cy="990720"/>
          </a:xfrm>
          <a:prstGeom prst="wedgeEllipseCallout">
            <a:avLst>
              <a:gd name="adj1" fmla="val 67736"/>
              <a:gd name="adj2" fmla="val -48490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480" indent="-87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me pers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Текст 8"/>
          <p:cNvSpPr/>
          <p:nvPr/>
        </p:nvSpPr>
        <p:spPr>
          <a:xfrm flipH="1">
            <a:off x="0" y="3962520"/>
            <a:ext cx="2286000" cy="990360"/>
          </a:xfrm>
          <a:prstGeom prst="wedgeEllipseCallout">
            <a:avLst>
              <a:gd name="adj1" fmla="val -49879"/>
              <a:gd name="adj2" fmla="val -67171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kin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Текст 8"/>
          <p:cNvSpPr/>
          <p:nvPr/>
        </p:nvSpPr>
        <p:spPr>
          <a:xfrm flipH="1">
            <a:off x="0" y="5562720"/>
            <a:ext cx="2286000" cy="990360"/>
          </a:xfrm>
          <a:prstGeom prst="wedgeEllipseCallout">
            <a:avLst>
              <a:gd name="adj1" fmla="val -59879"/>
              <a:gd name="adj2" fmla="val -61675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Arial"/>
              </a:rPr>
              <a:t>w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Текст 8"/>
          <p:cNvSpPr/>
          <p:nvPr/>
        </p:nvSpPr>
        <p:spPr>
          <a:xfrm flipH="1">
            <a:off x="6552360" y="5486400"/>
            <a:ext cx="2590920" cy="1143000"/>
          </a:xfrm>
          <a:prstGeom prst="wedgeEllipseCallout">
            <a:avLst>
              <a:gd name="adj1" fmla="val 66310"/>
              <a:gd name="adj2" fmla="val -42995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so I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Текст 8"/>
          <p:cNvSpPr/>
          <p:nvPr/>
        </p:nvSpPr>
        <p:spPr>
          <a:xfrm flipH="1">
            <a:off x="6858000" y="1523880"/>
            <a:ext cx="2286000" cy="990720"/>
          </a:xfrm>
          <a:prstGeom prst="wedgeEllipseCallout">
            <a:avLst>
              <a:gd name="adj1" fmla="val 41074"/>
              <a:gd name="adj2" fmla="val 104259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480" indent="-8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you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лова-паразиты в речи  публичных лю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images"/>
          <p:cNvPicPr/>
          <p:nvPr/>
        </p:nvPicPr>
        <p:blipFill>
          <a:blip r:embed="rId1"/>
          <a:stretch/>
        </p:blipFill>
        <p:spPr>
          <a:xfrm>
            <a:off x="152280" y="1523880"/>
            <a:ext cx="3048120" cy="4233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эшли симпсон"/>
          <p:cNvPicPr/>
          <p:nvPr/>
        </p:nvPicPr>
        <p:blipFill>
          <a:blip r:embed="rId2"/>
          <a:stretch/>
        </p:blipFill>
        <p:spPr>
          <a:xfrm>
            <a:off x="5791320" y="2590920"/>
            <a:ext cx="3308400" cy="41241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6"/>
          <p:cNvSpPr/>
          <p:nvPr/>
        </p:nvSpPr>
        <p:spPr>
          <a:xfrm>
            <a:off x="395280" y="525780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Камерон  Ди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6413760" y="26668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Эшли Симпсон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ая выноска 8"/>
          <p:cNvSpPr/>
          <p:nvPr/>
        </p:nvSpPr>
        <p:spPr>
          <a:xfrm flipH="1">
            <a:off x="151560" y="5867280"/>
            <a:ext cx="5334120" cy="838440"/>
          </a:xfrm>
          <a:prstGeom prst="wedgeRectCallout">
            <a:avLst>
              <a:gd name="adj1" fmla="val -2476"/>
              <a:gd name="adj2" fmla="val -217916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I mean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You know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like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just kind of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you know what I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ая выноска 9"/>
          <p:cNvSpPr/>
          <p:nvPr/>
        </p:nvSpPr>
        <p:spPr>
          <a:xfrm>
            <a:off x="3657600" y="1676520"/>
            <a:ext cx="5410080" cy="838080"/>
          </a:xfrm>
          <a:prstGeom prst="wedgeRectCallout">
            <a:avLst>
              <a:gd name="adj1" fmla="val -2824"/>
              <a:gd name="adj2" fmla="val 209356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I think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you know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like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kind of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go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лова-паразиты в речи  публичных лю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загруженное"/>
          <p:cNvPicPr/>
          <p:nvPr/>
        </p:nvPicPr>
        <p:blipFill>
          <a:blip r:embed="rId1"/>
          <a:stretch/>
        </p:blipFill>
        <p:spPr>
          <a:xfrm>
            <a:off x="152280" y="1523880"/>
            <a:ext cx="5289840" cy="51818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>
            <a:off x="228600" y="61722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эр Пол Маккартни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ьная выноска 10"/>
          <p:cNvSpPr/>
          <p:nvPr/>
        </p:nvSpPr>
        <p:spPr>
          <a:xfrm>
            <a:off x="5715000" y="1828800"/>
            <a:ext cx="3429000" cy="1828800"/>
          </a:xfrm>
          <a:prstGeom prst="wedgeEllipseCallout">
            <a:avLst>
              <a:gd name="adj1" fmla="val -96092"/>
              <a:gd name="adj2" fmla="val 7248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sort of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well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yeah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basically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re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ьная выноска 11"/>
          <p:cNvSpPr/>
          <p:nvPr/>
        </p:nvSpPr>
        <p:spPr>
          <a:xfrm>
            <a:off x="5638680" y="4876920"/>
            <a:ext cx="3353040" cy="1828800"/>
          </a:xfrm>
          <a:prstGeom prst="wedgeEllipseCallout">
            <a:avLst>
              <a:gd name="adj1" fmla="val -99925"/>
              <a:gd name="adj2" fmla="val -5073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 think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you know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7" descr="foxsite2002_1_f5b.jpg"/>
          <p:cNvPicPr/>
          <p:nvPr/>
        </p:nvPicPr>
        <p:blipFill>
          <a:blip r:embed="rId1"/>
          <a:stretch/>
        </p:blipFill>
        <p:spPr>
          <a:xfrm>
            <a:off x="6019920" y="1523880"/>
            <a:ext cx="2979720" cy="5181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лова-паразиты в речи  публичных лю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девид летерман"/>
          <p:cNvPicPr/>
          <p:nvPr/>
        </p:nvPicPr>
        <p:blipFill>
          <a:blip r:embed="rId2"/>
          <a:stretch/>
        </p:blipFill>
        <p:spPr>
          <a:xfrm>
            <a:off x="111240" y="2438280"/>
            <a:ext cx="4689360" cy="35434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547560" y="5486400"/>
            <a:ext cx="33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эвид Леттерм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ьная выноска 6"/>
          <p:cNvSpPr/>
          <p:nvPr/>
        </p:nvSpPr>
        <p:spPr>
          <a:xfrm>
            <a:off x="3962520" y="5334120"/>
            <a:ext cx="2286000" cy="1447560"/>
          </a:xfrm>
          <a:prstGeom prst="wedgeEllipseCallout">
            <a:avLst>
              <a:gd name="adj1" fmla="val -83689"/>
              <a:gd name="adj2" fmla="val -63518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Arial"/>
              </a:rPr>
              <a:t>we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лова-паразиты в речи  публичных лю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загруженное (1)"/>
          <p:cNvPicPr/>
          <p:nvPr/>
        </p:nvPicPr>
        <p:blipFill>
          <a:blip r:embed="rId1"/>
          <a:stretch/>
        </p:blipFill>
        <p:spPr>
          <a:xfrm>
            <a:off x="76320" y="3352680"/>
            <a:ext cx="4419360" cy="3481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симмонс"/>
          <p:cNvPicPr/>
          <p:nvPr/>
        </p:nvPicPr>
        <p:blipFill>
          <a:blip r:embed="rId2"/>
          <a:stretch/>
        </p:blipFill>
        <p:spPr>
          <a:xfrm>
            <a:off x="5486400" y="2709720"/>
            <a:ext cx="3429000" cy="41482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889560" y="639612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нджелина Джо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5949360" y="5943600"/>
            <a:ext cx="273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жонат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имбл Симмонс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ьная выноска 8"/>
          <p:cNvSpPr/>
          <p:nvPr/>
        </p:nvSpPr>
        <p:spPr>
          <a:xfrm flipH="1">
            <a:off x="151560" y="1752480"/>
            <a:ext cx="3962520" cy="914400"/>
          </a:xfrm>
          <a:prstGeom prst="wedgeEllipseCallout">
            <a:avLst>
              <a:gd name="adj1" fmla="val -35120"/>
              <a:gd name="adj2" fmla="val 151342"/>
            </a:avLst>
          </a:prstGeom>
          <a:solidFill>
            <a:srgbClr val="e3bbe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I think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you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ьная выноска 9"/>
          <p:cNvSpPr/>
          <p:nvPr/>
        </p:nvSpPr>
        <p:spPr>
          <a:xfrm>
            <a:off x="5486400" y="1600200"/>
            <a:ext cx="3505320" cy="914400"/>
          </a:xfrm>
          <a:prstGeom prst="wedgeEllipseCallout">
            <a:avLst>
              <a:gd name="adj1" fmla="val -35120"/>
              <a:gd name="adj2" fmla="val 151342"/>
            </a:avLst>
          </a:prstGeom>
          <a:solidFill>
            <a:srgbClr val="cc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well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you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лова-паразиты в речи  публичных лю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буш"/>
          <p:cNvPicPr/>
          <p:nvPr/>
        </p:nvPicPr>
        <p:blipFill>
          <a:blip r:embed="rId1"/>
          <a:stretch/>
        </p:blipFill>
        <p:spPr>
          <a:xfrm>
            <a:off x="152280" y="3108240"/>
            <a:ext cx="3581640" cy="3597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загруженное"/>
          <p:cNvPicPr/>
          <p:nvPr/>
        </p:nvPicPr>
        <p:blipFill>
          <a:blip r:embed="rId2"/>
          <a:stretch/>
        </p:blipFill>
        <p:spPr>
          <a:xfrm>
            <a:off x="4267080" y="3124080"/>
            <a:ext cx="4738680" cy="36068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2286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у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6790680" y="62485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арак Об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ьная выноска 8"/>
          <p:cNvSpPr/>
          <p:nvPr/>
        </p:nvSpPr>
        <p:spPr>
          <a:xfrm>
            <a:off x="5791320" y="1676520"/>
            <a:ext cx="3200400" cy="1218960"/>
          </a:xfrm>
          <a:prstGeom prst="wedgeEllipseCallout">
            <a:avLst>
              <a:gd name="adj1" fmla="val -3486"/>
              <a:gd name="adj2" fmla="val 1161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well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s well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ьная выноска 10"/>
          <p:cNvSpPr/>
          <p:nvPr/>
        </p:nvSpPr>
        <p:spPr>
          <a:xfrm>
            <a:off x="152280" y="1600200"/>
            <a:ext cx="3200400" cy="1219320"/>
          </a:xfrm>
          <a:prstGeom prst="wedgeEllipseCallout">
            <a:avLst>
              <a:gd name="adj1" fmla="val -14027"/>
              <a:gd name="adj2" fmla="val 11081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nd gosh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well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ctually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I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ьная выноска 11"/>
          <p:cNvSpPr/>
          <p:nvPr/>
        </p:nvSpPr>
        <p:spPr>
          <a:xfrm>
            <a:off x="3048120" y="5943600"/>
            <a:ext cx="1904760" cy="838080"/>
          </a:xfrm>
          <a:prstGeom prst="wedgeEllipseCallout">
            <a:avLst>
              <a:gd name="adj1" fmla="val -63930"/>
              <a:gd name="adj2" fmla="val -911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you K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Слова-паразиты в художественном произведении Бернарда Шоу «Пигмали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5" descr="A006799.jpg"/>
          <p:cNvPicPr/>
          <p:nvPr/>
        </p:nvPicPr>
        <p:blipFill>
          <a:blip r:embed="rId1"/>
          <a:stretch/>
        </p:blipFill>
        <p:spPr>
          <a:xfrm>
            <a:off x="1752480" y="1905120"/>
            <a:ext cx="5715000" cy="38401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1757520" y="533412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енри Хиггин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6172200" y="2057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ьная выноска 8"/>
          <p:cNvSpPr/>
          <p:nvPr/>
        </p:nvSpPr>
        <p:spPr>
          <a:xfrm>
            <a:off x="76320" y="3276720"/>
            <a:ext cx="2209680" cy="1523880"/>
          </a:xfrm>
          <a:prstGeom prst="wedgeEllipseCallout">
            <a:avLst>
              <a:gd name="adj1" fmla="val 85569"/>
              <a:gd name="adj2" fmla="val -553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 think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 mean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well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you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45960" y="5140800"/>
            <a:ext cx="2681280" cy="1254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 fontScale="7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Garn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, I dunno, Oh, boo—hoo,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Ah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w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oh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!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Well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 think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I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ьная выноска 10"/>
          <p:cNvSpPr/>
          <p:nvPr/>
        </p:nvSpPr>
        <p:spPr>
          <a:xfrm>
            <a:off x="7162920" y="1447920"/>
            <a:ext cx="1904760" cy="1069920"/>
          </a:xfrm>
          <a:prstGeom prst="wedgeEllipseCallout">
            <a:avLst>
              <a:gd name="adj1" fmla="val -73041"/>
              <a:gd name="adj2" fmla="val 12675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'm a good girl, I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 то время как люди умные умеют выразить многое в немногих словах, люди ограниченные, напротив, обладают способностью много говорить и ничего не сказать.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Франсуа де Ларошфук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images (2)"/>
          <p:cNvPicPr/>
          <p:nvPr/>
        </p:nvPicPr>
        <p:blipFill>
          <a:blip r:embed="rId1"/>
          <a:stretch/>
        </p:blipFill>
        <p:spPr>
          <a:xfrm>
            <a:off x="6321600" y="304920"/>
            <a:ext cx="26701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Знаете ли вы, что такое слова-паразит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990720" y="1600200"/>
          <a:ext cx="689112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6891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2.Употребляете ли вы слова-«паразиты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01760" y="1600200"/>
          <a:ext cx="8285040" cy="515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60" y="1600200"/>
                    <a:ext cx="828504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Содержимое 3"/>
          <p:cNvGraphicFramePr/>
          <p:nvPr/>
        </p:nvGraphicFramePr>
        <p:xfrm>
          <a:off x="533520" y="1523880"/>
          <a:ext cx="784836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784836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Считаете ли вы, что слова-паразиты нужно искоренять из реч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5" descr="think_before_you_speak.png"/>
          <p:cNvPicPr/>
          <p:nvPr/>
        </p:nvPicPr>
        <p:blipFill>
          <a:blip r:embed="rId1"/>
          <a:stretch/>
        </p:blipFill>
        <p:spPr>
          <a:xfrm>
            <a:off x="-36360" y="225360"/>
            <a:ext cx="9216720" cy="6413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Заключ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нной исследовательской работе были  выявлены  функциональные особенности слов-паразитов в английской разговорной речи   и их значение в жизни современн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винутая нами гипотеза подтвердилась частично. Это проблема не только современного общества, она существовала еще сто лет наз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ожение, что слова-сорняки используются в спонтанной устной речи большинства людей разных возрастов и социальных статусов - подтвердилос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5" descr="9648cc9580bf.jpg"/>
          <p:cNvPicPr/>
          <p:nvPr/>
        </p:nvPicPr>
        <p:blipFill>
          <a:blip r:embed="rId1"/>
          <a:stretch/>
        </p:blipFill>
        <p:spPr>
          <a:xfrm>
            <a:off x="47520" y="611280"/>
            <a:ext cx="8750520" cy="578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Актуальнос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чность, ясность, понятность речи как признак культуры речи любого человека определяется умением четко и ясно мыслить, знанием предмета речи и законов любого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нимание природы функционирования такого языкового явления, как слова филлеры или слова-парази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жет общению на английском язы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явить функциональные особенности слов-      паразитов в английской разговорной речи   и их значение в жизни современн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Задачи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накомиться с научной и  периодической  литературой,  характеризующей  употребление  слов-парази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ь функциональные особенности и причины употребления слов-паразитов в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анализировать фрагменты английской разговорной речи различных групп людей на наличие слов-паразитов и причин их ис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сти мониторинг по выявлению особенностей употребления слов-паразитов учащимися 7-10 кла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Гипот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а-сорняки – это проблема современного общества, имеет место в спонтанной, неподготовленной устной речи большинства людей и не несут никакой смысловой знач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Объект  исследования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глийская разговорная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редмет исследования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глийские слова-параз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Методы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учение научной литерат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ем систематики и классифик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внение, анализ, систематизация   результа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«Слова-паразиты»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нгвистическое явление, выраженное в употреблении лишних и бессмысленных в данном контексте слов, имеют место в спонтанной, слабо контролируемой устной реч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Причины появления в речи слов-паразитов и их 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охраняют непрерывность речи, образуя мостик между слов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Указывают на бедность словарного запа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Помогают «выиграть время», подумать над заданным вопро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ода на слова-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Играют тактическую роль, при ответе на неудобный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казывают, что говорящий волнуется или торопится произнести свою реч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Являются сигналом слушателю, что диалог продолж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бивают ритм речи, мешают ее понима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оздают речевую характеристику персонаж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3152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Рейтинг слов-парази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744480"/>
          <a:ext cx="8458200" cy="5884920"/>
        </p:xfrm>
        <a:graphic>
          <a:graphicData uri="http://schemas.openxmlformats.org/drawingml/2006/table">
            <a:tbl>
              <a:tblPr/>
              <a:tblGrid>
                <a:gridCol w="1381320"/>
                <a:gridCol w="3190680"/>
                <a:gridCol w="38862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"Компания за чистоту английского языка"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ou know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еш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t this moment in time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данный момент време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ike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ort of, kind of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ith all due re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всем должном уваж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igamy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о самое, ну это, как его т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at’s the mess we are in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т такие пир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at’s the way the cookie crumbles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-то вот так в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 was like, 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ere just, like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такая е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sically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обще-т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ell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t the end of the day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онечном сч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20:06:50Z</dcterms:created>
  <dc:creator>1</dc:creator>
  <dc:description/>
  <dc:language>en-US</dc:language>
  <cp:lastModifiedBy>kab-23</cp:lastModifiedBy>
  <dcterms:modified xsi:type="dcterms:W3CDTF">2012-11-26T06:13:32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