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17A-98EA-477C-A525-653D2AF7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90F-1DD5-42E6-8598-9004C78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914-22F6-460E-9494-C3693DCD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CB3-D527-4717-9FFF-A6430743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F1E2-8B4C-4D74-8E26-14B0C80A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D52-287E-428C-9336-1B866A7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D1AB-6028-412D-A6F1-FB16388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834A-4335-4E90-B197-AEE92F0D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9C5A-3BAE-473A-8DFE-5B0E4409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1226-9DFE-482D-B316-F98FC8E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D30-53BF-4941-9B32-90EE947E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42D-FB29-4E62-8023-5FBE0CA2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2D58-4822-4D44-8616-7272C614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844B-65F7-45F5-8C48-F8DD9CC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EDB6-CC05-49ED-A3D0-3915DB1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6C8-FF93-4A68-96C3-21DBAD9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FDAC-09CA-4141-A9ED-87066CD9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060-7A7F-4014-9EE2-1CCFC69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A80-32FB-443F-A1CF-0B03D13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27F-D92C-4D41-9995-03FBBB4F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EDF-BA34-48DA-8F88-188CC728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787-77BE-4DF1-B716-6DF645B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C6F-037D-4E47-98BC-B260763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07F-A9B4-4628-91DC-FCFC307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05AE-52EA-493E-A192-01F4CF0BA0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DBAB-0CE4-48F2-97F6-91DDED5A4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1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58C5-15E6-46CF-8C67-189A129F43C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64720" cy="288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Учебно-исследовательская работа</a:t>
            </a:r>
            <a:br>
              <a:rPr sz="2400"/>
            </a:br>
            <a:r>
              <a:rPr b="1" lang="ru-RU" sz="4000" spc="-1" strike="noStrike">
                <a:solidFill>
                  <a:srgbClr val="00a29e"/>
                </a:solidFill>
                <a:latin typeface="Arial"/>
              </a:rPr>
              <a:t>Математика</a:t>
            </a:r>
            <a:br>
              <a:rPr sz="4800"/>
            </a:br>
            <a:r>
              <a:rPr b="1" lang="ru-RU" sz="5400" spc="-1" strike="noStrike">
                <a:solidFill>
                  <a:srgbClr val="00a29e"/>
                </a:solidFill>
                <a:latin typeface="Arial"/>
              </a:rPr>
              <a:t>«Теорема Пифагора»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08000" y="3644640"/>
            <a:ext cx="7048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олтикова Елизав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ница 8 кла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олтикова Елена Владимировна - уч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587700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рый Акульш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95280" y="260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роакульшет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BE5-CB7C-404C-93B8-51613D24C29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A8CA97A1"/>
          <p:cNvPicPr/>
          <p:nvPr/>
        </p:nvPicPr>
        <p:blipFill>
          <a:blip r:embed="rId1"/>
          <a:srcRect l="2099" t="809" r="0" b="41957"/>
          <a:stretch/>
        </p:blipFill>
        <p:spPr>
          <a:xfrm>
            <a:off x="395280" y="115920"/>
            <a:ext cx="4390920" cy="6626160"/>
          </a:xfrm>
          <a:prstGeom prst="rect">
            <a:avLst/>
          </a:prstGeom>
          <a:ln w="38160">
            <a:solidFill>
              <a:srgbClr val="160c92"/>
            </a:solidFill>
            <a:miter/>
          </a:ln>
        </p:spPr>
      </p:pic>
      <p:pic>
        <p:nvPicPr>
          <p:cNvPr id="190" name="Picture 5" descr="A8CA97A1"/>
          <p:cNvPicPr/>
          <p:nvPr/>
        </p:nvPicPr>
        <p:blipFill>
          <a:blip r:embed="rId2"/>
          <a:srcRect l="44326" t="59363" r="2932" b="1406"/>
          <a:stretch/>
        </p:blipFill>
        <p:spPr>
          <a:xfrm>
            <a:off x="5651640" y="765000"/>
            <a:ext cx="2700360" cy="5185080"/>
          </a:xfrm>
          <a:prstGeom prst="rect">
            <a:avLst/>
          </a:prstGeom>
          <a:ln w="38160">
            <a:solidFill>
              <a:srgbClr val="160c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20C8-5C5E-479B-B1F4-10787CCCEC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остейшее доказательство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, изложенный в теореме Пифагора, был сначала установлен для равнобедренных треугольников. Достаточно взглянуть на мозаику из треугольников, чтобы убедиться в справедливости теоремы для АВС: квадрат, построенный на гипотенузе, содержит четыре треугольника, а на каждом катете построен квадрат, содержащий два треугольн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564000" y="1844640"/>
          <a:ext cx="2089080" cy="2073240"/>
        </p:xfrm>
        <a:graphic>
          <a:graphicData uri="http://schemas.openxmlformats.org/drawingml/2006/table">
            <a:tbl>
              <a:tblPr/>
              <a:tblGrid>
                <a:gridCol w="503280"/>
                <a:gridCol w="539640"/>
                <a:gridCol w="523800"/>
                <a:gridCol w="52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Line 147"/>
          <p:cNvSpPr/>
          <p:nvPr/>
        </p:nvSpPr>
        <p:spPr>
          <a:xfrm flipV="1">
            <a:off x="3564000" y="184464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54"/>
          <p:cNvSpPr/>
          <p:nvPr/>
        </p:nvSpPr>
        <p:spPr>
          <a:xfrm flipV="1">
            <a:off x="3564000" y="184428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55"/>
          <p:cNvSpPr/>
          <p:nvPr/>
        </p:nvSpPr>
        <p:spPr>
          <a:xfrm>
            <a:off x="4067280" y="184464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56"/>
          <p:cNvSpPr/>
          <p:nvPr/>
        </p:nvSpPr>
        <p:spPr>
          <a:xfrm>
            <a:off x="3564000" y="234936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157"/>
          <p:cNvSpPr/>
          <p:nvPr/>
        </p:nvSpPr>
        <p:spPr>
          <a:xfrm flipV="1">
            <a:off x="4067280" y="2349000"/>
            <a:ext cx="158436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58"/>
          <p:cNvSpPr/>
          <p:nvPr/>
        </p:nvSpPr>
        <p:spPr>
          <a:xfrm>
            <a:off x="3564000" y="3429000"/>
            <a:ext cx="5032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59"/>
          <p:cNvSpPr/>
          <p:nvPr/>
        </p:nvSpPr>
        <p:spPr>
          <a:xfrm>
            <a:off x="5148360" y="184464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60"/>
          <p:cNvSpPr/>
          <p:nvPr/>
        </p:nvSpPr>
        <p:spPr>
          <a:xfrm flipH="1">
            <a:off x="5148360" y="3429000"/>
            <a:ext cx="503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214"/>
          <p:cNvSpPr/>
          <p:nvPr/>
        </p:nvSpPr>
        <p:spPr>
          <a:xfrm>
            <a:off x="684360" y="5445000"/>
            <a:ext cx="142560" cy="144720"/>
          </a:xfrm>
          <a:prstGeom prst="triangle">
            <a:avLst>
              <a:gd name="adj" fmla="val 5000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215"/>
          <p:cNvSpPr/>
          <p:nvPr/>
        </p:nvSpPr>
        <p:spPr>
          <a:xfrm>
            <a:off x="4572000" y="2349360"/>
            <a:ext cx="576360" cy="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216"/>
          <p:cNvSpPr/>
          <p:nvPr/>
        </p:nvSpPr>
        <p:spPr>
          <a:xfrm>
            <a:off x="5148360" y="2349360"/>
            <a:ext cx="0" cy="57492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217"/>
          <p:cNvSpPr/>
          <p:nvPr/>
        </p:nvSpPr>
        <p:spPr>
          <a:xfrm>
            <a:off x="4572000" y="2349360"/>
            <a:ext cx="576360" cy="574920"/>
          </a:xfrm>
          <a:prstGeom prst="line">
            <a:avLst/>
          </a:prstGeom>
          <a:ln w="38160">
            <a:solidFill>
              <a:srgbClr val="9b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218"/>
          <p:cNvSpPr/>
          <p:nvPr/>
        </p:nvSpPr>
        <p:spPr>
          <a:xfrm flipH="1">
            <a:off x="4140000" y="2421000"/>
            <a:ext cx="431640" cy="43164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19"/>
          <p:cNvSpPr/>
          <p:nvPr/>
        </p:nvSpPr>
        <p:spPr>
          <a:xfrm>
            <a:off x="4067280" y="2852640"/>
            <a:ext cx="504720" cy="50508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220"/>
          <p:cNvSpPr/>
          <p:nvPr/>
        </p:nvSpPr>
        <p:spPr>
          <a:xfrm flipH="1">
            <a:off x="4571640" y="2852640"/>
            <a:ext cx="576360" cy="57636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53"/>
          <p:cNvSpPr/>
          <p:nvPr/>
        </p:nvSpPr>
        <p:spPr>
          <a:xfrm>
            <a:off x="4572000" y="1844640"/>
            <a:ext cx="576360" cy="0"/>
          </a:xfrm>
          <a:prstGeom prst="line">
            <a:avLst/>
          </a:prstGeom>
          <a:ln w="1908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54"/>
          <p:cNvSpPr/>
          <p:nvPr/>
        </p:nvSpPr>
        <p:spPr>
          <a:xfrm>
            <a:off x="5148360" y="1844640"/>
            <a:ext cx="0" cy="504720"/>
          </a:xfrm>
          <a:prstGeom prst="line">
            <a:avLst/>
          </a:prstGeom>
          <a:ln w="1908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55"/>
          <p:cNvSpPr/>
          <p:nvPr/>
        </p:nvSpPr>
        <p:spPr>
          <a:xfrm>
            <a:off x="5651640" y="2349360"/>
            <a:ext cx="0" cy="50328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256"/>
          <p:cNvSpPr/>
          <p:nvPr/>
        </p:nvSpPr>
        <p:spPr>
          <a:xfrm>
            <a:off x="5148360" y="2349360"/>
            <a:ext cx="503280" cy="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257"/>
          <p:cNvSpPr/>
          <p:nvPr/>
        </p:nvSpPr>
        <p:spPr>
          <a:xfrm>
            <a:off x="5148360" y="29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258"/>
          <p:cNvSpPr/>
          <p:nvPr/>
        </p:nvSpPr>
        <p:spPr>
          <a:xfrm>
            <a:off x="5148360" y="2852640"/>
            <a:ext cx="503280" cy="0"/>
          </a:xfrm>
          <a:prstGeom prst="line">
            <a:avLst/>
          </a:prstGeom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269"/>
          <p:cNvSpPr/>
          <p:nvPr/>
        </p:nvSpPr>
        <p:spPr>
          <a:xfrm>
            <a:off x="42847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270"/>
          <p:cNvSpPr/>
          <p:nvPr/>
        </p:nvSpPr>
        <p:spPr>
          <a:xfrm>
            <a:off x="50767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271"/>
          <p:cNvSpPr/>
          <p:nvPr/>
        </p:nvSpPr>
        <p:spPr>
          <a:xfrm>
            <a:off x="507672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272"/>
          <p:cNvSpPr/>
          <p:nvPr/>
        </p:nvSpPr>
        <p:spPr>
          <a:xfrm flipH="1">
            <a:off x="4211280" y="2421000"/>
            <a:ext cx="360360" cy="50328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73"/>
          <p:cNvSpPr/>
          <p:nvPr/>
        </p:nvSpPr>
        <p:spPr>
          <a:xfrm flipH="1">
            <a:off x="4284720" y="2421000"/>
            <a:ext cx="3585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74"/>
          <p:cNvSpPr/>
          <p:nvPr/>
        </p:nvSpPr>
        <p:spPr>
          <a:xfrm flipH="1">
            <a:off x="4355640" y="249228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75"/>
          <p:cNvSpPr/>
          <p:nvPr/>
        </p:nvSpPr>
        <p:spPr>
          <a:xfrm flipH="1">
            <a:off x="4427280" y="256536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276"/>
          <p:cNvSpPr/>
          <p:nvPr/>
        </p:nvSpPr>
        <p:spPr>
          <a:xfrm flipH="1">
            <a:off x="4500720" y="2637000"/>
            <a:ext cx="358560" cy="57600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277"/>
          <p:cNvSpPr/>
          <p:nvPr/>
        </p:nvSpPr>
        <p:spPr>
          <a:xfrm flipH="1">
            <a:off x="4571640" y="270828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278"/>
          <p:cNvSpPr/>
          <p:nvPr/>
        </p:nvSpPr>
        <p:spPr>
          <a:xfrm flipH="1">
            <a:off x="4642920" y="2781360"/>
            <a:ext cx="360360" cy="576360"/>
          </a:xfrm>
          <a:prstGeom prst="line">
            <a:avLst/>
          </a:prstGeom>
          <a:ln w="936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4B5-2341-4749-AB91-1A0B48B7C76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оказательства методом построения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1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щность этого метода состоит в том, что к квадратам, построенным на катетах, и к квадрату, построенному на гипотенузе, присоединяются равные фигуры таким образом, чтобы получились равновеликие фигур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рисунке – обычная Пифагорова фигура – прямоугольный треугольник АВС с построенными на его сторонах квадратами. К этой фигуре присоединены треугольники 1 и 2, равные исходному прямоугольному треугольни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естиугольник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DFPB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CBN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равновелики. Пряма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P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делит шести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DFP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на два равновеликих четырехугольника, пряма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делит шести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CBN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на два равновеликих четырехугольника; поворот плоскости на 9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вокруг центра А отображает четырех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EPB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на четырехуголь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MQ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39640" y="2637000"/>
            <a:ext cx="647640" cy="647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187280" y="1628640"/>
            <a:ext cx="1081080" cy="1008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9"/>
          <p:cNvSpPr/>
          <p:nvPr/>
        </p:nvSpPr>
        <p:spPr>
          <a:xfrm rot="5400000">
            <a:off x="1403640" y="2420280"/>
            <a:ext cx="647640" cy="1081080"/>
          </a:xfrm>
          <a:prstGeom prst="rtTriangl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0"/>
          <p:cNvSpPr/>
          <p:nvPr/>
        </p:nvSpPr>
        <p:spPr>
          <a:xfrm rot="3528000">
            <a:off x="1432800" y="2844720"/>
            <a:ext cx="1224000" cy="12747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1"/>
          <p:cNvSpPr/>
          <p:nvPr/>
        </p:nvSpPr>
        <p:spPr>
          <a:xfrm flipV="1">
            <a:off x="539640" y="1628640"/>
            <a:ext cx="1728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 rot="16048200">
            <a:off x="2047680" y="3426840"/>
            <a:ext cx="577800" cy="11491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1187280" y="2637000"/>
            <a:ext cx="1729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AutoShape 14"/>
          <p:cNvSpPr/>
          <p:nvPr/>
        </p:nvSpPr>
        <p:spPr>
          <a:xfrm flipV="1" rot="10753200">
            <a:off x="537480" y="1627560"/>
            <a:ext cx="647640" cy="1008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24000" y="32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97164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250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2268360" y="148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19564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971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28432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2916360" y="400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140328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826920" y="2205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241128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27"/>
          <p:cNvSpPr/>
          <p:nvPr/>
        </p:nvSpPr>
        <p:spPr>
          <a:xfrm>
            <a:off x="1042920" y="134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28"/>
          <p:cNvSpPr/>
          <p:nvPr/>
        </p:nvSpPr>
        <p:spPr>
          <a:xfrm rot="20967600">
            <a:off x="324000" y="4723920"/>
            <a:ext cx="3311280" cy="1873440"/>
          </a:xfrm>
          <a:prstGeom prst="rightArrow">
            <a:avLst>
              <a:gd name="adj1" fmla="val 50000"/>
              <a:gd name="adj2" fmla="val 4418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Это доказатель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впервые да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60A7-F33E-4271-B12B-8B9E333A583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этом рисунке Пифагорова фигура достроена до прямоугольника, стороны которого параллельны соответствующим сторонам квадратов, построенных на катетах. Разобьем этот прямоугольник на треугольники и прямоугольники. Из полученного прямоугольника вначале отнимаем все многоугольники 1,2,3,4,5,6,7,8,9, остался квадрат, построенный на гипотенузе. Затем из того же прямоугольника отнимем прямоугольники 5,6,7 и синие прямоугольники, получим квадраты, построенные на кате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95280" y="2133720"/>
            <a:ext cx="936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utoShape 11"/>
          <p:cNvSpPr/>
          <p:nvPr/>
        </p:nvSpPr>
        <p:spPr>
          <a:xfrm rot="5400000">
            <a:off x="1512360" y="3177360"/>
            <a:ext cx="863280" cy="1224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1332000" y="4149720"/>
            <a:ext cx="863640" cy="1295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utoShape 13"/>
          <p:cNvSpPr/>
          <p:nvPr/>
        </p:nvSpPr>
        <p:spPr>
          <a:xfrm rot="10800000">
            <a:off x="2555640" y="3357360"/>
            <a:ext cx="863640" cy="1223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14"/>
          <p:cNvSpPr/>
          <p:nvPr/>
        </p:nvSpPr>
        <p:spPr>
          <a:xfrm rot="16200000">
            <a:off x="2340720" y="4364280"/>
            <a:ext cx="863640" cy="12970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2556000" y="2133720"/>
            <a:ext cx="86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395280" y="4221000"/>
            <a:ext cx="936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332000" y="2133720"/>
            <a:ext cx="122400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95280" y="3357720"/>
            <a:ext cx="936720" cy="863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9"/>
          <p:cNvSpPr/>
          <p:nvPr/>
        </p:nvSpPr>
        <p:spPr>
          <a:xfrm rot="19555800">
            <a:off x="1639800" y="3633840"/>
            <a:ext cx="1484280" cy="15145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2987640" y="47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1403280" y="4797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147636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291636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755640" y="2708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2700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755640" y="4797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8436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7920-8620-4FED-9A80-EBD31DC8D2D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067280" y="1989000"/>
            <a:ext cx="4859280" cy="37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рисунке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пряма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KLO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BMP = ACED =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G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BMP = CBNQ =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GB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K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GB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² = a² +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utoShape 9"/>
          <p:cNvSpPr/>
          <p:nvPr/>
        </p:nvSpPr>
        <p:spPr>
          <a:xfrm flipV="1">
            <a:off x="1403280" y="3860640"/>
            <a:ext cx="1513080" cy="7207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10"/>
          <p:cNvSpPr/>
          <p:nvPr/>
        </p:nvSpPr>
        <p:spPr>
          <a:xfrm rot="20048400">
            <a:off x="1692360" y="4152600"/>
            <a:ext cx="1655640" cy="167004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84360" y="2421000"/>
            <a:ext cx="7189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403280" y="2421000"/>
            <a:ext cx="1513080" cy="143964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84360" y="3860640"/>
            <a:ext cx="718920" cy="72072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684360" y="2421000"/>
            <a:ext cx="1800000" cy="35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13"/>
          <p:cNvSpPr/>
          <p:nvPr/>
        </p:nvSpPr>
        <p:spPr>
          <a:xfrm flipH="1" flipV="1">
            <a:off x="684000" y="3141360"/>
            <a:ext cx="7189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2195640" y="2420640"/>
            <a:ext cx="720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46836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125892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97964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84328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2916360" y="37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3564000" y="5157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190800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11280" y="58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118728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46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9528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395280" y="29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133200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197964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111600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1187280" y="39337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212400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AutoShape 32"/>
          <p:cNvSpPr/>
          <p:nvPr/>
        </p:nvSpPr>
        <p:spPr>
          <a:xfrm rot="1056000">
            <a:off x="394920" y="475920"/>
            <a:ext cx="4032360" cy="1657440"/>
          </a:xfrm>
          <a:prstGeom prst="rightArrow">
            <a:avLst>
              <a:gd name="adj1" fmla="val 50000"/>
              <a:gd name="adj2" fmla="val 60822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иведен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Нассир-эд-Дином. (1594 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176364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263D-ECF8-4773-BB75-ED15200995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2"/>
          <p:cNvSpPr/>
          <p:nvPr/>
        </p:nvSpPr>
        <p:spPr>
          <a:xfrm rot="19741200">
            <a:off x="1370160" y="3451320"/>
            <a:ext cx="2119320" cy="20635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0" y="1628640"/>
            <a:ext cx="45720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LP =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F = ACED =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ML = CBNQ = a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MP = ABMF = c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MP = OCLP + CB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² = a² + b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9"/>
          <p:cNvSpPr/>
          <p:nvPr/>
        </p:nvSpPr>
        <p:spPr>
          <a:xfrm flipV="1">
            <a:off x="2050920" y="4796640"/>
            <a:ext cx="1800360" cy="1079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971640" y="3068640"/>
            <a:ext cx="1079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0"/>
          <p:cNvSpPr/>
          <p:nvPr/>
        </p:nvSpPr>
        <p:spPr>
          <a:xfrm flipV="1">
            <a:off x="971640" y="3067920"/>
            <a:ext cx="1800000" cy="10796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050920" y="3068640"/>
            <a:ext cx="1800360" cy="1728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971640" y="4797360"/>
            <a:ext cx="1081080" cy="107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971640" y="4076640"/>
            <a:ext cx="1079280" cy="18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20509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6"/>
          <p:cNvSpPr/>
          <p:nvPr/>
        </p:nvSpPr>
        <p:spPr>
          <a:xfrm flipV="1">
            <a:off x="971640" y="3068280"/>
            <a:ext cx="18000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AutoShape 18"/>
          <p:cNvSpPr/>
          <p:nvPr/>
        </p:nvSpPr>
        <p:spPr>
          <a:xfrm rot="10800000">
            <a:off x="323640" y="3068640"/>
            <a:ext cx="647640" cy="1008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9"/>
          <p:cNvSpPr/>
          <p:nvPr/>
        </p:nvSpPr>
        <p:spPr>
          <a:xfrm>
            <a:off x="97164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20"/>
          <p:cNvSpPr/>
          <p:nvPr/>
        </p:nvSpPr>
        <p:spPr>
          <a:xfrm>
            <a:off x="971640" y="3068640"/>
            <a:ext cx="1584360" cy="252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22"/>
          <p:cNvSpPr/>
          <p:nvPr/>
        </p:nvSpPr>
        <p:spPr>
          <a:xfrm>
            <a:off x="2771640" y="3068640"/>
            <a:ext cx="1079640" cy="17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611280" y="58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90800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3780000" y="465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2627280" y="27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3780000" y="27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1908000" y="450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190800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82692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17928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684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61128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118728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35"/>
          <p:cNvSpPr/>
          <p:nvPr/>
        </p:nvSpPr>
        <p:spPr>
          <a:xfrm>
            <a:off x="262728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36"/>
          <p:cNvSpPr/>
          <p:nvPr/>
        </p:nvSpPr>
        <p:spPr>
          <a:xfrm>
            <a:off x="2843280" y="522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37"/>
          <p:cNvSpPr/>
          <p:nvPr/>
        </p:nvSpPr>
        <p:spPr>
          <a:xfrm>
            <a:off x="1814400" y="5157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38"/>
          <p:cNvSpPr/>
          <p:nvPr/>
        </p:nvSpPr>
        <p:spPr>
          <a:xfrm rot="1069800">
            <a:off x="539280" y="1125000"/>
            <a:ext cx="3961080" cy="1511640"/>
          </a:xfrm>
          <a:prstGeom prst="rightArrow">
            <a:avLst>
              <a:gd name="adj1" fmla="val 50000"/>
              <a:gd name="adj2" fmla="val 65510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приведе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Гофманом (1821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668-64C5-411B-8CD0-210B96DF7D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4427280" y="691920"/>
            <a:ext cx="454644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угольник АВС с прямым углом С; отрез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F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пендикулярен СВ и равен ему, отрезок ВЕ перпендикулярен АВ и равен ему, отрез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пендикулярен АС и равен ему; точ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надлежат одной прямой; четырех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F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BE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вновелики, так как ; тре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F = E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; тре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F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авновелики; отнимем от обоих равновеликих четырехугольников общий для них треугольни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им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+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7"/>
          <p:cNvSpPr/>
          <p:nvPr/>
        </p:nvSpPr>
        <p:spPr>
          <a:xfrm flipV="1">
            <a:off x="1332000" y="3428280"/>
            <a:ext cx="1800000" cy="64764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1332000" y="1341360"/>
            <a:ext cx="158436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332000" y="3429000"/>
            <a:ext cx="2663640" cy="165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916360" y="1341360"/>
            <a:ext cx="2156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3132000" y="3429000"/>
            <a:ext cx="86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1332000" y="4076640"/>
            <a:ext cx="26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4"/>
          <p:cNvSpPr/>
          <p:nvPr/>
        </p:nvSpPr>
        <p:spPr>
          <a:xfrm flipH="1">
            <a:off x="826920" y="1341360"/>
            <a:ext cx="208944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5"/>
          <p:cNvSpPr/>
          <p:nvPr/>
        </p:nvSpPr>
        <p:spPr>
          <a:xfrm flipH="1">
            <a:off x="826560" y="40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16"/>
          <p:cNvSpPr/>
          <p:nvPr/>
        </p:nvSpPr>
        <p:spPr>
          <a:xfrm rot="21163800">
            <a:off x="0" y="5516640"/>
            <a:ext cx="5257800" cy="1150920"/>
          </a:xfrm>
          <a:prstGeom prst="rightArrow">
            <a:avLst>
              <a:gd name="adj1" fmla="val 50000"/>
              <a:gd name="adj2" fmla="val 114209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Еще одно оригинальное доказательство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едложенное Гофман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53964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04292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2771640" y="10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313200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118728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370836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197964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2340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1116000" y="357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F67-2275-4F7F-B8D8-3D52A5D8B0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Алгебраический метод доказательства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рисунок иллюстрирует доказательство великого индийского математика Бхаскари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). Рисунок сопровождало лишь одно слово: СМОТР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рики считают, что Бхаскара выражал площадь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вадрата, построенного на гипотенузе, как сумму площадей четырех треугольников 4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2) и площади квадрата со стороной, равной разности кате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 rot="17875800">
            <a:off x="2043720" y="2433960"/>
            <a:ext cx="1082520" cy="12272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utoShape 7"/>
          <p:cNvSpPr/>
          <p:nvPr/>
        </p:nvSpPr>
        <p:spPr>
          <a:xfrm flipV="1" rot="7029000">
            <a:off x="185760" y="2496240"/>
            <a:ext cx="2211120" cy="10810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AutoShape 8"/>
          <p:cNvSpPr/>
          <p:nvPr/>
        </p:nvSpPr>
        <p:spPr>
          <a:xfrm flipV="1" rot="12437400">
            <a:off x="1477440" y="1250280"/>
            <a:ext cx="2246400" cy="1152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AutoShape 9"/>
          <p:cNvSpPr/>
          <p:nvPr/>
        </p:nvSpPr>
        <p:spPr>
          <a:xfrm flipV="1" rot="1759200">
            <a:off x="1398600" y="3732840"/>
            <a:ext cx="2232000" cy="1152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0"/>
          <p:cNvSpPr/>
          <p:nvPr/>
        </p:nvSpPr>
        <p:spPr>
          <a:xfrm flipV="1" rot="17878200">
            <a:off x="2725920" y="2539080"/>
            <a:ext cx="2233800" cy="11318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5600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564000" y="306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34000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111600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133200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3059280" y="364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111600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547640" y="3068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370836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270036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190800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2916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1476360" y="24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/2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24"/>
          <p:cNvSpPr/>
          <p:nvPr/>
        </p:nvSpPr>
        <p:spPr>
          <a:xfrm>
            <a:off x="2195640" y="29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324000" y="4797360"/>
            <a:ext cx="41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-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 + 4 ½ ab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² - 2ab + a² + 2ab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² + a² = c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E96-971A-4E50-923C-F4CF6C115E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140360" y="115560"/>
            <a:ext cx="475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ямоугольный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ямой угол,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оекция кате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гипотенузу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проекция кате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гипотенузу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высота треугольника, проведенная к гипотенуз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того,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добе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леду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(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того, чт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доб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M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ледуе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(2) Складывая почленно равенства (1) и (2), получи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 b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b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 ca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</a:t>
            </a: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+a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  <a:ea typeface="Tahoma"/>
              </a:rPr>
              <a:t>ı</a:t>
            </a:r>
            <a:r>
              <a:rPr b="0" lang="ru-RU" sz="2000" spc="-1" strike="noStrike">
                <a:solidFill>
                  <a:srgbClr val="65498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= c</a:t>
            </a:r>
            <a:r>
              <a:rPr b="0" lang="en-US" sz="2000" spc="-1" strike="noStrike">
                <a:solidFill>
                  <a:srgbClr val="65498f"/>
                </a:solidFill>
                <a:latin typeface="Arial"/>
              </a:rPr>
              <a:t>²</a:t>
            </a:r>
            <a:r>
              <a:rPr b="0" lang="en-US" sz="2000" spc="-1" strike="noStrike">
                <a:solidFill>
                  <a:srgbClr val="65498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684360" y="1268280"/>
            <a:ext cx="3600360" cy="865440"/>
          </a:xfrm>
          <a:prstGeom prst="rightArrow">
            <a:avLst>
              <a:gd name="adj1" fmla="val 50000"/>
              <a:gd name="adj2" fmla="val 104004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Пифаг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AutoShape 8"/>
          <p:cNvSpPr/>
          <p:nvPr/>
        </p:nvSpPr>
        <p:spPr>
          <a:xfrm rot="7264800">
            <a:off x="1738800" y="3093120"/>
            <a:ext cx="1582920" cy="28288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2484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116000" y="35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1979640" y="458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3"/>
          <p:cNvSpPr/>
          <p:nvPr/>
        </p:nvSpPr>
        <p:spPr>
          <a:xfrm>
            <a:off x="169236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6"/>
          <p:cNvSpPr/>
          <p:nvPr/>
        </p:nvSpPr>
        <p:spPr>
          <a:xfrm>
            <a:off x="176364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7"/>
          <p:cNvSpPr/>
          <p:nvPr/>
        </p:nvSpPr>
        <p:spPr>
          <a:xfrm>
            <a:off x="1692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1692360" y="314172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1476360" y="4437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25892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241128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7236000" y="98100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24"/>
          <p:cNvSpPr/>
          <p:nvPr/>
        </p:nvSpPr>
        <p:spPr>
          <a:xfrm>
            <a:off x="7164360" y="119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611280" y="4365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1619280" y="2852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406728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1692360" y="3232080"/>
            <a:ext cx="236520" cy="125640"/>
          </a:xfrm>
          <a:custGeom>
            <a:avLst/>
            <a:gdLst>
              <a:gd name="textAreaLeft" fmla="*/ 0 w 236520"/>
              <a:gd name="textAreaRight" fmla="*/ 236520 w 23652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152" h="95">
                <a:moveTo>
                  <a:pt x="0" y="95"/>
                </a:moveTo>
                <a:cubicBezTo>
                  <a:pt x="34" y="82"/>
                  <a:pt x="71" y="88"/>
                  <a:pt x="106" y="78"/>
                </a:cubicBezTo>
                <a:cubicBezTo>
                  <a:pt x="124" y="66"/>
                  <a:pt x="133" y="57"/>
                  <a:pt x="145" y="39"/>
                </a:cubicBezTo>
                <a:cubicBezTo>
                  <a:pt x="152" y="11"/>
                  <a:pt x="151" y="24"/>
                  <a:pt x="15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1012680" y="4305240"/>
            <a:ext cx="87480" cy="142920"/>
          </a:xfrm>
          <a:custGeom>
            <a:avLst/>
            <a:gdLst>
              <a:gd name="textAreaLeft" fmla="*/ 0 w 87480"/>
              <a:gd name="textAreaRight" fmla="*/ 87840 w 87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5" h="90">
                <a:moveTo>
                  <a:pt x="0" y="0"/>
                </a:moveTo>
                <a:cubicBezTo>
                  <a:pt x="43" y="30"/>
                  <a:pt x="55" y="34"/>
                  <a:pt x="55" y="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250920" y="56610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Пифагор действительно предложил такое доказательство, то он был знаком с целым рядом важных геометрических теорем, которые современные историки математики обычно приписывают Евклид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3E65-D34C-4D40-B767-DF490DC7B5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Мёльман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751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ощадь данного прямоугольного треугольника, с одной стороны, равна 0,5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 другой сторону 0,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, гд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периметр треугольника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- радиус вписанной в него окруж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 = 0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+ b - 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мее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 +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 -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куда следует, чт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² = a² + b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AutoShape 7"/>
          <p:cNvSpPr/>
          <p:nvPr/>
        </p:nvSpPr>
        <p:spPr>
          <a:xfrm rot="6894600">
            <a:off x="1362960" y="2511720"/>
            <a:ext cx="1635120" cy="3456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611280" y="2997360"/>
            <a:ext cx="1296720" cy="1223640"/>
          </a:xfrm>
          <a:prstGeom prst="ellipse">
            <a:avLst/>
          </a:prstGeom>
          <a:solidFill>
            <a:srgbClr val="e5e5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9"/>
          <p:cNvSpPr/>
          <p:nvPr/>
        </p:nvSpPr>
        <p:spPr>
          <a:xfrm flipH="1">
            <a:off x="1186920" y="306864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684360" y="3357720"/>
            <a:ext cx="5745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18728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2049120" y="292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319320" y="3068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46920" y="4221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0" y="422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82692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067280" y="42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D641-2D31-43BC-9647-2B3CEA2E59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удно найти человека, у которого имя Пифагора не ассоциировалось бы с его теорем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чина такой популярности теоремы Пифагора эт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стота – красота – значим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ема Пифагора имеет огромное значение, применяется в геометрии буквально на каждом шагу, существует около 500 различных доказательст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овременных учебниках теорема сформулирована так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В прямоугольном треугольнике квадрат гипотенузы равен сумме квадратов катетов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ремена Пифагора она звучала так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Доказать, что квадрат, построенный на гипотенузе прямоугольного треугольника, равновелик сумме квадратов, построенных на катетах» или «Площадь квадрата, построенного на гипотенузе прямоугольного треугольника, равна сумме площадей квадратов, построенных на его катетах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86E-5E9A-4A99-BBE5-2A9C8673FC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Гарфилд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и прямоугольных треугольника составляют трапецию. Поэтому площадь этой фигуры можно находить по  формуле площади прямоугольной трапеции, либо как сумму площадей трех прямоугольников. В первом случае эта площадь ра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,5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 втором-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+ 0,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равнивая эти выражения, получаем теорему Пифаг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539640" y="2133720"/>
            <a:ext cx="1440000" cy="2087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9"/>
          <p:cNvSpPr/>
          <p:nvPr/>
        </p:nvSpPr>
        <p:spPr>
          <a:xfrm rot="16200000">
            <a:off x="2411640" y="2565000"/>
            <a:ext cx="1223640" cy="208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9640" y="2133720"/>
            <a:ext cx="352764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3993840" y="3573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96948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319320" y="321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14"/>
          <p:cNvSpPr/>
          <p:nvPr/>
        </p:nvSpPr>
        <p:spPr>
          <a:xfrm>
            <a:off x="2766960" y="4221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1335960" y="30686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2704320" y="3429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837E-9832-4A69-863A-3389DCC9A00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14"/>
          <p:cNvSpPr/>
          <p:nvPr/>
        </p:nvSpPr>
        <p:spPr>
          <a:xfrm rot="1675800">
            <a:off x="7154640" y="5306760"/>
            <a:ext cx="1303200" cy="12366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113"/>
          <p:cNvSpPr/>
          <p:nvPr/>
        </p:nvSpPr>
        <p:spPr>
          <a:xfrm>
            <a:off x="7524720" y="4508640"/>
            <a:ext cx="1150920" cy="1152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38"/>
          <p:cNvSpPr/>
          <p:nvPr/>
        </p:nvSpPr>
        <p:spPr>
          <a:xfrm rot="1695000">
            <a:off x="4716000" y="4435200"/>
            <a:ext cx="17272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37"/>
          <p:cNvSpPr/>
          <p:nvPr/>
        </p:nvSpPr>
        <p:spPr>
          <a:xfrm>
            <a:off x="4427640" y="4941720"/>
            <a:ext cx="15112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684360" y="2565360"/>
            <a:ext cx="1150920" cy="5032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29e"/>
                </a:solidFill>
                <a:latin typeface="Arial"/>
              </a:rPr>
              <a:t>Восемь способов доказательства теоремы из книги Евклида «Начала»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84360" y="2565360"/>
            <a:ext cx="50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84360" y="30686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8"/>
          <p:cNvSpPr/>
          <p:nvPr/>
        </p:nvSpPr>
        <p:spPr>
          <a:xfrm rot="1342200">
            <a:off x="393840" y="2779200"/>
            <a:ext cx="122400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684360" y="2637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684360" y="306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1187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1187280" y="2565360"/>
            <a:ext cx="64944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14"/>
          <p:cNvSpPr/>
          <p:nvPr/>
        </p:nvSpPr>
        <p:spPr>
          <a:xfrm flipH="1">
            <a:off x="178920" y="3068640"/>
            <a:ext cx="50508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15"/>
          <p:cNvSpPr/>
          <p:nvPr/>
        </p:nvSpPr>
        <p:spPr>
          <a:xfrm flipH="1">
            <a:off x="324000" y="2637000"/>
            <a:ext cx="576000" cy="122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2411280" y="198900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2771640" y="2349360"/>
            <a:ext cx="1081080" cy="11509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19"/>
          <p:cNvSpPr/>
          <p:nvPr/>
        </p:nvSpPr>
        <p:spPr>
          <a:xfrm rot="1069200">
            <a:off x="2555640" y="2133720"/>
            <a:ext cx="1152360" cy="1224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20"/>
          <p:cNvSpPr/>
          <p:nvPr/>
        </p:nvSpPr>
        <p:spPr>
          <a:xfrm>
            <a:off x="2627280" y="234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21"/>
          <p:cNvSpPr/>
          <p:nvPr/>
        </p:nvSpPr>
        <p:spPr>
          <a:xfrm>
            <a:off x="2771640" y="1989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22"/>
          <p:cNvSpPr/>
          <p:nvPr/>
        </p:nvSpPr>
        <p:spPr>
          <a:xfrm flipH="1">
            <a:off x="2484360" y="1989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2410920" y="2349360"/>
            <a:ext cx="35892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2411280" y="2349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2771640" y="234936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AutoShape 26"/>
          <p:cNvSpPr/>
          <p:nvPr/>
        </p:nvSpPr>
        <p:spPr>
          <a:xfrm>
            <a:off x="6804000" y="3213000"/>
            <a:ext cx="1513080" cy="576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6227640" y="3213000"/>
            <a:ext cx="5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6804000" y="321300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30"/>
          <p:cNvSpPr/>
          <p:nvPr/>
        </p:nvSpPr>
        <p:spPr>
          <a:xfrm rot="1223400">
            <a:off x="7018200" y="1851120"/>
            <a:ext cx="1676520" cy="16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28"/>
          <p:cNvSpPr/>
          <p:nvPr/>
        </p:nvSpPr>
        <p:spPr>
          <a:xfrm>
            <a:off x="6804000" y="2205000"/>
            <a:ext cx="15130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31"/>
          <p:cNvSpPr/>
          <p:nvPr/>
        </p:nvSpPr>
        <p:spPr>
          <a:xfrm flipV="1">
            <a:off x="6804000" y="220500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32"/>
          <p:cNvSpPr/>
          <p:nvPr/>
        </p:nvSpPr>
        <p:spPr>
          <a:xfrm>
            <a:off x="6804000" y="321300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33"/>
          <p:cNvSpPr/>
          <p:nvPr/>
        </p:nvSpPr>
        <p:spPr>
          <a:xfrm flipV="1">
            <a:off x="6804000" y="1699920"/>
            <a:ext cx="79236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34"/>
          <p:cNvSpPr/>
          <p:nvPr/>
        </p:nvSpPr>
        <p:spPr>
          <a:xfrm flipV="1">
            <a:off x="6804000" y="2204640"/>
            <a:ext cx="208908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8317080" y="220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39"/>
          <p:cNvSpPr/>
          <p:nvPr/>
        </p:nvSpPr>
        <p:spPr>
          <a:xfrm flipH="1">
            <a:off x="4427640" y="4149720"/>
            <a:ext cx="792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40"/>
          <p:cNvSpPr/>
          <p:nvPr/>
        </p:nvSpPr>
        <p:spPr>
          <a:xfrm flipV="1">
            <a:off x="4427640" y="4292280"/>
            <a:ext cx="115236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41"/>
          <p:cNvSpPr/>
          <p:nvPr/>
        </p:nvSpPr>
        <p:spPr>
          <a:xfrm flipV="1">
            <a:off x="5940360" y="4508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42"/>
          <p:cNvSpPr/>
          <p:nvPr/>
        </p:nvSpPr>
        <p:spPr>
          <a:xfrm>
            <a:off x="4427640" y="5589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43"/>
          <p:cNvSpPr/>
          <p:nvPr/>
        </p:nvSpPr>
        <p:spPr>
          <a:xfrm>
            <a:off x="4427640" y="5589720"/>
            <a:ext cx="792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44"/>
          <p:cNvSpPr/>
          <p:nvPr/>
        </p:nvSpPr>
        <p:spPr>
          <a:xfrm>
            <a:off x="4427640" y="5589720"/>
            <a:ext cx="151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47"/>
          <p:cNvSpPr/>
          <p:nvPr/>
        </p:nvSpPr>
        <p:spPr>
          <a:xfrm>
            <a:off x="611280" y="5877000"/>
            <a:ext cx="936360" cy="865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48"/>
          <p:cNvSpPr/>
          <p:nvPr/>
        </p:nvSpPr>
        <p:spPr>
          <a:xfrm rot="17468400">
            <a:off x="718920" y="4689000"/>
            <a:ext cx="1081080" cy="1008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50"/>
          <p:cNvSpPr/>
          <p:nvPr/>
        </p:nvSpPr>
        <p:spPr>
          <a:xfrm>
            <a:off x="611280" y="551664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51"/>
          <p:cNvSpPr/>
          <p:nvPr/>
        </p:nvSpPr>
        <p:spPr>
          <a:xfrm>
            <a:off x="611280" y="551664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52"/>
          <p:cNvSpPr/>
          <p:nvPr/>
        </p:nvSpPr>
        <p:spPr>
          <a:xfrm>
            <a:off x="900000" y="551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AutoShape 55"/>
          <p:cNvSpPr/>
          <p:nvPr/>
        </p:nvSpPr>
        <p:spPr>
          <a:xfrm>
            <a:off x="2771640" y="5373720"/>
            <a:ext cx="936720" cy="360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56"/>
          <p:cNvSpPr/>
          <p:nvPr/>
        </p:nvSpPr>
        <p:spPr>
          <a:xfrm>
            <a:off x="2771640" y="5734080"/>
            <a:ext cx="936720" cy="863640"/>
          </a:xfrm>
          <a:prstGeom prst="rect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57"/>
          <p:cNvSpPr/>
          <p:nvPr/>
        </p:nvSpPr>
        <p:spPr>
          <a:xfrm>
            <a:off x="2411280" y="5373720"/>
            <a:ext cx="360360" cy="36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8"/>
          <p:cNvSpPr/>
          <p:nvPr/>
        </p:nvSpPr>
        <p:spPr>
          <a:xfrm rot="1201200">
            <a:off x="2916360" y="4592520"/>
            <a:ext cx="990360" cy="998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59"/>
          <p:cNvSpPr/>
          <p:nvPr/>
        </p:nvSpPr>
        <p:spPr>
          <a:xfrm flipV="1">
            <a:off x="2771640" y="4797360"/>
            <a:ext cx="129564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60"/>
          <p:cNvSpPr/>
          <p:nvPr/>
        </p:nvSpPr>
        <p:spPr>
          <a:xfrm flipV="1">
            <a:off x="2771640" y="4436640"/>
            <a:ext cx="36036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61"/>
          <p:cNvSpPr/>
          <p:nvPr/>
        </p:nvSpPr>
        <p:spPr>
          <a:xfrm>
            <a:off x="2771640" y="5373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62"/>
          <p:cNvSpPr/>
          <p:nvPr/>
        </p:nvSpPr>
        <p:spPr>
          <a:xfrm>
            <a:off x="2556000" y="5300640"/>
            <a:ext cx="129528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reeform 63"/>
          <p:cNvSpPr/>
          <p:nvPr/>
        </p:nvSpPr>
        <p:spPr>
          <a:xfrm>
            <a:off x="2770200" y="5318280"/>
            <a:ext cx="942840" cy="401400"/>
          </a:xfrm>
          <a:custGeom>
            <a:avLst/>
            <a:gdLst>
              <a:gd name="textAreaLeft" fmla="*/ 0 w 942840"/>
              <a:gd name="textAreaRight" fmla="*/ 943200 w 9428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594" h="253">
                <a:moveTo>
                  <a:pt x="0" y="33"/>
                </a:moveTo>
                <a:cubicBezTo>
                  <a:pt x="31" y="0"/>
                  <a:pt x="123" y="20"/>
                  <a:pt x="152" y="21"/>
                </a:cubicBezTo>
                <a:cubicBezTo>
                  <a:pt x="197" y="29"/>
                  <a:pt x="231" y="52"/>
                  <a:pt x="271" y="72"/>
                </a:cubicBezTo>
                <a:cubicBezTo>
                  <a:pt x="290" y="82"/>
                  <a:pt x="312" y="81"/>
                  <a:pt x="333" y="83"/>
                </a:cubicBezTo>
                <a:cubicBezTo>
                  <a:pt x="358" y="92"/>
                  <a:pt x="377" y="104"/>
                  <a:pt x="401" y="112"/>
                </a:cubicBezTo>
                <a:cubicBezTo>
                  <a:pt x="430" y="141"/>
                  <a:pt x="479" y="150"/>
                  <a:pt x="519" y="162"/>
                </a:cubicBezTo>
                <a:cubicBezTo>
                  <a:pt x="552" y="195"/>
                  <a:pt x="508" y="155"/>
                  <a:pt x="548" y="179"/>
                </a:cubicBezTo>
                <a:cubicBezTo>
                  <a:pt x="558" y="185"/>
                  <a:pt x="566" y="195"/>
                  <a:pt x="576" y="202"/>
                </a:cubicBezTo>
                <a:cubicBezTo>
                  <a:pt x="580" y="214"/>
                  <a:pt x="591" y="223"/>
                  <a:pt x="593" y="236"/>
                </a:cubicBezTo>
                <a:cubicBezTo>
                  <a:pt x="594" y="242"/>
                  <a:pt x="587" y="253"/>
                  <a:pt x="587" y="25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Freeform 64"/>
          <p:cNvSpPr/>
          <p:nvPr/>
        </p:nvSpPr>
        <p:spPr>
          <a:xfrm>
            <a:off x="2771640" y="5734080"/>
            <a:ext cx="393840" cy="142920"/>
          </a:xfrm>
          <a:custGeom>
            <a:avLst/>
            <a:gdLst>
              <a:gd name="textAreaLeft" fmla="*/ 0 w 393840"/>
              <a:gd name="textAreaRight" fmla="*/ 394200 w 393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8" h="102">
                <a:moveTo>
                  <a:pt x="248" y="0"/>
                </a:moveTo>
                <a:cubicBezTo>
                  <a:pt x="190" y="8"/>
                  <a:pt x="140" y="29"/>
                  <a:pt x="85" y="45"/>
                </a:cubicBezTo>
                <a:cubicBezTo>
                  <a:pt x="76" y="54"/>
                  <a:pt x="64" y="58"/>
                  <a:pt x="56" y="68"/>
                </a:cubicBezTo>
                <a:cubicBezTo>
                  <a:pt x="52" y="73"/>
                  <a:pt x="56" y="81"/>
                  <a:pt x="51" y="85"/>
                </a:cubicBezTo>
                <a:cubicBezTo>
                  <a:pt x="41" y="93"/>
                  <a:pt x="13" y="95"/>
                  <a:pt x="0" y="10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reeform 65"/>
          <p:cNvSpPr/>
          <p:nvPr/>
        </p:nvSpPr>
        <p:spPr>
          <a:xfrm>
            <a:off x="2779560" y="5756400"/>
            <a:ext cx="916200" cy="237960"/>
          </a:xfrm>
          <a:custGeom>
            <a:avLst/>
            <a:gdLst>
              <a:gd name="textAreaLeft" fmla="*/ 0 w 916200"/>
              <a:gd name="textAreaRight" fmla="*/ 916560 w 916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577" h="150">
                <a:moveTo>
                  <a:pt x="0" y="129"/>
                </a:moveTo>
                <a:cubicBezTo>
                  <a:pt x="58" y="150"/>
                  <a:pt x="120" y="143"/>
                  <a:pt x="180" y="135"/>
                </a:cubicBezTo>
                <a:cubicBezTo>
                  <a:pt x="182" y="120"/>
                  <a:pt x="177" y="102"/>
                  <a:pt x="186" y="90"/>
                </a:cubicBezTo>
                <a:cubicBezTo>
                  <a:pt x="191" y="84"/>
                  <a:pt x="201" y="93"/>
                  <a:pt x="209" y="95"/>
                </a:cubicBezTo>
                <a:cubicBezTo>
                  <a:pt x="239" y="104"/>
                  <a:pt x="270" y="114"/>
                  <a:pt x="299" y="124"/>
                </a:cubicBezTo>
                <a:cubicBezTo>
                  <a:pt x="400" y="119"/>
                  <a:pt x="400" y="126"/>
                  <a:pt x="463" y="107"/>
                </a:cubicBezTo>
                <a:cubicBezTo>
                  <a:pt x="521" y="66"/>
                  <a:pt x="435" y="123"/>
                  <a:pt x="502" y="90"/>
                </a:cubicBezTo>
                <a:cubicBezTo>
                  <a:pt x="514" y="84"/>
                  <a:pt x="536" y="67"/>
                  <a:pt x="536" y="67"/>
                </a:cubicBezTo>
                <a:cubicBezTo>
                  <a:pt x="543" y="57"/>
                  <a:pt x="553" y="49"/>
                  <a:pt x="559" y="39"/>
                </a:cubicBezTo>
                <a:cubicBezTo>
                  <a:pt x="562" y="34"/>
                  <a:pt x="561" y="27"/>
                  <a:pt x="564" y="22"/>
                </a:cubicBezTo>
                <a:cubicBezTo>
                  <a:pt x="577" y="0"/>
                  <a:pt x="576" y="20"/>
                  <a:pt x="576" y="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Freeform 66"/>
          <p:cNvSpPr/>
          <p:nvPr/>
        </p:nvSpPr>
        <p:spPr>
          <a:xfrm>
            <a:off x="2851200" y="5459400"/>
            <a:ext cx="71280" cy="125280"/>
          </a:xfrm>
          <a:custGeom>
            <a:avLst/>
            <a:gdLst>
              <a:gd name="textAreaLeft" fmla="*/ 0 w 71280"/>
              <a:gd name="textAreaRight" fmla="*/ 71640 w 7128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45" h="79">
                <a:moveTo>
                  <a:pt x="0" y="0"/>
                </a:moveTo>
                <a:cubicBezTo>
                  <a:pt x="7" y="24"/>
                  <a:pt x="24" y="37"/>
                  <a:pt x="45" y="51"/>
                </a:cubicBezTo>
                <a:cubicBezTo>
                  <a:pt x="24" y="56"/>
                  <a:pt x="9" y="59"/>
                  <a:pt x="0" y="7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Freeform 67"/>
          <p:cNvSpPr/>
          <p:nvPr/>
        </p:nvSpPr>
        <p:spPr>
          <a:xfrm>
            <a:off x="2855880" y="5513400"/>
            <a:ext cx="58680" cy="77760"/>
          </a:xfrm>
          <a:custGeom>
            <a:avLst/>
            <a:gdLst>
              <a:gd name="textAreaLeft" fmla="*/ 0 w 58680"/>
              <a:gd name="textAreaRight" fmla="*/ 59040 w 586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7" h="49">
                <a:moveTo>
                  <a:pt x="2" y="0"/>
                </a:moveTo>
                <a:cubicBezTo>
                  <a:pt x="4" y="11"/>
                  <a:pt x="0" y="26"/>
                  <a:pt x="8" y="34"/>
                </a:cubicBezTo>
                <a:cubicBezTo>
                  <a:pt x="16" y="42"/>
                  <a:pt x="28" y="0"/>
                  <a:pt x="8" y="0"/>
                </a:cubicBezTo>
                <a:cubicBezTo>
                  <a:pt x="0" y="0"/>
                  <a:pt x="37" y="49"/>
                  <a:pt x="2" y="0"/>
                </a:cubicBezTo>
                <a:close/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Freeform 68"/>
          <p:cNvSpPr/>
          <p:nvPr/>
        </p:nvSpPr>
        <p:spPr>
          <a:xfrm>
            <a:off x="2774880" y="5629320"/>
            <a:ext cx="141480" cy="104760"/>
          </a:xfrm>
          <a:custGeom>
            <a:avLst/>
            <a:gdLst>
              <a:gd name="textAreaLeft" fmla="*/ 0 w 141480"/>
              <a:gd name="textAreaRight" fmla="*/ 141840 w 1414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4" h="73">
                <a:moveTo>
                  <a:pt x="20" y="0"/>
                </a:moveTo>
                <a:cubicBezTo>
                  <a:pt x="0" y="20"/>
                  <a:pt x="3" y="29"/>
                  <a:pt x="8" y="57"/>
                </a:cubicBezTo>
                <a:cubicBezTo>
                  <a:pt x="21" y="55"/>
                  <a:pt x="36" y="57"/>
                  <a:pt x="48" y="51"/>
                </a:cubicBezTo>
                <a:cubicBezTo>
                  <a:pt x="67" y="41"/>
                  <a:pt x="37" y="18"/>
                  <a:pt x="65" y="46"/>
                </a:cubicBezTo>
                <a:cubicBezTo>
                  <a:pt x="67" y="51"/>
                  <a:pt x="66" y="58"/>
                  <a:pt x="70" y="62"/>
                </a:cubicBezTo>
                <a:cubicBezTo>
                  <a:pt x="77" y="69"/>
                  <a:pt x="104" y="73"/>
                  <a:pt x="104" y="5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Freeform 69"/>
          <p:cNvSpPr/>
          <p:nvPr/>
        </p:nvSpPr>
        <p:spPr>
          <a:xfrm>
            <a:off x="3033720" y="5567400"/>
            <a:ext cx="282600" cy="179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8" h="113">
                <a:moveTo>
                  <a:pt x="122" y="0"/>
                </a:moveTo>
                <a:cubicBezTo>
                  <a:pt x="103" y="6"/>
                  <a:pt x="96" y="16"/>
                  <a:pt x="77" y="22"/>
                </a:cubicBezTo>
                <a:cubicBezTo>
                  <a:pt x="62" y="37"/>
                  <a:pt x="46" y="38"/>
                  <a:pt x="26" y="45"/>
                </a:cubicBezTo>
                <a:cubicBezTo>
                  <a:pt x="0" y="85"/>
                  <a:pt x="23" y="40"/>
                  <a:pt x="60" y="56"/>
                </a:cubicBezTo>
                <a:cubicBezTo>
                  <a:pt x="67" y="59"/>
                  <a:pt x="50" y="72"/>
                  <a:pt x="54" y="79"/>
                </a:cubicBezTo>
                <a:cubicBezTo>
                  <a:pt x="60" y="89"/>
                  <a:pt x="77" y="71"/>
                  <a:pt x="88" y="68"/>
                </a:cubicBezTo>
                <a:cubicBezTo>
                  <a:pt x="104" y="113"/>
                  <a:pt x="135" y="79"/>
                  <a:pt x="156" y="56"/>
                </a:cubicBezTo>
                <a:cubicBezTo>
                  <a:pt x="158" y="50"/>
                  <a:pt x="158" y="44"/>
                  <a:pt x="161" y="39"/>
                </a:cubicBezTo>
                <a:cubicBezTo>
                  <a:pt x="164" y="34"/>
                  <a:pt x="178" y="30"/>
                  <a:pt x="173" y="28"/>
                </a:cubicBezTo>
                <a:cubicBezTo>
                  <a:pt x="164" y="25"/>
                  <a:pt x="135" y="34"/>
                  <a:pt x="145" y="34"/>
                </a:cubicBezTo>
                <a:cubicBezTo>
                  <a:pt x="156" y="34"/>
                  <a:pt x="178" y="28"/>
                  <a:pt x="178" y="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reeform 70"/>
          <p:cNvSpPr/>
          <p:nvPr/>
        </p:nvSpPr>
        <p:spPr>
          <a:xfrm>
            <a:off x="3271680" y="5589720"/>
            <a:ext cx="73080" cy="128520"/>
          </a:xfrm>
          <a:custGeom>
            <a:avLst/>
            <a:gdLst>
              <a:gd name="textAreaLeft" fmla="*/ 0 w 73080"/>
              <a:gd name="textAreaRight" fmla="*/ 73440 w 730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46" h="81">
                <a:moveTo>
                  <a:pt x="6" y="31"/>
                </a:moveTo>
                <a:cubicBezTo>
                  <a:pt x="28" y="17"/>
                  <a:pt x="36" y="0"/>
                  <a:pt x="45" y="31"/>
                </a:cubicBezTo>
                <a:cubicBezTo>
                  <a:pt x="43" y="42"/>
                  <a:pt x="46" y="55"/>
                  <a:pt x="40" y="65"/>
                </a:cubicBezTo>
                <a:cubicBezTo>
                  <a:pt x="37" y="70"/>
                  <a:pt x="29" y="69"/>
                  <a:pt x="23" y="71"/>
                </a:cubicBezTo>
                <a:cubicBezTo>
                  <a:pt x="17" y="73"/>
                  <a:pt x="8" y="81"/>
                  <a:pt x="6" y="76"/>
                </a:cubicBezTo>
                <a:cubicBezTo>
                  <a:pt x="0" y="62"/>
                  <a:pt x="6" y="46"/>
                  <a:pt x="6" y="31"/>
                </a:cubicBezTo>
                <a:close/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Freeform 71"/>
          <p:cNvSpPr/>
          <p:nvPr/>
        </p:nvSpPr>
        <p:spPr>
          <a:xfrm>
            <a:off x="3119400" y="5997600"/>
            <a:ext cx="250920" cy="206280"/>
          </a:xfrm>
          <a:custGeom>
            <a:avLst/>
            <a:gdLst>
              <a:gd name="textAreaLeft" fmla="*/ 0 w 250920"/>
              <a:gd name="textAreaRight" fmla="*/ 250920 w 250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58" h="130">
                <a:moveTo>
                  <a:pt x="158" y="0"/>
                </a:moveTo>
                <a:cubicBezTo>
                  <a:pt x="150" y="88"/>
                  <a:pt x="156" y="92"/>
                  <a:pt x="68" y="102"/>
                </a:cubicBezTo>
                <a:cubicBezTo>
                  <a:pt x="48" y="108"/>
                  <a:pt x="35" y="115"/>
                  <a:pt x="17" y="124"/>
                </a:cubicBezTo>
                <a:cubicBezTo>
                  <a:pt x="12" y="127"/>
                  <a:pt x="0" y="130"/>
                  <a:pt x="0" y="13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Freeform 72"/>
          <p:cNvSpPr/>
          <p:nvPr/>
        </p:nvSpPr>
        <p:spPr>
          <a:xfrm>
            <a:off x="3191040" y="5997600"/>
            <a:ext cx="372960" cy="331920"/>
          </a:xfrm>
          <a:custGeom>
            <a:avLst/>
            <a:gdLst>
              <a:gd name="textAreaLeft" fmla="*/ 0 w 372960"/>
              <a:gd name="textAreaRight" fmla="*/ 373320 w 3729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35" h="209">
                <a:moveTo>
                  <a:pt x="204" y="0"/>
                </a:moveTo>
                <a:cubicBezTo>
                  <a:pt x="198" y="141"/>
                  <a:pt x="235" y="133"/>
                  <a:pt x="142" y="147"/>
                </a:cubicBezTo>
                <a:cubicBezTo>
                  <a:pt x="121" y="166"/>
                  <a:pt x="78" y="171"/>
                  <a:pt x="51" y="181"/>
                </a:cubicBezTo>
                <a:cubicBezTo>
                  <a:pt x="39" y="185"/>
                  <a:pt x="28" y="192"/>
                  <a:pt x="17" y="198"/>
                </a:cubicBezTo>
                <a:cubicBezTo>
                  <a:pt x="11" y="201"/>
                  <a:pt x="0" y="209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Freeform 73"/>
          <p:cNvSpPr/>
          <p:nvPr/>
        </p:nvSpPr>
        <p:spPr>
          <a:xfrm>
            <a:off x="3011400" y="6161040"/>
            <a:ext cx="231840" cy="257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46" h="162">
                <a:moveTo>
                  <a:pt x="0" y="27"/>
                </a:moveTo>
                <a:cubicBezTo>
                  <a:pt x="27" y="0"/>
                  <a:pt x="43" y="4"/>
                  <a:pt x="79" y="15"/>
                </a:cubicBezTo>
                <a:cubicBezTo>
                  <a:pt x="87" y="38"/>
                  <a:pt x="91" y="61"/>
                  <a:pt x="108" y="78"/>
                </a:cubicBezTo>
                <a:cubicBezTo>
                  <a:pt x="113" y="97"/>
                  <a:pt x="110" y="94"/>
                  <a:pt x="125" y="106"/>
                </a:cubicBezTo>
                <a:cubicBezTo>
                  <a:pt x="130" y="110"/>
                  <a:pt x="140" y="111"/>
                  <a:pt x="142" y="117"/>
                </a:cubicBezTo>
                <a:cubicBezTo>
                  <a:pt x="146" y="131"/>
                  <a:pt x="142" y="147"/>
                  <a:pt x="142" y="1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Freeform 74"/>
          <p:cNvSpPr/>
          <p:nvPr/>
        </p:nvSpPr>
        <p:spPr>
          <a:xfrm>
            <a:off x="3236760" y="601488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0" y="28"/>
                </a:moveTo>
                <a:cubicBezTo>
                  <a:pt x="32" y="19"/>
                  <a:pt x="8" y="11"/>
                  <a:pt x="39" y="0"/>
                </a:cubicBezTo>
                <a:cubicBezTo>
                  <a:pt x="55" y="10"/>
                  <a:pt x="64" y="17"/>
                  <a:pt x="73" y="34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reeform 75"/>
          <p:cNvSpPr/>
          <p:nvPr/>
        </p:nvSpPr>
        <p:spPr>
          <a:xfrm>
            <a:off x="3236760" y="6068880"/>
            <a:ext cx="71640" cy="71640"/>
          </a:xfrm>
          <a:custGeom>
            <a:avLst/>
            <a:gdLst>
              <a:gd name="textAreaLeft" fmla="*/ 0 w 71640"/>
              <a:gd name="textAreaRight" fmla="*/ 72000 w 71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5" h="45">
                <a:moveTo>
                  <a:pt x="0" y="0"/>
                </a:moveTo>
                <a:cubicBezTo>
                  <a:pt x="29" y="10"/>
                  <a:pt x="31" y="20"/>
                  <a:pt x="45" y="45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77"/>
          <p:cNvSpPr/>
          <p:nvPr/>
        </p:nvSpPr>
        <p:spPr>
          <a:xfrm>
            <a:off x="3397320" y="6211800"/>
            <a:ext cx="296640" cy="341280"/>
          </a:xfrm>
          <a:custGeom>
            <a:avLst/>
            <a:gdLst>
              <a:gd name="textAreaLeft" fmla="*/ 0 w 296640"/>
              <a:gd name="textAreaRight" fmla="*/ 297000 w 29664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87" h="215">
                <a:moveTo>
                  <a:pt x="0" y="29"/>
                </a:moveTo>
                <a:cubicBezTo>
                  <a:pt x="9" y="37"/>
                  <a:pt x="22" y="41"/>
                  <a:pt x="28" y="51"/>
                </a:cubicBezTo>
                <a:cubicBezTo>
                  <a:pt x="33" y="59"/>
                  <a:pt x="32" y="70"/>
                  <a:pt x="34" y="79"/>
                </a:cubicBezTo>
                <a:cubicBezTo>
                  <a:pt x="39" y="98"/>
                  <a:pt x="49" y="111"/>
                  <a:pt x="62" y="125"/>
                </a:cubicBezTo>
                <a:cubicBezTo>
                  <a:pt x="79" y="173"/>
                  <a:pt x="142" y="199"/>
                  <a:pt x="187" y="215"/>
                </a:cubicBezTo>
                <a:cubicBezTo>
                  <a:pt x="175" y="170"/>
                  <a:pt x="180" y="144"/>
                  <a:pt x="141" y="119"/>
                </a:cubicBezTo>
                <a:cubicBezTo>
                  <a:pt x="110" y="71"/>
                  <a:pt x="151" y="128"/>
                  <a:pt x="113" y="96"/>
                </a:cubicBezTo>
                <a:cubicBezTo>
                  <a:pt x="79" y="68"/>
                  <a:pt x="126" y="86"/>
                  <a:pt x="85" y="74"/>
                </a:cubicBezTo>
                <a:cubicBezTo>
                  <a:pt x="54" y="26"/>
                  <a:pt x="91" y="87"/>
                  <a:pt x="68" y="40"/>
                </a:cubicBezTo>
                <a:cubicBezTo>
                  <a:pt x="60" y="24"/>
                  <a:pt x="47" y="16"/>
                  <a:pt x="40" y="0"/>
                </a:cubicBezTo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Freeform 79"/>
          <p:cNvSpPr/>
          <p:nvPr/>
        </p:nvSpPr>
        <p:spPr>
          <a:xfrm>
            <a:off x="3137040" y="5961240"/>
            <a:ext cx="144360" cy="112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91" h="71">
                <a:moveTo>
                  <a:pt x="91" y="34"/>
                </a:moveTo>
                <a:cubicBezTo>
                  <a:pt x="83" y="10"/>
                  <a:pt x="91" y="20"/>
                  <a:pt x="68" y="12"/>
                </a:cubicBezTo>
                <a:cubicBezTo>
                  <a:pt x="57" y="8"/>
                  <a:pt x="34" y="0"/>
                  <a:pt x="34" y="0"/>
                </a:cubicBezTo>
                <a:cubicBezTo>
                  <a:pt x="11" y="8"/>
                  <a:pt x="8" y="18"/>
                  <a:pt x="0" y="40"/>
                </a:cubicBezTo>
                <a:cubicBezTo>
                  <a:pt x="11" y="71"/>
                  <a:pt x="18" y="54"/>
                  <a:pt x="40" y="40"/>
                </a:cubicBezTo>
                <a:cubicBezTo>
                  <a:pt x="75" y="50"/>
                  <a:pt x="56" y="69"/>
                  <a:pt x="91" y="34"/>
                </a:cubicBezTo>
                <a:close/>
              </a:path>
            </a:pathLst>
          </a:custGeom>
          <a:solidFill>
            <a:srgbClr val="e5e5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Freeform 80"/>
          <p:cNvSpPr/>
          <p:nvPr/>
        </p:nvSpPr>
        <p:spPr>
          <a:xfrm>
            <a:off x="2881440" y="6589800"/>
            <a:ext cx="260280" cy="223920"/>
          </a:xfrm>
          <a:custGeom>
            <a:avLst/>
            <a:gdLst>
              <a:gd name="textAreaLeft" fmla="*/ 0 w 260280"/>
              <a:gd name="textAreaRight" fmla="*/ 260640 w 260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64" h="202">
                <a:moveTo>
                  <a:pt x="99" y="0"/>
                </a:moveTo>
                <a:cubicBezTo>
                  <a:pt x="105" y="17"/>
                  <a:pt x="126" y="95"/>
                  <a:pt x="105" y="107"/>
                </a:cubicBezTo>
                <a:cubicBezTo>
                  <a:pt x="80" y="121"/>
                  <a:pt x="48" y="111"/>
                  <a:pt x="20" y="113"/>
                </a:cubicBezTo>
                <a:cubicBezTo>
                  <a:pt x="14" y="118"/>
                  <a:pt x="4" y="121"/>
                  <a:pt x="3" y="129"/>
                </a:cubicBezTo>
                <a:cubicBezTo>
                  <a:pt x="0" y="157"/>
                  <a:pt x="22" y="174"/>
                  <a:pt x="43" y="180"/>
                </a:cubicBezTo>
                <a:cubicBezTo>
                  <a:pt x="163" y="174"/>
                  <a:pt x="164" y="202"/>
                  <a:pt x="156" y="101"/>
                </a:cubicBezTo>
                <a:cubicBezTo>
                  <a:pt x="162" y="20"/>
                  <a:pt x="161" y="52"/>
                  <a:pt x="161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Freeform 81"/>
          <p:cNvSpPr/>
          <p:nvPr/>
        </p:nvSpPr>
        <p:spPr>
          <a:xfrm>
            <a:off x="3200400" y="6597720"/>
            <a:ext cx="210960" cy="214200"/>
          </a:xfrm>
          <a:custGeom>
            <a:avLst/>
            <a:gdLst>
              <a:gd name="textAreaLeft" fmla="*/ 0 w 210960"/>
              <a:gd name="textAreaRight" fmla="*/ 211320 w 210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33" h="135">
                <a:moveTo>
                  <a:pt x="56" y="0"/>
                </a:moveTo>
                <a:cubicBezTo>
                  <a:pt x="66" y="10"/>
                  <a:pt x="83" y="55"/>
                  <a:pt x="62" y="62"/>
                </a:cubicBezTo>
                <a:cubicBezTo>
                  <a:pt x="42" y="69"/>
                  <a:pt x="21" y="66"/>
                  <a:pt x="0" y="68"/>
                </a:cubicBezTo>
                <a:cubicBezTo>
                  <a:pt x="2" y="83"/>
                  <a:pt x="0" y="99"/>
                  <a:pt x="6" y="113"/>
                </a:cubicBezTo>
                <a:cubicBezTo>
                  <a:pt x="8" y="118"/>
                  <a:pt x="17" y="117"/>
                  <a:pt x="23" y="119"/>
                </a:cubicBezTo>
                <a:cubicBezTo>
                  <a:pt x="51" y="128"/>
                  <a:pt x="48" y="125"/>
                  <a:pt x="90" y="130"/>
                </a:cubicBezTo>
                <a:cubicBezTo>
                  <a:pt x="101" y="128"/>
                  <a:pt x="120" y="135"/>
                  <a:pt x="124" y="124"/>
                </a:cubicBezTo>
                <a:cubicBezTo>
                  <a:pt x="133" y="102"/>
                  <a:pt x="113" y="33"/>
                  <a:pt x="113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82"/>
          <p:cNvSpPr/>
          <p:nvPr/>
        </p:nvSpPr>
        <p:spPr>
          <a:xfrm>
            <a:off x="176364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83"/>
          <p:cNvSpPr/>
          <p:nvPr/>
        </p:nvSpPr>
        <p:spPr>
          <a:xfrm>
            <a:off x="468360" y="22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84"/>
          <p:cNvSpPr/>
          <p:nvPr/>
        </p:nvSpPr>
        <p:spPr>
          <a:xfrm>
            <a:off x="61128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85"/>
          <p:cNvSpPr/>
          <p:nvPr/>
        </p:nvSpPr>
        <p:spPr>
          <a:xfrm>
            <a:off x="4284720" y="2852640"/>
            <a:ext cx="431640" cy="432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86"/>
          <p:cNvSpPr/>
          <p:nvPr/>
        </p:nvSpPr>
        <p:spPr>
          <a:xfrm>
            <a:off x="4716360" y="2421000"/>
            <a:ext cx="863640" cy="863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7"/>
          <p:cNvSpPr/>
          <p:nvPr/>
        </p:nvSpPr>
        <p:spPr>
          <a:xfrm rot="1518000">
            <a:off x="4439880" y="3011400"/>
            <a:ext cx="995400" cy="9939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88"/>
          <p:cNvSpPr/>
          <p:nvPr/>
        </p:nvSpPr>
        <p:spPr>
          <a:xfrm>
            <a:off x="435600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89"/>
          <p:cNvSpPr/>
          <p:nvPr/>
        </p:nvSpPr>
        <p:spPr>
          <a:xfrm>
            <a:off x="471636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90"/>
          <p:cNvSpPr/>
          <p:nvPr/>
        </p:nvSpPr>
        <p:spPr>
          <a:xfrm flipV="1">
            <a:off x="4716360" y="2420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92"/>
          <p:cNvSpPr/>
          <p:nvPr/>
        </p:nvSpPr>
        <p:spPr>
          <a:xfrm flipH="1">
            <a:off x="4284360" y="328464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4716360" y="3284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94"/>
          <p:cNvSpPr/>
          <p:nvPr/>
        </p:nvSpPr>
        <p:spPr>
          <a:xfrm>
            <a:off x="4284720" y="3284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95"/>
          <p:cNvSpPr/>
          <p:nvPr/>
        </p:nvSpPr>
        <p:spPr>
          <a:xfrm flipH="1">
            <a:off x="4427280" y="2924280"/>
            <a:ext cx="43164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96"/>
          <p:cNvSpPr/>
          <p:nvPr/>
        </p:nvSpPr>
        <p:spPr>
          <a:xfrm>
            <a:off x="37846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97"/>
          <p:cNvSpPr/>
          <p:nvPr/>
        </p:nvSpPr>
        <p:spPr>
          <a:xfrm>
            <a:off x="5513400" y="3068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98"/>
          <p:cNvSpPr/>
          <p:nvPr/>
        </p:nvSpPr>
        <p:spPr>
          <a:xfrm>
            <a:off x="3639960" y="558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99"/>
          <p:cNvSpPr/>
          <p:nvPr/>
        </p:nvSpPr>
        <p:spPr>
          <a:xfrm>
            <a:off x="1481040" y="5661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100"/>
          <p:cNvSpPr/>
          <p:nvPr/>
        </p:nvSpPr>
        <p:spPr>
          <a:xfrm>
            <a:off x="5871960" y="623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AutoShape 36"/>
          <p:cNvSpPr/>
          <p:nvPr/>
        </p:nvSpPr>
        <p:spPr>
          <a:xfrm>
            <a:off x="4427640" y="5589720"/>
            <a:ext cx="1511280" cy="792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101"/>
          <p:cNvSpPr/>
          <p:nvPr/>
        </p:nvSpPr>
        <p:spPr>
          <a:xfrm>
            <a:off x="5219640" y="587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45"/>
          <p:cNvSpPr/>
          <p:nvPr/>
        </p:nvSpPr>
        <p:spPr>
          <a:xfrm flipH="1">
            <a:off x="4427280" y="5229360"/>
            <a:ext cx="64764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102"/>
          <p:cNvSpPr/>
          <p:nvPr/>
        </p:nvSpPr>
        <p:spPr>
          <a:xfrm>
            <a:off x="8248680" y="3573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03"/>
          <p:cNvSpPr/>
          <p:nvPr/>
        </p:nvSpPr>
        <p:spPr>
          <a:xfrm>
            <a:off x="860904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04"/>
          <p:cNvSpPr/>
          <p:nvPr/>
        </p:nvSpPr>
        <p:spPr>
          <a:xfrm>
            <a:off x="2630520" y="1700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05"/>
          <p:cNvSpPr/>
          <p:nvPr/>
        </p:nvSpPr>
        <p:spPr>
          <a:xfrm>
            <a:off x="450360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06"/>
          <p:cNvSpPr/>
          <p:nvPr/>
        </p:nvSpPr>
        <p:spPr>
          <a:xfrm>
            <a:off x="2559240" y="501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07"/>
          <p:cNvSpPr/>
          <p:nvPr/>
        </p:nvSpPr>
        <p:spPr>
          <a:xfrm>
            <a:off x="398520" y="5157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AutoShape 46"/>
          <p:cNvSpPr/>
          <p:nvPr/>
        </p:nvSpPr>
        <p:spPr>
          <a:xfrm>
            <a:off x="611280" y="5516640"/>
            <a:ext cx="936360" cy="360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53"/>
          <p:cNvSpPr/>
          <p:nvPr/>
        </p:nvSpPr>
        <p:spPr>
          <a:xfrm flipV="1">
            <a:off x="611280" y="551628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54"/>
          <p:cNvSpPr/>
          <p:nvPr/>
        </p:nvSpPr>
        <p:spPr>
          <a:xfrm flipV="1">
            <a:off x="611280" y="458100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08"/>
          <p:cNvSpPr/>
          <p:nvPr/>
        </p:nvSpPr>
        <p:spPr>
          <a:xfrm>
            <a:off x="97164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109"/>
          <p:cNvSpPr/>
          <p:nvPr/>
        </p:nvSpPr>
        <p:spPr>
          <a:xfrm>
            <a:off x="4143240" y="530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110"/>
          <p:cNvSpPr/>
          <p:nvPr/>
        </p:nvSpPr>
        <p:spPr>
          <a:xfrm>
            <a:off x="6591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111"/>
          <p:cNvSpPr/>
          <p:nvPr/>
        </p:nvSpPr>
        <p:spPr>
          <a:xfrm>
            <a:off x="7311960" y="47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115"/>
          <p:cNvSpPr/>
          <p:nvPr/>
        </p:nvSpPr>
        <p:spPr>
          <a:xfrm>
            <a:off x="7524720" y="5084640"/>
            <a:ext cx="576360" cy="576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112"/>
          <p:cNvSpPr/>
          <p:nvPr/>
        </p:nvSpPr>
        <p:spPr>
          <a:xfrm>
            <a:off x="7524720" y="5084640"/>
            <a:ext cx="1150920" cy="576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116"/>
          <p:cNvSpPr/>
          <p:nvPr/>
        </p:nvSpPr>
        <p:spPr>
          <a:xfrm>
            <a:off x="8101080" y="537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Line 117"/>
          <p:cNvSpPr/>
          <p:nvPr/>
        </p:nvSpPr>
        <p:spPr>
          <a:xfrm flipV="1">
            <a:off x="7164360" y="5229360"/>
            <a:ext cx="64764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118"/>
          <p:cNvSpPr/>
          <p:nvPr/>
        </p:nvSpPr>
        <p:spPr>
          <a:xfrm>
            <a:off x="2712240" y="2276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19"/>
          <p:cNvSpPr/>
          <p:nvPr/>
        </p:nvSpPr>
        <p:spPr>
          <a:xfrm>
            <a:off x="6671520" y="3716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20"/>
          <p:cNvSpPr/>
          <p:nvPr/>
        </p:nvSpPr>
        <p:spPr>
          <a:xfrm>
            <a:off x="407160" y="5734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21"/>
          <p:cNvSpPr/>
          <p:nvPr/>
        </p:nvSpPr>
        <p:spPr>
          <a:xfrm>
            <a:off x="2496240" y="5661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22"/>
          <p:cNvSpPr/>
          <p:nvPr/>
        </p:nvSpPr>
        <p:spPr>
          <a:xfrm>
            <a:off x="4223520" y="623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23"/>
          <p:cNvSpPr/>
          <p:nvPr/>
        </p:nvSpPr>
        <p:spPr>
          <a:xfrm>
            <a:off x="7320600" y="5516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24"/>
          <p:cNvSpPr/>
          <p:nvPr/>
        </p:nvSpPr>
        <p:spPr>
          <a:xfrm>
            <a:off x="4512600" y="3213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125"/>
          <p:cNvSpPr/>
          <p:nvPr/>
        </p:nvSpPr>
        <p:spPr>
          <a:xfrm>
            <a:off x="108000" y="1268280"/>
            <a:ext cx="90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ифагорова фигура изображена сплошной линией, а дополнительные построения – пунктир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CC6-2FD0-4139-B7A6-F737DE2667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Теорема нимф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некоторых списках «Начал» Евклида теорема Пифагора называлась теоремой нимфы, по-видимому, из-за сходства чертежа с бабочкой, поскольку словом «нимфа» греки называли бабочек. Нимфами греки называли еще и невест, а также некоторых богинь. При переводе с греческого арабский переводчик, вероятно не обратил внимания на чертеж и перевел слово «нимфа» как «невеста», а не «бабочка». Так появилось ласковое название знаменитой теоремы – «теорема невест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9"/>
          <p:cNvSpPr/>
          <p:nvPr/>
        </p:nvSpPr>
        <p:spPr>
          <a:xfrm>
            <a:off x="1332000" y="3645000"/>
            <a:ext cx="2016000" cy="1944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 rot="1646400">
            <a:off x="679320" y="2581200"/>
            <a:ext cx="93528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11"/>
          <p:cNvSpPr/>
          <p:nvPr/>
        </p:nvSpPr>
        <p:spPr>
          <a:xfrm rot="1653000">
            <a:off x="2050560" y="1628640"/>
            <a:ext cx="1800360" cy="1729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AutoShape 8"/>
          <p:cNvSpPr/>
          <p:nvPr/>
        </p:nvSpPr>
        <p:spPr>
          <a:xfrm flipV="1" rot="1641000">
            <a:off x="1479600" y="3195720"/>
            <a:ext cx="1727280" cy="93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13"/>
          <p:cNvSpPr/>
          <p:nvPr/>
        </p:nvSpPr>
        <p:spPr>
          <a:xfrm>
            <a:off x="539640" y="3213000"/>
            <a:ext cx="2808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1332000" y="2133720"/>
            <a:ext cx="2808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5"/>
          <p:cNvSpPr/>
          <p:nvPr/>
        </p:nvSpPr>
        <p:spPr>
          <a:xfrm flipH="1">
            <a:off x="1331640" y="2852640"/>
            <a:ext cx="4316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1763640" y="2852640"/>
            <a:ext cx="158436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17"/>
          <p:cNvSpPr/>
          <p:nvPr/>
        </p:nvSpPr>
        <p:spPr>
          <a:xfrm>
            <a:off x="1763640" y="2852640"/>
            <a:ext cx="7164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Freeform 18"/>
          <p:cNvSpPr/>
          <p:nvPr/>
        </p:nvSpPr>
        <p:spPr>
          <a:xfrm>
            <a:off x="3352680" y="3516480"/>
            <a:ext cx="265320" cy="366480"/>
          </a:xfrm>
          <a:custGeom>
            <a:avLst/>
            <a:gdLst>
              <a:gd name="textAreaLeft" fmla="*/ 0 w 265320"/>
              <a:gd name="textAreaRight" fmla="*/ 265680 w 2653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67" h="231">
                <a:moveTo>
                  <a:pt x="48" y="0"/>
                </a:moveTo>
                <a:cubicBezTo>
                  <a:pt x="62" y="39"/>
                  <a:pt x="109" y="59"/>
                  <a:pt x="137" y="89"/>
                </a:cubicBezTo>
                <a:cubicBezTo>
                  <a:pt x="142" y="104"/>
                  <a:pt x="157" y="115"/>
                  <a:pt x="158" y="130"/>
                </a:cubicBezTo>
                <a:cubicBezTo>
                  <a:pt x="167" y="231"/>
                  <a:pt x="70" y="206"/>
                  <a:pt x="0" y="206"/>
                </a:cubicBezTo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reeform 19"/>
          <p:cNvSpPr/>
          <p:nvPr/>
        </p:nvSpPr>
        <p:spPr>
          <a:xfrm>
            <a:off x="3548160" y="3679920"/>
            <a:ext cx="233280" cy="315720"/>
          </a:xfrm>
          <a:custGeom>
            <a:avLst/>
            <a:gdLst>
              <a:gd name="textAreaLeft" fmla="*/ 0 w 233280"/>
              <a:gd name="textAreaRight" fmla="*/ 233640 w 2332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47" h="199">
                <a:moveTo>
                  <a:pt x="35" y="0"/>
                </a:moveTo>
                <a:cubicBezTo>
                  <a:pt x="55" y="7"/>
                  <a:pt x="76" y="13"/>
                  <a:pt x="96" y="20"/>
                </a:cubicBezTo>
                <a:cubicBezTo>
                  <a:pt x="122" y="58"/>
                  <a:pt x="147" y="69"/>
                  <a:pt x="90" y="89"/>
                </a:cubicBezTo>
                <a:cubicBezTo>
                  <a:pt x="75" y="131"/>
                  <a:pt x="104" y="183"/>
                  <a:pt x="55" y="199"/>
                </a:cubicBezTo>
                <a:cubicBezTo>
                  <a:pt x="2" y="188"/>
                  <a:pt x="0" y="174"/>
                  <a:pt x="0" y="116"/>
                </a:cubicBezTo>
              </a:path>
            </a:pathLst>
          </a:custGeom>
          <a:solidFill>
            <a:srgbClr val="e5e5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Freeform 20"/>
          <p:cNvSpPr/>
          <p:nvPr/>
        </p:nvSpPr>
        <p:spPr>
          <a:xfrm>
            <a:off x="3722760" y="3821040"/>
            <a:ext cx="129960" cy="65160"/>
          </a:xfrm>
          <a:custGeom>
            <a:avLst/>
            <a:gdLst>
              <a:gd name="textAreaLeft" fmla="*/ 0 w 129960"/>
              <a:gd name="textAreaRight" fmla="*/ 130320 w 129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82" h="41">
                <a:moveTo>
                  <a:pt x="0" y="0"/>
                </a:moveTo>
                <a:cubicBezTo>
                  <a:pt x="5" y="1"/>
                  <a:pt x="41" y="9"/>
                  <a:pt x="48" y="14"/>
                </a:cubicBezTo>
                <a:cubicBezTo>
                  <a:pt x="56" y="19"/>
                  <a:pt x="61" y="28"/>
                  <a:pt x="69" y="34"/>
                </a:cubicBezTo>
                <a:cubicBezTo>
                  <a:pt x="73" y="37"/>
                  <a:pt x="78" y="39"/>
                  <a:pt x="82" y="4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21"/>
          <p:cNvSpPr/>
          <p:nvPr/>
        </p:nvSpPr>
        <p:spPr>
          <a:xfrm>
            <a:off x="3708360" y="3933720"/>
            <a:ext cx="7164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Freeform 23"/>
          <p:cNvSpPr/>
          <p:nvPr/>
        </p:nvSpPr>
        <p:spPr>
          <a:xfrm rot="20466600">
            <a:off x="3708000" y="3645000"/>
            <a:ext cx="511200" cy="104760"/>
          </a:xfrm>
          <a:custGeom>
            <a:avLst/>
            <a:gdLst>
              <a:gd name="textAreaLeft" fmla="*/ 0 w 511200"/>
              <a:gd name="textAreaRight" fmla="*/ 511200 w 511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22" h="66">
                <a:moveTo>
                  <a:pt x="0" y="0"/>
                </a:moveTo>
                <a:cubicBezTo>
                  <a:pt x="27" y="9"/>
                  <a:pt x="37" y="30"/>
                  <a:pt x="62" y="41"/>
                </a:cubicBezTo>
                <a:cubicBezTo>
                  <a:pt x="75" y="47"/>
                  <a:pt x="103" y="55"/>
                  <a:pt x="103" y="55"/>
                </a:cubicBezTo>
                <a:cubicBezTo>
                  <a:pt x="166" y="52"/>
                  <a:pt x="251" y="66"/>
                  <a:pt x="309" y="27"/>
                </a:cubicBezTo>
                <a:cubicBezTo>
                  <a:pt x="313" y="20"/>
                  <a:pt x="322" y="7"/>
                  <a:pt x="322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Freeform 24"/>
          <p:cNvSpPr/>
          <p:nvPr/>
        </p:nvSpPr>
        <p:spPr>
          <a:xfrm rot="707400">
            <a:off x="3563640" y="4005000"/>
            <a:ext cx="347760" cy="369720"/>
          </a:xfrm>
          <a:custGeom>
            <a:avLst/>
            <a:gdLst>
              <a:gd name="textAreaLeft" fmla="*/ 0 w 347760"/>
              <a:gd name="textAreaRight" fmla="*/ 348120 w 3477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9" h="233">
                <a:moveTo>
                  <a:pt x="0" y="0"/>
                </a:moveTo>
                <a:cubicBezTo>
                  <a:pt x="30" y="20"/>
                  <a:pt x="58" y="42"/>
                  <a:pt x="89" y="61"/>
                </a:cubicBezTo>
                <a:cubicBezTo>
                  <a:pt x="104" y="107"/>
                  <a:pt x="84" y="59"/>
                  <a:pt x="116" y="96"/>
                </a:cubicBezTo>
                <a:cubicBezTo>
                  <a:pt x="127" y="108"/>
                  <a:pt x="132" y="125"/>
                  <a:pt x="144" y="137"/>
                </a:cubicBezTo>
                <a:cubicBezTo>
                  <a:pt x="169" y="162"/>
                  <a:pt x="203" y="201"/>
                  <a:pt x="219" y="23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255-EA56-4E68-92F7-B58A3CFF8AE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Аддитивные доказательст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88000" y="2491920"/>
            <a:ext cx="4038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вадрат, построенный на гипотенузе разложен на 8 треугольн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– прямоугольный треугольник с прямым углом С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 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F M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79280" y="119700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аны на разложении  квадратов, построенных на катетах, на фигуры, из которых можно сложить квадрат, построенный на гипотенуз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AutoShape 7"/>
          <p:cNvSpPr/>
          <p:nvPr/>
        </p:nvSpPr>
        <p:spPr>
          <a:xfrm rot="20560800">
            <a:off x="1258920" y="5300280"/>
            <a:ext cx="3529080" cy="936720"/>
          </a:xfrm>
          <a:prstGeom prst="rightArrow">
            <a:avLst>
              <a:gd name="adj1" fmla="val 50000"/>
              <a:gd name="adj2" fmla="val 9418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Энштей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5508720" y="4437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9"/>
          <p:cNvSpPr/>
          <p:nvPr/>
        </p:nvSpPr>
        <p:spPr>
          <a:xfrm>
            <a:off x="5435640" y="47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Line 10"/>
          <p:cNvSpPr/>
          <p:nvPr/>
        </p:nvSpPr>
        <p:spPr>
          <a:xfrm>
            <a:off x="6516720" y="4437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6443640" y="4724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543564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550872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630072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637236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684360" y="3500280"/>
            <a:ext cx="574560" cy="576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9"/>
          <p:cNvSpPr/>
          <p:nvPr/>
        </p:nvSpPr>
        <p:spPr>
          <a:xfrm>
            <a:off x="1258920" y="2276640"/>
            <a:ext cx="1225440" cy="1223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20"/>
          <p:cNvSpPr/>
          <p:nvPr/>
        </p:nvSpPr>
        <p:spPr>
          <a:xfrm rot="20088000">
            <a:off x="1476360" y="3715920"/>
            <a:ext cx="133020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Line 21"/>
          <p:cNvSpPr/>
          <p:nvPr/>
        </p:nvSpPr>
        <p:spPr>
          <a:xfrm>
            <a:off x="248436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2484360" y="4724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1258920" y="3500280"/>
            <a:ext cx="144144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1258920" y="40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5"/>
          <p:cNvSpPr/>
          <p:nvPr/>
        </p:nvSpPr>
        <p:spPr>
          <a:xfrm>
            <a:off x="1835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26"/>
          <p:cNvSpPr/>
          <p:nvPr/>
        </p:nvSpPr>
        <p:spPr>
          <a:xfrm flipV="1">
            <a:off x="684360" y="227664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27"/>
          <p:cNvSpPr/>
          <p:nvPr/>
        </p:nvSpPr>
        <p:spPr>
          <a:xfrm flipH="1">
            <a:off x="1476000" y="407664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28"/>
          <p:cNvSpPr/>
          <p:nvPr/>
        </p:nvSpPr>
        <p:spPr>
          <a:xfrm flipV="1">
            <a:off x="2484360" y="4365720"/>
            <a:ext cx="35892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29"/>
          <p:cNvSpPr/>
          <p:nvPr/>
        </p:nvSpPr>
        <p:spPr>
          <a:xfrm flipH="1" flipV="1">
            <a:off x="2050920" y="2707920"/>
            <a:ext cx="43344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30"/>
          <p:cNvSpPr/>
          <p:nvPr/>
        </p:nvSpPr>
        <p:spPr>
          <a:xfrm>
            <a:off x="1258920" y="227664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31"/>
          <p:cNvSpPr/>
          <p:nvPr/>
        </p:nvSpPr>
        <p:spPr>
          <a:xfrm>
            <a:off x="1042920" y="3645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32"/>
          <p:cNvSpPr/>
          <p:nvPr/>
        </p:nvSpPr>
        <p:spPr>
          <a:xfrm>
            <a:off x="684360" y="3500280"/>
            <a:ext cx="358560" cy="1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2174760" y="270828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176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35"/>
          <p:cNvSpPr/>
          <p:nvPr/>
        </p:nvSpPr>
        <p:spPr>
          <a:xfrm>
            <a:off x="140328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36"/>
          <p:cNvSpPr/>
          <p:nvPr/>
        </p:nvSpPr>
        <p:spPr>
          <a:xfrm>
            <a:off x="183528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37"/>
          <p:cNvSpPr/>
          <p:nvPr/>
        </p:nvSpPr>
        <p:spPr>
          <a:xfrm>
            <a:off x="1042920" y="350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38"/>
          <p:cNvSpPr/>
          <p:nvPr/>
        </p:nvSpPr>
        <p:spPr>
          <a:xfrm>
            <a:off x="900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39"/>
          <p:cNvSpPr/>
          <p:nvPr/>
        </p:nvSpPr>
        <p:spPr>
          <a:xfrm>
            <a:off x="611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40"/>
          <p:cNvSpPr/>
          <p:nvPr/>
        </p:nvSpPr>
        <p:spPr>
          <a:xfrm>
            <a:off x="90000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1547640" y="4365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42"/>
          <p:cNvSpPr/>
          <p:nvPr/>
        </p:nvSpPr>
        <p:spPr>
          <a:xfrm>
            <a:off x="248436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43"/>
          <p:cNvSpPr/>
          <p:nvPr/>
        </p:nvSpPr>
        <p:spPr>
          <a:xfrm>
            <a:off x="197964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44"/>
          <p:cNvSpPr/>
          <p:nvPr/>
        </p:nvSpPr>
        <p:spPr>
          <a:xfrm>
            <a:off x="1979640" y="378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5"/>
          <p:cNvSpPr/>
          <p:nvPr/>
        </p:nvSpPr>
        <p:spPr>
          <a:xfrm>
            <a:off x="1476360" y="378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 Box 46"/>
          <p:cNvSpPr/>
          <p:nvPr/>
        </p:nvSpPr>
        <p:spPr>
          <a:xfrm>
            <a:off x="255600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Text Box 47"/>
          <p:cNvSpPr/>
          <p:nvPr/>
        </p:nvSpPr>
        <p:spPr>
          <a:xfrm>
            <a:off x="270036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48"/>
          <p:cNvSpPr/>
          <p:nvPr/>
        </p:nvSpPr>
        <p:spPr>
          <a:xfrm>
            <a:off x="1332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9"/>
          <p:cNvSpPr/>
          <p:nvPr/>
        </p:nvSpPr>
        <p:spPr>
          <a:xfrm>
            <a:off x="97164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50"/>
          <p:cNvSpPr/>
          <p:nvPr/>
        </p:nvSpPr>
        <p:spPr>
          <a:xfrm>
            <a:off x="39528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51"/>
          <p:cNvSpPr/>
          <p:nvPr/>
        </p:nvSpPr>
        <p:spPr>
          <a:xfrm>
            <a:off x="104292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52"/>
          <p:cNvSpPr/>
          <p:nvPr/>
        </p:nvSpPr>
        <p:spPr>
          <a:xfrm>
            <a:off x="1187280" y="44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53"/>
          <p:cNvSpPr/>
          <p:nvPr/>
        </p:nvSpPr>
        <p:spPr>
          <a:xfrm>
            <a:off x="176364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54"/>
          <p:cNvSpPr/>
          <p:nvPr/>
        </p:nvSpPr>
        <p:spPr>
          <a:xfrm>
            <a:off x="2268360" y="4581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55"/>
          <p:cNvSpPr/>
          <p:nvPr/>
        </p:nvSpPr>
        <p:spPr>
          <a:xfrm>
            <a:off x="2627280" y="486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56"/>
          <p:cNvSpPr/>
          <p:nvPr/>
        </p:nvSpPr>
        <p:spPr>
          <a:xfrm>
            <a:off x="2411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57"/>
          <p:cNvSpPr/>
          <p:nvPr/>
        </p:nvSpPr>
        <p:spPr>
          <a:xfrm>
            <a:off x="2411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Text Box 58"/>
          <p:cNvSpPr/>
          <p:nvPr/>
        </p:nvSpPr>
        <p:spPr>
          <a:xfrm>
            <a:off x="2771640" y="407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D21-546B-4602-82A3-4BFA7D3771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995640" y="3212640"/>
            <a:ext cx="489744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есь квадрат разложен на попарно равные фигур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 АВС – прямоугольный треугольник с прямым углом 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7"/>
          <p:cNvSpPr/>
          <p:nvPr/>
        </p:nvSpPr>
        <p:spPr>
          <a:xfrm rot="1486800">
            <a:off x="1110960" y="2147760"/>
            <a:ext cx="2158920" cy="2232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1692360" y="2708280"/>
            <a:ext cx="1942920" cy="2016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755640" y="3789360"/>
            <a:ext cx="936720" cy="934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Line 10"/>
          <p:cNvSpPr/>
          <p:nvPr/>
        </p:nvSpPr>
        <p:spPr>
          <a:xfrm>
            <a:off x="755640" y="3789360"/>
            <a:ext cx="194472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Line 11"/>
          <p:cNvSpPr/>
          <p:nvPr/>
        </p:nvSpPr>
        <p:spPr>
          <a:xfrm flipH="1">
            <a:off x="2700000" y="2708280"/>
            <a:ext cx="9349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12"/>
          <p:cNvSpPr/>
          <p:nvPr/>
        </p:nvSpPr>
        <p:spPr>
          <a:xfrm>
            <a:off x="1692360" y="177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2556000" y="47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3579840" y="2565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3564000" y="4653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97164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Text Box 17"/>
          <p:cNvSpPr/>
          <p:nvPr/>
        </p:nvSpPr>
        <p:spPr>
          <a:xfrm>
            <a:off x="183528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183528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+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320364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234000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21"/>
          <p:cNvSpPr/>
          <p:nvPr/>
        </p:nvSpPr>
        <p:spPr>
          <a:xfrm>
            <a:off x="1258920" y="378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125892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AutoShape 23"/>
          <p:cNvSpPr/>
          <p:nvPr/>
        </p:nvSpPr>
        <p:spPr>
          <a:xfrm rot="20130600">
            <a:off x="3762360" y="906120"/>
            <a:ext cx="4032360" cy="1440000"/>
          </a:xfrm>
          <a:prstGeom prst="leftArrow">
            <a:avLst>
              <a:gd name="adj1" fmla="val 50000"/>
              <a:gd name="adj2" fmla="val 70006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Доказательство ан-Найриз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63B9-D3EC-4898-B413-ABF1DD151C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«Колесо с лопастями»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С – прямоугольный треугольник с прямым углом С; О – центр квадрата, построенного на большом катете; пунктирные прямые, проходящие через точку О, перпендикулярны или параллельны гипотенуз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разложение квадратов интересно тем, что его попарно равные четырехугольники могут быть отображены друг на друга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611280" y="3429000"/>
            <a:ext cx="93636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1547640" y="2060640"/>
            <a:ext cx="136872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8"/>
          <p:cNvSpPr/>
          <p:nvPr/>
        </p:nvSpPr>
        <p:spPr>
          <a:xfrm rot="19547400">
            <a:off x="1875960" y="3774600"/>
            <a:ext cx="1656000" cy="16621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Rectangle 9"/>
          <p:cNvSpPr/>
          <p:nvPr/>
        </p:nvSpPr>
        <p:spPr>
          <a:xfrm>
            <a:off x="2195640" y="4149720"/>
            <a:ext cx="936360" cy="936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2050920" y="5084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11"/>
          <p:cNvSpPr/>
          <p:nvPr/>
        </p:nvSpPr>
        <p:spPr>
          <a:xfrm flipV="1">
            <a:off x="2195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305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13"/>
          <p:cNvSpPr/>
          <p:nvPr/>
        </p:nvSpPr>
        <p:spPr>
          <a:xfrm>
            <a:off x="3132000" y="501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14"/>
          <p:cNvSpPr/>
          <p:nvPr/>
        </p:nvSpPr>
        <p:spPr>
          <a:xfrm flipV="1">
            <a:off x="1547640" y="2492280"/>
            <a:ext cx="136872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1835280" y="206064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484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89892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18"/>
          <p:cNvSpPr/>
          <p:nvPr/>
        </p:nvSpPr>
        <p:spPr>
          <a:xfrm>
            <a:off x="161928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3275640" y="450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20"/>
          <p:cNvSpPr/>
          <p:nvPr/>
        </p:nvSpPr>
        <p:spPr>
          <a:xfrm>
            <a:off x="2124000" y="220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2410200" y="51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22"/>
          <p:cNvSpPr/>
          <p:nvPr/>
        </p:nvSpPr>
        <p:spPr>
          <a:xfrm>
            <a:off x="2535120" y="28526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1834200" y="4292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24"/>
          <p:cNvSpPr/>
          <p:nvPr/>
        </p:nvSpPr>
        <p:spPr>
          <a:xfrm>
            <a:off x="1835280" y="292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Rectangle 25"/>
          <p:cNvSpPr/>
          <p:nvPr/>
        </p:nvSpPr>
        <p:spPr>
          <a:xfrm>
            <a:off x="2626200" y="3716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197964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133200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28"/>
          <p:cNvSpPr/>
          <p:nvPr/>
        </p:nvSpPr>
        <p:spPr>
          <a:xfrm>
            <a:off x="28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29"/>
          <p:cNvSpPr/>
          <p:nvPr/>
        </p:nvSpPr>
        <p:spPr>
          <a:xfrm>
            <a:off x="125892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6EFF-2B29-4012-9E3C-65C1D47B67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«Пифагоровы штаны» (доказательство Евклида)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течение двух тысячелетий применяли доказательство, придуманное Евклидом, которое помещено в его знаменитых «Началах». Евклид опускал высоту ВН из вершины прямоугольного треугольника на гипотенузу и доказывал, что её продолжение делит построенный на гипотенузе квадрат на два прямоугольника, площади которых равны площадям соответствующих квадратов, построенных на катетах. Доказательство Евклида с вравнении с древнекитайским или древнеиндийским выглядит чрезмерно сложным. По этой причине его нередко называли «ходульным» и «надуманным». Чертеж, применяемый при доказательстве теоремы, в шутку называют «пифагоровы штаны». В течение долгого времени он считался одним из символов математической нау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AutoShape 6"/>
          <p:cNvSpPr/>
          <p:nvPr/>
        </p:nvSpPr>
        <p:spPr>
          <a:xfrm flipV="1" rot="1644000">
            <a:off x="1258560" y="3645000"/>
            <a:ext cx="1655640" cy="863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187280" y="4076640"/>
            <a:ext cx="1800360" cy="1873440"/>
          </a:xfrm>
          <a:prstGeom prst="rect">
            <a:avLst/>
          </a:prstGeom>
          <a:solidFill>
            <a:srgbClr val="79cd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8"/>
          <p:cNvSpPr/>
          <p:nvPr/>
        </p:nvSpPr>
        <p:spPr>
          <a:xfrm rot="1655400">
            <a:off x="1850760" y="2128320"/>
            <a:ext cx="1657080" cy="164628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9"/>
          <p:cNvSpPr/>
          <p:nvPr/>
        </p:nvSpPr>
        <p:spPr>
          <a:xfrm rot="1648200">
            <a:off x="539640" y="3068640"/>
            <a:ext cx="865440" cy="863640"/>
          </a:xfrm>
          <a:prstGeom prst="rect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1547640" y="328464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395280" y="3645000"/>
            <a:ext cx="25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1186920" y="3284640"/>
            <a:ext cx="36036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90000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1332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29163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547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9F0-3CBC-4C3D-AB68-5C728360488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ревнекитайское доказательство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8000" y="5373720"/>
            <a:ext cx="90360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матические трактаты Древнего Китая дошли до нас в редакции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в. до н.э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ло в том, что в 213 г. до н.э. китайский император Ши Хуан-ди, стремясь ликвидировать прежние традиции, приказал сжечь все древние книги. Во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. до н.э. в Китае была изобретена бумага и одновременно начинается восстановление древних книг. Так возникла «Математика в девяти книгах» - главное из сохранившихся математико-астрономических сочинен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1547640" y="2421000"/>
            <a:ext cx="1440000" cy="1368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1547640" y="1700280"/>
            <a:ext cx="2160720" cy="7207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AutoShape 9"/>
          <p:cNvSpPr/>
          <p:nvPr/>
        </p:nvSpPr>
        <p:spPr>
          <a:xfrm rot="5400000">
            <a:off x="2302920" y="3105000"/>
            <a:ext cx="201600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AutoShape 10"/>
          <p:cNvSpPr/>
          <p:nvPr/>
        </p:nvSpPr>
        <p:spPr>
          <a:xfrm rot="16200000">
            <a:off x="2303280" y="3105000"/>
            <a:ext cx="2016000" cy="647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1"/>
          <p:cNvSpPr/>
          <p:nvPr/>
        </p:nvSpPr>
        <p:spPr>
          <a:xfrm rot="10800000">
            <a:off x="899640" y="3789000"/>
            <a:ext cx="208764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826920" y="3789360"/>
            <a:ext cx="2160720" cy="6476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AutoShape 13"/>
          <p:cNvSpPr/>
          <p:nvPr/>
        </p:nvSpPr>
        <p:spPr>
          <a:xfrm rot="5400000">
            <a:off x="141840" y="2385000"/>
            <a:ext cx="2089080" cy="719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AutoShape 14"/>
          <p:cNvSpPr/>
          <p:nvPr/>
        </p:nvSpPr>
        <p:spPr>
          <a:xfrm rot="16200000">
            <a:off x="142560" y="2383920"/>
            <a:ext cx="2089080" cy="7207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AutoShape 15"/>
          <p:cNvSpPr/>
          <p:nvPr/>
        </p:nvSpPr>
        <p:spPr>
          <a:xfrm rot="10800000">
            <a:off x="1547280" y="1700280"/>
            <a:ext cx="2087640" cy="72072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1979640" y="285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2268360" y="134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64000" y="1916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2268360" y="19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20"/>
          <p:cNvSpPr/>
          <p:nvPr/>
        </p:nvSpPr>
        <p:spPr>
          <a:xfrm>
            <a:off x="5219640" y="1700280"/>
            <a:ext cx="1800360" cy="180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21"/>
          <p:cNvSpPr/>
          <p:nvPr/>
        </p:nvSpPr>
        <p:spPr>
          <a:xfrm>
            <a:off x="7020000" y="3500280"/>
            <a:ext cx="865080" cy="8654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AutoShape 22"/>
          <p:cNvSpPr/>
          <p:nvPr/>
        </p:nvSpPr>
        <p:spPr>
          <a:xfrm>
            <a:off x="7020000" y="1700280"/>
            <a:ext cx="865080" cy="180180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AutoShape 24"/>
          <p:cNvSpPr/>
          <p:nvPr/>
        </p:nvSpPr>
        <p:spPr>
          <a:xfrm rot="5400000">
            <a:off x="5686560" y="3032640"/>
            <a:ext cx="865440" cy="180036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AutoShape 25"/>
          <p:cNvSpPr/>
          <p:nvPr/>
        </p:nvSpPr>
        <p:spPr>
          <a:xfrm rot="16200000">
            <a:off x="5686920" y="3032640"/>
            <a:ext cx="865440" cy="180036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AutoShape 26"/>
          <p:cNvSpPr/>
          <p:nvPr/>
        </p:nvSpPr>
        <p:spPr>
          <a:xfrm rot="10800000">
            <a:off x="7019640" y="1700280"/>
            <a:ext cx="865080" cy="1800000"/>
          </a:xfrm>
          <a:prstGeom prst="rtTriangle">
            <a:avLst/>
          </a:prstGeom>
          <a:solidFill>
            <a:srgbClr val="6549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5796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716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730872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7812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716436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ext Box 40"/>
          <p:cNvSpPr/>
          <p:nvPr/>
        </p:nvSpPr>
        <p:spPr>
          <a:xfrm>
            <a:off x="250920" y="4365720"/>
            <a:ext cx="399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ревнекитайском чертеже четыре равных прямоугольных треугольника с катетами а,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и гипотенузой с, уложены так, что их внешний контур образует квадрат со стороной а+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а внутренний – квадрат со стороной с, построенный на гипотенуз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41"/>
          <p:cNvSpPr/>
          <p:nvPr/>
        </p:nvSpPr>
        <p:spPr>
          <a:xfrm>
            <a:off x="4500720" y="4292640"/>
            <a:ext cx="446544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вадрат со стороной с вырезать и оставшиеся 4 затушеванных треугольника уложить в два прямоугольника, то ясно, что образовавшаяся пустота, с одной стороны равна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а с другой стороны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a² + b²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т.е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² = a² + b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56E8-A68C-4DB7-AFEB-BA6C5AE3E3E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Доказательство из древнекитайского трактата.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т чертеж из трактата «Чжоу-би…». Теорема Пифагора рассмотрена для египетского треугольника с катетами 3,4 и гипотенузой 5 единиц измерения. Квадрат на гипотенузе содержит 25 клеток, а вписанный в него квадрат на большом катете – 16. Ясно, что оставшаяся часть содержит 9 клеток. Это и будет квадрат на меньшем катет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Oval 9"/>
          <p:cNvSpPr/>
          <p:nvPr/>
        </p:nvSpPr>
        <p:spPr>
          <a:xfrm rot="21376800">
            <a:off x="322200" y="1692000"/>
            <a:ext cx="4319640" cy="410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a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7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C91-2A78-4E10-85FC-7606D054BD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a29e"/>
                </a:solidFill>
                <a:latin typeface="Arial"/>
              </a:rPr>
              <a:t>Древнеиндийское доказательство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6443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матики Древней Индии заметили, что для доказательства теоремы Пифагора достаточно использовать внутреннюю часть древнекитайского чертежа. В написанном на пальмовых листьях трактате «Сиддханта широмани» («Венец знания»), крупнейшего  индийского метематик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Бхаскары, помещен чертеж с характерным для индийских доказательств словом: «Смотри!». Как видим, прямоугольные треугольники уложены здесь гипотенузой наружу и квадра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ерекладывается в «кресло невесты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² + b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7"/>
          <p:cNvSpPr/>
          <p:nvPr/>
        </p:nvSpPr>
        <p:spPr>
          <a:xfrm rot="20123400">
            <a:off x="1186920" y="1341360"/>
            <a:ext cx="151308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AutoShape 8"/>
          <p:cNvSpPr/>
          <p:nvPr/>
        </p:nvSpPr>
        <p:spPr>
          <a:xfrm rot="3940800">
            <a:off x="2051280" y="2132640"/>
            <a:ext cx="151272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AutoShape 9"/>
          <p:cNvSpPr/>
          <p:nvPr/>
        </p:nvSpPr>
        <p:spPr>
          <a:xfrm rot="9308400">
            <a:off x="1258560" y="2996640"/>
            <a:ext cx="1512720" cy="647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10"/>
          <p:cNvSpPr/>
          <p:nvPr/>
        </p:nvSpPr>
        <p:spPr>
          <a:xfrm rot="14664000">
            <a:off x="394200" y="2205720"/>
            <a:ext cx="1512720" cy="648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11"/>
          <p:cNvSpPr/>
          <p:nvPr/>
        </p:nvSpPr>
        <p:spPr>
          <a:xfrm rot="20093400">
            <a:off x="1547280" y="2042640"/>
            <a:ext cx="865440" cy="8794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12"/>
          <p:cNvSpPr/>
          <p:nvPr/>
        </p:nvSpPr>
        <p:spPr>
          <a:xfrm>
            <a:off x="133200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0c92"/>
                </a:solidFill>
                <a:latin typeface="Tahoma"/>
              </a:rPr>
              <a:t>«Смотр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7020000" y="1773360"/>
            <a:ext cx="1008000" cy="1008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14"/>
          <p:cNvSpPr/>
          <p:nvPr/>
        </p:nvSpPr>
        <p:spPr>
          <a:xfrm rot="2704800">
            <a:off x="7673040" y="1910880"/>
            <a:ext cx="720720" cy="731880"/>
          </a:xfrm>
          <a:prstGeom prst="rect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Line 15"/>
          <p:cNvSpPr/>
          <p:nvPr/>
        </p:nvSpPr>
        <p:spPr>
          <a:xfrm>
            <a:off x="8028000" y="17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16"/>
          <p:cNvSpPr/>
          <p:nvPr/>
        </p:nvSpPr>
        <p:spPr>
          <a:xfrm>
            <a:off x="4211640" y="1700280"/>
            <a:ext cx="865080" cy="865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AutoShape 17"/>
          <p:cNvSpPr/>
          <p:nvPr/>
        </p:nvSpPr>
        <p:spPr>
          <a:xfrm rot="10800000">
            <a:off x="3635280" y="2565360"/>
            <a:ext cx="1441440" cy="57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3635280" y="2565360"/>
            <a:ext cx="1441440" cy="5745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AutoShape 19"/>
          <p:cNvSpPr/>
          <p:nvPr/>
        </p:nvSpPr>
        <p:spPr>
          <a:xfrm rot="16200000">
            <a:off x="4643280" y="2133360"/>
            <a:ext cx="1441440" cy="574920"/>
          </a:xfrm>
          <a:prstGeom prst="rtTriangle">
            <a:avLst/>
          </a:prstGeom>
          <a:solidFill>
            <a:srgbClr val="7b4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AutoShape 20"/>
          <p:cNvSpPr/>
          <p:nvPr/>
        </p:nvSpPr>
        <p:spPr>
          <a:xfrm rot="5400000">
            <a:off x="4642920" y="2133360"/>
            <a:ext cx="1441440" cy="57492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21"/>
          <p:cNvSpPr/>
          <p:nvPr/>
        </p:nvSpPr>
        <p:spPr>
          <a:xfrm>
            <a:off x="586728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Text Box 22"/>
          <p:cNvSpPr/>
          <p:nvPr/>
        </p:nvSpPr>
        <p:spPr>
          <a:xfrm>
            <a:off x="5219640" y="119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4427640" y="119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-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370836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4716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507672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AutoShape 27"/>
          <p:cNvSpPr/>
          <p:nvPr/>
        </p:nvSpPr>
        <p:spPr>
          <a:xfrm rot="5400000">
            <a:off x="4823640" y="2601000"/>
            <a:ext cx="216000" cy="1440000"/>
          </a:xfrm>
          <a:custGeom>
            <a:avLst/>
            <a:gdLst>
              <a:gd name="textAreaLeft" fmla="*/ 0 w 216000"/>
              <a:gd name="textAreaRight" fmla="*/ 7812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AutoShape 28"/>
          <p:cNvSpPr/>
          <p:nvPr/>
        </p:nvSpPr>
        <p:spPr>
          <a:xfrm>
            <a:off x="5651640" y="1700280"/>
            <a:ext cx="288720" cy="144144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Line 29"/>
          <p:cNvSpPr/>
          <p:nvPr/>
        </p:nvSpPr>
        <p:spPr>
          <a:xfrm>
            <a:off x="4211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AutoShape 31"/>
          <p:cNvSpPr/>
          <p:nvPr/>
        </p:nvSpPr>
        <p:spPr>
          <a:xfrm rot="16200000">
            <a:off x="4572720" y="1195920"/>
            <a:ext cx="142920" cy="865080"/>
          </a:xfrm>
          <a:custGeom>
            <a:avLst/>
            <a:gdLst>
              <a:gd name="textAreaLeft" fmla="*/ 0 w 142920"/>
              <a:gd name="textAreaRight" fmla="*/ 51480 w 1429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AutoShape 32"/>
          <p:cNvSpPr/>
          <p:nvPr/>
        </p:nvSpPr>
        <p:spPr>
          <a:xfrm rot="16200000">
            <a:off x="5292720" y="1341000"/>
            <a:ext cx="142920" cy="574920"/>
          </a:xfrm>
          <a:custGeom>
            <a:avLst/>
            <a:gdLst>
              <a:gd name="textAreaLeft" fmla="*/ 0 w 142920"/>
              <a:gd name="textAreaRight" fmla="*/ 51480 w 14292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33"/>
          <p:cNvSpPr/>
          <p:nvPr/>
        </p:nvSpPr>
        <p:spPr>
          <a:xfrm>
            <a:off x="6372360" y="2924280"/>
            <a:ext cx="2663640" cy="2040840"/>
          </a:xfrm>
          <a:prstGeom prst="rect">
            <a:avLst/>
          </a:prstGeom>
          <a:noFill/>
          <a:ln w="12600">
            <a:solidFill>
              <a:srgbClr val="4477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троение квадрата, площадь которого вдвое больше площади данного квадрата встречается в древнеиндийском трактате «Сульва сутра»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I – V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в до н.э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EF8-1C2B-47C2-87DD-D93BD63EB56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ть в своей работе различную дополнительную литературу, сайты интернет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казать значение теоремы Пифагора в развитии науки и техники многих стран и народов мир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ить свои знания по тем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ыскать в различных источниках, как можно больше доказательств теоремы, интересных задач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9 классе продолжить изучать те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48280" indent="-548280"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84360" y="119700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71640" y="1413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84360" y="1341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D47D-5CEB-4AA3-9377-945ACF78F1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Доказательство Аннариция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355640" y="2421000"/>
            <a:ext cx="40388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гдадский математик и астрон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. Ан-Найризий (латинилизированное имя – Аннариций) в арабском комментарии к «Началам» Евклида дал такое доказательство теоремы Пифагора. Квадрат на гипотенузе разбит у Аннариция на 5 частей, из которых составляются квадраты на кате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1042920" y="3933720"/>
            <a:ext cx="1800360" cy="18003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AutoShape 7"/>
          <p:cNvSpPr/>
          <p:nvPr/>
        </p:nvSpPr>
        <p:spPr>
          <a:xfrm flipV="1" rot="1197000">
            <a:off x="1115640" y="3643920"/>
            <a:ext cx="1655640" cy="576000"/>
          </a:xfrm>
          <a:prstGeom prst="rtTriangle">
            <a:avLst/>
          </a:prstGeom>
          <a:solidFill>
            <a:srgbClr val="79cd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Rectangle 8"/>
          <p:cNvSpPr/>
          <p:nvPr/>
        </p:nvSpPr>
        <p:spPr>
          <a:xfrm rot="1195200">
            <a:off x="610920" y="3284640"/>
            <a:ext cx="574560" cy="576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9"/>
          <p:cNvSpPr/>
          <p:nvPr/>
        </p:nvSpPr>
        <p:spPr>
          <a:xfrm rot="1183800">
            <a:off x="1547640" y="1989000"/>
            <a:ext cx="1657440" cy="17290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10"/>
          <p:cNvSpPr/>
          <p:nvPr/>
        </p:nvSpPr>
        <p:spPr>
          <a:xfrm flipV="1">
            <a:off x="1042920" y="328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Line 11"/>
          <p:cNvSpPr/>
          <p:nvPr/>
        </p:nvSpPr>
        <p:spPr>
          <a:xfrm flipH="1">
            <a:off x="2268360" y="3573360"/>
            <a:ext cx="7192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Line 12"/>
          <p:cNvSpPr/>
          <p:nvPr/>
        </p:nvSpPr>
        <p:spPr>
          <a:xfrm flipH="1">
            <a:off x="1692360" y="23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Line 14"/>
          <p:cNvSpPr/>
          <p:nvPr/>
        </p:nvSpPr>
        <p:spPr>
          <a:xfrm>
            <a:off x="1692360" y="23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Line 15"/>
          <p:cNvSpPr/>
          <p:nvPr/>
        </p:nvSpPr>
        <p:spPr>
          <a:xfrm flipH="1" flipV="1">
            <a:off x="1042560" y="5084640"/>
            <a:ext cx="1800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Line 16"/>
          <p:cNvSpPr/>
          <p:nvPr/>
        </p:nvSpPr>
        <p:spPr>
          <a:xfrm flipH="1" flipV="1">
            <a:off x="2484000" y="501300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Line 17"/>
          <p:cNvSpPr/>
          <p:nvPr/>
        </p:nvSpPr>
        <p:spPr>
          <a:xfrm flipV="1">
            <a:off x="1042920" y="5157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61128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2556000" y="5157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2268360" y="2852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1"/>
          <p:cNvSpPr/>
          <p:nvPr/>
        </p:nvSpPr>
        <p:spPr>
          <a:xfrm>
            <a:off x="1476360" y="45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1403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197964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1332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5"/>
          <p:cNvSpPr/>
          <p:nvPr/>
        </p:nvSpPr>
        <p:spPr>
          <a:xfrm>
            <a:off x="2484360" y="458136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6"/>
          <p:cNvSpPr/>
          <p:nvPr/>
        </p:nvSpPr>
        <p:spPr>
          <a:xfrm>
            <a:off x="97164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"/>
          <p:cNvSpPr/>
          <p:nvPr/>
        </p:nvSpPr>
        <p:spPr>
          <a:xfrm>
            <a:off x="950760" y="34178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6C4-07EE-4361-A40C-4691DBDB81A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ифагоровы фигур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деревья получаются при бесконечном повторении во все меньшем масштабе знаменитых»пифагоровых штанов».  Каждое дерево обладает свойством самоподобия: любой фрагмент дерева при надлежащем увеличении (и повороте) совпадает со всем дере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амоподобие – отличительная черта важного класса геометрических объектов, получивших название ФРАКТАЛОВ и широко используемых ныне в науке и искусств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2195640" y="3645000"/>
            <a:ext cx="647640" cy="647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AutoShape 11"/>
          <p:cNvSpPr/>
          <p:nvPr/>
        </p:nvSpPr>
        <p:spPr>
          <a:xfrm rot="8422800">
            <a:off x="2217600" y="3420720"/>
            <a:ext cx="571680" cy="4316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12"/>
          <p:cNvSpPr/>
          <p:nvPr/>
        </p:nvSpPr>
        <p:spPr>
          <a:xfrm rot="19473600">
            <a:off x="2696760" y="3134880"/>
            <a:ext cx="432000" cy="432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13"/>
          <p:cNvSpPr/>
          <p:nvPr/>
        </p:nvSpPr>
        <p:spPr>
          <a:xfrm rot="19182600">
            <a:off x="1907640" y="2924280"/>
            <a:ext cx="581040" cy="612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AutoShape 14"/>
          <p:cNvSpPr/>
          <p:nvPr/>
        </p:nvSpPr>
        <p:spPr>
          <a:xfrm rot="4750800">
            <a:off x="1870920" y="2734920"/>
            <a:ext cx="284040" cy="5094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AutoShape 15"/>
          <p:cNvSpPr/>
          <p:nvPr/>
        </p:nvSpPr>
        <p:spPr>
          <a:xfrm rot="6520800">
            <a:off x="2986200" y="2354760"/>
            <a:ext cx="158760" cy="1414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AutoShape 16"/>
          <p:cNvSpPr/>
          <p:nvPr/>
        </p:nvSpPr>
        <p:spPr>
          <a:xfrm rot="9174000">
            <a:off x="3082680" y="2606760"/>
            <a:ext cx="263520" cy="2268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AutoShape 17"/>
          <p:cNvSpPr/>
          <p:nvPr/>
        </p:nvSpPr>
        <p:spPr>
          <a:xfrm rot="11523000">
            <a:off x="2912760" y="3066840"/>
            <a:ext cx="341280" cy="3189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18"/>
          <p:cNvSpPr/>
          <p:nvPr/>
        </p:nvSpPr>
        <p:spPr>
          <a:xfrm rot="856200">
            <a:off x="2987640" y="2708280"/>
            <a:ext cx="360360" cy="3808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19"/>
          <p:cNvSpPr/>
          <p:nvPr/>
        </p:nvSpPr>
        <p:spPr>
          <a:xfrm rot="856200">
            <a:off x="3263400" y="3149280"/>
            <a:ext cx="298440" cy="287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20"/>
          <p:cNvSpPr/>
          <p:nvPr/>
        </p:nvSpPr>
        <p:spPr>
          <a:xfrm rot="1522200">
            <a:off x="3059280" y="2205000"/>
            <a:ext cx="155520" cy="1429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Rectangle 21"/>
          <p:cNvSpPr/>
          <p:nvPr/>
        </p:nvSpPr>
        <p:spPr>
          <a:xfrm rot="3899400">
            <a:off x="2994480" y="2414880"/>
            <a:ext cx="219240" cy="22716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Rectangle 22"/>
          <p:cNvSpPr/>
          <p:nvPr/>
        </p:nvSpPr>
        <p:spPr>
          <a:xfrm rot="3766200">
            <a:off x="3285360" y="2482920"/>
            <a:ext cx="212760" cy="2314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Rectangle 23"/>
          <p:cNvSpPr/>
          <p:nvPr/>
        </p:nvSpPr>
        <p:spPr>
          <a:xfrm rot="783600">
            <a:off x="2823840" y="2290320"/>
            <a:ext cx="155520" cy="144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Rectangle 24"/>
          <p:cNvSpPr/>
          <p:nvPr/>
        </p:nvSpPr>
        <p:spPr>
          <a:xfrm rot="20902800">
            <a:off x="1692360" y="2349000"/>
            <a:ext cx="503280" cy="503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Rectangle 25"/>
          <p:cNvSpPr/>
          <p:nvPr/>
        </p:nvSpPr>
        <p:spPr>
          <a:xfrm rot="1120200">
            <a:off x="1403280" y="1557000"/>
            <a:ext cx="225360" cy="2142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Rectangle 26"/>
          <p:cNvSpPr/>
          <p:nvPr/>
        </p:nvSpPr>
        <p:spPr>
          <a:xfrm rot="2804400">
            <a:off x="1400400" y="1915200"/>
            <a:ext cx="433440" cy="431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Rectangle 27"/>
          <p:cNvSpPr/>
          <p:nvPr/>
        </p:nvSpPr>
        <p:spPr>
          <a:xfrm rot="2720400">
            <a:off x="1977840" y="1990440"/>
            <a:ext cx="273240" cy="27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Rectangle 28"/>
          <p:cNvSpPr/>
          <p:nvPr/>
        </p:nvSpPr>
        <p:spPr>
          <a:xfrm rot="20946000">
            <a:off x="1476000" y="2923920"/>
            <a:ext cx="298440" cy="28728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AutoShape 29"/>
          <p:cNvSpPr/>
          <p:nvPr/>
        </p:nvSpPr>
        <p:spPr>
          <a:xfrm flipV="1" rot="954600">
            <a:off x="1333080" y="1781640"/>
            <a:ext cx="219240" cy="43200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AutoShape 30"/>
          <p:cNvSpPr/>
          <p:nvPr/>
        </p:nvSpPr>
        <p:spPr>
          <a:xfrm flipV="1" rot="20117400">
            <a:off x="732960" y="1701000"/>
            <a:ext cx="287280" cy="36036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AutoShape 31"/>
          <p:cNvSpPr/>
          <p:nvPr/>
        </p:nvSpPr>
        <p:spPr>
          <a:xfrm flipV="1" rot="2889600">
            <a:off x="1759680" y="2163240"/>
            <a:ext cx="253800" cy="395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Rectangle 32"/>
          <p:cNvSpPr/>
          <p:nvPr/>
        </p:nvSpPr>
        <p:spPr>
          <a:xfrm rot="856200">
            <a:off x="899640" y="1699920"/>
            <a:ext cx="441360" cy="4334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Rectangle 33"/>
          <p:cNvSpPr/>
          <p:nvPr/>
        </p:nvSpPr>
        <p:spPr>
          <a:xfrm rot="3891600">
            <a:off x="609120" y="1486080"/>
            <a:ext cx="273240" cy="26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Rectangle 34"/>
          <p:cNvSpPr/>
          <p:nvPr/>
        </p:nvSpPr>
        <p:spPr>
          <a:xfrm rot="3877800">
            <a:off x="442800" y="1868040"/>
            <a:ext cx="325440" cy="3031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Rectangle 35"/>
          <p:cNvSpPr/>
          <p:nvPr/>
        </p:nvSpPr>
        <p:spPr>
          <a:xfrm rot="1858800">
            <a:off x="250920" y="2133360"/>
            <a:ext cx="272880" cy="2696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AutoShape 36"/>
          <p:cNvSpPr/>
          <p:nvPr/>
        </p:nvSpPr>
        <p:spPr>
          <a:xfrm flipV="1" rot="17932200">
            <a:off x="380160" y="1938960"/>
            <a:ext cx="215640" cy="28728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AutoShape 37"/>
          <p:cNvSpPr/>
          <p:nvPr/>
        </p:nvSpPr>
        <p:spPr>
          <a:xfrm flipV="1" rot="16311000">
            <a:off x="248760" y="2274120"/>
            <a:ext cx="150840" cy="284040"/>
          </a:xfrm>
          <a:prstGeom prst="rtTriangle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Rectangle 38"/>
          <p:cNvSpPr/>
          <p:nvPr/>
        </p:nvSpPr>
        <p:spPr>
          <a:xfrm rot="7306200">
            <a:off x="177480" y="1845720"/>
            <a:ext cx="201600" cy="19872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Rectangle 39"/>
          <p:cNvSpPr/>
          <p:nvPr/>
        </p:nvSpPr>
        <p:spPr>
          <a:xfrm rot="5400000">
            <a:off x="177480" y="2493720"/>
            <a:ext cx="273240" cy="27000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Rectangle 40"/>
          <p:cNvSpPr/>
          <p:nvPr/>
        </p:nvSpPr>
        <p:spPr>
          <a:xfrm rot="5812200">
            <a:off x="17280" y="2331720"/>
            <a:ext cx="142920" cy="177840"/>
          </a:xfrm>
          <a:prstGeom prst="rect">
            <a:avLst/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Rectangle 41"/>
          <p:cNvSpPr/>
          <p:nvPr/>
        </p:nvSpPr>
        <p:spPr>
          <a:xfrm>
            <a:off x="6300720" y="3716280"/>
            <a:ext cx="647640" cy="6476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AutoShape 42"/>
          <p:cNvSpPr/>
          <p:nvPr/>
        </p:nvSpPr>
        <p:spPr>
          <a:xfrm rot="8531400">
            <a:off x="6359040" y="3507840"/>
            <a:ext cx="513000" cy="4017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Rectangle 43"/>
          <p:cNvSpPr/>
          <p:nvPr/>
        </p:nvSpPr>
        <p:spPr>
          <a:xfrm rot="19335600">
            <a:off x="6796080" y="3212640"/>
            <a:ext cx="431640" cy="4111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Rectangle 44"/>
          <p:cNvSpPr/>
          <p:nvPr/>
        </p:nvSpPr>
        <p:spPr>
          <a:xfrm rot="791400">
            <a:off x="7100640" y="2852640"/>
            <a:ext cx="279360" cy="2844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Rectangle 45"/>
          <p:cNvSpPr/>
          <p:nvPr/>
        </p:nvSpPr>
        <p:spPr>
          <a:xfrm rot="3044400">
            <a:off x="6084000" y="3069360"/>
            <a:ext cx="504720" cy="50328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AutoShape 46"/>
          <p:cNvSpPr/>
          <p:nvPr/>
        </p:nvSpPr>
        <p:spPr>
          <a:xfrm rot="6225000">
            <a:off x="5976360" y="2976480"/>
            <a:ext cx="376200" cy="2746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AutoShape 47"/>
          <p:cNvSpPr/>
          <p:nvPr/>
        </p:nvSpPr>
        <p:spPr>
          <a:xfrm rot="11614200">
            <a:off x="7019640" y="3141720"/>
            <a:ext cx="311040" cy="2728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Rectangle 48"/>
          <p:cNvSpPr/>
          <p:nvPr/>
        </p:nvSpPr>
        <p:spPr>
          <a:xfrm rot="3248400">
            <a:off x="7019640" y="2565000"/>
            <a:ext cx="216000" cy="216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Rectangle 49"/>
          <p:cNvSpPr/>
          <p:nvPr/>
        </p:nvSpPr>
        <p:spPr>
          <a:xfrm rot="791400">
            <a:off x="7308360" y="3212640"/>
            <a:ext cx="287640" cy="279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Rectangle 50"/>
          <p:cNvSpPr/>
          <p:nvPr/>
        </p:nvSpPr>
        <p:spPr>
          <a:xfrm rot="791400">
            <a:off x="5649480" y="2852640"/>
            <a:ext cx="360360" cy="360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Rectangle 51"/>
          <p:cNvSpPr/>
          <p:nvPr/>
        </p:nvSpPr>
        <p:spPr>
          <a:xfrm rot="791400">
            <a:off x="6084360" y="2637000"/>
            <a:ext cx="279720" cy="2840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AutoShape 52"/>
          <p:cNvSpPr/>
          <p:nvPr/>
        </p:nvSpPr>
        <p:spPr>
          <a:xfrm rot="6459600">
            <a:off x="6918480" y="2521440"/>
            <a:ext cx="201600" cy="1429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AutoShape 53"/>
          <p:cNvSpPr/>
          <p:nvPr/>
        </p:nvSpPr>
        <p:spPr>
          <a:xfrm rot="14422800">
            <a:off x="7489800" y="3301560"/>
            <a:ext cx="208080" cy="16344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AutoShape 54"/>
          <p:cNvSpPr/>
          <p:nvPr/>
        </p:nvSpPr>
        <p:spPr>
          <a:xfrm rot="3775200">
            <a:off x="5489280" y="2871720"/>
            <a:ext cx="311400" cy="2728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AutoShape 55"/>
          <p:cNvSpPr/>
          <p:nvPr/>
        </p:nvSpPr>
        <p:spPr>
          <a:xfrm rot="8685600">
            <a:off x="7164000" y="2708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Rectangle 56"/>
          <p:cNvSpPr/>
          <p:nvPr/>
        </p:nvSpPr>
        <p:spPr>
          <a:xfrm rot="3248400">
            <a:off x="7312320" y="2551680"/>
            <a:ext cx="287280" cy="2667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Rectangle 57"/>
          <p:cNvSpPr/>
          <p:nvPr/>
        </p:nvSpPr>
        <p:spPr>
          <a:xfrm rot="904800">
            <a:off x="7007400" y="2347920"/>
            <a:ext cx="145800" cy="135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Rectangle 58"/>
          <p:cNvSpPr/>
          <p:nvPr/>
        </p:nvSpPr>
        <p:spPr>
          <a:xfrm rot="3657000">
            <a:off x="7668000" y="3140640"/>
            <a:ext cx="216000" cy="2174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Rectangle 59"/>
          <p:cNvSpPr/>
          <p:nvPr/>
        </p:nvSpPr>
        <p:spPr>
          <a:xfrm rot="3657000">
            <a:off x="7602120" y="3493800"/>
            <a:ext cx="128880" cy="1411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60"/>
          <p:cNvSpPr/>
          <p:nvPr/>
        </p:nvSpPr>
        <p:spPr>
          <a:xfrm rot="904800">
            <a:off x="6732720" y="242064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Rectangle 61"/>
          <p:cNvSpPr/>
          <p:nvPr/>
        </p:nvSpPr>
        <p:spPr>
          <a:xfrm rot="3795600">
            <a:off x="5283720" y="3006000"/>
            <a:ext cx="287280" cy="2700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Rectangle 62"/>
          <p:cNvSpPr/>
          <p:nvPr/>
        </p:nvSpPr>
        <p:spPr>
          <a:xfrm rot="3880800">
            <a:off x="5360760" y="2639520"/>
            <a:ext cx="274320" cy="268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AutoShape 63"/>
          <p:cNvSpPr/>
          <p:nvPr/>
        </p:nvSpPr>
        <p:spPr>
          <a:xfrm rot="11272200">
            <a:off x="7451280" y="2492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AutoShape 64"/>
          <p:cNvSpPr/>
          <p:nvPr/>
        </p:nvSpPr>
        <p:spPr>
          <a:xfrm rot="8685600">
            <a:off x="6156000" y="249228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AutoShape 65"/>
          <p:cNvSpPr/>
          <p:nvPr/>
        </p:nvSpPr>
        <p:spPr>
          <a:xfrm rot="771600">
            <a:off x="5219280" y="306864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AutoShape 66"/>
          <p:cNvSpPr/>
          <p:nvPr/>
        </p:nvSpPr>
        <p:spPr>
          <a:xfrm rot="6532200">
            <a:off x="5311800" y="2545200"/>
            <a:ext cx="203400" cy="243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Rectangle 67"/>
          <p:cNvSpPr/>
          <p:nvPr/>
        </p:nvSpPr>
        <p:spPr>
          <a:xfrm rot="5793000">
            <a:off x="7676640" y="2490480"/>
            <a:ext cx="276480" cy="288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Rectangle 68"/>
          <p:cNvSpPr/>
          <p:nvPr/>
        </p:nvSpPr>
        <p:spPr>
          <a:xfrm rot="237000">
            <a:off x="7451280" y="2276280"/>
            <a:ext cx="20340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Rectangle 69"/>
          <p:cNvSpPr/>
          <p:nvPr/>
        </p:nvSpPr>
        <p:spPr>
          <a:xfrm rot="3254400">
            <a:off x="6297120" y="235260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Rectangle 70"/>
          <p:cNvSpPr/>
          <p:nvPr/>
        </p:nvSpPr>
        <p:spPr>
          <a:xfrm rot="3254400">
            <a:off x="6008760" y="2352600"/>
            <a:ext cx="20340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Rectangle 71"/>
          <p:cNvSpPr/>
          <p:nvPr/>
        </p:nvSpPr>
        <p:spPr>
          <a:xfrm rot="1289400">
            <a:off x="5364000" y="234936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Rectangle 72"/>
          <p:cNvSpPr/>
          <p:nvPr/>
        </p:nvSpPr>
        <p:spPr>
          <a:xfrm rot="1263600">
            <a:off x="5076360" y="2492280"/>
            <a:ext cx="20340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Rectangle 73"/>
          <p:cNvSpPr/>
          <p:nvPr/>
        </p:nvSpPr>
        <p:spPr>
          <a:xfrm rot="986400">
            <a:off x="4943160" y="2987280"/>
            <a:ext cx="274680" cy="2682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Rectangle 74"/>
          <p:cNvSpPr/>
          <p:nvPr/>
        </p:nvSpPr>
        <p:spPr>
          <a:xfrm rot="4110000">
            <a:off x="4948200" y="2342880"/>
            <a:ext cx="137880" cy="144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75"/>
          <p:cNvSpPr/>
          <p:nvPr/>
        </p:nvSpPr>
        <p:spPr>
          <a:xfrm rot="6025800">
            <a:off x="5144760" y="328752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AutoShape 76"/>
          <p:cNvSpPr/>
          <p:nvPr/>
        </p:nvSpPr>
        <p:spPr>
          <a:xfrm rot="9102600">
            <a:off x="5415840" y="2293200"/>
            <a:ext cx="144360" cy="144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AutoShape 77"/>
          <p:cNvSpPr/>
          <p:nvPr/>
        </p:nvSpPr>
        <p:spPr>
          <a:xfrm rot="3809400">
            <a:off x="5011560" y="2471400"/>
            <a:ext cx="142920" cy="16200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AutoShape 78"/>
          <p:cNvSpPr/>
          <p:nvPr/>
        </p:nvSpPr>
        <p:spPr>
          <a:xfrm rot="3261600">
            <a:off x="4838400" y="2989080"/>
            <a:ext cx="189000" cy="2271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Rectangle 79"/>
          <p:cNvSpPr/>
          <p:nvPr/>
        </p:nvSpPr>
        <p:spPr>
          <a:xfrm rot="4110000">
            <a:off x="4861800" y="2562120"/>
            <a:ext cx="138240" cy="144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Rectangle 80"/>
          <p:cNvSpPr/>
          <p:nvPr/>
        </p:nvSpPr>
        <p:spPr>
          <a:xfrm rot="3501600">
            <a:off x="4707000" y="2842200"/>
            <a:ext cx="214560" cy="2286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81"/>
          <p:cNvSpPr/>
          <p:nvPr/>
        </p:nvSpPr>
        <p:spPr>
          <a:xfrm rot="3100800">
            <a:off x="4716000" y="3141720"/>
            <a:ext cx="142920" cy="142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82"/>
          <p:cNvSpPr/>
          <p:nvPr/>
        </p:nvSpPr>
        <p:spPr>
          <a:xfrm rot="4110000">
            <a:off x="5367240" y="2130120"/>
            <a:ext cx="137880" cy="1447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Rectangle 83"/>
          <p:cNvSpPr/>
          <p:nvPr/>
        </p:nvSpPr>
        <p:spPr>
          <a:xfrm rot="4110000">
            <a:off x="5582520" y="2201760"/>
            <a:ext cx="138240" cy="1443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AutoShape 84"/>
          <p:cNvSpPr/>
          <p:nvPr/>
        </p:nvSpPr>
        <p:spPr>
          <a:xfrm rot="7944600">
            <a:off x="7473960" y="2181600"/>
            <a:ext cx="152280" cy="19836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AutoShape 85"/>
          <p:cNvSpPr/>
          <p:nvPr/>
        </p:nvSpPr>
        <p:spPr>
          <a:xfrm rot="13663200">
            <a:off x="7825680" y="2550600"/>
            <a:ext cx="204840" cy="23328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AutoShape 86"/>
          <p:cNvSpPr/>
          <p:nvPr/>
        </p:nvSpPr>
        <p:spPr>
          <a:xfrm rot="11438400">
            <a:off x="7812000" y="3068280"/>
            <a:ext cx="152640" cy="209520"/>
          </a:xfrm>
          <a:prstGeom prst="rtTriangle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87"/>
          <p:cNvSpPr/>
          <p:nvPr/>
        </p:nvSpPr>
        <p:spPr>
          <a:xfrm rot="2325600">
            <a:off x="7380360" y="2133360"/>
            <a:ext cx="131760" cy="12384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88"/>
          <p:cNvSpPr/>
          <p:nvPr/>
        </p:nvSpPr>
        <p:spPr>
          <a:xfrm rot="2572800">
            <a:off x="7562520" y="2119320"/>
            <a:ext cx="144360" cy="12060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89"/>
          <p:cNvSpPr/>
          <p:nvPr/>
        </p:nvSpPr>
        <p:spPr>
          <a:xfrm rot="3094800">
            <a:off x="7953480" y="2423880"/>
            <a:ext cx="20304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90"/>
          <p:cNvSpPr/>
          <p:nvPr/>
        </p:nvSpPr>
        <p:spPr>
          <a:xfrm rot="3094800">
            <a:off x="7953480" y="2711160"/>
            <a:ext cx="203040" cy="19656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92"/>
          <p:cNvSpPr/>
          <p:nvPr/>
        </p:nvSpPr>
        <p:spPr>
          <a:xfrm rot="904800">
            <a:off x="7956720" y="3141360"/>
            <a:ext cx="203040" cy="196920"/>
          </a:xfrm>
          <a:prstGeom prst="rect">
            <a:avLst/>
          </a:prstGeom>
          <a:solidFill>
            <a:srgbClr val="4477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3E9C-5E4B-4414-B8BB-49BBD89C2D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Значение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 времен Пифагора появилось несколько сотен доказательств его теоремы, так что она попала в книгу рекордов Гинне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– это одна из самых важных теорем геометрии. Значение её состоит в том, что из неё и с её помощью можно вывести большинство теорем геометр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была первым утверждением, связавшим длины сторон треугольников. Потом узнали, как находить длины сторон и углы остроугольных и тупоугольных треугольников. Возникла целая наука тригонометрия («тригон» - по-гречески означает «треугольник»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а наука нашла применение в земледел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ма Пифагора позволяет по любым сторонам прямоугольного треугольника найти его третью сторон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агодаря тому, что теорема Пифагора позволяет находить длину отрезка  (гипотенузы), не измеряя его непосредственно, она как бы открывает путь с прямой на плоскость, с плоскости в трехмерное пространство и дальше – в многомерные пространства. Этим определяется её важность в геометрии и математики в цел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B2D6-3125-442B-A6EA-39474E8367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именение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ще в древности возникла необходимость вычислять стороны прямоугольных треугольников по двум известным сторона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роение прямых углов египтян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хождение высоты объекта и определение расстояния до недоступного предм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обные задачи решаются и в нашей повседневной жизни: в строительстве и машиностроении при проектировании любых строительных объек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7F3-ED98-4D15-8172-B4E414CFEAC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таринные задачи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316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дача индийского математик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XII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века Бхаскар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На берегу реки рос тополь одиноки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друг ветра порыв его ствол облома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Бедный тополь упал. И угол прямо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С течением реки его ствол составля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Запомни теперь, что в том месте ре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 четыре лишь фута была широ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Верхушка склонилась у края ре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Осталось три фута всего от ствола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Прошу тебя, скоро теперь мне скаж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0c92"/>
                </a:solidFill>
                <a:latin typeface="Tahoma"/>
              </a:rPr>
              <a:t>У тополя как велика высот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2" name="Picture 13" descr="8CF783CC"/>
          <p:cNvPicPr/>
          <p:nvPr/>
        </p:nvPicPr>
        <p:blipFill>
          <a:blip r:embed="rId1"/>
          <a:srcRect l="7961" t="2801" r="0" b="7965"/>
          <a:stretch/>
        </p:blipFill>
        <p:spPr>
          <a:xfrm>
            <a:off x="5148360" y="1628640"/>
            <a:ext cx="3341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F79A-EEEB-43F7-91DF-A656C43E12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Интересные задач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9690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92"/>
                </a:solidFill>
                <a:latin typeface="Tahoma"/>
              </a:rPr>
              <a:t>Задача древних индус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ад озером тихим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 полфута размером, высился лотоса цв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н рос одиноко. И ветер порыв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тнес его в сторону. Н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оле цветка над вод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ашел же рыбак его ранней весн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двух футах от места, где р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Итак, предложу я вопрос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озера вода здесь глубо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6" name="Picture 8" descr="7DBF90C2"/>
          <p:cNvPicPr/>
          <p:nvPr/>
        </p:nvPicPr>
        <p:blipFill>
          <a:blip r:embed="rId1"/>
          <a:srcRect l="3750" t="3389" r="7665" b="7549"/>
          <a:stretch/>
        </p:blipFill>
        <p:spPr>
          <a:xfrm>
            <a:off x="5867280" y="1700280"/>
            <a:ext cx="1949400" cy="2103480"/>
          </a:xfrm>
          <a:prstGeom prst="rect">
            <a:avLst/>
          </a:prstGeom>
          <a:ln w="19080">
            <a:solidFill>
              <a:srgbClr val="4477de"/>
            </a:solidFill>
            <a:miter/>
          </a:ln>
        </p:spPr>
      </p:pic>
      <p:sp>
        <p:nvSpPr>
          <p:cNvPr id="857" name="Rectangle 9"/>
          <p:cNvSpPr/>
          <p:nvPr/>
        </p:nvSpPr>
        <p:spPr>
          <a:xfrm>
            <a:off x="5435640" y="393372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4fd3"/>
                </a:solidFill>
                <a:latin typeface="Tahoma"/>
              </a:rPr>
              <a:t>На глубине 12-футов растет лотос с 13-футовым стеблем. Определите на какое расстояние может отклониться от вертикали, проходящей через точку крепления стебля ко дн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5219280" y="1197000"/>
            <a:ext cx="35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Египетская задача о лотос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F7A-0CEE-453C-9557-ACD0E482D65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пробуй реши!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0c92"/>
                </a:solidFill>
                <a:latin typeface="Tahoma"/>
              </a:rPr>
              <a:t>Задача из старинного китайского тракта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 середине квадратного озера со стороной 10 футов растет тростник, выходящий из воды на один фут. Если нагнуть тростник, вершина достигнет берега. Какова глубина озера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0c92"/>
                </a:solidFill>
                <a:latin typeface="Tahoma"/>
              </a:rPr>
              <a:t>Задача из первого учебника математики на Руси «Арифметик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лучися некоему человеку к                                   стене лестницу прибрати, стены же тоя высота есть 125 стоп. И ведати хощет, колико стоп сея лестницы нижний конец от стены отстояти им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3" name="Picture 7" descr="4B663337"/>
          <p:cNvPicPr/>
          <p:nvPr/>
        </p:nvPicPr>
        <p:blipFill>
          <a:blip r:embed="rId1"/>
          <a:stretch/>
        </p:blipFill>
        <p:spPr>
          <a:xfrm>
            <a:off x="5003640" y="2708280"/>
            <a:ext cx="14018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Номер слайда 8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820E-B0EA-4331-A1DA-69DA46C653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Теорема Пифагора в искусстве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866" name="Picture 9" descr="F405AE20"/>
          <p:cNvPicPr/>
          <p:nvPr/>
        </p:nvPicPr>
        <p:blipFill>
          <a:blip r:embed="rId1"/>
          <a:srcRect l="8642" t="0" r="4734" b="62885"/>
          <a:stretch/>
        </p:blipFill>
        <p:spPr>
          <a:xfrm>
            <a:off x="179280" y="1052640"/>
            <a:ext cx="5040360" cy="2971800"/>
          </a:xfrm>
          <a:prstGeom prst="rect">
            <a:avLst/>
          </a:prstGeom>
          <a:ln w="38160">
            <a:solidFill>
              <a:srgbClr val="160c92"/>
            </a:solidFill>
            <a:prstDash val="sysDot"/>
            <a:miter/>
          </a:ln>
        </p:spPr>
      </p:pic>
      <p:pic>
        <p:nvPicPr>
          <p:cNvPr id="867" name="Picture 10" descr="F405AE20"/>
          <p:cNvPicPr/>
          <p:nvPr/>
        </p:nvPicPr>
        <p:blipFill>
          <a:blip r:embed="rId2"/>
          <a:srcRect l="63494" t="47130" r="6683" b="18497"/>
          <a:stretch/>
        </p:blipFill>
        <p:spPr>
          <a:xfrm>
            <a:off x="6012000" y="3213000"/>
            <a:ext cx="2181240" cy="3457800"/>
          </a:xfrm>
          <a:prstGeom prst="rect">
            <a:avLst/>
          </a:prstGeom>
          <a:ln w="38160">
            <a:solidFill>
              <a:srgbClr val="160c92"/>
            </a:solidFill>
            <a:prstDash val="sysDot"/>
            <a:miter/>
          </a:ln>
        </p:spPr>
      </p:pic>
      <p:sp>
        <p:nvSpPr>
          <p:cNvPr id="868" name="Text Box 11"/>
          <p:cNvSpPr/>
          <p:nvPr/>
        </p:nvSpPr>
        <p:spPr>
          <a:xfrm>
            <a:off x="395280" y="4437000"/>
            <a:ext cx="42480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Художник Ф.А Бронников (1827-1902гг) нарисовал картину «Гимн пифагорейцев восходящему солнцу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ртина передает пафос преклонения учеников легендарной школы перед единой гармонией, царящей в мироздании («космосе»), музыке и числ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5292720" y="907920"/>
            <a:ext cx="37069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греции была выпущена почтовая марка по случаю переименования острова Самос в остров Пифагорейо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 марке надпись: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«Теорема Пифагора. Эллас. 350 драхм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та красивая марка почти единственная среди многих тысяч существующих, на которой изображен математический фак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13A6-FB82-4998-9182-E9D15DF4DE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считаю, что моя работа очень важна. Она требует большой усидчивости, терпения и времени. Но я не буду останавливаться на достигнутом и планирую в следующем году расширить свою работу, пополняя её новыми знаниями по данной т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5FAD-566F-4317-9BB0-9FCEE0D85D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О теореме Пифаго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уть истины вся в том, что нам она – навечно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да хоть раз в прозрении её увидим св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теорема Пифагора через столько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ля нас, как для него, бесспорна, безупреч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 радостях богам был Пифагором дан обет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 то, что мудрости коснулся бесконечной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сто быков заклал, благодаря предвечны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ленья и хвалы вознес он жертве всле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тех пор быки, когда учуят, тужас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к новой истине людей опять подводит след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вут остервенело, так что слушать мочи н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акой в них Пифагор вселил навеки ужа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ыкам, бессильным новой правде противостоят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то остается? – Лишь глаза закрыв, реветь, дрож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758A-8A79-42E3-BA80-A63AB3D06D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ифагор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348000" y="907560"/>
            <a:ext cx="57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5498f"/>
                </a:solidFill>
                <a:latin typeface="Tahoma"/>
              </a:rPr>
              <a:t>Компакт – биографи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греческий филосо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ыл сыном Мнесарха. Однажды Мнесарх приплыл в неурожайный год на остров Самос по своим торговым делам. Там на острове и родился его сын Пифагор, которого отец часто брал с собой в деловые поездки. Благодаря им у мальчика развились любознательность и желание познавать ново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– это не имя, а прозвище, данное ему за то, что он высказывал истину также постоянно, как дельфийский аракул («Пифагор» значит «убеждающий речью»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сам  ничего не писа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езультате первой же прочитанной лекции Пифагор приобрел 2000 учеников, которые не вернулись домой, а вместе со своими женами и детьми образовали огромную школу и создали государство, названное «Великая Греция», в основу которого были положены законы и правила Пифагора, почитаемые как божественные заповед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был первым, кто назвал свои рассуждения о смысле жизни философи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икогда не плакал и вообще был недоступен страстям и волнен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179280" y="476280"/>
            <a:ext cx="3168720" cy="3816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a2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4508640"/>
            <a:ext cx="331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Родился в 576 г. до н.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Умер в 496 г. до н.э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00a29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29e"/>
                </a:solidFill>
                <a:latin typeface="Tahoma"/>
              </a:rPr>
              <a:t>Прожил 80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20F-9E8C-453E-A97B-51D613F5A7F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лексеев И.Г. Математика. Подготовка к ЕГЭ: учебно-методическое пособие. – Саратов: Лицей, 2005. – 112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: учебник для 7-9 кл. средней школы/автор-составитель Л.С. Атанасян, В.Ф.Бутузов, С.Б. Кадомцев и др. –т М., : Просвещение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лейзер Г.И.  История математики в школе.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I – VIII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(8-9) классы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.: Просвещение, 198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енкевич И.Г. 15 свиданий с математик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рисов В. Избранные стихотво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Щешников А. Арифметика по Пифагор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леньский Щ. По следам теоремы Пифагора. М., 196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цман В. Теорема Пифагора. М., 196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копец З.А. Геометрические миниатюр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нилов Ю. Две вариации на тему Пифагора (самоподобие). – М., Знание – сила, №12/1995, с. 6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ульба А. Пифагор: убеждающий речью. – М., Первое ментября, 1993, 1995, с.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зучаем теорему Пифагора. – М., Первое сентября №24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ифагорейская школа» – М., Первое сентября №45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. Мурадова. Жизнь Пифагора – М., Первое сентября №48 2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BB2D-F937-4E07-99D3-1A49689344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196CD92E"/>
          <p:cNvPicPr/>
          <p:nvPr/>
        </p:nvPicPr>
        <p:blipFill>
          <a:blip r:embed="rId1"/>
          <a:srcRect l="1881" t="1133" r="-798" b="-647"/>
          <a:stretch/>
        </p:blipFill>
        <p:spPr>
          <a:xfrm>
            <a:off x="179280" y="333360"/>
            <a:ext cx="8785440" cy="5975280"/>
          </a:xfrm>
          <a:prstGeom prst="rect">
            <a:avLst/>
          </a:prstGeom>
          <a:ln w="28440">
            <a:solidFill>
              <a:srgbClr val="160c92"/>
            </a:solidFill>
            <a:miter/>
          </a:ln>
        </p:spPr>
      </p:pic>
      <p:sp>
        <p:nvSpPr>
          <p:cNvPr id="173" name="Rectangle 5"/>
          <p:cNvSpPr/>
          <p:nvPr/>
        </p:nvSpPr>
        <p:spPr>
          <a:xfrm>
            <a:off x="2700360" y="1989000"/>
            <a:ext cx="1295280" cy="1440000"/>
          </a:xfrm>
          <a:prstGeom prst="rect">
            <a:avLst/>
          </a:prstGeom>
          <a:noFill/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50920" y="476280"/>
            <a:ext cx="1944720" cy="1014840"/>
          </a:xfrm>
          <a:prstGeom prst="rect">
            <a:avLst/>
          </a:prstGeom>
          <a:solidFill>
            <a:srgbClr val="e5e5ff"/>
          </a:solidFill>
          <a:ln w="28440">
            <a:solidFill>
              <a:srgbClr val="160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ревняя Гре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едняя А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Египет в Месопотам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700360" y="3068640"/>
            <a:ext cx="13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60c92"/>
                </a:solidFill>
                <a:latin typeface="Tahoma"/>
              </a:rPr>
              <a:t>Само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4DA6-11E9-445F-91C3-01851F2B42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«Золотые стихи» Пифагор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удь справедлив и в словах, и в поступках своих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Пифагор (ок. 570 – ок. 500 гг. до н.э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греческий философ и математик, прославившийся своим учение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 космической гармонии и переселении душ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ание приписывае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у доказательство теоремы, носящее его им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покинул свой родной остров Самос в Эгейском море у берег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алой Азии в знак протеста против тирании правителя и уже в зрело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зрасте ( по преданию в 40 лет ) появился в греческом городе Крото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 юге Италии. Пифагор и его последователи – пифагорейцы –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овали тайный сою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ейцы узнали друг друга по звёздчатому пятиугольнику– пентаграмм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впервые разделил числа на четные и нечетные, простые и составны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л понятие фигурного числа. В его школе были подробно рассмотрены пифагоровы тройки натуральных чисел, у которых квадрат одного равнялся сумме квадратов двух других ( великая теорема Ферма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у приписывается высказывание «Все есть число». К числам он хотел свести весь мир. Было доказано, что корень из 2 не является рациональным числ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 у Пифагора была подчинена арифметик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фагор считал Землю шаром, движущимся вокруг солнц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ставлял космос как упорядоченное цело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3B4E-7CF8-444B-9D55-2F9F43EEF04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История открытия теоремы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орема Пифагора – самая известная из всех геометрических теорем. О ней писали в своих произведениях римский архитектор и инженер Ветрувий, греческий писатель-моралист Плутарх, греческий учены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ека Диаген, Лаэрций, математик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века Прокл и многие другие. Прокл в своих комментариях к «Началам» пишет: «Если слушать тех, кто любит повторять древние легенды, то придется сказать, что эта теорема восходит к Пифагору. Рассказывают, что в честь этого открытия он принес в жертву быка». Другие говорят, 100 быков. Это послужило поводом для юмора в рассказах писателей и в стихах поэтов. Так, например, немецкий писатель-романист А. Шамисо написал следующие стих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Пребудет вечной истина, как скоро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Её познает слабый человек!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И ныне теорема Пифагора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Верна, как и в его далекий век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бильно было жертвоприношенье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Богам от Пифагора. Сто быков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н отдал на закланье и сожженье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За света луч, пришедший с облако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Поэтому всегда с тех самых пор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Чуть истина рождается на свет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Быки ревут, ее почуя, вслед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ни не в силах свету помешать,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А могут, лишь, закрыв глаза, дрожать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ahoma"/>
              </a:rPr>
              <a:t>От страха, что вселил в них Пифагор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лгое время считали, что до Пифагора эта теорема не была известна и поэтому ее назвали «теоремой Пифагора». Это название сохранилось понын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9E7E-1CE2-44AA-BFF0-F567BB11B39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пособы доказательства теорем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азательство теоремы Пифагора учащиеся средних веков считали очень трудным и называли е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ns asinoru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ослиный мост, и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fug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вших теорему Пифагора, учащиеся называли ее также «ветряной мельницей», составляли стихотворения вроде, «Пифагоровы штаны на все стороны равны», рисовали карика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86F4-A568-4CAD-A0FF-666862927B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Шутливая формулировка теорем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699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дан нам треугольни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ритом с прямым угло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квадрат гипотенуз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всегда легко найде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ы в квадрат возводи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мму степеней находим 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 таким простым пут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результату мы прид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43:31Z</dcterms:created>
  <dc:creator>132</dc:creator>
  <dc:description/>
  <dc:language>en-US</dc:language>
  <cp:lastModifiedBy>Admin</cp:lastModifiedBy>
  <dcterms:modified xsi:type="dcterms:W3CDTF">2013-03-30T06:00:48Z</dcterms:modified>
  <cp:revision>28</cp:revision>
  <dc:subject/>
  <dc:title>Математика «Теорема Пифагора»</dc:title>
</cp:coreProperties>
</file>