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B4A-4C39-4241-ABCE-544AF7CF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13F-ED14-4F8C-81F2-DC858F9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29B-AF11-4597-9C2B-E8DCEE23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96E-079A-40AF-AEC8-85EDBAD0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6C9C-1113-478D-9A2C-A6DF1D86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5740-B484-45F6-8F51-80E074C6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8FC7-0FF3-4C23-B367-455485C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20F-E41C-4B00-A2F2-3EF4138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9470-516C-471C-AFF8-CDB4040E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FB11-096B-4FB9-BBFA-33BA9513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2D04-EEF9-4D5F-8836-7F465B31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B040-B487-4BB9-BA74-BA5FC9B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B41A-578F-45C1-A112-B9C9A9C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B567-2C2A-48A2-A550-1536B35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6DFF-3613-4E4D-9ED8-C21F26E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B33A-521C-4088-A6DC-2BD2C61D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8577-F7A6-4C08-B03C-B7853FCB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7D1A-9C4D-4773-80B0-B5BC2F7A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2C09-CA61-4C0E-8D37-34887BF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EB8A-8648-4A70-AEE3-A8825A5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A6E6-081A-4016-B616-5A2172C3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420B-438F-4168-9A3F-A2DE491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C41-6CC6-47DF-AC23-065EE45F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0174-E737-4B65-8CE4-41128DA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AD64-3811-4478-8434-465CAEBE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16081-7210-418E-907B-9F93C6D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CBB1-7C46-4DEA-B783-222B2579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8615-2DBF-4E8A-B6E0-D787DB17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38CF-96E6-4BD0-B13E-1C56853E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580B-7FA4-4027-B002-E6FDF380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401-3E4D-4B5F-B333-88326CC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C7A-45E9-4EC9-914D-9822C93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EF1-4AEC-4C02-AC53-6E4B8D3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D73-2B64-4C9C-BC0B-C00B62C3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A80-68DA-4D1A-8C4B-09E28F4F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841-AC00-4721-A2DB-635E4F0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4EAF-AE0B-4E42-BC2C-700AED69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Picture 10" descr="plant"/>
          <p:cNvPicPr/>
          <p:nvPr/>
        </p:nvPicPr>
        <p:blipFill>
          <a:blip r:embed="rId4"/>
          <a:stretch/>
        </p:blipFill>
        <p:spPr>
          <a:xfrm>
            <a:off x="5257800" y="2286000"/>
            <a:ext cx="4240080" cy="474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B997-4FEC-496A-91F1-1E1A792AF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0" descr="board"/>
          <p:cNvPicPr/>
          <p:nvPr/>
        </p:nvPicPr>
        <p:blipFill>
          <a:blip r:embed="rId3"/>
          <a:stretch/>
        </p:blipFill>
        <p:spPr>
          <a:xfrm>
            <a:off x="0" y="-152280"/>
            <a:ext cx="1447920" cy="144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6" name="Group 11"/>
          <p:cNvGrpSpPr/>
          <p:nvPr/>
        </p:nvGrpSpPr>
        <p:grpSpPr>
          <a:xfrm>
            <a:off x="1752480" y="457200"/>
            <a:ext cx="5802480" cy="4191120"/>
            <a:chOff x="1752480" y="457200"/>
            <a:chExt cx="5802480" cy="4191120"/>
          </a:xfrm>
        </p:grpSpPr>
        <p:pic>
          <p:nvPicPr>
            <p:cNvPr id="87" name="Picture 8" descr="Bitmap_128.bmp"/>
            <p:cNvPicPr/>
            <p:nvPr/>
          </p:nvPicPr>
          <p:blipFill>
            <a:blip r:embed="rId4"/>
            <a:stretch/>
          </p:blipFill>
          <p:spPr>
            <a:xfrm>
              <a:off x="1752480" y="462960"/>
              <a:ext cx="5802480" cy="418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ectangle 9"/>
            <p:cNvGrpSpPr/>
            <p:nvPr/>
          </p:nvGrpSpPr>
          <p:grpSpPr>
            <a:xfrm>
              <a:off x="1892520" y="457200"/>
              <a:ext cx="864360" cy="327240"/>
              <a:chOff x="1892520" y="457200"/>
              <a:chExt cx="864360" cy="327240"/>
            </a:xfrm>
          </p:grpSpPr>
          <p:pic>
            <p:nvPicPr>
              <p:cNvPr id="89" name="Rectangl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1892520" y="457200"/>
                <a:ext cx="864360" cy="3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907640" y="469080"/>
                <a:ext cx="83700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E388-2DC8-44D6-AFAD-217AF4FB9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N:\СЕМЕНАр 15 марта13г\БАБОЧКИ АНИМАШКИ\+++1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Детские песни - Семь Нот (mp3ostrov.com).mp3" descr=""/>
          <p:cNvPicPr/>
          <p:nvPr/>
        </p:nvPicPr>
        <p:blipFill>
          <a:blip r:embed="rId2"/>
          <a:stretch/>
        </p:blipFill>
        <p:spPr>
          <a:xfrm>
            <a:off x="500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62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деальная мама должна быть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-50760" y="1503360"/>
            <a:ext cx="909324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й ребенок должен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Содержимое 3" descr=""/>
          <p:cNvPicPr/>
          <p:nvPr/>
        </p:nvPicPr>
        <p:blipFill>
          <a:blip r:embed="rId1"/>
          <a:stretch/>
        </p:blipFill>
        <p:spPr>
          <a:xfrm>
            <a:off x="-50760" y="1449360"/>
            <a:ext cx="90313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Если бы я был мамой (папой), то я 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научилась  готовить как ма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ла бы ласковая и добрая, как моя мам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занимался спортом со своими дет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Я бы хотел, чтобы у меня была многодетная семь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емья – это место приземления для старших, стартовая площадка для младших и полигон для кажд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              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. Кро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27860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0404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e0404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сканирование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Дет4-10лет - Папа мама я - plus.mp3" descr=""/>
          <p:cNvPicPr/>
          <p:nvPr/>
        </p:nvPicPr>
        <p:blipFill>
          <a:blip r:embed="rId2"/>
          <a:stretch/>
        </p:blipFill>
        <p:spPr>
          <a:xfrm>
            <a:off x="57168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230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1571760"/>
            <a:ext cx="6933960" cy="16430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Здоровье – это «состояние полного физического, душевного и социального благополучия, а не только отсутствие болезней и физических дефектов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6400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троительный материа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Физическ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Психологическ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Мораль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Духов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Социальное здоровь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Тема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428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«Семья как фактор укрепления духовно-нравственного и социального здоровья детей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55220375"/>
          <p:cNvPicPr/>
          <p:nvPr/>
        </p:nvPicPr>
        <p:blipFill>
          <a:blip r:embed="rId1"/>
          <a:stretch/>
        </p:blipFill>
        <p:spPr>
          <a:xfrm>
            <a:off x="3000240" y="3071880"/>
            <a:ext cx="2786040" cy="3286080"/>
          </a:xfrm>
          <a:prstGeom prst="rect">
            <a:avLst/>
          </a:prstGeom>
          <a:ln w="0">
            <a:noFill/>
          </a:ln>
        </p:spPr>
      </p:pic>
      <p:pic>
        <p:nvPicPr>
          <p:cNvPr id="141" name="Дет4-10лет - Я люблю вас - plus (1).mp3" descr=""/>
          <p:cNvPicPr/>
          <p:nvPr/>
        </p:nvPicPr>
        <p:blipFill>
          <a:blip r:embed="rId2"/>
          <a:stretch/>
        </p:blipFill>
        <p:spPr>
          <a:xfrm>
            <a:off x="500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576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571680" y="1000080"/>
            <a:ext cx="112251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Социологи установили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что на воспитание дете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у мамы и папы остаётс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ежедневно всег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16165d"/>
                </a:solidFill>
                <a:latin typeface="Verdana"/>
              </a:rPr>
              <a:t>лишь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17 минут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163440" y="1592280"/>
            <a:ext cx="8788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человеку сем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одержимое 5" descr=""/>
          <p:cNvPicPr/>
          <p:nvPr/>
        </p:nvPicPr>
        <p:blipFill>
          <a:blip r:embed="rId1"/>
          <a:stretch/>
        </p:blipFill>
        <p:spPr>
          <a:xfrm>
            <a:off x="-50760" y="1488960"/>
            <a:ext cx="91026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54296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и бы вы, чтобы Ваша будущая семья была похожа на семью, в которой Вы вырос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254160" y="2092320"/>
            <a:ext cx="878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й папа должен быть (уметь)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Содержимое 3" descr=""/>
          <p:cNvPicPr/>
          <p:nvPr/>
        </p:nvPicPr>
        <p:blipFill>
          <a:blip r:embed="rId1"/>
          <a:stretch/>
        </p:blipFill>
        <p:spPr>
          <a:xfrm>
            <a:off x="254160" y="1503360"/>
            <a:ext cx="87883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18:34:18Z</dcterms:created>
  <dc:creator>Admin</dc:creator>
  <dc:description/>
  <cp:keywords/>
  <dc:language>en-US</dc:language>
  <cp:lastModifiedBy>Admin</cp:lastModifiedBy>
  <dcterms:modified xsi:type="dcterms:W3CDTF">2013-03-18T19:36:37Z</dcterms:modified>
  <cp:revision>19</cp:revision>
  <dc:subject/>
  <dc:title>Здоровье – это «состояние полного физического, душевного и социального благополучия, а не только отсутствие болезней и физических дефект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21033</vt:lpwstr>
  </property>
</Properties>
</file>