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591-1112-4CE8-9191-E195575C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8D8-CC0A-4DB2-8E2E-68B97379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7A7-4C79-4873-A285-875AD9DF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086-463C-4C29-98A2-862B52DE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290A-A65B-46E3-B752-C66126F7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C7EE-ED9D-4E69-AD46-EA0786F4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A11E-0AF0-4607-AC3A-A3FBE36E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0AC2-E61D-4781-B1BA-2FF7325C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896B-3D69-4A22-A690-E3DF95DB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BD4C-8F08-49A4-87E2-FDF72195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1DC2-D0F2-4732-A905-7394EB40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328-3DBE-4A03-BD08-C79739EA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010B-9327-4543-BB87-BB8303A9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EC11-5F27-4689-9132-058C8D78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FC11-DA3C-41C5-9B01-DC5AA0B5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4CC8-2206-48CC-BA19-0F0DFEE9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AFDE-8D1D-4F2E-A8BC-8034FD82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54B4-269E-4F78-95E3-71F7F038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BF41-3969-4296-9ECC-96A41DCD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E7FB6-EF3E-41FD-ABBC-0B58EF1B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B185-62EC-4B0A-B805-EAF33E08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C37F-91D2-4A5E-B91E-5BB2214E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CDD-09F8-4878-B5EC-E7CB94C0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62E9F-01AD-4987-A28E-FA1E30F0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84212-03EA-40B8-AD8D-E3FE8277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2BBD-7116-48A0-8428-F40FCBF8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34ABC-06C8-49CF-AEA9-2172669F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6AD5-75A0-4C51-8169-632CBCC1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6896C-D2FE-4F7B-BA3D-DCBBBCD8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C1BB1-7FFC-456A-8022-1463BC60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592-B71E-4E44-AAC6-60542723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F7B-3315-461F-ACFA-0F75599E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6331-9E60-489B-B185-CBA33000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8A1-D40E-409C-B219-C329EFBD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6EE-6B9F-4DE9-A251-6A4DF8C6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ADA-070D-4127-88FA-04A647FB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board"/>
          <p:cNvPicPr/>
          <p:nvPr/>
        </p:nvPicPr>
        <p:blipFill>
          <a:blip r:embed="rId3"/>
          <a:stretch/>
        </p:blipFill>
        <p:spPr>
          <a:xfrm>
            <a:off x="0" y="-152280"/>
            <a:ext cx="1447920" cy="1447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C261-EFB8-43F6-AC9A-CDC0FFD28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" descr="board"/>
          <p:cNvPicPr/>
          <p:nvPr/>
        </p:nvPicPr>
        <p:blipFill>
          <a:blip r:embed="rId3"/>
          <a:stretch/>
        </p:blipFill>
        <p:spPr>
          <a:xfrm>
            <a:off x="0" y="-152280"/>
            <a:ext cx="1447920" cy="1447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3" name="Picture 10" descr="plant"/>
          <p:cNvPicPr/>
          <p:nvPr/>
        </p:nvPicPr>
        <p:blipFill>
          <a:blip r:embed="rId4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4E5F-F10F-40F4-8A78-1C2BB6C66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0" descr="board"/>
          <p:cNvPicPr/>
          <p:nvPr/>
        </p:nvPicPr>
        <p:blipFill>
          <a:blip r:embed="rId3"/>
          <a:stretch/>
        </p:blipFill>
        <p:spPr>
          <a:xfrm>
            <a:off x="0" y="-152280"/>
            <a:ext cx="1447920" cy="1447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6" name="Group 11"/>
          <p:cNvGrpSpPr/>
          <p:nvPr/>
        </p:nvGrpSpPr>
        <p:grpSpPr>
          <a:xfrm>
            <a:off x="1752480" y="457200"/>
            <a:ext cx="5802480" cy="4191120"/>
            <a:chOff x="1752480" y="457200"/>
            <a:chExt cx="5802480" cy="4191120"/>
          </a:xfrm>
        </p:grpSpPr>
        <p:pic>
          <p:nvPicPr>
            <p:cNvPr id="87" name="Picture 8" descr="Bitmap_128.bmp"/>
            <p:cNvPicPr/>
            <p:nvPr/>
          </p:nvPicPr>
          <p:blipFill>
            <a:blip r:embed="rId4"/>
            <a:stretch/>
          </p:blipFill>
          <p:spPr>
            <a:xfrm>
              <a:off x="1752480" y="462960"/>
              <a:ext cx="5802480" cy="418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Rectangle 9"/>
            <p:cNvGrpSpPr/>
            <p:nvPr/>
          </p:nvGrpSpPr>
          <p:grpSpPr>
            <a:xfrm>
              <a:off x="1892520" y="457200"/>
              <a:ext cx="864360" cy="327240"/>
              <a:chOff x="1892520" y="457200"/>
              <a:chExt cx="864360" cy="327240"/>
            </a:xfrm>
          </p:grpSpPr>
          <p:pic>
            <p:nvPicPr>
              <p:cNvPr id="89" name="Rectangl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1892520" y="457200"/>
                <a:ext cx="864360" cy="3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1907640" y="469080"/>
                <a:ext cx="837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83BC-5456-423D-AC91-A4FB2E86F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N:\СЕМЕНАр 15 марта13г\БАБОЧКИ АНИМАШКИ\+++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Детские песни - Семь Нот (mp3ostrov.com).mp3" descr=""/>
          <p:cNvPicPr/>
          <p:nvPr/>
        </p:nvPicPr>
        <p:blipFill>
          <a:blip r:embed="rId2"/>
          <a:stretch/>
        </p:blipFill>
        <p:spPr>
          <a:xfrm>
            <a:off x="50004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624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деальная мама должна быть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Содержимое 3" descr=""/>
          <p:cNvPicPr/>
          <p:nvPr/>
        </p:nvPicPr>
        <p:blipFill>
          <a:blip r:embed="rId1"/>
          <a:stretch/>
        </p:blipFill>
        <p:spPr>
          <a:xfrm>
            <a:off x="-50760" y="1503360"/>
            <a:ext cx="909324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ый ребенок должен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Содержимое 3" descr=""/>
          <p:cNvPicPr/>
          <p:nvPr/>
        </p:nvPicPr>
        <p:blipFill>
          <a:blip r:embed="rId1"/>
          <a:stretch/>
        </p:blipFill>
        <p:spPr>
          <a:xfrm>
            <a:off x="-50760" y="1449360"/>
            <a:ext cx="90313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Если бы я был мамой (папой), то я 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Я бы научилась  готовить как мам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Я была бы ласковая и добрая, как моя мам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Я бы занимался спортом со своими деть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Я бы хотел, чтобы у меня была многодетная семь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Семья – это место приземления для старших, стартовая площадка для младших и полигон для кажд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               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. Кро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00120" y="3143160"/>
            <a:ext cx="27860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e0404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e0404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сканирование0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Дет4-10лет - Папа мама я - plus.mp3" descr=""/>
          <p:cNvPicPr/>
          <p:nvPr/>
        </p:nvPicPr>
        <p:blipFill>
          <a:blip r:embed="rId2"/>
          <a:stretch/>
        </p:blipFill>
        <p:spPr>
          <a:xfrm>
            <a:off x="57168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2304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71760"/>
            <a:ext cx="6933960" cy="164304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Здоровье – это «состояние полного физического, душевного и социального благополучия, а не только отсутствие болезней и физических дефектов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6400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Строительный материа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Физическое здоровь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Психологическое здоровь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Моральное здоровь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Духовное здоровь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Социальное здоровь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Тема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4288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«Семья как фактор укрепления духовно-нравственного и социального здоровья детей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55220375"/>
          <p:cNvPicPr/>
          <p:nvPr/>
        </p:nvPicPr>
        <p:blipFill>
          <a:blip r:embed="rId1"/>
          <a:stretch/>
        </p:blipFill>
        <p:spPr>
          <a:xfrm>
            <a:off x="3000240" y="3071880"/>
            <a:ext cx="2786040" cy="3286080"/>
          </a:xfrm>
          <a:prstGeom prst="rect">
            <a:avLst/>
          </a:prstGeom>
          <a:ln w="0">
            <a:noFill/>
          </a:ln>
        </p:spPr>
      </p:pic>
      <p:pic>
        <p:nvPicPr>
          <p:cNvPr id="141" name="Дет4-10лет - Я люблю вас - plus (1).mp3" descr=""/>
          <p:cNvPicPr/>
          <p:nvPr/>
        </p:nvPicPr>
        <p:blipFill>
          <a:blip r:embed="rId2"/>
          <a:stretch/>
        </p:blipFill>
        <p:spPr>
          <a:xfrm>
            <a:off x="50004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5765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571680" y="1000080"/>
            <a:ext cx="112251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Verdana"/>
              </a:rPr>
              <a:t>Социологи установили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Verdana"/>
              </a:rPr>
              <a:t>что на воспитание дете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Verdana"/>
              </a:rPr>
              <a:t>у мамы и папы остаётс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Verdana"/>
              </a:rPr>
              <a:t>ежедневно всег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16165d"/>
                </a:solidFill>
                <a:latin typeface="Verdana"/>
              </a:rPr>
              <a:t>лишь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17 минут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емь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Содержимое 3" descr=""/>
          <p:cNvPicPr/>
          <p:nvPr/>
        </p:nvPicPr>
        <p:blipFill>
          <a:blip r:embed="rId1"/>
          <a:stretch/>
        </p:blipFill>
        <p:spPr>
          <a:xfrm>
            <a:off x="163440" y="1592280"/>
            <a:ext cx="87883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 человеку семь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Содержимое 5" descr=""/>
          <p:cNvPicPr/>
          <p:nvPr/>
        </p:nvPicPr>
        <p:blipFill>
          <a:blip r:embed="rId1"/>
          <a:stretch/>
        </p:blipFill>
        <p:spPr>
          <a:xfrm>
            <a:off x="-50760" y="1488960"/>
            <a:ext cx="91026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154296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ели бы вы, чтобы Ваша будущая семья была похожа на семью, в которой Вы выросл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Содержимое 3" descr=""/>
          <p:cNvPicPr/>
          <p:nvPr/>
        </p:nvPicPr>
        <p:blipFill>
          <a:blip r:embed="rId1"/>
          <a:stretch/>
        </p:blipFill>
        <p:spPr>
          <a:xfrm>
            <a:off x="254160" y="2092320"/>
            <a:ext cx="8788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ый папа должен быть (уметь)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Содержимое 3" descr=""/>
          <p:cNvPicPr/>
          <p:nvPr/>
        </p:nvPicPr>
        <p:blipFill>
          <a:blip r:embed="rId1"/>
          <a:stretch/>
        </p:blipFill>
        <p:spPr>
          <a:xfrm>
            <a:off x="254160" y="1503360"/>
            <a:ext cx="87883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18:34:18Z</dcterms:created>
  <dc:creator>Admin</dc:creator>
  <dc:description/>
  <cp:keywords/>
  <dc:language>en-US</dc:language>
  <cp:lastModifiedBy>Admin</cp:lastModifiedBy>
  <dcterms:modified xsi:type="dcterms:W3CDTF">2013-03-18T19:36:37Z</dcterms:modified>
  <cp:revision>19</cp:revision>
  <dc:subject/>
  <dc:title>Здоровье – это «состояние полного физического, душевного и социального благополучия, а не только отсутствие болезней и физических дефекто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